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781-940A-4085-BAF9-0984CA43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D20-C8FA-4CFC-89E6-0B83385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F7-D6DE-43B4-9405-BA599704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EC7-8408-4C41-9205-88467E03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36F-F3E2-4E33-BAE2-2DECDDDB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D52A-1C16-4626-A0E2-1FEBA00A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DAD-8F78-4E0E-A85F-736C58A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DEF7-048E-4EF4-8305-9427028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EAEC-1113-487E-9081-BE8B8D7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005-7143-4FE7-A65A-4EF45DD0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0DC7-C78B-4787-8114-488A51D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646-2058-4713-9DBA-1A68B8DD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8A77-2E22-4BD3-8EF3-87C2BDE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A582-A29D-4712-9AFF-4C7A833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41D9-D042-418D-97A7-7DBC083F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2F8F-5831-4021-B8A7-03AC6ECD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0236-A576-448C-8F5F-3373612A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3B2-3BDA-48CF-BE7E-7306B855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F15-B3C4-4710-AB7A-D9C5B9AF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2CD-6498-460F-B5FA-C8302A30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99-25A8-42CC-BBF6-F472096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BA2-625F-45A8-8E12-9D3D82A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FAC-A8CF-4BCA-AA7A-5F8263E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FA2-F997-48C6-B8A0-DEF0072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F14-AEDA-4381-BD11-B61FBD448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9210-64B4-4E92-B3FB-CEAD33AB1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348160" cy="640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292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676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Наши дни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4120" y="3049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6285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такое 4 Ноября? 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динства всех российских нар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асения Рос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т самой большой опасности, которая когда-либо ей грозил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рожденный празд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о своей историей, а не просто замена 7 ноябр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день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альных д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а не сомнительных марш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448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791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… </a:t>
            </a: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Из </a:t>
            </a: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истории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-5909"/>
          <a:stretch/>
        </p:blipFill>
        <p:spPr>
          <a:xfrm>
            <a:off x="457200" y="304920"/>
            <a:ext cx="81597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24760" cy="5245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01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942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кона Пресвятой Богородицы Казанско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1752480"/>
            <a:ext cx="349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213012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История установления</a:t>
            </a:r>
            <a:br>
              <a:rPr sz="72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праздника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4029120" cy="34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572000" cy="299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47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0866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44:49Z</dcterms:created>
  <dc:creator>Саша</dc:creator>
  <dc:description/>
  <dc:language>en-US</dc:language>
  <cp:lastModifiedBy>саша</cp:lastModifiedBy>
  <dcterms:modified xsi:type="dcterms:W3CDTF">2007-11-06T16:01:00Z</dcterms:modified>
  <cp:revision>17</cp:revision>
  <dc:subject/>
  <dc:title>Слайд 1</dc:title>
</cp:coreProperties>
</file>