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465-C9B5-4E65-AAF9-91A64004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677-6331-487A-A735-D3B1278D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6F1-99AB-4EC5-B245-0B6126EB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859-F7E7-4733-975E-4CCFC141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3494-B005-4D27-9E23-35067A99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0237-C064-4A33-9A9B-EBEFCE7A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820A-98CC-470B-A3F2-73A8436F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1EB-262F-470C-ACAF-60476DEB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84A0-E9C4-4DCD-A031-B60E1E8D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2EE3-1779-45C3-8B44-565E80C4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185B-8E73-487A-805E-D32F7E85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A3A-1C10-4E8F-AC8C-ECBB2773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E179-6E0A-4C9F-945B-E85D177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4B4F-D7B8-4639-A5FF-D7956E18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1B4F-5F68-4538-955B-8A85050C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DD6A-219B-4E38-8E71-B7675585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1AF0-00CE-488C-82E7-9230924A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B04-E235-42B9-9AE8-42EC868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E8B-80D2-4921-9CC9-7EE9D028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D9B-0916-4FAD-A609-39D2F8C1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18D-F4E8-44AA-8873-F889FB46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00E-92CE-4A8E-9B11-10714CA0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E3F-0171-44A4-AAD9-0D7B7E1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CB9-7A97-417D-A1D1-1D663874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C65E-9A60-4848-B373-C7A890295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1CD9-C8C1-4605-99BF-341027655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348160" cy="640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2928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676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2130120"/>
            <a:ext cx="6477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Наши дни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4120" y="3049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95280" y="62856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 такое 4 Ноября? 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ден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динства всех российских нар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ден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асения Росс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т самой большой опасности, которая когда-либо ей грозил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рожденный праздни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о своей историей, а не просто замена 7 ноябр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день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альных де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а не сомнительных марш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705720" cy="5448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2388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3791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… </a:t>
            </a: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Из </a:t>
            </a: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истории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-5909"/>
          <a:stretch/>
        </p:blipFill>
        <p:spPr>
          <a:xfrm>
            <a:off x="457200" y="304920"/>
            <a:ext cx="815976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24760" cy="5245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01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942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кона Пресвятой Богородицы Казанской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95480" y="1752480"/>
            <a:ext cx="3492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213012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История установления</a:t>
            </a:r>
            <a:br>
              <a:rPr sz="7200"/>
            </a:b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праздника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4029120" cy="34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572000" cy="2993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1847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0866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44:49Z</dcterms:created>
  <dc:creator>Саша</dc:creator>
  <dc:description/>
  <dc:language>en-US</dc:language>
  <cp:lastModifiedBy>саша</cp:lastModifiedBy>
  <dcterms:modified xsi:type="dcterms:W3CDTF">2007-11-06T16:01:00Z</dcterms:modified>
  <cp:revision>17</cp:revision>
  <dc:subject/>
  <dc:title>Слайд 1</dc:title>
</cp:coreProperties>
</file>