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10B-A33A-4908-9AB5-EBFF7A3CB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5E1A-EA2C-4E62-968D-6FF45D0B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34AA-526D-4EA9-8948-0B327220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C852-56C5-4E18-9499-8BE1475D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7B9-628D-43B8-978F-8D1F7497F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A2B1-AF29-4824-9639-46B6D8F21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711A-070C-4B40-A7CC-D516DD65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9952-9637-4F37-8A8C-CD040338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F1F2-EB63-40CB-A8DB-38D4824B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5AE-F01D-462A-BD14-B9779973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FA51-0970-4644-BBA2-EA9B9302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03E0-19BD-4113-B120-6C717052A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2659-1872-4F76-9B7F-3B5E7894CC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в эколого-развивающей среде средней группы «Солны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ила: Мельничук М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ая деятельность  с детьми: посадка л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Users\Сергей\Documents\Мои Принятые Файлы\IMAG0083.jpg"/>
          <p:cNvPicPr/>
          <p:nvPr/>
        </p:nvPicPr>
        <p:blipFill>
          <a:blip r:embed="rId1"/>
          <a:stretch/>
        </p:blipFill>
        <p:spPr>
          <a:xfrm>
            <a:off x="611280" y="1413000"/>
            <a:ext cx="3744720" cy="525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Сергей\Documents\Мои Принятые Файлы\IMAG0085.jpg"/>
          <p:cNvPicPr/>
          <p:nvPr/>
        </p:nvPicPr>
        <p:blipFill>
          <a:blip r:embed="rId2"/>
          <a:stretch/>
        </p:blipFill>
        <p:spPr>
          <a:xfrm>
            <a:off x="4716360" y="1413000"/>
            <a:ext cx="3859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971640" y="404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Наблюдение за огородом на ок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Сергей\Documents\Мои Принятые Файлы\IMAG0093.jpg"/>
          <p:cNvPicPr/>
          <p:nvPr/>
        </p:nvPicPr>
        <p:blipFill>
          <a:blip r:embed="rId1"/>
          <a:stretch/>
        </p:blipFill>
        <p:spPr>
          <a:xfrm>
            <a:off x="395280" y="1125360"/>
            <a:ext cx="85327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олок эксперимен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4788000" y="1197000"/>
            <a:ext cx="41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но-экспериментальная деятельность как средство экологического воспитания дошкольников, способствует и обогащает детей знаниями, учит их раздумывать, размышлять над тем, что они узнают, оказывает благоприятное воздействие на мировоззрение детей, развития их человеческих, социальных чув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Сергей\Documents\Мои Принятые Файлы\IMAG0094.jpg"/>
          <p:cNvPicPr/>
          <p:nvPr/>
        </p:nvPicPr>
        <p:blipFill>
          <a:blip r:embed="rId1"/>
          <a:stretch/>
        </p:blipFill>
        <p:spPr>
          <a:xfrm>
            <a:off x="611280" y="1197000"/>
            <a:ext cx="3889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ыты с воздух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Сергей\Documents\Мои Принятые Файлы\IMG-20160209-WA0016.jpg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00000" y="333000"/>
            <a:ext cx="7848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блиотека юного натурали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495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е входит подборка книг и пособий, природоведческого характера. В эту подборку включены книги, помогающие расширить экологические знания и кругозор до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Users\Сергей\Documents\Мои Принятые Файлы\IMAG0091.jpg"/>
          <p:cNvPicPr/>
          <p:nvPr/>
        </p:nvPicPr>
        <p:blipFill>
          <a:blip r:embed="rId2"/>
          <a:stretch/>
        </p:blipFill>
        <p:spPr>
          <a:xfrm>
            <a:off x="755640" y="1197000"/>
            <a:ext cx="38592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0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ссматривание книг, альбомов, плакатов на экологическую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C:\Users\Сергей\Documents\Мои Принятые Файлы\IMG-20160204-WA0003.jpg"/>
          <p:cNvPicPr/>
          <p:nvPr/>
        </p:nvPicPr>
        <p:blipFill>
          <a:blip r:embed="rId2"/>
          <a:stretch/>
        </p:blipFill>
        <p:spPr>
          <a:xfrm>
            <a:off x="324000" y="1341360"/>
            <a:ext cx="3816360" cy="508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C:\Users\Сергей\Documents\Мои Принятые Файлы\IMG-20160204-WA0004.jpg"/>
          <p:cNvPicPr/>
          <p:nvPr/>
        </p:nvPicPr>
        <p:blipFill>
          <a:blip r:embed="rId3"/>
          <a:stretch/>
        </p:blipFill>
        <p:spPr>
          <a:xfrm>
            <a:off x="4788000" y="1341360"/>
            <a:ext cx="388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голок дидактических 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40000" y="1197000"/>
            <a:ext cx="4824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игр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ют возможность систематизировать знания детей о растениях, животных, явлениях неживой природы, способствуют развитию памяти, внимания, наблюдательности, учат применять имеющиеся знания в новых условиях, активизируют разнообразные умственные процессы, обогащают словарь, способствуют воспитанию у детей умения играть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Сергей\Documents\Мои Принятые Файлы\IMAG0090.jpg"/>
          <p:cNvPicPr/>
          <p:nvPr/>
        </p:nvPicPr>
        <p:blipFill>
          <a:blip r:embed="rId1"/>
          <a:stretch/>
        </p:blipFill>
        <p:spPr>
          <a:xfrm>
            <a:off x="539640" y="1268280"/>
            <a:ext cx="3600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ры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Сергей\Documents\Мои Принятые Файлы\IMG-20160204-WA000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Сергей\Documents\Мои Принятые Файлы\IMG-20160209-WA0023.jpg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А ВНИМАНИ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КОЛОГИЯ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ука об окружающей среде и происходящих в ней процесса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ых условиях экологическое воспитание осуществляется в соответствии с Федеральным государственным образовательным стандартом дошкольного образования (ФГОС ДО), согласно которому одной из форм экологического воспитания детей в ДОУ я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 - сре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ое воспитание должно осуществляться в специально созданных условиях – в экологической предметно-развивающей среде. В настоящее время ведется поиск путей оптимальной и эффективной организации эколого-развивающей среды, которая может быть использована в познавательных и оздоровительных целях, для развития у детей навыков труда и общения с природой, для экологического воспитания дошкольников и пропаганды экологических 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ршенствовать предметно-развивающую среду для обеспечения оптимальных условий экологического развития детей в различных видах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овать формированию у детей потребности в общении с природой, интересов к познанию ее законов и я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755640" y="765000"/>
            <a:ext cx="75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Экологическое воспитание осуществляется через весь педагогический процесс – в повседневной жизни и на занятиях. В реализации задач экологического воспитания большое значение имеет природное окружение в детском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уголок природы в групп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уголок экспериментир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библиотека юного натурал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уголок дидактических 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детьми по экологическому воспита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дневные наблю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ние книг, альбомов, плакатов на экологическую 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ход за комнатными растениями, за огородом на окне, за цветниками (сезон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ок природы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720" y="836640"/>
            <a:ext cx="4643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ок природы позволяет развивать наблюдательность, формирует трудовые навыки и умения. Хорошо оборудованный и удачно расположенный уголок живой природы прививает эстетический вку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Сергей\Documents\Мои Принятые Файлы\IMAG0095.jpg"/>
          <p:cNvPicPr/>
          <p:nvPr/>
        </p:nvPicPr>
        <p:blipFill>
          <a:blip r:embed="rId2"/>
          <a:stretch/>
        </p:blipFill>
        <p:spPr>
          <a:xfrm>
            <a:off x="395280" y="981000"/>
            <a:ext cx="410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Сергей\Documents\Мои Принятые Файлы\IMG-20160204-WA0016.jpg"/>
          <p:cNvPicPr/>
          <p:nvPr/>
        </p:nvPicPr>
        <p:blipFill>
          <a:blip r:embed="rId1"/>
          <a:stretch/>
        </p:blipFill>
        <p:spPr>
          <a:xfrm>
            <a:off x="395280" y="1052640"/>
            <a:ext cx="3889440" cy="511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Сергей\Documents\Мои Принятые Файлы\IMG-20160204-WA0018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76720" cy="5040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39528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хаживаем за комнатными раст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9:52:30Z</dcterms:created>
  <dc:creator>Елена</dc:creator>
  <dc:description/>
  <dc:language>en-US</dc:language>
  <cp:lastModifiedBy>Мария</cp:lastModifiedBy>
  <dcterms:modified xsi:type="dcterms:W3CDTF">2019-01-09T11:01:38Z</dcterms:modified>
  <cp:revision>59</cp:revision>
  <dc:subject/>
  <dc:title>Предметно развивающая среда по экологическому воспитанию детей старшей группы№6 «Солнышко»</dc:title>
</cp:coreProperties>
</file>