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12FD-AAEE-44FB-B461-C0C9768E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9A9C-0C54-47B4-B9ED-0EEFCB52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BA5E-EA24-4E3F-A43F-A981F20C4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0E6E-BDD0-4E4C-ACD3-C09967692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083C-44E5-4633-BCEC-28FD8D86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B9F2-5A37-435B-8087-39EF949AC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D038-0857-44BE-9925-F0E2C1E8E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7603-DF2C-4FAA-830C-C70FC630A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804A-D31E-4081-9EF5-1F53AF63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B31E-3A21-4AE2-8A58-3C16341B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9BDE-2666-42AA-9FA6-B0B80A2C9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F3F-7825-4B8A-847B-A2C1F985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4F19-F4FC-4840-8067-7E80B18B33E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изация совместной деятельности в эколого-развивающей среде средней группы «Солныш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ыполнила: Мельничук М.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вместная деятельность  с детьми: посадка лу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C:\Users\Сергей\Documents\Мои Принятые Файлы\IMAG0083.jpg"/>
          <p:cNvPicPr/>
          <p:nvPr/>
        </p:nvPicPr>
        <p:blipFill>
          <a:blip r:embed="rId1"/>
          <a:stretch/>
        </p:blipFill>
        <p:spPr>
          <a:xfrm>
            <a:off x="611280" y="1413000"/>
            <a:ext cx="3744720" cy="525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C:\Users\Сергей\Documents\Мои Принятые Файлы\IMAG0085.jpg"/>
          <p:cNvPicPr/>
          <p:nvPr/>
        </p:nvPicPr>
        <p:blipFill>
          <a:blip r:embed="rId2"/>
          <a:stretch/>
        </p:blipFill>
        <p:spPr>
          <a:xfrm>
            <a:off x="4716360" y="1413000"/>
            <a:ext cx="38592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2"/>
          <p:cNvSpPr/>
          <p:nvPr/>
        </p:nvSpPr>
        <p:spPr>
          <a:xfrm>
            <a:off x="971640" y="404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Наблюдение за огородом на ок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:\Users\Сергей\Documents\Мои Принятые Файлы\IMAG0093.jpg"/>
          <p:cNvPicPr/>
          <p:nvPr/>
        </p:nvPicPr>
        <p:blipFill>
          <a:blip r:embed="rId1"/>
          <a:stretch/>
        </p:blipFill>
        <p:spPr>
          <a:xfrm>
            <a:off x="395280" y="1125360"/>
            <a:ext cx="853272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голок эксперимен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6"/>
          <p:cNvSpPr/>
          <p:nvPr/>
        </p:nvSpPr>
        <p:spPr>
          <a:xfrm>
            <a:off x="4788000" y="1197000"/>
            <a:ext cx="4176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ытно-экспериментальная деятельность как средство экологического воспитания дошкольников, способствует и обогащает детей знаниями, учит их раздумывать, размышлять над тем, что они узнают, оказывает благоприятное воздействие на мировоззрение детей, развития их человеческих, социальных чувст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:\Users\Сергей\Documents\Мои Принятые Файлы\IMAG0094.jpg"/>
          <p:cNvPicPr/>
          <p:nvPr/>
        </p:nvPicPr>
        <p:blipFill>
          <a:blip r:embed="rId1"/>
          <a:stretch/>
        </p:blipFill>
        <p:spPr>
          <a:xfrm>
            <a:off x="611280" y="1197000"/>
            <a:ext cx="388944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пыты с воздух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C:\Users\Сергей\Documents\Мои Принятые Файлы\IMG-20160209-WA0016.jpg"/>
          <p:cNvPicPr/>
          <p:nvPr/>
        </p:nvPicPr>
        <p:blipFill>
          <a:blip r:embed="rId1"/>
          <a:stretch/>
        </p:blipFill>
        <p:spPr>
          <a:xfrm>
            <a:off x="468360" y="1628640"/>
            <a:ext cx="403236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900000" y="333000"/>
            <a:ext cx="78487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иблиотека юного натуралист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8320" y="1197000"/>
            <a:ext cx="44956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нее входит подборка книг и пособий, природоведческого характера. В эту подборку включены книги, помогающие расширить экологические знания и кругозор дошкольник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C:\Users\Сергей\Documents\Мои Принятые Файлы\IMAG0091.jpg"/>
          <p:cNvPicPr/>
          <p:nvPr/>
        </p:nvPicPr>
        <p:blipFill>
          <a:blip r:embed="rId2"/>
          <a:stretch/>
        </p:blipFill>
        <p:spPr>
          <a:xfrm>
            <a:off x="755640" y="1197000"/>
            <a:ext cx="38592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20872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Рассматривание книг, альбомов, плакатов на экологическую 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105520" y="198900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0" descr="C:\Users\Сергей\Documents\Мои Принятые Файлы\IMG-20160204-WA0003.jpg"/>
          <p:cNvPicPr/>
          <p:nvPr/>
        </p:nvPicPr>
        <p:blipFill>
          <a:blip r:embed="rId2"/>
          <a:stretch/>
        </p:blipFill>
        <p:spPr>
          <a:xfrm>
            <a:off x="324000" y="1341360"/>
            <a:ext cx="3816360" cy="5085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1" descr="C:\Users\Сергей\Documents\Мои Принятые Файлы\IMG-20160204-WA0004.jpg"/>
          <p:cNvPicPr/>
          <p:nvPr/>
        </p:nvPicPr>
        <p:blipFill>
          <a:blip r:embed="rId3"/>
          <a:stretch/>
        </p:blipFill>
        <p:spPr>
          <a:xfrm>
            <a:off x="4788000" y="1341360"/>
            <a:ext cx="3887640" cy="51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голок дидактических иг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140000" y="1197000"/>
            <a:ext cx="48243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дактические игры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ют возможность систематизировать знания детей о растениях, животных, явлениях неживой природы, способствуют развитию памяти, внимания, наблюдательности, учат применять имеющиеся знания в новых условиях, активизируют разнообразные умственные процессы, обогащают словарь, способствуют воспитанию у детей умения играть вмест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C:\Users\Сергей\Documents\Мои Принятые Файлы\IMAG0090.jpg"/>
          <p:cNvPicPr/>
          <p:nvPr/>
        </p:nvPicPr>
        <p:blipFill>
          <a:blip r:embed="rId1"/>
          <a:stretch/>
        </p:blipFill>
        <p:spPr>
          <a:xfrm>
            <a:off x="539640" y="1268280"/>
            <a:ext cx="36007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гры де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Сергей\Documents\Мои Принятые Файлы\IMG-20160204-WA0007.jpg"/>
          <p:cNvPicPr/>
          <p:nvPr/>
        </p:nvPicPr>
        <p:blipFill>
          <a:blip r:embed="rId1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C:\Users\Сергей\Documents\Мои Принятые Файлы\IMG-20160209-WA0023.jpg"/>
          <p:cNvPicPr/>
          <p:nvPr/>
        </p:nvPicPr>
        <p:blipFill>
          <a:blip r:embed="rId2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ЗА ВНИМАНИЕ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ЭКОЛОГИЯ –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наука об окружающей среде и происходящих в ней процессах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Актуальност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временных условиях экологическое воспитание осуществляется в соответствии с Федеральным государственным образовательным стандартом дошкольного образования (ФГОС ДО), согласно которому одной из форм экологического воспитания детей в ДОУ явля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Эко - сред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кологическое воспитание должно осуществляться в специально созданных условиях – в экологической предметно-развивающей среде. В настоящее время ведется поиск путей оптимальной и эффективной организации эколого-развивающей среды, которая может быть использована в познавательных и оздоровительных целях, для развития у детей навыков труда и общения с природой, для экологического воспитания дошкольников и пропаганды экологических зна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вершенствовать предметно-развивающую среду для обеспечения оптимальных условий экологического развития детей в различных видах детской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-2638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ствовать формированию у детей потребности в общении с природой, интересов к познанию ее законов и явл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4"/>
          <p:cNvSpPr/>
          <p:nvPr/>
        </p:nvSpPr>
        <p:spPr>
          <a:xfrm>
            <a:off x="755640" y="765000"/>
            <a:ext cx="7561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Экологическое воспитание осуществляется через весь педагогический процесс – в повседневной жизни и на занятиях. В реализации задач экологического воспитания большое значение имеет природное окружение в детском сад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уголок природы в групп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уголок экспериментиро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библиотека юного натуралис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 Antiqua"/>
              </a:rPr>
              <a:t>уголок дидактических иг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бота с детьми по экологическому воспитанию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Ежедневные наблю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ериментиров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разовательная деятель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матривание книг, альбомов, плакатов на экологическую т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ход за комнатными растениями, за огородом на окне, за цветниками (сезонно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голок природы в групп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00720" y="836640"/>
            <a:ext cx="4643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голок природы позволяет развивать наблюдательность, формирует трудовые навыки и умения. Хорошо оборудованный и удачно расположенный уголок живой природы прививает эстетический вку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C:\Users\Сергей\Documents\Мои Принятые Файлы\IMAG0095.jpg"/>
          <p:cNvPicPr/>
          <p:nvPr/>
        </p:nvPicPr>
        <p:blipFill>
          <a:blip r:embed="rId2"/>
          <a:stretch/>
        </p:blipFill>
        <p:spPr>
          <a:xfrm>
            <a:off x="395280" y="981000"/>
            <a:ext cx="41054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Сергей\Documents\Мои Принятые Файлы\IMG-20160204-WA0016.jpg"/>
          <p:cNvPicPr/>
          <p:nvPr/>
        </p:nvPicPr>
        <p:blipFill>
          <a:blip r:embed="rId1"/>
          <a:stretch/>
        </p:blipFill>
        <p:spPr>
          <a:xfrm>
            <a:off x="395280" y="1052640"/>
            <a:ext cx="3889440" cy="5113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Сергей\Documents\Мои Принятые Файлы\IMG-20160204-WA0018.jpg"/>
          <p:cNvPicPr/>
          <p:nvPr/>
        </p:nvPicPr>
        <p:blipFill>
          <a:blip r:embed="rId2"/>
          <a:stretch/>
        </p:blipFill>
        <p:spPr>
          <a:xfrm>
            <a:off x="4572000" y="1125360"/>
            <a:ext cx="4176720" cy="50403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3"/>
          <p:cNvSpPr/>
          <p:nvPr/>
        </p:nvSpPr>
        <p:spPr>
          <a:xfrm>
            <a:off x="395280" y="2602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хаживаем за комнатными раст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7T09:52:30Z</dcterms:created>
  <dc:creator>Елена</dc:creator>
  <dc:description/>
  <dc:language>en-US</dc:language>
  <cp:lastModifiedBy>Мария</cp:lastModifiedBy>
  <dcterms:modified xsi:type="dcterms:W3CDTF">2019-01-09T11:01:38Z</dcterms:modified>
  <cp:revision>59</cp:revision>
  <dc:subject/>
  <dc:title>Предметно развивающая среда по экологическому воспитанию детей старшей группы№6 «Солнышко»</dc:title>
</cp:coreProperties>
</file>