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F543-DEF8-4E26-A1E7-929E462A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A2C6-9B3A-41F0-9CFE-6AE6E6ED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FE85-B1FA-45A2-A341-6D9349263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C668-40F0-4C64-8890-73552B2F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882B-8ACA-48A2-8E50-67586458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7162-2ADE-41D2-A775-C79B6100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B66A-3C4D-4C83-B8CE-6FFC6EBE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5C7E-BB12-44AE-80F1-B878C556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F821-6A25-41B2-B372-F9F7C9E8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CC4A-D823-4D15-BFE5-807C5167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32F1-DBF0-459E-821F-3C40245E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6C66-B710-4D02-BC64-2BBBCCBD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9411-4BEA-4E9D-BE1C-0D8D90E1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2B88-A9AB-41AA-8EB5-68C458ED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D00F-D980-4350-8A18-E8B1FCE7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05B1-3449-4FA5-8BE9-20E82052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417D-9150-4849-AB7B-647E5FA8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2C38-478E-44A3-A14D-B4E6B7F3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A99F-CA20-4D82-A5F0-253E9434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91E-F2D6-433A-9A36-E4545F97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8ED5-3759-4271-BAE7-7334D87E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F301-23ED-447D-96E9-6E832180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1159-10FD-4FB6-9721-BAC8EE55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3297-2BC7-4B85-801C-9E2A499C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6867-1A31-4408-B2D1-6752D8AAB330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2316-EA1F-4F10-A242-61D2077DEBD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&#1051;&#1086;&#1075;&#1086;&#1090;&#1080;&#1087;_&#1090;&#1077;&#1083;&#1077;&#1087;&#1077;&#1088;&#1077;&#1076;&#1072;&#1095;&#1080;_%22&#1057;&#1074;&#1086;&#1103;_&#1080;&#1075;&#1088;&#1072;%2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25.xml"/><Relationship Id="rId12" Type="http://schemas.openxmlformats.org/officeDocument/2006/relationships/slide" Target="slide23.xml"/><Relationship Id="rId13" Type="http://schemas.openxmlformats.org/officeDocument/2006/relationships/slide" Target="slide19.xml"/><Relationship Id="rId14" Type="http://schemas.openxmlformats.org/officeDocument/2006/relationships/slide" Target="slide17.xml"/><Relationship Id="rId15" Type="http://schemas.openxmlformats.org/officeDocument/2006/relationships/slide" Target="slide19.xml"/><Relationship Id="rId16" Type="http://schemas.openxmlformats.org/officeDocument/2006/relationships/slide" Target="slide19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15.xml"/><Relationship Id="rId20" Type="http://schemas.openxmlformats.org/officeDocument/2006/relationships/slide" Target="slide15.xml"/><Relationship Id="rId21" Type="http://schemas.openxmlformats.org/officeDocument/2006/relationships/slide" Target="slide25.xml"/><Relationship Id="rId22" Type="http://schemas.openxmlformats.org/officeDocument/2006/relationships/slide" Target="slide25.xml"/><Relationship Id="rId23" Type="http://schemas.openxmlformats.org/officeDocument/2006/relationships/slide" Target="slide27.xml"/><Relationship Id="rId24" Type="http://schemas.openxmlformats.org/officeDocument/2006/relationships/slide" Target="slide27.xml"/><Relationship Id="rId25" Type="http://schemas.openxmlformats.org/officeDocument/2006/relationships/slide" Target="slide29.xml"/><Relationship Id="rId26" Type="http://schemas.openxmlformats.org/officeDocument/2006/relationships/slide" Target="slide29.xml"/><Relationship Id="rId27" Type="http://schemas.openxmlformats.org/officeDocument/2006/relationships/slide" Target="slide31.xml"/><Relationship Id="rId28" Type="http://schemas.openxmlformats.org/officeDocument/2006/relationships/slide" Target="slide31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" Target="slide33.xml"/><Relationship Id="rId32" Type="http://schemas.openxmlformats.org/officeDocument/2006/relationships/slide" Target="slide37.xml"/><Relationship Id="rId33" Type="http://schemas.openxmlformats.org/officeDocument/2006/relationships/slide" Target="slide39.xml"/><Relationship Id="rId34" Type="http://schemas.openxmlformats.org/officeDocument/2006/relationships/slide" Target="slide45.xml"/><Relationship Id="rId35" Type="http://schemas.openxmlformats.org/officeDocument/2006/relationships/slide" Target="slide3.xml"/><Relationship Id="rId36" Type="http://schemas.openxmlformats.org/officeDocument/2006/relationships/slide" Target="slide3.xml"/><Relationship Id="rId3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рок-игра по роману А. С. Пушкина «Евгений Онегин»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0" y="5305320"/>
            <a:ext cx="8893080" cy="462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%D0%9B%D0%BE%D0%B3%D0%BE%D1%82%D0%B8%D0%BF_%D1%82%D0%B5%D0%BB%D0%B5%D0%BF%D0%B5%D1%80%D0%B5%D0%B4%D0%B0%D1%87%D0%B8_%22%D0%A1%D0%B2%D0%BE%D1%8F_%D0%B8%D0%B3%D1%80%D0%B0%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93720" y="2019240"/>
            <a:ext cx="6050160" cy="44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ушкин друг Онегина, с которым познакомился и подружился в Петербурге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" action="ppaction://hlinksldjump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Когда был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 создано произведение “Евгений Онегин”?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nstantia"/>
              </a:rPr>
              <a:t>1823 – 1830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" action="ppaction://hlinksldjump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0" y="30751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Сколько времени создавался «Евгений Онегин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7 лет 4 месяца 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14 дней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AutoShape 4">
            <a:hlinkClick r:id="rId1" action="ppaction://hlinksldjump"/>
          </p:cNvPr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2" action="ppaction://hlinksldjump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К какому жанру относится «Евгений Онегин»?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Роман в стихах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" action="ppaction://hlinksldjump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К какому направлению в литературе Пушкин окончательно переходит в романе «Евгений Онегин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nstantia"/>
              </a:rPr>
              <a:t>Пушкин переходит к реализму. В лирических отступлениях романа он рассматривает все литературные направления его времени – классицизм, сентиментализм и романтизм, осуждает их за односторонность в изображении человека и жизни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ectangle 4"/>
          <p:cNvSpPr/>
          <p:nvPr/>
        </p:nvSpPr>
        <p:spPr>
          <a:xfrm flipH="1">
            <a:off x="10764720" y="3357720"/>
            <a:ext cx="70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" action="ppaction://hlinksldjump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 ком идет речь?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В красавиц он уж не влюблялся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А волочился как-нибудь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Откажут – мигом утешался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Изменят – рад был отдохнуть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4" action="ppaction://hlinksldjump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6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>
            <a:hlinkClick r:id="rId7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8" action="ppaction://hlinksldjump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>
            <a:hlinkClick r:id="rId9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10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>
            <a:hlinkClick r:id="rId11" action="ppaction://hlinksldjump"/>
          </p:cNvPr>
          <p:cNvSpPr/>
          <p:nvPr/>
        </p:nvSpPr>
        <p:spPr>
          <a:xfrm>
            <a:off x="363528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12" action="ppaction://hlinksldjump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>
            <a:hlinkClick r:id="rId13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14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>
            <a:hlinkClick r:id="rId15" action="ppaction://hlinksldjump"/>
          </p:cNvPr>
          <p:cNvSpPr/>
          <p:nvPr/>
        </p:nvSpPr>
        <p:spPr>
          <a:xfrm>
            <a:off x="3635280" y="1125360"/>
            <a:ext cx="1828800" cy="1151280"/>
          </a:xfrm>
          <a:custGeom>
            <a:avLst/>
            <a:gdLst>
              <a:gd name="textAreaLeft" fmla="*/ 74520 w 1828800"/>
              <a:gd name="textAreaRight" fmla="*/ 1754280 w 1828800"/>
              <a:gd name="textAreaTop" fmla="*/ 74520 h 1151280"/>
              <a:gd name="textAreaBottom" fmla="*/ 1076760 h 1151280"/>
            </a:gdLst>
            <a:ahLst/>
            <a:rect l="textAreaLeft" t="textAreaTop" r="textAreaRight" b="textAreaBottom"/>
            <a:pathLst>
              <a:path w="34307" h="21600">
                <a:moveTo>
                  <a:pt x="0" y="0"/>
                </a:moveTo>
                <a:lnTo>
                  <a:pt x="34307" y="0"/>
                </a:lnTo>
                <a:lnTo>
                  <a:pt x="34307" y="21600"/>
                </a:lnTo>
                <a:lnTo>
                  <a:pt x="0" y="21600"/>
                </a:lnTo>
                <a:close/>
              </a:path>
              <a:path fill="lightenLess" w="34307" h="21600">
                <a:moveTo>
                  <a:pt x="0" y="0"/>
                </a:moveTo>
                <a:lnTo>
                  <a:pt x="34307" y="0"/>
                </a:lnTo>
                <a:lnTo>
                  <a:pt x="32908" y="1400"/>
                </a:lnTo>
                <a:lnTo>
                  <a:pt x="1400" y="1400"/>
                </a:lnTo>
                <a:close/>
              </a:path>
              <a:path fill="darken" w="34307" h="21600">
                <a:moveTo>
                  <a:pt x="34307" y="0"/>
                </a:moveTo>
                <a:lnTo>
                  <a:pt x="34307" y="21600"/>
                </a:lnTo>
                <a:lnTo>
                  <a:pt x="32908" y="20200"/>
                </a:lnTo>
                <a:lnTo>
                  <a:pt x="32908" y="1400"/>
                </a:lnTo>
                <a:close/>
              </a:path>
              <a:path fill="darkenLess" w="34307" h="21600">
                <a:moveTo>
                  <a:pt x="34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8" y="20200"/>
                </a:lnTo>
                <a:close/>
              </a:path>
              <a:path fill="lighten" w="34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16" action="ppaction://hlinksldjump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>
            <a:hlinkClick r:id="rId17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1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1">
            <a:hlinkClick r:id="rId19" action="ppaction://hlinksldjump"/>
          </p:cNvPr>
          <p:cNvSpPr/>
          <p:nvPr/>
        </p:nvSpPr>
        <p:spPr>
          <a:xfrm>
            <a:off x="183528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20" action="ppaction://hlinksldjump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2">
            <a:hlinkClick r:id="rId21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22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3">
            <a:hlinkClick r:id="rId23" action="ppaction://hlinksldjump"/>
          </p:cNvPr>
          <p:cNvSpPr/>
          <p:nvPr/>
        </p:nvSpPr>
        <p:spPr>
          <a:xfrm>
            <a:off x="5435640" y="1125360"/>
            <a:ext cx="1873080" cy="1151280"/>
          </a:xfrm>
          <a:custGeom>
            <a:avLst/>
            <a:gdLst>
              <a:gd name="textAreaLeft" fmla="*/ 74520 w 1873080"/>
              <a:gd name="textAreaRight" fmla="*/ 1798560 w 1873080"/>
              <a:gd name="textAreaTop" fmla="*/ 74520 h 1151280"/>
              <a:gd name="textAreaBottom" fmla="*/ 1076760 h 1151280"/>
            </a:gdLst>
            <a:ahLst/>
            <a:rect l="textAreaLeft" t="textAreaTop" r="textAreaRight" b="textAreaBottom"/>
            <a:pathLst>
              <a:path w="35138" h="21600">
                <a:moveTo>
                  <a:pt x="0" y="0"/>
                </a:moveTo>
                <a:lnTo>
                  <a:pt x="35138" y="0"/>
                </a:lnTo>
                <a:lnTo>
                  <a:pt x="35138" y="21600"/>
                </a:lnTo>
                <a:lnTo>
                  <a:pt x="0" y="21600"/>
                </a:lnTo>
                <a:close/>
              </a:path>
              <a:path fill="lightenLess" w="35138" h="21600">
                <a:moveTo>
                  <a:pt x="0" y="0"/>
                </a:moveTo>
                <a:lnTo>
                  <a:pt x="35138" y="0"/>
                </a:lnTo>
                <a:lnTo>
                  <a:pt x="33738" y="1400"/>
                </a:lnTo>
                <a:lnTo>
                  <a:pt x="1400" y="1400"/>
                </a:lnTo>
                <a:close/>
              </a:path>
              <a:path fill="darken" w="35138" h="21600">
                <a:moveTo>
                  <a:pt x="35138" y="0"/>
                </a:moveTo>
                <a:lnTo>
                  <a:pt x="35138" y="21600"/>
                </a:lnTo>
                <a:lnTo>
                  <a:pt x="33738" y="20200"/>
                </a:lnTo>
                <a:lnTo>
                  <a:pt x="33738" y="1400"/>
                </a:lnTo>
                <a:close/>
              </a:path>
              <a:path fill="darkenLess" w="35138" h="21600">
                <a:moveTo>
                  <a:pt x="35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38" y="20200"/>
                </a:lnTo>
                <a:close/>
              </a:path>
              <a:path fill="lighten" w="35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24" action="ppaction://hlinksldjump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4">
            <a:hlinkClick r:id="rId25" action="ppaction://hlinksldjump"/>
          </p:cNvPr>
          <p:cNvSpPr/>
          <p:nvPr/>
        </p:nvSpPr>
        <p:spPr>
          <a:xfrm>
            <a:off x="5435640" y="2286000"/>
            <a:ext cx="1879560" cy="1143000"/>
          </a:xfrm>
          <a:custGeom>
            <a:avLst/>
            <a:gdLst>
              <a:gd name="textAreaLeft" fmla="*/ 73800 w 1879560"/>
              <a:gd name="textAreaRight" fmla="*/ 1805760 w 1879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5515" h="21600">
                <a:moveTo>
                  <a:pt x="0" y="0"/>
                </a:moveTo>
                <a:lnTo>
                  <a:pt x="35515" y="0"/>
                </a:lnTo>
                <a:lnTo>
                  <a:pt x="35515" y="21600"/>
                </a:lnTo>
                <a:lnTo>
                  <a:pt x="0" y="21600"/>
                </a:lnTo>
                <a:close/>
              </a:path>
              <a:path fill="lightenLess" w="35515" h="21600">
                <a:moveTo>
                  <a:pt x="0" y="0"/>
                </a:moveTo>
                <a:lnTo>
                  <a:pt x="35515" y="0"/>
                </a:lnTo>
                <a:lnTo>
                  <a:pt x="34115" y="1400"/>
                </a:lnTo>
                <a:lnTo>
                  <a:pt x="1400" y="1400"/>
                </a:lnTo>
                <a:close/>
              </a:path>
              <a:path fill="darken" w="35515" h="21600">
                <a:moveTo>
                  <a:pt x="35515" y="0"/>
                </a:moveTo>
                <a:lnTo>
                  <a:pt x="35515" y="21600"/>
                </a:lnTo>
                <a:lnTo>
                  <a:pt x="34115" y="20200"/>
                </a:lnTo>
                <a:lnTo>
                  <a:pt x="34115" y="1400"/>
                </a:lnTo>
                <a:close/>
              </a:path>
              <a:path fill="darkenLess" w="35515" h="21600">
                <a:moveTo>
                  <a:pt x="355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15" y="20200"/>
                </a:lnTo>
                <a:close/>
              </a:path>
              <a:path fill="lighten" w="355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2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5">
            <a:hlinkClick r:id="rId27" action="ppaction://hlinksldjump"/>
          </p:cNvPr>
          <p:cNvSpPr/>
          <p:nvPr/>
        </p:nvSpPr>
        <p:spPr>
          <a:xfrm>
            <a:off x="5435640" y="3429000"/>
            <a:ext cx="1879560" cy="1143000"/>
          </a:xfrm>
          <a:custGeom>
            <a:avLst/>
            <a:gdLst>
              <a:gd name="textAreaLeft" fmla="*/ 73800 w 1879560"/>
              <a:gd name="textAreaRight" fmla="*/ 1805760 w 1879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5515" h="21600">
                <a:moveTo>
                  <a:pt x="0" y="0"/>
                </a:moveTo>
                <a:lnTo>
                  <a:pt x="35515" y="0"/>
                </a:lnTo>
                <a:lnTo>
                  <a:pt x="35515" y="21600"/>
                </a:lnTo>
                <a:lnTo>
                  <a:pt x="0" y="21600"/>
                </a:lnTo>
                <a:close/>
              </a:path>
              <a:path fill="lightenLess" w="35515" h="21600">
                <a:moveTo>
                  <a:pt x="0" y="0"/>
                </a:moveTo>
                <a:lnTo>
                  <a:pt x="35515" y="0"/>
                </a:lnTo>
                <a:lnTo>
                  <a:pt x="34115" y="1400"/>
                </a:lnTo>
                <a:lnTo>
                  <a:pt x="1400" y="1400"/>
                </a:lnTo>
                <a:close/>
              </a:path>
              <a:path fill="darken" w="35515" h="21600">
                <a:moveTo>
                  <a:pt x="35515" y="0"/>
                </a:moveTo>
                <a:lnTo>
                  <a:pt x="35515" y="21600"/>
                </a:lnTo>
                <a:lnTo>
                  <a:pt x="34115" y="20200"/>
                </a:lnTo>
                <a:lnTo>
                  <a:pt x="34115" y="1400"/>
                </a:lnTo>
                <a:close/>
              </a:path>
              <a:path fill="darkenLess" w="35515" h="21600">
                <a:moveTo>
                  <a:pt x="355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15" y="20200"/>
                </a:lnTo>
                <a:close/>
              </a:path>
              <a:path fill="lighten" w="355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28" action="ppaction://hlinksldjump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6">
            <a:hlinkClick r:id="rId29" action="ppaction://hlinksldjump"/>
          </p:cNvPr>
          <p:cNvSpPr/>
          <p:nvPr/>
        </p:nvSpPr>
        <p:spPr>
          <a:xfrm>
            <a:off x="5435640" y="4572000"/>
            <a:ext cx="1879560" cy="1143000"/>
          </a:xfrm>
          <a:custGeom>
            <a:avLst/>
            <a:gdLst>
              <a:gd name="textAreaLeft" fmla="*/ 73800 w 1879560"/>
              <a:gd name="textAreaRight" fmla="*/ 1805760 w 18795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5515" h="21600">
                <a:moveTo>
                  <a:pt x="0" y="0"/>
                </a:moveTo>
                <a:lnTo>
                  <a:pt x="35515" y="0"/>
                </a:lnTo>
                <a:lnTo>
                  <a:pt x="35515" y="21600"/>
                </a:lnTo>
                <a:lnTo>
                  <a:pt x="0" y="21600"/>
                </a:lnTo>
                <a:close/>
              </a:path>
              <a:path fill="lightenLess" w="35515" h="21600">
                <a:moveTo>
                  <a:pt x="0" y="0"/>
                </a:moveTo>
                <a:lnTo>
                  <a:pt x="35515" y="0"/>
                </a:lnTo>
                <a:lnTo>
                  <a:pt x="34115" y="1400"/>
                </a:lnTo>
                <a:lnTo>
                  <a:pt x="1400" y="1400"/>
                </a:lnTo>
                <a:close/>
              </a:path>
              <a:path fill="darken" w="35515" h="21600">
                <a:moveTo>
                  <a:pt x="35515" y="0"/>
                </a:moveTo>
                <a:lnTo>
                  <a:pt x="35515" y="21600"/>
                </a:lnTo>
                <a:lnTo>
                  <a:pt x="34115" y="20200"/>
                </a:lnTo>
                <a:lnTo>
                  <a:pt x="34115" y="1400"/>
                </a:lnTo>
                <a:close/>
              </a:path>
              <a:path fill="darkenLess" w="35515" h="21600">
                <a:moveTo>
                  <a:pt x="355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15" y="20200"/>
                </a:lnTo>
                <a:close/>
              </a:path>
              <a:path fill="lighten" w="355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30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7"/>
          <p:cNvSpPr/>
          <p:nvPr/>
        </p:nvSpPr>
        <p:spPr>
          <a:xfrm>
            <a:off x="7315200" y="1143000"/>
            <a:ext cx="1828800" cy="113364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1133640"/>
              <a:gd name="textAreaBottom" fmla="*/ 1060200 h 1133640"/>
            </a:gdLst>
            <a:ahLst/>
            <a:rect l="textAreaLeft" t="textAreaTop" r="textAreaRight" b="textAreaBottom"/>
            <a:pathLst>
              <a:path w="34841" h="21600">
                <a:moveTo>
                  <a:pt x="0" y="0"/>
                </a:moveTo>
                <a:lnTo>
                  <a:pt x="34841" y="0"/>
                </a:lnTo>
                <a:lnTo>
                  <a:pt x="34841" y="21600"/>
                </a:lnTo>
                <a:lnTo>
                  <a:pt x="0" y="21600"/>
                </a:lnTo>
                <a:close/>
              </a:path>
              <a:path fill="lightenLess" w="34841" h="21600">
                <a:moveTo>
                  <a:pt x="0" y="0"/>
                </a:moveTo>
                <a:lnTo>
                  <a:pt x="34841" y="0"/>
                </a:lnTo>
                <a:lnTo>
                  <a:pt x="33441" y="1400"/>
                </a:lnTo>
                <a:lnTo>
                  <a:pt x="1400" y="1400"/>
                </a:lnTo>
                <a:close/>
              </a:path>
              <a:path fill="darken" w="34841" h="21600">
                <a:moveTo>
                  <a:pt x="34841" y="0"/>
                </a:moveTo>
                <a:lnTo>
                  <a:pt x="34841" y="21600"/>
                </a:lnTo>
                <a:lnTo>
                  <a:pt x="33441" y="20200"/>
                </a:lnTo>
                <a:lnTo>
                  <a:pt x="33441" y="1400"/>
                </a:lnTo>
                <a:close/>
              </a:path>
              <a:path fill="darkenLess" w="34841" h="21600">
                <a:moveTo>
                  <a:pt x="34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41" y="20200"/>
                </a:lnTo>
                <a:close/>
              </a:path>
              <a:path fill="lighten" w="34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31" action="ppaction://hlinksldjump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8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3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9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33" action="ppaction://hlinksldjump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0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34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1">
            <a:hlinkClick r:id="rId35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Garamond"/>
                <a:hlinkClick r:id="rId36" action="ppaction://hlinksldjump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009d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иограф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А. Пушк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3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009d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Истор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созд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«Е. О.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009d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Герои «Е. О.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5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009d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на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екс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009d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нима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мы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onstantia"/>
              </a:rPr>
              <a:t>Об Онегине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" action="ppaction://hlinksldjump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то это?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Задумчивость, ее подруг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От самых колыбельных дней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Теченье сельского досуг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Мечтами украшала ей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Татьяна  Ларина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AutoShape 4">
            <a:hlinkClick r:id="rId1" action="ppaction://hlinksldjump"/>
          </p:cNvPr>
          <p:cNvSpPr/>
          <p:nvPr/>
        </p:nvSpPr>
        <p:spPr>
          <a:xfrm>
            <a:off x="6804000" y="5805360"/>
            <a:ext cx="2016000" cy="71928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60521" h="21600">
                <a:moveTo>
                  <a:pt x="0" y="0"/>
                </a:moveTo>
                <a:lnTo>
                  <a:pt x="60521" y="0"/>
                </a:lnTo>
                <a:lnTo>
                  <a:pt x="60521" y="21600"/>
                </a:lnTo>
                <a:lnTo>
                  <a:pt x="0" y="21600"/>
                </a:lnTo>
                <a:close/>
              </a:path>
              <a:path fill="lightenLess" w="60521" h="21600">
                <a:moveTo>
                  <a:pt x="0" y="0"/>
                </a:moveTo>
                <a:lnTo>
                  <a:pt x="60521" y="0"/>
                </a:lnTo>
                <a:lnTo>
                  <a:pt x="59121" y="1400"/>
                </a:lnTo>
                <a:lnTo>
                  <a:pt x="1400" y="1400"/>
                </a:lnTo>
                <a:close/>
              </a:path>
              <a:path fill="darken" w="60521" h="21600">
                <a:moveTo>
                  <a:pt x="60521" y="0"/>
                </a:moveTo>
                <a:lnTo>
                  <a:pt x="60521" y="21600"/>
                </a:lnTo>
                <a:lnTo>
                  <a:pt x="59121" y="20200"/>
                </a:lnTo>
                <a:lnTo>
                  <a:pt x="59121" y="1400"/>
                </a:lnTo>
                <a:close/>
              </a:path>
              <a:path fill="darkenLess" w="60521" h="21600">
                <a:moveTo>
                  <a:pt x="60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21" y="20200"/>
                </a:lnTo>
                <a:close/>
              </a:path>
              <a:path fill="lighten" w="60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2" action="ppaction://hlinksldjump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Узнайте героя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Во многом он бы изменился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Расстался б с музами, женился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В деревне, счастлив и рогат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Носил бы стеганый халат;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Text Box 4"/>
          <p:cNvSpPr/>
          <p:nvPr/>
        </p:nvSpPr>
        <p:spPr>
          <a:xfrm flipV="1">
            <a:off x="826920" y="263088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Владимир Ленский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AutoShape 4">
            <a:hlinkClick r:id="rId1" action="ppaction://hlinksldjump"/>
          </p:cNvPr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2" action="ppaction://hlinksldjump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О ком идет речь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Они хранили в жизни мирной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Привычки милой старины;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У них на масленице жирной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Водились русские блины;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Два раза в год они говели;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Любили круглые качели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Подблюдны песни, хоровод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О Лариных-старших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AutoShape 4">
            <a:hlinkClick r:id="rId1" action="ppaction://hlinksldjump"/>
          </p:cNvPr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2" action="ppaction://hlinksldjump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Закончите фразу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Я знаю: в вашем сердце есть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И гордость и прямая честь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Я вас люблю (к чему лукавить?)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Но я другому отдана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И буду век ему верна”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AutoShape 4">
            <a:hlinkClick r:id="rId1" action="ppaction://hlinksldjump"/>
          </p:cNvPr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2" action="ppaction://hlinksldjump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836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назвал роман «Евгений Онегин» русский критик В.Г.Белинский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Где и когда родился А. С. Пушкин?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«Энциклопедия русской жизни»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AutoShape 4">
            <a:hlinkClick r:id="rId1" action="ppaction://hlinksldjump"/>
          </p:cNvPr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2" action="ppaction://hlinksldjump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9528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ем закончилась  дуэль Онегина с Ленским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836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негин убил своего друга Ленского, так как не смог возвыситься над общественным мнением того поместного дворянства, которое внутренне презирал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Закончите фразу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Мой дядя самых честных правил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Когда не в шутку занемог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Он уважать себя заставил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Евгений Онегин – это натура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а) Цельная, непротиворечивая, однозначна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б) Подражательная по отношению к западным образцам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в) Двойственная, сотканная из противореч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в) Двойственная, сотканная из противореч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вторские отступления в “Евгении Онегине” нужны.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а) Для создания образа авто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б) Для того, чтобы повествовани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не было утомительно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однообразным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в) Для создания широкой картин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русской жизни начала XIX век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) Для создания образа автор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в) Для создания широкой картины русской жизни начала XIX век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AutoShape 4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сположите в правильной последовательности события, описанные в роман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а) Исповедь Татьяны Лариной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б) Знакомство Онегина с Ленским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в) Преобразования Онегина в деревн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г) Исповедь Онегина Татьяне Лариной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д) Именины Татьяны Лариной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6 июня 1799 года в Москве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" action="ppaction://hlinksldjump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в) Преобразования Онегина в деревн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в) Преобразования Онегина в деревн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б) Знакомство Онегина с Ленским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в) Преобразования Онегина в деревн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б) Знакомство Онегина с Ленским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а) Исповедь Татьяны Ларино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в) Преобразования Онегина в деревн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б) Знакомство Онегина с Ленским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а) Исповедь Татьяны Ларино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д) Именины Татьяны Ларино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в) Преобразования Онегина в деревн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б) Знакомство Онегина с Ленским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а) Исповедь Татьяны Ларино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д) Именины Татьяны Ларино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г) Исповедь Онегина Татьяне Ларино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94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зовите главных героев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омана “Евгений Онегин”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9528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8360" y="1628640"/>
            <a:ext cx="822960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вгений Онегин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ладимир Ленски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атьяна Ларин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льга Ларин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Назовите учебное заведение,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которое подарило Пушкину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красоту мира, любовь к Родине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к друзьям?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Кем и когда оно было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основано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Царскосельский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Лицей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Александром I,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19 октября 1811 г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1" action="ppaction://hlinksldjump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0" y="1928880"/>
            <a:ext cx="8786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Здесь Пушкин очень плодотворно поработал. Он написал около четырехсот стихов, 8-ю, 9-ю и 10-ю главы "Евгения Онегина" но последняя сгорает. Также он пишет 5 повестей прозою, несколько драматических сце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D:\Documents and Settings\YraK\Рабочий стол\boldino_09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Это село Болдино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6877080" y="5877000"/>
            <a:ext cx="2016000" cy="718920"/>
          </a:xfrm>
          <a:custGeom>
            <a:avLst/>
            <a:gdLst>
              <a:gd name="textAreaLeft" fmla="*/ 46440 w 2016000"/>
              <a:gd name="textAreaRight" fmla="*/ 1969560 w 2016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0551" h="21600">
                <a:moveTo>
                  <a:pt x="0" y="0"/>
                </a:moveTo>
                <a:lnTo>
                  <a:pt x="60551" y="0"/>
                </a:lnTo>
                <a:lnTo>
                  <a:pt x="60551" y="21600"/>
                </a:lnTo>
                <a:lnTo>
                  <a:pt x="0" y="21600"/>
                </a:lnTo>
                <a:close/>
              </a:path>
              <a:path fill="lightenLess" w="60551" h="21600">
                <a:moveTo>
                  <a:pt x="0" y="0"/>
                </a:moveTo>
                <a:lnTo>
                  <a:pt x="60551" y="0"/>
                </a:lnTo>
                <a:lnTo>
                  <a:pt x="59151" y="1400"/>
                </a:lnTo>
                <a:lnTo>
                  <a:pt x="1400" y="1400"/>
                </a:lnTo>
                <a:close/>
              </a:path>
              <a:path fill="darken" w="60551" h="21600">
                <a:moveTo>
                  <a:pt x="60551" y="0"/>
                </a:moveTo>
                <a:lnTo>
                  <a:pt x="60551" y="21600"/>
                </a:lnTo>
                <a:lnTo>
                  <a:pt x="59151" y="20200"/>
                </a:lnTo>
                <a:lnTo>
                  <a:pt x="59151" y="1400"/>
                </a:lnTo>
                <a:close/>
              </a:path>
              <a:path fill="darkenLess" w="60551" h="21600">
                <a:moveTo>
                  <a:pt x="6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51" y="20200"/>
                </a:lnTo>
                <a:close/>
              </a:path>
              <a:path fill="lighten" w="6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Arial"/>
                <a:hlinkClick r:id="rId2" action="ppaction://hlinksldjump"/>
              </a:rPr>
              <a:t>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Где познакомился 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А.С. Пушкин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Онегиным на страницах романа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0:09:46Z</dcterms:created>
  <dc:creator>Галина</dc:creator>
  <dc:description/>
  <dc:language>en-US</dc:language>
  <cp:lastModifiedBy>andrei</cp:lastModifiedBy>
  <dcterms:modified xsi:type="dcterms:W3CDTF">2017-03-20T18:56:14Z</dcterms:modified>
  <cp:revision>76</cp:revision>
  <dc:subject/>
  <dc:title>                 Добрый день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