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D3BF-7344-4B5A-A2B7-943E1927F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62C6-5496-466B-863C-31B8D147F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3A68-5FB3-485F-9AA2-3AED4CAA2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0DB1-DFD0-4B57-8926-113AF05EA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2F6A6-817C-4DF3-BB77-B4ACB5746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A629E-B296-42D3-8F4C-186A1ED77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1BD65-AF6D-4404-9A9C-26D2E311C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D9FF1-DEE2-421F-88AB-C7E3AD1DF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FA96E-112E-42B0-B685-1D027A862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E883B-5119-4C6A-9700-88D022EC9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1B448-7E99-4639-84AE-BF90138A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4684-9A63-4653-9D3D-30C824245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85BEF-99D4-46B1-A5A8-1C17F5CF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BEE60-D6E9-4556-8472-50D3966D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237B4-1676-4214-91EF-8FB51B5DF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93F9F-600E-4183-BC64-F7DB9E22C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A79C8-3C96-4820-9EA9-F21C5230B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B519-7331-4F10-A400-9FD12F463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74CC-1216-42DC-B44E-D94BA828C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6B4F-59B2-4F6A-9B3C-92A6F08DC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CA0F-28F1-4587-B8CD-610A1EECF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5CF5-A8E7-438B-91BF-7F4A4434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2931-B974-4BBD-86A5-F2385459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E411-8994-40D4-89C6-E99C0DE0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86527-B73F-4FBB-ACA7-2979664090ED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FA0C5-0BC2-46B4-99D6-53C415C25C65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&#1051;&#1086;&#1075;&#1086;&#1090;&#1080;&#1087;_&#1090;&#1077;&#1083;&#1077;&#1087;&#1077;&#1088;&#1077;&#1076;&#1072;&#1095;&#1080;_%22&#1057;&#1074;&#1086;&#1103;_&#1080;&#1075;&#1088;&#1072;%22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9.xml"/><Relationship Id="rId7" Type="http://schemas.openxmlformats.org/officeDocument/2006/relationships/slide" Target="slide11.xml"/><Relationship Id="rId8" Type="http://schemas.openxmlformats.org/officeDocument/2006/relationships/slide" Target="slide11.xml"/><Relationship Id="rId9" Type="http://schemas.openxmlformats.org/officeDocument/2006/relationships/slide" Target="slide13.xml"/><Relationship Id="rId10" Type="http://schemas.openxmlformats.org/officeDocument/2006/relationships/slide" Target="slide13.xml"/><Relationship Id="rId11" Type="http://schemas.openxmlformats.org/officeDocument/2006/relationships/slide" Target="slide25.xml"/><Relationship Id="rId12" Type="http://schemas.openxmlformats.org/officeDocument/2006/relationships/slide" Target="slide23.xml"/><Relationship Id="rId13" Type="http://schemas.openxmlformats.org/officeDocument/2006/relationships/slide" Target="slide19.xml"/><Relationship Id="rId14" Type="http://schemas.openxmlformats.org/officeDocument/2006/relationships/slide" Target="slide17.xml"/><Relationship Id="rId15" Type="http://schemas.openxmlformats.org/officeDocument/2006/relationships/slide" Target="slide19.xml"/><Relationship Id="rId16" Type="http://schemas.openxmlformats.org/officeDocument/2006/relationships/slide" Target="slide19.xml"/><Relationship Id="rId17" Type="http://schemas.openxmlformats.org/officeDocument/2006/relationships/slide" Target="slide21.xml"/><Relationship Id="rId18" Type="http://schemas.openxmlformats.org/officeDocument/2006/relationships/slide" Target="slide21.xml"/><Relationship Id="rId19" Type="http://schemas.openxmlformats.org/officeDocument/2006/relationships/slide" Target="slide15.xml"/><Relationship Id="rId20" Type="http://schemas.openxmlformats.org/officeDocument/2006/relationships/slide" Target="slide15.xml"/><Relationship Id="rId21" Type="http://schemas.openxmlformats.org/officeDocument/2006/relationships/slide" Target="slide25.xml"/><Relationship Id="rId22" Type="http://schemas.openxmlformats.org/officeDocument/2006/relationships/slide" Target="slide25.xml"/><Relationship Id="rId23" Type="http://schemas.openxmlformats.org/officeDocument/2006/relationships/slide" Target="slide27.xml"/><Relationship Id="rId24" Type="http://schemas.openxmlformats.org/officeDocument/2006/relationships/slide" Target="slide27.xml"/><Relationship Id="rId25" Type="http://schemas.openxmlformats.org/officeDocument/2006/relationships/slide" Target="slide29.xml"/><Relationship Id="rId26" Type="http://schemas.openxmlformats.org/officeDocument/2006/relationships/slide" Target="slide29.xml"/><Relationship Id="rId27" Type="http://schemas.openxmlformats.org/officeDocument/2006/relationships/slide" Target="slide31.xml"/><Relationship Id="rId28" Type="http://schemas.openxmlformats.org/officeDocument/2006/relationships/slide" Target="slide31.xml"/><Relationship Id="rId29" Type="http://schemas.openxmlformats.org/officeDocument/2006/relationships/slide" Target="slide32.xml"/><Relationship Id="rId30" Type="http://schemas.openxmlformats.org/officeDocument/2006/relationships/slide" Target="slide32.xml"/><Relationship Id="rId31" Type="http://schemas.openxmlformats.org/officeDocument/2006/relationships/slide" Target="slide33.xml"/><Relationship Id="rId32" Type="http://schemas.openxmlformats.org/officeDocument/2006/relationships/slide" Target="slide37.xml"/><Relationship Id="rId33" Type="http://schemas.openxmlformats.org/officeDocument/2006/relationships/slide" Target="slide39.xml"/><Relationship Id="rId34" Type="http://schemas.openxmlformats.org/officeDocument/2006/relationships/slide" Target="slide45.xml"/><Relationship Id="rId35" Type="http://schemas.openxmlformats.org/officeDocument/2006/relationships/slide" Target="slide3.xml"/><Relationship Id="rId36" Type="http://schemas.openxmlformats.org/officeDocument/2006/relationships/slide" Target="slide3.xml"/><Relationship Id="rId3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Урок-игра по роману А. С. Пушкина «Евгений Онегин»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0" y="5305320"/>
            <a:ext cx="8893080" cy="4622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%D0%9B%D0%BE%D0%B3%D0%BE%D1%82%D0%B8%D0%BF_%D1%82%D0%B5%D0%BB%D0%B5%D0%BF%D0%B5%D1%80%D0%B5%D0%B4%D0%B0%D1%87%D0%B8_%22%D0%A1%D0%B2%D0%BE%D1%8F_%D0%B8%D0%B3%D1%80%D0%B0%2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93720" y="2019240"/>
            <a:ext cx="6050160" cy="445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ушкин друг Онегина, с которым познакомился и подружился в Петербурге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6877080" y="5877000"/>
            <a:ext cx="2016000" cy="718920"/>
          </a:xfrm>
          <a:custGeom>
            <a:avLst/>
            <a:gdLst>
              <a:gd name="textAreaLeft" fmla="*/ 46440 w 2016000"/>
              <a:gd name="textAreaRight" fmla="*/ 1969560 w 2016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60551" h="21600">
                <a:moveTo>
                  <a:pt x="0" y="0"/>
                </a:moveTo>
                <a:lnTo>
                  <a:pt x="60551" y="0"/>
                </a:lnTo>
                <a:lnTo>
                  <a:pt x="60551" y="21600"/>
                </a:lnTo>
                <a:lnTo>
                  <a:pt x="0" y="21600"/>
                </a:lnTo>
                <a:close/>
              </a:path>
              <a:path fill="lightenLess" w="60551" h="21600">
                <a:moveTo>
                  <a:pt x="0" y="0"/>
                </a:moveTo>
                <a:lnTo>
                  <a:pt x="60551" y="0"/>
                </a:lnTo>
                <a:lnTo>
                  <a:pt x="59151" y="1400"/>
                </a:lnTo>
                <a:lnTo>
                  <a:pt x="1400" y="1400"/>
                </a:lnTo>
                <a:close/>
              </a:path>
              <a:path fill="darken" w="60551" h="21600">
                <a:moveTo>
                  <a:pt x="60551" y="0"/>
                </a:moveTo>
                <a:lnTo>
                  <a:pt x="60551" y="21600"/>
                </a:lnTo>
                <a:lnTo>
                  <a:pt x="59151" y="20200"/>
                </a:lnTo>
                <a:lnTo>
                  <a:pt x="59151" y="1400"/>
                </a:lnTo>
                <a:close/>
              </a:path>
              <a:path fill="darkenLess" w="60551" h="21600">
                <a:moveTo>
                  <a:pt x="60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151" y="20200"/>
                </a:lnTo>
                <a:close/>
              </a:path>
              <a:path fill="lighten" w="60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hlinkClick r:id="rId1" action="ppaction://hlinksldjump"/>
              </a:rPr>
              <a:t>таб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        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1" lang="ru-RU" sz="5400" spc="-1" strike="noStrike">
                <a:solidFill>
                  <a:srgbClr val="000000"/>
                </a:solidFill>
                <a:latin typeface="Constantia"/>
              </a:rPr>
              <a:t>Когда был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5400" spc="-1" strike="noStrike">
                <a:solidFill>
                  <a:srgbClr val="000000"/>
                </a:solidFill>
                <a:latin typeface="Constantia"/>
              </a:rPr>
              <a:t> создано произведение “Евгений Онегин”? 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onstantia"/>
              </a:rPr>
              <a:t>1823 – 1830</a:t>
            </a:r>
            <a:endParaRPr b="0" lang="en-US" sz="8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6877080" y="5877000"/>
            <a:ext cx="2016000" cy="718920"/>
          </a:xfrm>
          <a:custGeom>
            <a:avLst/>
            <a:gdLst>
              <a:gd name="textAreaLeft" fmla="*/ 46440 w 2016000"/>
              <a:gd name="textAreaRight" fmla="*/ 1969560 w 2016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60551" h="21600">
                <a:moveTo>
                  <a:pt x="0" y="0"/>
                </a:moveTo>
                <a:lnTo>
                  <a:pt x="60551" y="0"/>
                </a:lnTo>
                <a:lnTo>
                  <a:pt x="60551" y="21600"/>
                </a:lnTo>
                <a:lnTo>
                  <a:pt x="0" y="21600"/>
                </a:lnTo>
                <a:close/>
              </a:path>
              <a:path fill="lightenLess" w="60551" h="21600">
                <a:moveTo>
                  <a:pt x="0" y="0"/>
                </a:moveTo>
                <a:lnTo>
                  <a:pt x="60551" y="0"/>
                </a:lnTo>
                <a:lnTo>
                  <a:pt x="59151" y="1400"/>
                </a:lnTo>
                <a:lnTo>
                  <a:pt x="1400" y="1400"/>
                </a:lnTo>
                <a:close/>
              </a:path>
              <a:path fill="darken" w="60551" h="21600">
                <a:moveTo>
                  <a:pt x="60551" y="0"/>
                </a:moveTo>
                <a:lnTo>
                  <a:pt x="60551" y="21600"/>
                </a:lnTo>
                <a:lnTo>
                  <a:pt x="59151" y="20200"/>
                </a:lnTo>
                <a:lnTo>
                  <a:pt x="59151" y="1400"/>
                </a:lnTo>
                <a:close/>
              </a:path>
              <a:path fill="darkenLess" w="60551" h="21600">
                <a:moveTo>
                  <a:pt x="60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151" y="20200"/>
                </a:lnTo>
                <a:close/>
              </a:path>
              <a:path fill="lighten" w="60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hlinkClick r:id="rId1" action="ppaction://hlinksldjump"/>
              </a:rPr>
              <a:t>таб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Прямоугольник 3"/>
          <p:cNvSpPr/>
          <p:nvPr/>
        </p:nvSpPr>
        <p:spPr>
          <a:xfrm>
            <a:off x="0" y="307512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nstantia"/>
              </a:rPr>
              <a:t>Сколько времени создавался «Евгений Онегин»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onstantia"/>
              </a:rPr>
              <a:t>7 лет 4 месяца </a:t>
            </a: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onstantia"/>
              </a:rPr>
              <a:t>14 дней</a:t>
            </a: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AutoShape 4">
            <a:hlinkClick r:id="rId1" action="ppaction://hlinksldjump"/>
          </p:cNvPr>
          <p:cNvSpPr/>
          <p:nvPr/>
        </p:nvSpPr>
        <p:spPr>
          <a:xfrm>
            <a:off x="6877080" y="5877000"/>
            <a:ext cx="2016000" cy="718920"/>
          </a:xfrm>
          <a:custGeom>
            <a:avLst/>
            <a:gdLst>
              <a:gd name="textAreaLeft" fmla="*/ 46440 w 2016000"/>
              <a:gd name="textAreaRight" fmla="*/ 1969560 w 2016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60551" h="21600">
                <a:moveTo>
                  <a:pt x="0" y="0"/>
                </a:moveTo>
                <a:lnTo>
                  <a:pt x="60551" y="0"/>
                </a:lnTo>
                <a:lnTo>
                  <a:pt x="60551" y="21600"/>
                </a:lnTo>
                <a:lnTo>
                  <a:pt x="0" y="21600"/>
                </a:lnTo>
                <a:close/>
              </a:path>
              <a:path fill="lightenLess" w="60551" h="21600">
                <a:moveTo>
                  <a:pt x="0" y="0"/>
                </a:moveTo>
                <a:lnTo>
                  <a:pt x="60551" y="0"/>
                </a:lnTo>
                <a:lnTo>
                  <a:pt x="59151" y="1400"/>
                </a:lnTo>
                <a:lnTo>
                  <a:pt x="1400" y="1400"/>
                </a:lnTo>
                <a:close/>
              </a:path>
              <a:path fill="darken" w="60551" h="21600">
                <a:moveTo>
                  <a:pt x="60551" y="0"/>
                </a:moveTo>
                <a:lnTo>
                  <a:pt x="60551" y="21600"/>
                </a:lnTo>
                <a:lnTo>
                  <a:pt x="59151" y="20200"/>
                </a:lnTo>
                <a:lnTo>
                  <a:pt x="59151" y="1400"/>
                </a:lnTo>
                <a:close/>
              </a:path>
              <a:path fill="darkenLess" w="60551" h="21600">
                <a:moveTo>
                  <a:pt x="60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151" y="20200"/>
                </a:lnTo>
                <a:close/>
              </a:path>
              <a:path fill="lighten" w="60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hlinkClick r:id="rId2" action="ppaction://hlinksldjump"/>
              </a:rPr>
              <a:t>таб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nstantia"/>
              </a:rPr>
              <a:t>К какому жанру относится «Евгений Онегин»? 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nstantia"/>
              </a:rPr>
              <a:t>Роман в стихах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" name="AutoShape 4"/>
          <p:cNvSpPr/>
          <p:nvPr/>
        </p:nvSpPr>
        <p:spPr>
          <a:xfrm>
            <a:off x="6877080" y="5877000"/>
            <a:ext cx="2016000" cy="718920"/>
          </a:xfrm>
          <a:custGeom>
            <a:avLst/>
            <a:gdLst>
              <a:gd name="textAreaLeft" fmla="*/ 46440 w 2016000"/>
              <a:gd name="textAreaRight" fmla="*/ 1969560 w 2016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60551" h="21600">
                <a:moveTo>
                  <a:pt x="0" y="0"/>
                </a:moveTo>
                <a:lnTo>
                  <a:pt x="60551" y="0"/>
                </a:lnTo>
                <a:lnTo>
                  <a:pt x="60551" y="21600"/>
                </a:lnTo>
                <a:lnTo>
                  <a:pt x="0" y="21600"/>
                </a:lnTo>
                <a:close/>
              </a:path>
              <a:path fill="lightenLess" w="60551" h="21600">
                <a:moveTo>
                  <a:pt x="0" y="0"/>
                </a:moveTo>
                <a:lnTo>
                  <a:pt x="60551" y="0"/>
                </a:lnTo>
                <a:lnTo>
                  <a:pt x="59151" y="1400"/>
                </a:lnTo>
                <a:lnTo>
                  <a:pt x="1400" y="1400"/>
                </a:lnTo>
                <a:close/>
              </a:path>
              <a:path fill="darken" w="60551" h="21600">
                <a:moveTo>
                  <a:pt x="60551" y="0"/>
                </a:moveTo>
                <a:lnTo>
                  <a:pt x="60551" y="21600"/>
                </a:lnTo>
                <a:lnTo>
                  <a:pt x="59151" y="20200"/>
                </a:lnTo>
                <a:lnTo>
                  <a:pt x="59151" y="1400"/>
                </a:lnTo>
                <a:close/>
              </a:path>
              <a:path fill="darkenLess" w="60551" h="21600">
                <a:moveTo>
                  <a:pt x="60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151" y="20200"/>
                </a:lnTo>
                <a:close/>
              </a:path>
              <a:path fill="lighten" w="60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hlinkClick r:id="rId1" action="ppaction://hlinksldjump"/>
              </a:rPr>
              <a:t>таб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К какому направлению в литературе Пушкин окончательно переходит в романе «Евгений Онегин»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onstantia"/>
              </a:rPr>
              <a:t>Пушкин переходит к реализму. В лирических отступлениях романа он рассматривает все литературные направления его времени – классицизм, сентиментализм и романтизм, осуждает их за односторонность в изображении человека и жизни.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Rectangle 4"/>
          <p:cNvSpPr/>
          <p:nvPr/>
        </p:nvSpPr>
        <p:spPr>
          <a:xfrm flipH="1">
            <a:off x="10764720" y="3357720"/>
            <a:ext cx="709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6877080" y="5877000"/>
            <a:ext cx="2016000" cy="718920"/>
          </a:xfrm>
          <a:custGeom>
            <a:avLst/>
            <a:gdLst>
              <a:gd name="textAreaLeft" fmla="*/ 46440 w 2016000"/>
              <a:gd name="textAreaRight" fmla="*/ 1969560 w 2016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60551" h="21600">
                <a:moveTo>
                  <a:pt x="0" y="0"/>
                </a:moveTo>
                <a:lnTo>
                  <a:pt x="60551" y="0"/>
                </a:lnTo>
                <a:lnTo>
                  <a:pt x="60551" y="21600"/>
                </a:lnTo>
                <a:lnTo>
                  <a:pt x="0" y="21600"/>
                </a:lnTo>
                <a:close/>
              </a:path>
              <a:path fill="lightenLess" w="60551" h="21600">
                <a:moveTo>
                  <a:pt x="0" y="0"/>
                </a:moveTo>
                <a:lnTo>
                  <a:pt x="60551" y="0"/>
                </a:lnTo>
                <a:lnTo>
                  <a:pt x="59151" y="1400"/>
                </a:lnTo>
                <a:lnTo>
                  <a:pt x="1400" y="1400"/>
                </a:lnTo>
                <a:close/>
              </a:path>
              <a:path fill="darken" w="60551" h="21600">
                <a:moveTo>
                  <a:pt x="60551" y="0"/>
                </a:moveTo>
                <a:lnTo>
                  <a:pt x="60551" y="21600"/>
                </a:lnTo>
                <a:lnTo>
                  <a:pt x="59151" y="20200"/>
                </a:lnTo>
                <a:lnTo>
                  <a:pt x="59151" y="1400"/>
                </a:lnTo>
                <a:close/>
              </a:path>
              <a:path fill="darkenLess" w="60551" h="21600">
                <a:moveTo>
                  <a:pt x="60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151" y="20200"/>
                </a:lnTo>
                <a:close/>
              </a:path>
              <a:path fill="lighten" w="60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hlinkClick r:id="rId1" action="ppaction://hlinksldjump"/>
              </a:rPr>
              <a:t>таб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О ком идет речь?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В красавиц он уж не влюблялся,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А волочился как-нибудь;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Откажут – мигом утешался;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Изменят – рад был отдохнуть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2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Garamond"/>
                <a:hlinkClick r:id="rId2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3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Garamond"/>
                <a:hlinkClick r:id="rId4" action="ppaction://hlinksldjump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Garamond"/>
                <a:hlinkClick r:id="rId6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">
            <a:hlinkClick r:id="rId7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Garamond"/>
                <a:hlinkClick r:id="rId8" action="ppaction://hlinksldjump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6">
            <a:hlinkClick r:id="rId9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Garamond"/>
                <a:hlinkClick r:id="rId10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7">
            <a:hlinkClick r:id="rId11" action="ppaction://hlinksldjump"/>
          </p:cNvPr>
          <p:cNvSpPr/>
          <p:nvPr/>
        </p:nvSpPr>
        <p:spPr>
          <a:xfrm>
            <a:off x="363528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Garamond"/>
                <a:hlinkClick r:id="rId12" action="ppaction://hlinksldjump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8">
            <a:hlinkClick r:id="rId13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Garamond"/>
                <a:hlinkClick r:id="rId14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9">
            <a:hlinkClick r:id="rId15" action="ppaction://hlinksldjump"/>
          </p:cNvPr>
          <p:cNvSpPr/>
          <p:nvPr/>
        </p:nvSpPr>
        <p:spPr>
          <a:xfrm>
            <a:off x="3635280" y="1125360"/>
            <a:ext cx="1828800" cy="1151280"/>
          </a:xfrm>
          <a:custGeom>
            <a:avLst/>
            <a:gdLst>
              <a:gd name="textAreaLeft" fmla="*/ 74520 w 1828800"/>
              <a:gd name="textAreaRight" fmla="*/ 1754280 w 1828800"/>
              <a:gd name="textAreaTop" fmla="*/ 74520 h 1151280"/>
              <a:gd name="textAreaBottom" fmla="*/ 1076760 h 1151280"/>
            </a:gdLst>
            <a:ahLst/>
            <a:rect l="textAreaLeft" t="textAreaTop" r="textAreaRight" b="textAreaBottom"/>
            <a:pathLst>
              <a:path w="34307" h="21600">
                <a:moveTo>
                  <a:pt x="0" y="0"/>
                </a:moveTo>
                <a:lnTo>
                  <a:pt x="34307" y="0"/>
                </a:lnTo>
                <a:lnTo>
                  <a:pt x="34307" y="21600"/>
                </a:lnTo>
                <a:lnTo>
                  <a:pt x="0" y="21600"/>
                </a:lnTo>
                <a:close/>
              </a:path>
              <a:path fill="lightenLess" w="34307" h="21600">
                <a:moveTo>
                  <a:pt x="0" y="0"/>
                </a:moveTo>
                <a:lnTo>
                  <a:pt x="34307" y="0"/>
                </a:lnTo>
                <a:lnTo>
                  <a:pt x="32908" y="1400"/>
                </a:lnTo>
                <a:lnTo>
                  <a:pt x="1400" y="1400"/>
                </a:lnTo>
                <a:close/>
              </a:path>
              <a:path fill="darken" w="34307" h="21600">
                <a:moveTo>
                  <a:pt x="34307" y="0"/>
                </a:moveTo>
                <a:lnTo>
                  <a:pt x="34307" y="21600"/>
                </a:lnTo>
                <a:lnTo>
                  <a:pt x="32908" y="20200"/>
                </a:lnTo>
                <a:lnTo>
                  <a:pt x="32908" y="1400"/>
                </a:lnTo>
                <a:close/>
              </a:path>
              <a:path fill="darkenLess" w="34307" h="21600">
                <a:moveTo>
                  <a:pt x="343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08" y="20200"/>
                </a:lnTo>
                <a:close/>
              </a:path>
              <a:path fill="lighten" w="343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Garamond"/>
                <a:hlinkClick r:id="rId16" action="ppaction://hlinksldjump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0">
            <a:hlinkClick r:id="rId17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Garamond"/>
                <a:hlinkClick r:id="rId18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1">
            <a:hlinkClick r:id="rId19" action="ppaction://hlinksldjump"/>
          </p:cNvPr>
          <p:cNvSpPr/>
          <p:nvPr/>
        </p:nvSpPr>
        <p:spPr>
          <a:xfrm>
            <a:off x="183528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Garamond"/>
                <a:hlinkClick r:id="rId20" action="ppaction://hlinksldjump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2">
            <a:hlinkClick r:id="rId21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Garamond"/>
                <a:hlinkClick r:id="rId22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3">
            <a:hlinkClick r:id="rId23" action="ppaction://hlinksldjump"/>
          </p:cNvPr>
          <p:cNvSpPr/>
          <p:nvPr/>
        </p:nvSpPr>
        <p:spPr>
          <a:xfrm>
            <a:off x="5435640" y="1125360"/>
            <a:ext cx="1873080" cy="1151280"/>
          </a:xfrm>
          <a:custGeom>
            <a:avLst/>
            <a:gdLst>
              <a:gd name="textAreaLeft" fmla="*/ 74520 w 1873080"/>
              <a:gd name="textAreaRight" fmla="*/ 1798560 w 1873080"/>
              <a:gd name="textAreaTop" fmla="*/ 74520 h 1151280"/>
              <a:gd name="textAreaBottom" fmla="*/ 1076760 h 1151280"/>
            </a:gdLst>
            <a:ahLst/>
            <a:rect l="textAreaLeft" t="textAreaTop" r="textAreaRight" b="textAreaBottom"/>
            <a:pathLst>
              <a:path w="35138" h="21600">
                <a:moveTo>
                  <a:pt x="0" y="0"/>
                </a:moveTo>
                <a:lnTo>
                  <a:pt x="35138" y="0"/>
                </a:lnTo>
                <a:lnTo>
                  <a:pt x="35138" y="21600"/>
                </a:lnTo>
                <a:lnTo>
                  <a:pt x="0" y="21600"/>
                </a:lnTo>
                <a:close/>
              </a:path>
              <a:path fill="lightenLess" w="35138" h="21600">
                <a:moveTo>
                  <a:pt x="0" y="0"/>
                </a:moveTo>
                <a:lnTo>
                  <a:pt x="35138" y="0"/>
                </a:lnTo>
                <a:lnTo>
                  <a:pt x="33738" y="1400"/>
                </a:lnTo>
                <a:lnTo>
                  <a:pt x="1400" y="1400"/>
                </a:lnTo>
                <a:close/>
              </a:path>
              <a:path fill="darken" w="35138" h="21600">
                <a:moveTo>
                  <a:pt x="35138" y="0"/>
                </a:moveTo>
                <a:lnTo>
                  <a:pt x="35138" y="21600"/>
                </a:lnTo>
                <a:lnTo>
                  <a:pt x="33738" y="20200"/>
                </a:lnTo>
                <a:lnTo>
                  <a:pt x="33738" y="1400"/>
                </a:lnTo>
                <a:close/>
              </a:path>
              <a:path fill="darkenLess" w="35138" h="21600">
                <a:moveTo>
                  <a:pt x="351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38" y="20200"/>
                </a:lnTo>
                <a:close/>
              </a:path>
              <a:path fill="lighten" w="351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Garamond"/>
                <a:hlinkClick r:id="rId24" action="ppaction://hlinksldjump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4">
            <a:hlinkClick r:id="rId25" action="ppaction://hlinksldjump"/>
          </p:cNvPr>
          <p:cNvSpPr/>
          <p:nvPr/>
        </p:nvSpPr>
        <p:spPr>
          <a:xfrm>
            <a:off x="5435640" y="2286000"/>
            <a:ext cx="1879560" cy="1143000"/>
          </a:xfrm>
          <a:custGeom>
            <a:avLst/>
            <a:gdLst>
              <a:gd name="textAreaLeft" fmla="*/ 73800 w 1879560"/>
              <a:gd name="textAreaRight" fmla="*/ 1805760 w 18795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5515" h="21600">
                <a:moveTo>
                  <a:pt x="0" y="0"/>
                </a:moveTo>
                <a:lnTo>
                  <a:pt x="35515" y="0"/>
                </a:lnTo>
                <a:lnTo>
                  <a:pt x="35515" y="21600"/>
                </a:lnTo>
                <a:lnTo>
                  <a:pt x="0" y="21600"/>
                </a:lnTo>
                <a:close/>
              </a:path>
              <a:path fill="lightenLess" w="35515" h="21600">
                <a:moveTo>
                  <a:pt x="0" y="0"/>
                </a:moveTo>
                <a:lnTo>
                  <a:pt x="35515" y="0"/>
                </a:lnTo>
                <a:lnTo>
                  <a:pt x="34115" y="1400"/>
                </a:lnTo>
                <a:lnTo>
                  <a:pt x="1400" y="1400"/>
                </a:lnTo>
                <a:close/>
              </a:path>
              <a:path fill="darken" w="35515" h="21600">
                <a:moveTo>
                  <a:pt x="35515" y="0"/>
                </a:moveTo>
                <a:lnTo>
                  <a:pt x="35515" y="21600"/>
                </a:lnTo>
                <a:lnTo>
                  <a:pt x="34115" y="20200"/>
                </a:lnTo>
                <a:lnTo>
                  <a:pt x="34115" y="1400"/>
                </a:lnTo>
                <a:close/>
              </a:path>
              <a:path fill="darkenLess" w="35515" h="21600">
                <a:moveTo>
                  <a:pt x="355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115" y="20200"/>
                </a:lnTo>
                <a:close/>
              </a:path>
              <a:path fill="lighten" w="355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Garamond"/>
                <a:hlinkClick r:id="rId26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5">
            <a:hlinkClick r:id="rId27" action="ppaction://hlinksldjump"/>
          </p:cNvPr>
          <p:cNvSpPr/>
          <p:nvPr/>
        </p:nvSpPr>
        <p:spPr>
          <a:xfrm>
            <a:off x="5435640" y="3429000"/>
            <a:ext cx="1879560" cy="1143000"/>
          </a:xfrm>
          <a:custGeom>
            <a:avLst/>
            <a:gdLst>
              <a:gd name="textAreaLeft" fmla="*/ 73800 w 1879560"/>
              <a:gd name="textAreaRight" fmla="*/ 1805760 w 18795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5515" h="21600">
                <a:moveTo>
                  <a:pt x="0" y="0"/>
                </a:moveTo>
                <a:lnTo>
                  <a:pt x="35515" y="0"/>
                </a:lnTo>
                <a:lnTo>
                  <a:pt x="35515" y="21600"/>
                </a:lnTo>
                <a:lnTo>
                  <a:pt x="0" y="21600"/>
                </a:lnTo>
                <a:close/>
              </a:path>
              <a:path fill="lightenLess" w="35515" h="21600">
                <a:moveTo>
                  <a:pt x="0" y="0"/>
                </a:moveTo>
                <a:lnTo>
                  <a:pt x="35515" y="0"/>
                </a:lnTo>
                <a:lnTo>
                  <a:pt x="34115" y="1400"/>
                </a:lnTo>
                <a:lnTo>
                  <a:pt x="1400" y="1400"/>
                </a:lnTo>
                <a:close/>
              </a:path>
              <a:path fill="darken" w="35515" h="21600">
                <a:moveTo>
                  <a:pt x="35515" y="0"/>
                </a:moveTo>
                <a:lnTo>
                  <a:pt x="35515" y="21600"/>
                </a:lnTo>
                <a:lnTo>
                  <a:pt x="34115" y="20200"/>
                </a:lnTo>
                <a:lnTo>
                  <a:pt x="34115" y="1400"/>
                </a:lnTo>
                <a:close/>
              </a:path>
              <a:path fill="darkenLess" w="35515" h="21600">
                <a:moveTo>
                  <a:pt x="355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115" y="20200"/>
                </a:lnTo>
                <a:close/>
              </a:path>
              <a:path fill="lighten" w="355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Garamond"/>
                <a:hlinkClick r:id="rId28" action="ppaction://hlinksldjump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6">
            <a:hlinkClick r:id="rId29" action="ppaction://hlinksldjump"/>
          </p:cNvPr>
          <p:cNvSpPr/>
          <p:nvPr/>
        </p:nvSpPr>
        <p:spPr>
          <a:xfrm>
            <a:off x="5435640" y="4572000"/>
            <a:ext cx="1879560" cy="1143000"/>
          </a:xfrm>
          <a:custGeom>
            <a:avLst/>
            <a:gdLst>
              <a:gd name="textAreaLeft" fmla="*/ 73800 w 1879560"/>
              <a:gd name="textAreaRight" fmla="*/ 1805760 w 18795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5515" h="21600">
                <a:moveTo>
                  <a:pt x="0" y="0"/>
                </a:moveTo>
                <a:lnTo>
                  <a:pt x="35515" y="0"/>
                </a:lnTo>
                <a:lnTo>
                  <a:pt x="35515" y="21600"/>
                </a:lnTo>
                <a:lnTo>
                  <a:pt x="0" y="21600"/>
                </a:lnTo>
                <a:close/>
              </a:path>
              <a:path fill="lightenLess" w="35515" h="21600">
                <a:moveTo>
                  <a:pt x="0" y="0"/>
                </a:moveTo>
                <a:lnTo>
                  <a:pt x="35515" y="0"/>
                </a:lnTo>
                <a:lnTo>
                  <a:pt x="34115" y="1400"/>
                </a:lnTo>
                <a:lnTo>
                  <a:pt x="1400" y="1400"/>
                </a:lnTo>
                <a:close/>
              </a:path>
              <a:path fill="darken" w="35515" h="21600">
                <a:moveTo>
                  <a:pt x="35515" y="0"/>
                </a:moveTo>
                <a:lnTo>
                  <a:pt x="35515" y="21600"/>
                </a:lnTo>
                <a:lnTo>
                  <a:pt x="34115" y="20200"/>
                </a:lnTo>
                <a:lnTo>
                  <a:pt x="34115" y="1400"/>
                </a:lnTo>
                <a:close/>
              </a:path>
              <a:path fill="darkenLess" w="35515" h="21600">
                <a:moveTo>
                  <a:pt x="355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115" y="20200"/>
                </a:lnTo>
                <a:close/>
              </a:path>
              <a:path fill="lighten" w="355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Garamond"/>
                <a:hlinkClick r:id="rId30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7"/>
          <p:cNvSpPr/>
          <p:nvPr/>
        </p:nvSpPr>
        <p:spPr>
          <a:xfrm>
            <a:off x="7315200" y="1143000"/>
            <a:ext cx="1828800" cy="113364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1133640"/>
              <a:gd name="textAreaBottom" fmla="*/ 1060200 h 1133640"/>
            </a:gdLst>
            <a:ahLst/>
            <a:rect l="textAreaLeft" t="textAreaTop" r="textAreaRight" b="textAreaBottom"/>
            <a:pathLst>
              <a:path w="34841" h="21600">
                <a:moveTo>
                  <a:pt x="0" y="0"/>
                </a:moveTo>
                <a:lnTo>
                  <a:pt x="34841" y="0"/>
                </a:lnTo>
                <a:lnTo>
                  <a:pt x="34841" y="21600"/>
                </a:lnTo>
                <a:lnTo>
                  <a:pt x="0" y="21600"/>
                </a:lnTo>
                <a:close/>
              </a:path>
              <a:path fill="lightenLess" w="34841" h="21600">
                <a:moveTo>
                  <a:pt x="0" y="0"/>
                </a:moveTo>
                <a:lnTo>
                  <a:pt x="34841" y="0"/>
                </a:lnTo>
                <a:lnTo>
                  <a:pt x="33441" y="1400"/>
                </a:lnTo>
                <a:lnTo>
                  <a:pt x="1400" y="1400"/>
                </a:lnTo>
                <a:close/>
              </a:path>
              <a:path fill="darken" w="34841" h="21600">
                <a:moveTo>
                  <a:pt x="34841" y="0"/>
                </a:moveTo>
                <a:lnTo>
                  <a:pt x="34841" y="21600"/>
                </a:lnTo>
                <a:lnTo>
                  <a:pt x="33441" y="20200"/>
                </a:lnTo>
                <a:lnTo>
                  <a:pt x="33441" y="1400"/>
                </a:lnTo>
                <a:close/>
              </a:path>
              <a:path fill="darkenLess" w="34841" h="21600">
                <a:moveTo>
                  <a:pt x="348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41" y="20200"/>
                </a:lnTo>
                <a:close/>
              </a:path>
              <a:path fill="lighten" w="348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Garamond"/>
                <a:hlinkClick r:id="rId31" action="ppaction://hlinksldjump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8"/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Garamond"/>
                <a:hlinkClick r:id="rId32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9"/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Garamond"/>
                <a:hlinkClick r:id="rId33" action="ppaction://hlinksldjump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0"/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Garamond"/>
                <a:hlinkClick r:id="rId34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21">
            <a:hlinkClick r:id="rId35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Garamond"/>
                <a:hlinkClick r:id="rId36" action="ppaction://hlinksldjump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2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009d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иограф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А. Пушки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3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009d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aramond"/>
              </a:rPr>
              <a:t>Истори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aramond"/>
              </a:rPr>
              <a:t>создани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aramond"/>
              </a:rPr>
              <a:t>«Е. О.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4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009d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Герои «Е. О.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5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009d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Знани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текс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6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009d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онимани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мыс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onstantia"/>
              </a:rPr>
              <a:t>Об Онегине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AutoShape 4"/>
          <p:cNvSpPr/>
          <p:nvPr/>
        </p:nvSpPr>
        <p:spPr>
          <a:xfrm>
            <a:off x="6877080" y="5877000"/>
            <a:ext cx="2016000" cy="718920"/>
          </a:xfrm>
          <a:custGeom>
            <a:avLst/>
            <a:gdLst>
              <a:gd name="textAreaLeft" fmla="*/ 46440 w 2016000"/>
              <a:gd name="textAreaRight" fmla="*/ 1969560 w 2016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60551" h="21600">
                <a:moveTo>
                  <a:pt x="0" y="0"/>
                </a:moveTo>
                <a:lnTo>
                  <a:pt x="60551" y="0"/>
                </a:lnTo>
                <a:lnTo>
                  <a:pt x="60551" y="21600"/>
                </a:lnTo>
                <a:lnTo>
                  <a:pt x="0" y="21600"/>
                </a:lnTo>
                <a:close/>
              </a:path>
              <a:path fill="lightenLess" w="60551" h="21600">
                <a:moveTo>
                  <a:pt x="0" y="0"/>
                </a:moveTo>
                <a:lnTo>
                  <a:pt x="60551" y="0"/>
                </a:lnTo>
                <a:lnTo>
                  <a:pt x="59151" y="1400"/>
                </a:lnTo>
                <a:lnTo>
                  <a:pt x="1400" y="1400"/>
                </a:lnTo>
                <a:close/>
              </a:path>
              <a:path fill="darken" w="60551" h="21600">
                <a:moveTo>
                  <a:pt x="60551" y="0"/>
                </a:moveTo>
                <a:lnTo>
                  <a:pt x="60551" y="21600"/>
                </a:lnTo>
                <a:lnTo>
                  <a:pt x="59151" y="20200"/>
                </a:lnTo>
                <a:lnTo>
                  <a:pt x="59151" y="1400"/>
                </a:lnTo>
                <a:close/>
              </a:path>
              <a:path fill="darkenLess" w="60551" h="21600">
                <a:moveTo>
                  <a:pt x="60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151" y="20200"/>
                </a:lnTo>
                <a:close/>
              </a:path>
              <a:path fill="lighten" w="60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hlinkClick r:id="rId1" action="ppaction://hlinksldjump"/>
              </a:rPr>
              <a:t>таб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Кто это?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Задумчивость, ее подруга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От самых колыбельных дней,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Теченье сельского досуга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Мечтами украшала ей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nstantia"/>
              </a:rPr>
              <a:t>Татьяна  Ларина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AutoShape 4">
            <a:hlinkClick r:id="rId1" action="ppaction://hlinksldjump"/>
          </p:cNvPr>
          <p:cNvSpPr/>
          <p:nvPr/>
        </p:nvSpPr>
        <p:spPr>
          <a:xfrm>
            <a:off x="6804000" y="5805360"/>
            <a:ext cx="2016000" cy="719280"/>
          </a:xfrm>
          <a:custGeom>
            <a:avLst/>
            <a:gdLst>
              <a:gd name="textAreaLeft" fmla="*/ 46440 w 2016000"/>
              <a:gd name="textAreaRight" fmla="*/ 1969560 w 2016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60521" h="21600">
                <a:moveTo>
                  <a:pt x="0" y="0"/>
                </a:moveTo>
                <a:lnTo>
                  <a:pt x="60521" y="0"/>
                </a:lnTo>
                <a:lnTo>
                  <a:pt x="60521" y="21600"/>
                </a:lnTo>
                <a:lnTo>
                  <a:pt x="0" y="21600"/>
                </a:lnTo>
                <a:close/>
              </a:path>
              <a:path fill="lightenLess" w="60521" h="21600">
                <a:moveTo>
                  <a:pt x="0" y="0"/>
                </a:moveTo>
                <a:lnTo>
                  <a:pt x="60521" y="0"/>
                </a:lnTo>
                <a:lnTo>
                  <a:pt x="59121" y="1400"/>
                </a:lnTo>
                <a:lnTo>
                  <a:pt x="1400" y="1400"/>
                </a:lnTo>
                <a:close/>
              </a:path>
              <a:path fill="darken" w="60521" h="21600">
                <a:moveTo>
                  <a:pt x="60521" y="0"/>
                </a:moveTo>
                <a:lnTo>
                  <a:pt x="60521" y="21600"/>
                </a:lnTo>
                <a:lnTo>
                  <a:pt x="59121" y="20200"/>
                </a:lnTo>
                <a:lnTo>
                  <a:pt x="59121" y="1400"/>
                </a:lnTo>
                <a:close/>
              </a:path>
              <a:path fill="darkenLess" w="60521" h="21600">
                <a:moveTo>
                  <a:pt x="605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121" y="20200"/>
                </a:lnTo>
                <a:close/>
              </a:path>
              <a:path fill="lighten" w="605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hlinkClick r:id="rId2" action="ppaction://hlinksldjump"/>
              </a:rPr>
              <a:t>таб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Узнайте героя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Во многом он бы изменился,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Расстался б с музами, женился,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В деревне, счастлив и рогат,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Носил бы стеганый халат;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Text Box 4"/>
          <p:cNvSpPr/>
          <p:nvPr/>
        </p:nvSpPr>
        <p:spPr>
          <a:xfrm flipV="1">
            <a:off x="826920" y="263088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nstantia"/>
              </a:rPr>
              <a:t>Владимир Ленский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AutoShape 4">
            <a:hlinkClick r:id="rId1" action="ppaction://hlinksldjump"/>
          </p:cNvPr>
          <p:cNvSpPr/>
          <p:nvPr/>
        </p:nvSpPr>
        <p:spPr>
          <a:xfrm>
            <a:off x="6877080" y="5877000"/>
            <a:ext cx="2016000" cy="718920"/>
          </a:xfrm>
          <a:custGeom>
            <a:avLst/>
            <a:gdLst>
              <a:gd name="textAreaLeft" fmla="*/ 46440 w 2016000"/>
              <a:gd name="textAreaRight" fmla="*/ 1969560 w 2016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60551" h="21600">
                <a:moveTo>
                  <a:pt x="0" y="0"/>
                </a:moveTo>
                <a:lnTo>
                  <a:pt x="60551" y="0"/>
                </a:lnTo>
                <a:lnTo>
                  <a:pt x="60551" y="21600"/>
                </a:lnTo>
                <a:lnTo>
                  <a:pt x="0" y="21600"/>
                </a:lnTo>
                <a:close/>
              </a:path>
              <a:path fill="lightenLess" w="60551" h="21600">
                <a:moveTo>
                  <a:pt x="0" y="0"/>
                </a:moveTo>
                <a:lnTo>
                  <a:pt x="60551" y="0"/>
                </a:lnTo>
                <a:lnTo>
                  <a:pt x="59151" y="1400"/>
                </a:lnTo>
                <a:lnTo>
                  <a:pt x="1400" y="1400"/>
                </a:lnTo>
                <a:close/>
              </a:path>
              <a:path fill="darken" w="60551" h="21600">
                <a:moveTo>
                  <a:pt x="60551" y="0"/>
                </a:moveTo>
                <a:lnTo>
                  <a:pt x="60551" y="21600"/>
                </a:lnTo>
                <a:lnTo>
                  <a:pt x="59151" y="20200"/>
                </a:lnTo>
                <a:lnTo>
                  <a:pt x="59151" y="1400"/>
                </a:lnTo>
                <a:close/>
              </a:path>
              <a:path fill="darkenLess" w="60551" h="21600">
                <a:moveTo>
                  <a:pt x="60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151" y="20200"/>
                </a:lnTo>
                <a:close/>
              </a:path>
              <a:path fill="lighten" w="60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hlinkClick r:id="rId2" action="ppaction://hlinksldjump"/>
              </a:rPr>
              <a:t>таб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Calibri"/>
              </a:rPr>
              <a:t>О ком идет речь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Они хранили в жизни мирной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Привычки милой старины;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У них на масленице жирной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Водились русские блины;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Два раза в год они говели;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Любили круглые качели,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Подблюдны песни, хоровод…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nstantia"/>
              </a:rPr>
              <a:t>О Лариных-старших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AutoShape 4">
            <a:hlinkClick r:id="rId1" action="ppaction://hlinksldjump"/>
          </p:cNvPr>
          <p:cNvSpPr/>
          <p:nvPr/>
        </p:nvSpPr>
        <p:spPr>
          <a:xfrm>
            <a:off x="6877080" y="5877000"/>
            <a:ext cx="2016000" cy="718920"/>
          </a:xfrm>
          <a:custGeom>
            <a:avLst/>
            <a:gdLst>
              <a:gd name="textAreaLeft" fmla="*/ 46440 w 2016000"/>
              <a:gd name="textAreaRight" fmla="*/ 1969560 w 2016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60551" h="21600">
                <a:moveTo>
                  <a:pt x="0" y="0"/>
                </a:moveTo>
                <a:lnTo>
                  <a:pt x="60551" y="0"/>
                </a:lnTo>
                <a:lnTo>
                  <a:pt x="60551" y="21600"/>
                </a:lnTo>
                <a:lnTo>
                  <a:pt x="0" y="21600"/>
                </a:lnTo>
                <a:close/>
              </a:path>
              <a:path fill="lightenLess" w="60551" h="21600">
                <a:moveTo>
                  <a:pt x="0" y="0"/>
                </a:moveTo>
                <a:lnTo>
                  <a:pt x="60551" y="0"/>
                </a:lnTo>
                <a:lnTo>
                  <a:pt x="59151" y="1400"/>
                </a:lnTo>
                <a:lnTo>
                  <a:pt x="1400" y="1400"/>
                </a:lnTo>
                <a:close/>
              </a:path>
              <a:path fill="darken" w="60551" h="21600">
                <a:moveTo>
                  <a:pt x="60551" y="0"/>
                </a:moveTo>
                <a:lnTo>
                  <a:pt x="60551" y="21600"/>
                </a:lnTo>
                <a:lnTo>
                  <a:pt x="59151" y="20200"/>
                </a:lnTo>
                <a:lnTo>
                  <a:pt x="59151" y="1400"/>
                </a:lnTo>
                <a:close/>
              </a:path>
              <a:path fill="darkenLess" w="60551" h="21600">
                <a:moveTo>
                  <a:pt x="60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151" y="20200"/>
                </a:lnTo>
                <a:close/>
              </a:path>
              <a:path fill="lighten" w="60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hlinkClick r:id="rId2" action="ppaction://hlinksldjump"/>
              </a:rPr>
              <a:t>таб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Закончите фразу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Я знаю: в вашем сердце есть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И гордость и прямая честь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Я вас люблю (к чему лукавить?),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Но я другому отдана;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1" lang="ru-RU" sz="5400" spc="-1" strike="noStrike">
                <a:solidFill>
                  <a:srgbClr val="000000"/>
                </a:solidFill>
                <a:latin typeface="Constantia"/>
              </a:rPr>
              <a:t>И буду век ему верна”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AutoShape 4">
            <a:hlinkClick r:id="rId1" action="ppaction://hlinksldjump"/>
          </p:cNvPr>
          <p:cNvSpPr/>
          <p:nvPr/>
        </p:nvSpPr>
        <p:spPr>
          <a:xfrm>
            <a:off x="6877080" y="5877000"/>
            <a:ext cx="2016000" cy="718920"/>
          </a:xfrm>
          <a:custGeom>
            <a:avLst/>
            <a:gdLst>
              <a:gd name="textAreaLeft" fmla="*/ 46440 w 2016000"/>
              <a:gd name="textAreaRight" fmla="*/ 1969560 w 2016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60551" h="21600">
                <a:moveTo>
                  <a:pt x="0" y="0"/>
                </a:moveTo>
                <a:lnTo>
                  <a:pt x="60551" y="0"/>
                </a:lnTo>
                <a:lnTo>
                  <a:pt x="60551" y="21600"/>
                </a:lnTo>
                <a:lnTo>
                  <a:pt x="0" y="21600"/>
                </a:lnTo>
                <a:close/>
              </a:path>
              <a:path fill="lightenLess" w="60551" h="21600">
                <a:moveTo>
                  <a:pt x="0" y="0"/>
                </a:moveTo>
                <a:lnTo>
                  <a:pt x="60551" y="0"/>
                </a:lnTo>
                <a:lnTo>
                  <a:pt x="59151" y="1400"/>
                </a:lnTo>
                <a:lnTo>
                  <a:pt x="1400" y="1400"/>
                </a:lnTo>
                <a:close/>
              </a:path>
              <a:path fill="darken" w="60551" h="21600">
                <a:moveTo>
                  <a:pt x="60551" y="0"/>
                </a:moveTo>
                <a:lnTo>
                  <a:pt x="60551" y="21600"/>
                </a:lnTo>
                <a:lnTo>
                  <a:pt x="59151" y="20200"/>
                </a:lnTo>
                <a:lnTo>
                  <a:pt x="59151" y="1400"/>
                </a:lnTo>
                <a:close/>
              </a:path>
              <a:path fill="darkenLess" w="60551" h="21600">
                <a:moveTo>
                  <a:pt x="60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151" y="20200"/>
                </a:lnTo>
                <a:close/>
              </a:path>
              <a:path fill="lighten" w="60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hlinkClick r:id="rId2" action="ppaction://hlinksldjump"/>
              </a:rPr>
              <a:t>таб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68360" y="184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 назвал роман «Евгений Онегин» русский критик В.Г.Белинский 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1" lang="ru-RU" sz="5400" spc="-1" strike="noStrike">
                <a:solidFill>
                  <a:srgbClr val="000000"/>
                </a:solidFill>
                <a:latin typeface="Constantia"/>
              </a:rPr>
              <a:t>Где и когда родился А. С. Пушкин?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«Энциклопедия русской жизни»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AutoShape 4">
            <a:hlinkClick r:id="rId1" action="ppaction://hlinksldjump"/>
          </p:cNvPr>
          <p:cNvSpPr/>
          <p:nvPr/>
        </p:nvSpPr>
        <p:spPr>
          <a:xfrm>
            <a:off x="6877080" y="5877000"/>
            <a:ext cx="2016000" cy="718920"/>
          </a:xfrm>
          <a:custGeom>
            <a:avLst/>
            <a:gdLst>
              <a:gd name="textAreaLeft" fmla="*/ 46440 w 2016000"/>
              <a:gd name="textAreaRight" fmla="*/ 1969560 w 2016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60551" h="21600">
                <a:moveTo>
                  <a:pt x="0" y="0"/>
                </a:moveTo>
                <a:lnTo>
                  <a:pt x="60551" y="0"/>
                </a:lnTo>
                <a:lnTo>
                  <a:pt x="60551" y="21600"/>
                </a:lnTo>
                <a:lnTo>
                  <a:pt x="0" y="21600"/>
                </a:lnTo>
                <a:close/>
              </a:path>
              <a:path fill="lightenLess" w="60551" h="21600">
                <a:moveTo>
                  <a:pt x="0" y="0"/>
                </a:moveTo>
                <a:lnTo>
                  <a:pt x="60551" y="0"/>
                </a:lnTo>
                <a:lnTo>
                  <a:pt x="59151" y="1400"/>
                </a:lnTo>
                <a:lnTo>
                  <a:pt x="1400" y="1400"/>
                </a:lnTo>
                <a:close/>
              </a:path>
              <a:path fill="darken" w="60551" h="21600">
                <a:moveTo>
                  <a:pt x="60551" y="0"/>
                </a:moveTo>
                <a:lnTo>
                  <a:pt x="60551" y="21600"/>
                </a:lnTo>
                <a:lnTo>
                  <a:pt x="59151" y="20200"/>
                </a:lnTo>
                <a:lnTo>
                  <a:pt x="59151" y="1400"/>
                </a:lnTo>
                <a:close/>
              </a:path>
              <a:path fill="darkenLess" w="60551" h="21600">
                <a:moveTo>
                  <a:pt x="60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151" y="20200"/>
                </a:lnTo>
                <a:close/>
              </a:path>
              <a:path fill="lighten" w="60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hlinkClick r:id="rId2" action="ppaction://hlinksldjump"/>
              </a:rPr>
              <a:t>таб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95280" y="17730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Чем закончилась  дуэль Онегина с Ленским?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68360" y="17730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негин убил своего друга Ленского, так как не смог возвыситься над общественным мнением того поместного дворянства, которое внутренне презирал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AutoShape 4"/>
          <p:cNvSpPr/>
          <p:nvPr/>
        </p:nvSpPr>
        <p:spPr>
          <a:xfrm>
            <a:off x="6877080" y="5877000"/>
            <a:ext cx="2016000" cy="718920"/>
          </a:xfrm>
          <a:custGeom>
            <a:avLst/>
            <a:gdLst>
              <a:gd name="textAreaLeft" fmla="*/ 46440 w 2016000"/>
              <a:gd name="textAreaRight" fmla="*/ 1969560 w 2016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60551" h="21600">
                <a:moveTo>
                  <a:pt x="0" y="0"/>
                </a:moveTo>
                <a:lnTo>
                  <a:pt x="60551" y="0"/>
                </a:lnTo>
                <a:lnTo>
                  <a:pt x="60551" y="21600"/>
                </a:lnTo>
                <a:lnTo>
                  <a:pt x="0" y="21600"/>
                </a:lnTo>
                <a:close/>
              </a:path>
              <a:path fill="lightenLess" w="60551" h="21600">
                <a:moveTo>
                  <a:pt x="0" y="0"/>
                </a:moveTo>
                <a:lnTo>
                  <a:pt x="60551" y="0"/>
                </a:lnTo>
                <a:lnTo>
                  <a:pt x="59151" y="1400"/>
                </a:lnTo>
                <a:lnTo>
                  <a:pt x="1400" y="1400"/>
                </a:lnTo>
                <a:close/>
              </a:path>
              <a:path fill="darken" w="60551" h="21600">
                <a:moveTo>
                  <a:pt x="60551" y="0"/>
                </a:moveTo>
                <a:lnTo>
                  <a:pt x="60551" y="21600"/>
                </a:lnTo>
                <a:lnTo>
                  <a:pt x="59151" y="20200"/>
                </a:lnTo>
                <a:lnTo>
                  <a:pt x="59151" y="1400"/>
                </a:lnTo>
                <a:close/>
              </a:path>
              <a:path fill="darkenLess" w="60551" h="21600">
                <a:moveTo>
                  <a:pt x="60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151" y="20200"/>
                </a:lnTo>
                <a:close/>
              </a:path>
              <a:path fill="lighten" w="60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б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Закончите фразу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Мой дядя самых честных правил,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Когда не в шутку занемог…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Он уважать себя заставил…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AutoShape 4"/>
          <p:cNvSpPr/>
          <p:nvPr/>
        </p:nvSpPr>
        <p:spPr>
          <a:xfrm>
            <a:off x="6877080" y="5877000"/>
            <a:ext cx="2016000" cy="718920"/>
          </a:xfrm>
          <a:custGeom>
            <a:avLst/>
            <a:gdLst>
              <a:gd name="textAreaLeft" fmla="*/ 46440 w 2016000"/>
              <a:gd name="textAreaRight" fmla="*/ 1969560 w 2016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60551" h="21600">
                <a:moveTo>
                  <a:pt x="0" y="0"/>
                </a:moveTo>
                <a:lnTo>
                  <a:pt x="60551" y="0"/>
                </a:lnTo>
                <a:lnTo>
                  <a:pt x="60551" y="21600"/>
                </a:lnTo>
                <a:lnTo>
                  <a:pt x="0" y="21600"/>
                </a:lnTo>
                <a:close/>
              </a:path>
              <a:path fill="lightenLess" w="60551" h="21600">
                <a:moveTo>
                  <a:pt x="0" y="0"/>
                </a:moveTo>
                <a:lnTo>
                  <a:pt x="60551" y="0"/>
                </a:lnTo>
                <a:lnTo>
                  <a:pt x="59151" y="1400"/>
                </a:lnTo>
                <a:lnTo>
                  <a:pt x="1400" y="1400"/>
                </a:lnTo>
                <a:close/>
              </a:path>
              <a:path fill="darken" w="60551" h="21600">
                <a:moveTo>
                  <a:pt x="60551" y="0"/>
                </a:moveTo>
                <a:lnTo>
                  <a:pt x="60551" y="21600"/>
                </a:lnTo>
                <a:lnTo>
                  <a:pt x="59151" y="20200"/>
                </a:lnTo>
                <a:lnTo>
                  <a:pt x="59151" y="1400"/>
                </a:lnTo>
                <a:close/>
              </a:path>
              <a:path fill="darkenLess" w="60551" h="21600">
                <a:moveTo>
                  <a:pt x="60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151" y="20200"/>
                </a:lnTo>
                <a:close/>
              </a:path>
              <a:path fill="lighten" w="60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б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00"/>
                </a:solidFill>
                <a:latin typeface="Calibri"/>
              </a:rPr>
              <a:t>Евгений Онегин – это натура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а) Цельная, непротиворечивая, однозначна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б) Подражательная по отношению к западным образцам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в) Двойственная, сотканная из противоречий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в) Двойственная, сотканная из противоречий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AutoShape 4"/>
          <p:cNvSpPr/>
          <p:nvPr/>
        </p:nvSpPr>
        <p:spPr>
          <a:xfrm>
            <a:off x="6877080" y="5877000"/>
            <a:ext cx="2016000" cy="718920"/>
          </a:xfrm>
          <a:custGeom>
            <a:avLst/>
            <a:gdLst>
              <a:gd name="textAreaLeft" fmla="*/ 46440 w 2016000"/>
              <a:gd name="textAreaRight" fmla="*/ 1969560 w 2016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60551" h="21600">
                <a:moveTo>
                  <a:pt x="0" y="0"/>
                </a:moveTo>
                <a:lnTo>
                  <a:pt x="60551" y="0"/>
                </a:lnTo>
                <a:lnTo>
                  <a:pt x="60551" y="21600"/>
                </a:lnTo>
                <a:lnTo>
                  <a:pt x="0" y="21600"/>
                </a:lnTo>
                <a:close/>
              </a:path>
              <a:path fill="lightenLess" w="60551" h="21600">
                <a:moveTo>
                  <a:pt x="0" y="0"/>
                </a:moveTo>
                <a:lnTo>
                  <a:pt x="60551" y="0"/>
                </a:lnTo>
                <a:lnTo>
                  <a:pt x="59151" y="1400"/>
                </a:lnTo>
                <a:lnTo>
                  <a:pt x="1400" y="1400"/>
                </a:lnTo>
                <a:close/>
              </a:path>
              <a:path fill="darken" w="60551" h="21600">
                <a:moveTo>
                  <a:pt x="60551" y="0"/>
                </a:moveTo>
                <a:lnTo>
                  <a:pt x="60551" y="21600"/>
                </a:lnTo>
                <a:lnTo>
                  <a:pt x="59151" y="20200"/>
                </a:lnTo>
                <a:lnTo>
                  <a:pt x="59151" y="1400"/>
                </a:lnTo>
                <a:close/>
              </a:path>
              <a:path fill="darkenLess" w="60551" h="21600">
                <a:moveTo>
                  <a:pt x="60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151" y="20200"/>
                </a:lnTo>
                <a:close/>
              </a:path>
              <a:path fill="lighten" w="60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б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Авторские отступления в “Евгении Онегине” нужны.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а) Для создания образа автор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б) Для того, чтобы повествование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не было утомительно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однообразным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в) Для создания широкой картины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русской жизни начала XIX век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а</a:t>
            </a: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) Для создания образа автора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в) Для создания широкой картины русской жизни начала XIX века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AutoShape 4"/>
          <p:cNvSpPr/>
          <p:nvPr/>
        </p:nvSpPr>
        <p:spPr>
          <a:xfrm>
            <a:off x="6877080" y="5877000"/>
            <a:ext cx="2016000" cy="718920"/>
          </a:xfrm>
          <a:custGeom>
            <a:avLst/>
            <a:gdLst>
              <a:gd name="textAreaLeft" fmla="*/ 46440 w 2016000"/>
              <a:gd name="textAreaRight" fmla="*/ 1969560 w 2016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60551" h="21600">
                <a:moveTo>
                  <a:pt x="0" y="0"/>
                </a:moveTo>
                <a:lnTo>
                  <a:pt x="60551" y="0"/>
                </a:lnTo>
                <a:lnTo>
                  <a:pt x="60551" y="21600"/>
                </a:lnTo>
                <a:lnTo>
                  <a:pt x="0" y="21600"/>
                </a:lnTo>
                <a:close/>
              </a:path>
              <a:path fill="lightenLess" w="60551" h="21600">
                <a:moveTo>
                  <a:pt x="0" y="0"/>
                </a:moveTo>
                <a:lnTo>
                  <a:pt x="60551" y="0"/>
                </a:lnTo>
                <a:lnTo>
                  <a:pt x="59151" y="1400"/>
                </a:lnTo>
                <a:lnTo>
                  <a:pt x="1400" y="1400"/>
                </a:lnTo>
                <a:close/>
              </a:path>
              <a:path fill="darken" w="60551" h="21600">
                <a:moveTo>
                  <a:pt x="60551" y="0"/>
                </a:moveTo>
                <a:lnTo>
                  <a:pt x="60551" y="21600"/>
                </a:lnTo>
                <a:lnTo>
                  <a:pt x="59151" y="20200"/>
                </a:lnTo>
                <a:lnTo>
                  <a:pt x="59151" y="1400"/>
                </a:lnTo>
                <a:close/>
              </a:path>
              <a:path fill="darkenLess" w="60551" h="21600">
                <a:moveTo>
                  <a:pt x="60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151" y="20200"/>
                </a:lnTo>
                <a:close/>
              </a:path>
              <a:path fill="lighten" w="60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б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асположите в правильной последовательности события, описанные в романе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а) Исповедь Татьяны Лариной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б) Знакомство Онегина с Ленским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в) Преобразования Онегина в деревне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г) Исповедь Онегина Татьяне Лариной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д) Именины Татьяны Лариной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nstantia"/>
              </a:rPr>
              <a:t>6 июня 1799 года в Москве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AutoShape 5"/>
          <p:cNvSpPr/>
          <p:nvPr/>
        </p:nvSpPr>
        <p:spPr>
          <a:xfrm>
            <a:off x="6877080" y="5877000"/>
            <a:ext cx="2016000" cy="718920"/>
          </a:xfrm>
          <a:custGeom>
            <a:avLst/>
            <a:gdLst>
              <a:gd name="textAreaLeft" fmla="*/ 46440 w 2016000"/>
              <a:gd name="textAreaRight" fmla="*/ 1969560 w 2016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60551" h="21600">
                <a:moveTo>
                  <a:pt x="0" y="0"/>
                </a:moveTo>
                <a:lnTo>
                  <a:pt x="60551" y="0"/>
                </a:lnTo>
                <a:lnTo>
                  <a:pt x="60551" y="21600"/>
                </a:lnTo>
                <a:lnTo>
                  <a:pt x="0" y="21600"/>
                </a:lnTo>
                <a:close/>
              </a:path>
              <a:path fill="lightenLess" w="60551" h="21600">
                <a:moveTo>
                  <a:pt x="0" y="0"/>
                </a:moveTo>
                <a:lnTo>
                  <a:pt x="60551" y="0"/>
                </a:lnTo>
                <a:lnTo>
                  <a:pt x="59151" y="1400"/>
                </a:lnTo>
                <a:lnTo>
                  <a:pt x="1400" y="1400"/>
                </a:lnTo>
                <a:close/>
              </a:path>
              <a:path fill="darken" w="60551" h="21600">
                <a:moveTo>
                  <a:pt x="60551" y="0"/>
                </a:moveTo>
                <a:lnTo>
                  <a:pt x="60551" y="21600"/>
                </a:lnTo>
                <a:lnTo>
                  <a:pt x="59151" y="20200"/>
                </a:lnTo>
                <a:lnTo>
                  <a:pt x="59151" y="1400"/>
                </a:lnTo>
                <a:close/>
              </a:path>
              <a:path fill="darkenLess" w="60551" h="21600">
                <a:moveTo>
                  <a:pt x="60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151" y="20200"/>
                </a:lnTo>
                <a:close/>
              </a:path>
              <a:path fill="lighten" w="60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hlinkClick r:id="rId1" action="ppaction://hlinksldjump"/>
              </a:rPr>
              <a:t>таб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в) Преобразования Онегина в деревн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AutoShape 4"/>
          <p:cNvSpPr/>
          <p:nvPr/>
        </p:nvSpPr>
        <p:spPr>
          <a:xfrm>
            <a:off x="6877080" y="5877000"/>
            <a:ext cx="2016000" cy="718920"/>
          </a:xfrm>
          <a:custGeom>
            <a:avLst/>
            <a:gdLst>
              <a:gd name="textAreaLeft" fmla="*/ 46440 w 2016000"/>
              <a:gd name="textAreaRight" fmla="*/ 1969560 w 2016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60551" h="21600">
                <a:moveTo>
                  <a:pt x="0" y="0"/>
                </a:moveTo>
                <a:lnTo>
                  <a:pt x="60551" y="0"/>
                </a:lnTo>
                <a:lnTo>
                  <a:pt x="60551" y="21600"/>
                </a:lnTo>
                <a:lnTo>
                  <a:pt x="0" y="21600"/>
                </a:lnTo>
                <a:close/>
              </a:path>
              <a:path fill="lightenLess" w="60551" h="21600">
                <a:moveTo>
                  <a:pt x="0" y="0"/>
                </a:moveTo>
                <a:lnTo>
                  <a:pt x="60551" y="0"/>
                </a:lnTo>
                <a:lnTo>
                  <a:pt x="59151" y="1400"/>
                </a:lnTo>
                <a:lnTo>
                  <a:pt x="1400" y="1400"/>
                </a:lnTo>
                <a:close/>
              </a:path>
              <a:path fill="darken" w="60551" h="21600">
                <a:moveTo>
                  <a:pt x="60551" y="0"/>
                </a:moveTo>
                <a:lnTo>
                  <a:pt x="60551" y="21600"/>
                </a:lnTo>
                <a:lnTo>
                  <a:pt x="59151" y="20200"/>
                </a:lnTo>
                <a:lnTo>
                  <a:pt x="59151" y="1400"/>
                </a:lnTo>
                <a:close/>
              </a:path>
              <a:path fill="darkenLess" w="60551" h="21600">
                <a:moveTo>
                  <a:pt x="60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151" y="20200"/>
                </a:lnTo>
                <a:close/>
              </a:path>
              <a:path fill="lighten" w="60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б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в) Преобразования Онегина в деревне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б) Знакомство Онегина с Ленским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AutoShape 4"/>
          <p:cNvSpPr/>
          <p:nvPr/>
        </p:nvSpPr>
        <p:spPr>
          <a:xfrm>
            <a:off x="6877080" y="5877000"/>
            <a:ext cx="2016000" cy="718920"/>
          </a:xfrm>
          <a:custGeom>
            <a:avLst/>
            <a:gdLst>
              <a:gd name="textAreaLeft" fmla="*/ 46440 w 2016000"/>
              <a:gd name="textAreaRight" fmla="*/ 1969560 w 2016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60551" h="21600">
                <a:moveTo>
                  <a:pt x="0" y="0"/>
                </a:moveTo>
                <a:lnTo>
                  <a:pt x="60551" y="0"/>
                </a:lnTo>
                <a:lnTo>
                  <a:pt x="60551" y="21600"/>
                </a:lnTo>
                <a:lnTo>
                  <a:pt x="0" y="21600"/>
                </a:lnTo>
                <a:close/>
              </a:path>
              <a:path fill="lightenLess" w="60551" h="21600">
                <a:moveTo>
                  <a:pt x="0" y="0"/>
                </a:moveTo>
                <a:lnTo>
                  <a:pt x="60551" y="0"/>
                </a:lnTo>
                <a:lnTo>
                  <a:pt x="59151" y="1400"/>
                </a:lnTo>
                <a:lnTo>
                  <a:pt x="1400" y="1400"/>
                </a:lnTo>
                <a:close/>
              </a:path>
              <a:path fill="darken" w="60551" h="21600">
                <a:moveTo>
                  <a:pt x="60551" y="0"/>
                </a:moveTo>
                <a:lnTo>
                  <a:pt x="60551" y="21600"/>
                </a:lnTo>
                <a:lnTo>
                  <a:pt x="59151" y="20200"/>
                </a:lnTo>
                <a:lnTo>
                  <a:pt x="59151" y="1400"/>
                </a:lnTo>
                <a:close/>
              </a:path>
              <a:path fill="darkenLess" w="60551" h="21600">
                <a:moveTo>
                  <a:pt x="60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151" y="20200"/>
                </a:lnTo>
                <a:close/>
              </a:path>
              <a:path fill="lighten" w="60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б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в) Преобразования Онегина в деревне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б) Знакомство Онегина с Ленским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а) Исповедь Татьяны Лариной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AutoShape 4"/>
          <p:cNvSpPr/>
          <p:nvPr/>
        </p:nvSpPr>
        <p:spPr>
          <a:xfrm>
            <a:off x="6877080" y="5877000"/>
            <a:ext cx="2016000" cy="718920"/>
          </a:xfrm>
          <a:custGeom>
            <a:avLst/>
            <a:gdLst>
              <a:gd name="textAreaLeft" fmla="*/ 46440 w 2016000"/>
              <a:gd name="textAreaRight" fmla="*/ 1969560 w 2016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60551" h="21600">
                <a:moveTo>
                  <a:pt x="0" y="0"/>
                </a:moveTo>
                <a:lnTo>
                  <a:pt x="60551" y="0"/>
                </a:lnTo>
                <a:lnTo>
                  <a:pt x="60551" y="21600"/>
                </a:lnTo>
                <a:lnTo>
                  <a:pt x="0" y="21600"/>
                </a:lnTo>
                <a:close/>
              </a:path>
              <a:path fill="lightenLess" w="60551" h="21600">
                <a:moveTo>
                  <a:pt x="0" y="0"/>
                </a:moveTo>
                <a:lnTo>
                  <a:pt x="60551" y="0"/>
                </a:lnTo>
                <a:lnTo>
                  <a:pt x="59151" y="1400"/>
                </a:lnTo>
                <a:lnTo>
                  <a:pt x="1400" y="1400"/>
                </a:lnTo>
                <a:close/>
              </a:path>
              <a:path fill="darken" w="60551" h="21600">
                <a:moveTo>
                  <a:pt x="60551" y="0"/>
                </a:moveTo>
                <a:lnTo>
                  <a:pt x="60551" y="21600"/>
                </a:lnTo>
                <a:lnTo>
                  <a:pt x="59151" y="20200"/>
                </a:lnTo>
                <a:lnTo>
                  <a:pt x="59151" y="1400"/>
                </a:lnTo>
                <a:close/>
              </a:path>
              <a:path fill="darkenLess" w="60551" h="21600">
                <a:moveTo>
                  <a:pt x="60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151" y="20200"/>
                </a:lnTo>
                <a:close/>
              </a:path>
              <a:path fill="lighten" w="60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б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в) Преобразования Онегина в деревне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б) Знакомство Онегина с Ленским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а) Исповедь Татьяны Лариной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д) Именины Татьяны Лариной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AutoShape 4"/>
          <p:cNvSpPr/>
          <p:nvPr/>
        </p:nvSpPr>
        <p:spPr>
          <a:xfrm>
            <a:off x="6877080" y="5877000"/>
            <a:ext cx="2016000" cy="718920"/>
          </a:xfrm>
          <a:custGeom>
            <a:avLst/>
            <a:gdLst>
              <a:gd name="textAreaLeft" fmla="*/ 46440 w 2016000"/>
              <a:gd name="textAreaRight" fmla="*/ 1969560 w 2016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60551" h="21600">
                <a:moveTo>
                  <a:pt x="0" y="0"/>
                </a:moveTo>
                <a:lnTo>
                  <a:pt x="60551" y="0"/>
                </a:lnTo>
                <a:lnTo>
                  <a:pt x="60551" y="21600"/>
                </a:lnTo>
                <a:lnTo>
                  <a:pt x="0" y="21600"/>
                </a:lnTo>
                <a:close/>
              </a:path>
              <a:path fill="lightenLess" w="60551" h="21600">
                <a:moveTo>
                  <a:pt x="0" y="0"/>
                </a:moveTo>
                <a:lnTo>
                  <a:pt x="60551" y="0"/>
                </a:lnTo>
                <a:lnTo>
                  <a:pt x="59151" y="1400"/>
                </a:lnTo>
                <a:lnTo>
                  <a:pt x="1400" y="1400"/>
                </a:lnTo>
                <a:close/>
              </a:path>
              <a:path fill="darken" w="60551" h="21600">
                <a:moveTo>
                  <a:pt x="60551" y="0"/>
                </a:moveTo>
                <a:lnTo>
                  <a:pt x="60551" y="21600"/>
                </a:lnTo>
                <a:lnTo>
                  <a:pt x="59151" y="20200"/>
                </a:lnTo>
                <a:lnTo>
                  <a:pt x="59151" y="1400"/>
                </a:lnTo>
                <a:close/>
              </a:path>
              <a:path fill="darkenLess" w="60551" h="21600">
                <a:moveTo>
                  <a:pt x="60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151" y="20200"/>
                </a:lnTo>
                <a:close/>
              </a:path>
              <a:path fill="lighten" w="60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б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в) Преобразования Онегина в деревне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б) Знакомство Онегина с Ленским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а) Исповедь Татьяны Лариной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д) Именины Татьяны Лариной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г) Исповедь Онегина Татьяне Лариной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AutoShape 4"/>
          <p:cNvSpPr/>
          <p:nvPr/>
        </p:nvSpPr>
        <p:spPr>
          <a:xfrm>
            <a:off x="6877080" y="5877000"/>
            <a:ext cx="2016000" cy="718920"/>
          </a:xfrm>
          <a:custGeom>
            <a:avLst/>
            <a:gdLst>
              <a:gd name="textAreaLeft" fmla="*/ 46440 w 2016000"/>
              <a:gd name="textAreaRight" fmla="*/ 1969560 w 2016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60551" h="21600">
                <a:moveTo>
                  <a:pt x="0" y="0"/>
                </a:moveTo>
                <a:lnTo>
                  <a:pt x="60551" y="0"/>
                </a:lnTo>
                <a:lnTo>
                  <a:pt x="60551" y="21600"/>
                </a:lnTo>
                <a:lnTo>
                  <a:pt x="0" y="21600"/>
                </a:lnTo>
                <a:close/>
              </a:path>
              <a:path fill="lightenLess" w="60551" h="21600">
                <a:moveTo>
                  <a:pt x="0" y="0"/>
                </a:moveTo>
                <a:lnTo>
                  <a:pt x="60551" y="0"/>
                </a:lnTo>
                <a:lnTo>
                  <a:pt x="59151" y="1400"/>
                </a:lnTo>
                <a:lnTo>
                  <a:pt x="1400" y="1400"/>
                </a:lnTo>
                <a:close/>
              </a:path>
              <a:path fill="darken" w="60551" h="21600">
                <a:moveTo>
                  <a:pt x="60551" y="0"/>
                </a:moveTo>
                <a:lnTo>
                  <a:pt x="60551" y="21600"/>
                </a:lnTo>
                <a:lnTo>
                  <a:pt x="59151" y="20200"/>
                </a:lnTo>
                <a:lnTo>
                  <a:pt x="59151" y="1400"/>
                </a:lnTo>
                <a:close/>
              </a:path>
              <a:path fill="darkenLess" w="60551" h="21600">
                <a:moveTo>
                  <a:pt x="60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151" y="20200"/>
                </a:lnTo>
                <a:close/>
              </a:path>
              <a:path fill="lighten" w="60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б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294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зовите главных героев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омана “Евгений Онегин”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95280" y="1699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68360" y="1628640"/>
            <a:ext cx="8229600" cy="451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вгений Онегин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ладимир Ленский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атьяна Ларина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льга Ларина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AutoShape 8"/>
          <p:cNvSpPr/>
          <p:nvPr/>
        </p:nvSpPr>
        <p:spPr>
          <a:xfrm>
            <a:off x="6877080" y="5877000"/>
            <a:ext cx="2016000" cy="718920"/>
          </a:xfrm>
          <a:custGeom>
            <a:avLst/>
            <a:gdLst>
              <a:gd name="textAreaLeft" fmla="*/ 46440 w 2016000"/>
              <a:gd name="textAreaRight" fmla="*/ 1969560 w 2016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60551" h="21600">
                <a:moveTo>
                  <a:pt x="0" y="0"/>
                </a:moveTo>
                <a:lnTo>
                  <a:pt x="60551" y="0"/>
                </a:lnTo>
                <a:lnTo>
                  <a:pt x="60551" y="21600"/>
                </a:lnTo>
                <a:lnTo>
                  <a:pt x="0" y="21600"/>
                </a:lnTo>
                <a:close/>
              </a:path>
              <a:path fill="lightenLess" w="60551" h="21600">
                <a:moveTo>
                  <a:pt x="0" y="0"/>
                </a:moveTo>
                <a:lnTo>
                  <a:pt x="60551" y="0"/>
                </a:lnTo>
                <a:lnTo>
                  <a:pt x="59151" y="1400"/>
                </a:lnTo>
                <a:lnTo>
                  <a:pt x="1400" y="1400"/>
                </a:lnTo>
                <a:close/>
              </a:path>
              <a:path fill="darken" w="60551" h="21600">
                <a:moveTo>
                  <a:pt x="60551" y="0"/>
                </a:moveTo>
                <a:lnTo>
                  <a:pt x="60551" y="21600"/>
                </a:lnTo>
                <a:lnTo>
                  <a:pt x="59151" y="20200"/>
                </a:lnTo>
                <a:lnTo>
                  <a:pt x="59151" y="1400"/>
                </a:lnTo>
                <a:close/>
              </a:path>
              <a:path fill="darkenLess" w="60551" h="21600">
                <a:moveTo>
                  <a:pt x="60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151" y="20200"/>
                </a:lnTo>
                <a:close/>
              </a:path>
              <a:path fill="lighten" w="60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б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Назовите учебное заведение,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которое подарило Пушкину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красоту мира, любовь к Родине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к друзьям?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Кем и когда оно было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основано?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nstantia"/>
              </a:rPr>
              <a:t>Царскосельский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nstantia"/>
              </a:rPr>
              <a:t>Лицей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nstantia"/>
              </a:rPr>
              <a:t>Александром I,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Constantia"/>
              </a:rPr>
              <a:t>19 октября 1811 г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6877080" y="5877000"/>
            <a:ext cx="2016000" cy="718920"/>
          </a:xfrm>
          <a:custGeom>
            <a:avLst/>
            <a:gdLst>
              <a:gd name="textAreaLeft" fmla="*/ 46440 w 2016000"/>
              <a:gd name="textAreaRight" fmla="*/ 1969560 w 2016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60551" h="21600">
                <a:moveTo>
                  <a:pt x="0" y="0"/>
                </a:moveTo>
                <a:lnTo>
                  <a:pt x="60551" y="0"/>
                </a:lnTo>
                <a:lnTo>
                  <a:pt x="60551" y="21600"/>
                </a:lnTo>
                <a:lnTo>
                  <a:pt x="0" y="21600"/>
                </a:lnTo>
                <a:close/>
              </a:path>
              <a:path fill="lightenLess" w="60551" h="21600">
                <a:moveTo>
                  <a:pt x="0" y="0"/>
                </a:moveTo>
                <a:lnTo>
                  <a:pt x="60551" y="0"/>
                </a:lnTo>
                <a:lnTo>
                  <a:pt x="59151" y="1400"/>
                </a:lnTo>
                <a:lnTo>
                  <a:pt x="1400" y="1400"/>
                </a:lnTo>
                <a:close/>
              </a:path>
              <a:path fill="darken" w="60551" h="21600">
                <a:moveTo>
                  <a:pt x="60551" y="0"/>
                </a:moveTo>
                <a:lnTo>
                  <a:pt x="60551" y="21600"/>
                </a:lnTo>
                <a:lnTo>
                  <a:pt x="59151" y="20200"/>
                </a:lnTo>
                <a:lnTo>
                  <a:pt x="59151" y="1400"/>
                </a:lnTo>
                <a:close/>
              </a:path>
              <a:path fill="darkenLess" w="60551" h="21600">
                <a:moveTo>
                  <a:pt x="60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151" y="20200"/>
                </a:lnTo>
                <a:close/>
              </a:path>
              <a:path fill="lighten" w="60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hlinkClick r:id="rId1" action="ppaction://hlinksldjump"/>
              </a:rPr>
              <a:t>таб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Прямоугольник 3"/>
          <p:cNvSpPr/>
          <p:nvPr/>
        </p:nvSpPr>
        <p:spPr>
          <a:xfrm>
            <a:off x="0" y="1928880"/>
            <a:ext cx="87868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Здесь Пушкин очень плодотворно поработал. Он написал около четырехсот стихов, 8-ю, 9-ю и 10-ю главы "Евгения Онегина" но последняя сгорает. Также он пишет 5 повестей прозою, несколько драматических сцен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D:\Documents and Settings\YraK\Рабочий стол\boldino_09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Это село Болдино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6877080" y="5877000"/>
            <a:ext cx="2016000" cy="718920"/>
          </a:xfrm>
          <a:custGeom>
            <a:avLst/>
            <a:gdLst>
              <a:gd name="textAreaLeft" fmla="*/ 46440 w 2016000"/>
              <a:gd name="textAreaRight" fmla="*/ 1969560 w 2016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60551" h="21600">
                <a:moveTo>
                  <a:pt x="0" y="0"/>
                </a:moveTo>
                <a:lnTo>
                  <a:pt x="60551" y="0"/>
                </a:lnTo>
                <a:lnTo>
                  <a:pt x="60551" y="21600"/>
                </a:lnTo>
                <a:lnTo>
                  <a:pt x="0" y="21600"/>
                </a:lnTo>
                <a:close/>
              </a:path>
              <a:path fill="lightenLess" w="60551" h="21600">
                <a:moveTo>
                  <a:pt x="0" y="0"/>
                </a:moveTo>
                <a:lnTo>
                  <a:pt x="60551" y="0"/>
                </a:lnTo>
                <a:lnTo>
                  <a:pt x="59151" y="1400"/>
                </a:lnTo>
                <a:lnTo>
                  <a:pt x="1400" y="1400"/>
                </a:lnTo>
                <a:close/>
              </a:path>
              <a:path fill="darken" w="60551" h="21600">
                <a:moveTo>
                  <a:pt x="60551" y="0"/>
                </a:moveTo>
                <a:lnTo>
                  <a:pt x="60551" y="21600"/>
                </a:lnTo>
                <a:lnTo>
                  <a:pt x="59151" y="20200"/>
                </a:lnTo>
                <a:lnTo>
                  <a:pt x="59151" y="1400"/>
                </a:lnTo>
                <a:close/>
              </a:path>
              <a:path fill="darkenLess" w="60551" h="21600">
                <a:moveTo>
                  <a:pt x="60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151" y="20200"/>
                </a:lnTo>
                <a:close/>
              </a:path>
              <a:path fill="lighten" w="60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hlinkClick r:id="rId2" action="ppaction://hlinksldjump"/>
              </a:rPr>
              <a:t>таб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Где познакомился </a:t>
            </a:r>
            <a:r>
              <a:rPr b="1" lang="ru-RU" sz="5400" spc="-1" strike="noStrike">
                <a:solidFill>
                  <a:srgbClr val="000000"/>
                </a:solidFill>
                <a:latin typeface="Constantia"/>
              </a:rPr>
              <a:t>А.С. Пушкин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с Онегиным на страницах романа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00:09:46Z</dcterms:created>
  <dc:creator>Галина</dc:creator>
  <dc:description/>
  <dc:language>en-US</dc:language>
  <cp:lastModifiedBy>andrei</cp:lastModifiedBy>
  <dcterms:modified xsi:type="dcterms:W3CDTF">2017-03-20T18:56:14Z</dcterms:modified>
  <cp:revision>76</cp:revision>
  <dc:subject/>
  <dc:title>                 Добрый день!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