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7160840" y="-12117600"/>
            <a:ext cx="34321680" cy="257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7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2084400" y="754200"/>
            <a:ext cx="25002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B6DF-9C35-421D-AC9F-4086B52B3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D864-DD92-43A5-A386-DAD3875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0327-75F5-47F8-ABF2-AC06785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5EE0-1833-4F83-9697-6C80CA820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7A7C-D0E8-49F8-8AF2-32F1FB30B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02E7-17C4-43AC-A100-5076A22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72705-4EB6-47FC-9212-43B2099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195C-6FA7-4FCC-A2E8-248F4EC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3FF6-47B5-4DDE-B18D-82E5D485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8438-A7B5-41BE-AAB5-42D94F14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5EE7-F84A-45E7-9184-0EAC8207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8766-54B1-4A8E-A194-8821DE7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90C6-F601-43F6-ADFF-A76C05E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165BB-0506-4DE7-B9D2-9302D72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B48CE-D9DE-4695-87E3-0430B0E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69FD-1EF2-48AB-A961-0D78E4E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8EDCA-711F-4EC6-AF12-62B70C7C7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1D1-B062-4034-A8D1-5EFF06557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CF15-0CE1-4B60-8CF0-D4E1005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32E-2C9E-4EC2-9F2E-9C92131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5D7C-B328-45BC-B131-3A3FE4A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F97-8012-4264-8F69-4D33BEF1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A14F-2955-4053-AD3C-27C55FE2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229F-647C-4316-9257-CC948E4F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38A-FCA2-4B7F-9496-769F936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BED3-B149-4069-8BF1-CE4E8C3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97BA-5F00-46DB-A14C-C6332563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3C3D-9C68-4500-90EC-557B0AC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0A1-2D3A-48B1-89E7-E23AC79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2522-1C53-4A4A-998F-04F0BD6DB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1F7C9-DEE6-4C8C-959F-92625C809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95813-CE82-4F4D-B4F6-0626AA6C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D5891-5509-4D96-8BCD-F9B3116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76A4-C0BE-4E42-B3BA-3730EA3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CEAEA-00B7-4D4D-B134-3A930F0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4A6A8-8AAE-4BB5-91A2-8FB3A7B9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D5E29-CB1A-443B-B5A9-CECF504C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A401B-291F-4289-ACAC-B248A90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B1FCE-0398-415B-9215-7E8B453C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F0069-A1B6-46F9-92C9-B8B7B400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C72A7-B021-4EDB-B910-CB6DE4C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A8ED0-DAA0-4263-BD2C-8FB5B5F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712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6680" y="144756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712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6680" y="3887280"/>
            <a:ext cx="26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D9CC2-9DE2-4891-9686-FD18A3242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C050-0470-44B2-B5DB-0FAF689F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168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7CB5-63C5-4666-B345-83FCAE8D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E1A7-A10B-4321-97F0-8998D9C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8728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BDA8-0823-49BC-A8C6-6193764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118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16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E154-562E-4FED-BCE5-FC130C8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F10C3-5034-494B-A108-9F2415B89EB4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e40059"/>
          </a:solidFill>
          <a:ln w="38160">
            <a:solidFill>
              <a:srgbClr val="e40059"/>
            </a:solidFill>
            <a:miter/>
          </a:ln>
          <a:effectLst>
            <a:outerShdw dist="152735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AA5AE8-9706-4A49-BEE8-C759F652A042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801CAC-9E92-48A8-B428-A0CA05EBBDDF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16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8000"/>
              </a:lnSpc>
              <a:spcBef>
                <a:spcPts val="601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1800" indent="-26676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96840" indent="-228600">
              <a:lnSpc>
                <a:spcPct val="78000"/>
              </a:lnSpc>
              <a:spcBef>
                <a:spcPts val="601"/>
              </a:spcBef>
              <a:buClr>
                <a:srgbClr val="a7003f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152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46200" indent="-228600">
              <a:lnSpc>
                <a:spcPct val="78000"/>
              </a:lnSpc>
              <a:spcBef>
                <a:spcPts val="601"/>
              </a:spcBef>
              <a:buClr>
                <a:srgbClr val="c9004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46200" indent="-228600">
              <a:lnSpc>
                <a:spcPct val="78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16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1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66666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A20B6B-3B7E-4985-BD78-745AADC6F23B}" type="slidenum">
              <a:rPr b="0" lang="en-GB" sz="1600" spc="-1" strike="noStrike">
                <a:solidFill>
                  <a:srgbClr val="66666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642960" y="357120"/>
            <a:ext cx="7572240" cy="5786640"/>
          </a:xfrm>
          <a:custGeom>
            <a:avLst/>
            <a:gdLst>
              <a:gd name="textAreaLeft" fmla="*/ 1108800 w 7572240"/>
              <a:gd name="textAreaRight" fmla="*/ 6463440 w 7572240"/>
              <a:gd name="textAreaTop" fmla="*/ 847440 h 5786640"/>
              <a:gd name="textAreaBottom" fmla="*/ 4939200 h 5786640"/>
            </a:gdLst>
            <a:ahLst/>
            <a:rect l="textAreaLeft" t="textAreaTop" r="textAreaRight" b="textAreaBottom"/>
            <a:pathLst>
              <a:path w="7572375" h="5786437">
                <a:moveTo>
                  <a:pt x="4927202" y="5651930"/>
                </a:moveTo>
                <a:lnTo>
                  <a:pt x="4927202" y="5651930"/>
                </a:lnTo>
                <a:cubicBezTo>
                  <a:pt x="4558098" y="5741074"/>
                  <a:pt x="4173287" y="5786436"/>
                  <a:pt x="3786188" y="5786437"/>
                </a:cubicBezTo>
                <a:cubicBezTo>
                  <a:pt x="1695134" y="5786437"/>
                  <a:pt x="0" y="4491098"/>
                  <a:pt x="0" y="2893218"/>
                </a:cubicBezTo>
                <a:cubicBezTo>
                  <a:pt x="0" y="1295337"/>
                  <a:pt x="1695134" y="-1"/>
                  <a:pt x="3786188" y="-1"/>
                </a:cubicBezTo>
                <a:cubicBezTo>
                  <a:pt x="5877241" y="-1"/>
                  <a:pt x="7572376" y="1295337"/>
                  <a:pt x="7572376" y="2893218"/>
                </a:cubicBezTo>
                <a:cubicBezTo>
                  <a:pt x="7572376" y="3278877"/>
                  <a:pt x="7471474" y="3660645"/>
                  <a:pt x="7275604" y="4016076"/>
                </a:cubicBezTo>
                <a:lnTo>
                  <a:pt x="3786188" y="2893219"/>
                </a:lnTo>
                <a:lnTo>
                  <a:pt x="4927202" y="5651930"/>
                </a:lnTo>
                <a:close/>
              </a:path>
            </a:pathLst>
          </a:custGeom>
          <a:solidFill>
            <a:srgbClr val="9d9d9d"/>
          </a:solidFill>
          <a:ln w="381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420920" y="912960"/>
            <a:ext cx="5155920" cy="335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876920" y="2998800"/>
            <a:ext cx="1463400" cy="12920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4929120" y="4143240"/>
            <a:ext cx="35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72002c"/>
                </a:solidFill>
                <a:latin typeface="Constantia"/>
              </a:rPr>
              <a:t>Каков смысл названия рома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116000" y="1114560"/>
            <a:ext cx="6994440" cy="53481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15840" y="28404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По мнению Штольца, Обломов «пропал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а как </a:t>
            </a:r>
            <a:r>
              <a:rPr b="0" lang="ru-RU" sz="28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ff33cc"/>
                </a:solidFill>
                <a:latin typeface="Constantia"/>
              </a:rPr>
              <a:t>думаете в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03280" y="4005360"/>
            <a:ext cx="3579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«Или  я не понял этой жизни, или она никуда не годится, а лучшего я и не знал, не видал, никто  не указал мне его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979640" y="1700280"/>
            <a:ext cx="506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«Скука, скука…! Где же тут человек? Где его цельность? Куда он скрылся, как разменялся на всякую мелочь? Где центр, около которого вращается все это: нет его… Все это мертвецы, спящие люди, хуже меня, эти члены света и обществ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692360" y="1496880"/>
            <a:ext cx="6441840" cy="4813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124000" y="344520"/>
            <a:ext cx="53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Что   выбираю  Я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5040360" y="2108160"/>
            <a:ext cx="241596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ч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2254320" y="2305080"/>
            <a:ext cx="2786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2436840" y="3780000"/>
            <a:ext cx="54482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пределы допустимого нас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  человеческой лич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540320" y="3097080"/>
            <a:ext cx="998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55640" y="1214280"/>
            <a:ext cx="7416720" cy="55422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332000" y="503280"/>
            <a:ext cx="65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равственные уроки р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1649520" y="1579680"/>
            <a:ext cx="56293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нял (а), ч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должны быть крыл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шны и обломовщин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цевщи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тивляться душевному  с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то не поможет: надо са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ть с дивана и снять ХАЛ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87240" y="927000"/>
            <a:ext cx="7417080" cy="5540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316160" y="476280"/>
            <a:ext cx="61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равственные уроки р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1649520" y="1579680"/>
            <a:ext cx="562932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ИРАЙТЕ  ЖЕ С СОБОЙ В ПУ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Я ИЗ МЯГКИХ ЮНОШЕСКИХ ЛЕТ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РОВОЕ  ОЖЕСТОЧАЮЩЕЕ МУЖЕСТ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ИРАЙТЕ С СОБОЮ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 ДВИЖЕНИЯ,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ЙТЕ ИХ НА ДОРОГЕ,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ЫМЕТЕ ПО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В.ГОГ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689040" y="189000"/>
            <a:ext cx="8051760" cy="6124320"/>
            <a:chOff x="689040" y="189000"/>
            <a:chExt cx="8051760" cy="6124320"/>
          </a:xfrm>
        </p:grpSpPr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689040" y="189000"/>
              <a:ext cx="8051760" cy="61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3"/>
            <p:cNvSpPr/>
            <p:nvPr/>
          </p:nvSpPr>
          <p:spPr>
            <a:xfrm>
              <a:off x="1936440" y="1153800"/>
              <a:ext cx="555516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1000080" y="857160"/>
            <a:ext cx="7000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.  Продолжите   ря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e40059"/>
                </a:solidFill>
                <a:latin typeface="Constantia"/>
              </a:rPr>
              <a:t>Обломов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– облом, лом, 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I. Работа со словарем (значение слова)</a:t>
            </a:r>
            <a:r>
              <a:rPr b="0" lang="en-GB" sz="2400" spc="-1" strike="noStrike">
                <a:solidFill>
                  <a:srgbClr val="e40059"/>
                </a:solidFill>
                <a:latin typeface="Constantia"/>
              </a:rPr>
              <a:t>         Облом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1. все, что не це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нарушилось, обломило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. неуклюжий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ленивый, грубый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байбак, лежебо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неве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974880" y="328680"/>
            <a:ext cx="7839000" cy="6051600"/>
            <a:chOff x="974880" y="328680"/>
            <a:chExt cx="7839000" cy="6051600"/>
          </a:xfrm>
        </p:grpSpPr>
        <p:pic>
          <p:nvPicPr>
            <p:cNvPr id="186" name="Picture 2" descr=""/>
            <p:cNvPicPr/>
            <p:nvPr/>
          </p:nvPicPr>
          <p:blipFill>
            <a:blip r:embed="rId1"/>
            <a:stretch/>
          </p:blipFill>
          <p:spPr>
            <a:xfrm>
              <a:off x="974880" y="328680"/>
              <a:ext cx="7839000" cy="60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"/>
            <p:cNvSpPr/>
            <p:nvPr/>
          </p:nvSpPr>
          <p:spPr>
            <a:xfrm>
              <a:off x="2190240" y="1285560"/>
              <a:ext cx="5404680" cy="41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4"/>
          <p:cNvSpPr/>
          <p:nvPr/>
        </p:nvSpPr>
        <p:spPr>
          <a:xfrm>
            <a:off x="1800360" y="1428840"/>
            <a:ext cx="248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«…был  не глупее других, душа  чиста и ясна , как стекло; благороден, нежен, и – пропал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43280" y="857160"/>
            <a:ext cx="31435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От чего же? Какая прич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Какая причина!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Обломовщина! –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сказал Штоль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"/>
          <p:cNvSpPr/>
          <p:nvPr/>
        </p:nvSpPr>
        <p:spPr>
          <a:xfrm>
            <a:off x="357120" y="1571760"/>
            <a:ext cx="4929120" cy="4714920"/>
          </a:xfrm>
          <a:custGeom>
            <a:avLst/>
            <a:gdLst>
              <a:gd name="textAreaLeft" fmla="*/ 392760 w 4929120"/>
              <a:gd name="textAreaRight" fmla="*/ 4536360 w 4929120"/>
              <a:gd name="textAreaTop" fmla="*/ 392760 h 4714920"/>
              <a:gd name="textAreaBottom" fmla="*/ 4322160 h 4714920"/>
            </a:gdLst>
            <a:ahLst/>
            <a:rect l="textAreaLeft" t="textAreaTop" r="textAreaRight" b="textAreaBottom"/>
            <a:pathLst>
              <a:path w="4929187" h="4714875">
                <a:moveTo>
                  <a:pt x="0" y="0"/>
                </a:moveTo>
                <a:lnTo>
                  <a:pt x="4143359" y="0"/>
                </a:lnTo>
                <a:lnTo>
                  <a:pt x="4929187" y="785828"/>
                </a:lnTo>
                <a:lnTo>
                  <a:pt x="4929187" y="4714875"/>
                </a:lnTo>
                <a:lnTo>
                  <a:pt x="785828" y="4714875"/>
                </a:lnTo>
                <a:lnTo>
                  <a:pt x="0" y="3929047"/>
                </a:lnTo>
                <a:lnTo>
                  <a:pt x="0" y="0"/>
                </a:lnTo>
                <a:close/>
              </a:path>
            </a:pathLst>
          </a:custGeom>
          <a:solidFill>
            <a:srgbClr val="9d9d9d"/>
          </a:solidFill>
          <a:ln w="38160">
            <a:solidFill>
              <a:srgbClr val="ff8e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3143160" y="450072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2786040" y="521496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2000160" y="550080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214280" y="5500800"/>
            <a:ext cx="500400" cy="42840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714240" y="4786200"/>
            <a:ext cx="57168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571680" y="3929040"/>
            <a:ext cx="57132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71680" y="3071880"/>
            <a:ext cx="57132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85880" y="221472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1500120" y="178596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286000" y="1857240"/>
            <a:ext cx="500040" cy="42876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2928960" y="2143080"/>
            <a:ext cx="500040" cy="50004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1571760" y="3286080"/>
            <a:ext cx="1214280" cy="107172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П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4000680" y="3286080"/>
            <a:ext cx="1143000" cy="100008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5429160" y="500040"/>
            <a:ext cx="1571760" cy="135720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5643720" y="4786200"/>
            <a:ext cx="1500120" cy="135756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Ш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7"/>
          <p:cNvSpPr/>
          <p:nvPr/>
        </p:nvSpPr>
        <p:spPr>
          <a:xfrm>
            <a:off x="7072200" y="2714760"/>
            <a:ext cx="1928880" cy="1928520"/>
          </a:xfrm>
          <a:prstGeom prst="flowChartConnector">
            <a:avLst/>
          </a:prstGeom>
          <a:solidFill>
            <a:srgbClr val="ff388c"/>
          </a:solidFill>
          <a:ln w="381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nstantia"/>
              </a:rPr>
              <a:t>Г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2786040" y="3778200"/>
            <a:ext cx="4357800" cy="5256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 flipH="1">
            <a:off x="2492280" y="1177920"/>
            <a:ext cx="2944800" cy="232236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H="1" flipV="1">
            <a:off x="2600280" y="4192200"/>
            <a:ext cx="3051360" cy="128124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6769080" y="1658880"/>
            <a:ext cx="1266840" cy="10558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6992640" y="4643280"/>
            <a:ext cx="1052280" cy="9288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6215040" y="1857240"/>
            <a:ext cx="142920" cy="314352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 flipH="1">
            <a:off x="4849920" y="1857240"/>
            <a:ext cx="1373040" cy="17146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5"/>
          <p:cNvSpPr/>
          <p:nvPr/>
        </p:nvSpPr>
        <p:spPr>
          <a:xfrm flipH="1" flipV="1">
            <a:off x="4849920" y="4064040"/>
            <a:ext cx="1552320" cy="73008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0" y="142920"/>
            <a:ext cx="60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«Идеал счастья, нарисованный им,  заключался  ни в чем другом, как в сытой жизни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Н.Добролю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1"/>
          <p:cNvGrpSpPr/>
          <p:nvPr/>
        </p:nvGrpSpPr>
        <p:grpSpPr>
          <a:xfrm>
            <a:off x="861840" y="993600"/>
            <a:ext cx="7129800" cy="5545440"/>
            <a:chOff x="861840" y="993600"/>
            <a:chExt cx="7129800" cy="5545440"/>
          </a:xfrm>
        </p:grpSpPr>
        <p:pic>
          <p:nvPicPr>
            <p:cNvPr id="217" name="Picture 2" descr=""/>
            <p:cNvPicPr/>
            <p:nvPr/>
          </p:nvPicPr>
          <p:blipFill>
            <a:blip r:embed="rId1"/>
            <a:stretch/>
          </p:blipFill>
          <p:spPr>
            <a:xfrm>
              <a:off x="861840" y="993600"/>
              <a:ext cx="712980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3"/>
            <p:cNvSpPr/>
            <p:nvPr/>
          </p:nvSpPr>
          <p:spPr>
            <a:xfrm>
              <a:off x="1969200" y="1870560"/>
              <a:ext cx="491616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Text Box 4"/>
          <p:cNvSpPr/>
          <p:nvPr/>
        </p:nvSpPr>
        <p:spPr>
          <a:xfrm>
            <a:off x="104760" y="4683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11280" y="26028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Constantia"/>
              </a:rPr>
              <a:t>Почему  любовь  к  Ольге не  смогла спасти Облом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593720" y="2060640"/>
            <a:ext cx="283392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ссоциации   с образом  Ол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пестков в цветке – к сча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: стойкий, тонкий, душист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ирени – символ любв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643280" y="2276640"/>
            <a:ext cx="283536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Ассоциации   с образом  Облом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ир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"/>
          <p:cNvGrpSpPr/>
          <p:nvPr/>
        </p:nvGrpSpPr>
        <p:grpSpPr>
          <a:xfrm>
            <a:off x="863640" y="1041480"/>
            <a:ext cx="7129440" cy="5545080"/>
            <a:chOff x="863640" y="1041480"/>
            <a:chExt cx="7129440" cy="554508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863640" y="1041480"/>
              <a:ext cx="712944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3"/>
            <p:cNvSpPr/>
            <p:nvPr/>
          </p:nvSpPr>
          <p:spPr>
            <a:xfrm>
              <a:off x="1970640" y="1918080"/>
              <a:ext cx="491580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1547640" y="333360"/>
            <a:ext cx="559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Constantia"/>
              </a:rPr>
              <a:t>Почему  любовь  к Ольге не  смогла спасти Облом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146240" y="1467000"/>
            <a:ext cx="574200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Болезнь – диагноз -  приговор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бломовщ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стоятельность в отноше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л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-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Прямая со стрелкой 3"/>
          <p:cNvCxnSpPr/>
          <p:nvPr/>
        </p:nvCxnSpPr>
        <p:spPr>
          <a:xfrm>
            <a:off x="4274640" y="5451120"/>
            <a:ext cx="72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925560" y="963720"/>
            <a:ext cx="7129440" cy="5545080"/>
            <a:chOff x="925560" y="963720"/>
            <a:chExt cx="7129440" cy="554508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925560" y="963720"/>
              <a:ext cx="712944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2032560" y="1840320"/>
              <a:ext cx="4915800" cy="37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Text Box 4"/>
          <p:cNvSpPr/>
          <p:nvPr/>
        </p:nvSpPr>
        <p:spPr>
          <a:xfrm>
            <a:off x="104760" y="4683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Ка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к </a:t>
            </a: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вы относитесь к главному герою ром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730520" y="1709640"/>
            <a:ext cx="54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«…Вы думаете, что для мысли  не надо сердца? Нет, она оплодотворяется любовью. Потяните руку падшему  человеку, чтобы понять его, или горько плачьте над ним, если он погибнет, а не глумитесь. Любите его, помните в нем  самого себя и обращайтесь с ним, как с собо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898560" y="768240"/>
            <a:ext cx="7235640" cy="6045480"/>
            <a:chOff x="898560" y="768240"/>
            <a:chExt cx="7235640" cy="604548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tretch/>
          </p:blipFill>
          <p:spPr>
            <a:xfrm>
              <a:off x="898560" y="768240"/>
              <a:ext cx="7235640" cy="604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"/>
            <p:cNvSpPr/>
            <p:nvPr/>
          </p:nvSpPr>
          <p:spPr>
            <a:xfrm>
              <a:off x="5572440" y="4240080"/>
              <a:ext cx="153684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Жизнь быстротеч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2-33 го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"/>
          <p:cNvSpPr/>
          <p:nvPr/>
        </p:nvSpPr>
        <p:spPr>
          <a:xfrm>
            <a:off x="-25560" y="243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Схема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2"/>
          <p:cNvCxnSpPr/>
          <p:nvPr/>
        </p:nvCxnSpPr>
        <p:spPr>
          <a:xfrm>
            <a:off x="4491000" y="3736800"/>
            <a:ext cx="3394800" cy="5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Прямая со стрелкой 4"/>
          <p:cNvCxnSpPr/>
          <p:nvPr/>
        </p:nvCxnSpPr>
        <p:spPr>
          <a:xfrm flipV="1">
            <a:off x="4490640" y="1340640"/>
            <a:ext cx="152172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Прямая со стрелкой 6"/>
          <p:cNvCxnSpPr/>
          <p:nvPr/>
        </p:nvCxnSpPr>
        <p:spPr>
          <a:xfrm flipH="1" flipV="1">
            <a:off x="2268000" y="1709280"/>
            <a:ext cx="2223360" cy="20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Прямая со стрелкой 8"/>
          <p:cNvCxnSpPr/>
          <p:nvPr/>
        </p:nvCxnSpPr>
        <p:spPr>
          <a:xfrm flipH="1">
            <a:off x="1115280" y="3738240"/>
            <a:ext cx="337572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Прямая со стрелкой 10"/>
          <p:cNvCxnSpPr/>
          <p:nvPr/>
        </p:nvCxnSpPr>
        <p:spPr>
          <a:xfrm flipH="1">
            <a:off x="2987280" y="3736440"/>
            <a:ext cx="1504080" cy="235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3" name="TextBox 11"/>
          <p:cNvSpPr/>
          <p:nvPr/>
        </p:nvSpPr>
        <p:spPr>
          <a:xfrm>
            <a:off x="5456160" y="2724120"/>
            <a:ext cx="1728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3379680" y="1628640"/>
            <a:ext cx="1871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: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не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5"/>
          <p:cNvSpPr/>
          <p:nvPr/>
        </p:nvSpPr>
        <p:spPr>
          <a:xfrm>
            <a:off x="1476360" y="3014640"/>
            <a:ext cx="251928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оплексическ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1784520" y="4437000"/>
            <a:ext cx="1903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ная тишина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4002120" y="5051520"/>
            <a:ext cx="663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"/>
          <p:cNvGrpSpPr/>
          <p:nvPr/>
        </p:nvGrpSpPr>
        <p:grpSpPr>
          <a:xfrm>
            <a:off x="1692360" y="1484280"/>
            <a:ext cx="6441840" cy="4813200"/>
            <a:chOff x="1692360" y="1484280"/>
            <a:chExt cx="6441840" cy="4813200"/>
          </a:xfrm>
        </p:grpSpPr>
        <p:pic>
          <p:nvPicPr>
            <p:cNvPr id="250" name="Picture 2" descr=""/>
            <p:cNvPicPr/>
            <p:nvPr/>
          </p:nvPicPr>
          <p:blipFill>
            <a:blip r:embed="rId1"/>
            <a:stretch/>
          </p:blipFill>
          <p:spPr>
            <a:xfrm>
              <a:off x="1692360" y="1484280"/>
              <a:ext cx="644184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3"/>
            <p:cNvSpPr/>
            <p:nvPr/>
          </p:nvSpPr>
          <p:spPr>
            <a:xfrm>
              <a:off x="5853600" y="3558240"/>
              <a:ext cx="1368360" cy="12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гафь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шеницы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4"/>
          <p:cNvSpPr/>
          <p:nvPr/>
        </p:nvSpPr>
        <p:spPr>
          <a:xfrm>
            <a:off x="898560" y="306360"/>
            <a:ext cx="72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Нужно ли торопиться жит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 algn="ctr">
              <a:lnSpc>
                <a:spcPct val="100000"/>
              </a:lnSpc>
              <a:tabLst>
                <a:tab algn="l" pos="0"/>
                <a:tab algn="l" pos="506520"/>
                <a:tab algn="l" pos="954000"/>
                <a:tab algn="l" pos="1403280"/>
                <a:tab algn="l" pos="1852560"/>
                <a:tab algn="l" pos="2301840"/>
                <a:tab algn="l" pos="2751120"/>
                <a:tab algn="l" pos="3200400"/>
                <a:tab algn="l" pos="3649680"/>
                <a:tab algn="l" pos="4098960"/>
                <a:tab algn="l" pos="4548240"/>
                <a:tab algn="l" pos="4997520"/>
                <a:tab algn="l" pos="5446800"/>
                <a:tab algn="l" pos="5896080"/>
                <a:tab algn="l" pos="6345360"/>
                <a:tab algn="l" pos="6794640"/>
                <a:tab algn="l" pos="7243920"/>
                <a:tab algn="l" pos="7693200"/>
                <a:tab algn="l" pos="8142120"/>
                <a:tab algn="l" pos="8591400"/>
                <a:tab algn="l" pos="9040680"/>
                <a:tab algn="l" pos="9489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Constantia"/>
              </a:rPr>
              <a:t>Как ж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5378400" y="1986120"/>
            <a:ext cx="172728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ль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олилиния 13"/>
          <p:cNvSpPr/>
          <p:nvPr/>
        </p:nvSpPr>
        <p:spPr>
          <a:xfrm>
            <a:off x="1316160" y="1347840"/>
            <a:ext cx="6140160" cy="4697280"/>
          </a:xfrm>
          <a:custGeom>
            <a:avLst/>
            <a:gdLst/>
            <a:ahLst/>
            <a:rect l="l" t="t" r="r" b="b"/>
            <a:pathLst>
              <a:path w="6139646" h="4697944">
                <a:moveTo>
                  <a:pt x="4688438" y="4547819"/>
                </a:moveTo>
                <a:cubicBezTo>
                  <a:pt x="4825608" y="4520385"/>
                  <a:pt x="4684613" y="4554808"/>
                  <a:pt x="4838563" y="4493228"/>
                </a:cubicBezTo>
                <a:cubicBezTo>
                  <a:pt x="4861914" y="4483888"/>
                  <a:pt x="4941227" y="4470973"/>
                  <a:pt x="4961393" y="4465932"/>
                </a:cubicBezTo>
                <a:cubicBezTo>
                  <a:pt x="4999737" y="4456346"/>
                  <a:pt x="5032985" y="4437519"/>
                  <a:pt x="5070575" y="4424989"/>
                </a:cubicBezTo>
                <a:cubicBezTo>
                  <a:pt x="5122521" y="4407673"/>
                  <a:pt x="5120105" y="4417409"/>
                  <a:pt x="5166110" y="4397693"/>
                </a:cubicBezTo>
                <a:cubicBezTo>
                  <a:pt x="5333607" y="4325910"/>
                  <a:pt x="5124573" y="4411637"/>
                  <a:pt x="5261644" y="4343102"/>
                </a:cubicBezTo>
                <a:cubicBezTo>
                  <a:pt x="5274511" y="4336668"/>
                  <a:pt x="5288939" y="4334004"/>
                  <a:pt x="5302587" y="4329455"/>
                </a:cubicBezTo>
                <a:cubicBezTo>
                  <a:pt x="5316235" y="4320356"/>
                  <a:pt x="5328859" y="4309495"/>
                  <a:pt x="5343530" y="4302159"/>
                </a:cubicBezTo>
                <a:cubicBezTo>
                  <a:pt x="5356397" y="4295725"/>
                  <a:pt x="5372504" y="4296491"/>
                  <a:pt x="5384474" y="4288511"/>
                </a:cubicBezTo>
                <a:cubicBezTo>
                  <a:pt x="5400533" y="4277805"/>
                  <a:pt x="5410590" y="4259924"/>
                  <a:pt x="5425417" y="4247568"/>
                </a:cubicBezTo>
                <a:cubicBezTo>
                  <a:pt x="5475221" y="4206065"/>
                  <a:pt x="5463232" y="4235992"/>
                  <a:pt x="5507304" y="4179329"/>
                </a:cubicBezTo>
                <a:cubicBezTo>
                  <a:pt x="5595336" y="4066145"/>
                  <a:pt x="5533484" y="4135697"/>
                  <a:pt x="5589190" y="4042852"/>
                </a:cubicBezTo>
                <a:cubicBezTo>
                  <a:pt x="5589212" y="4042815"/>
                  <a:pt x="5657417" y="3940511"/>
                  <a:pt x="5671077" y="3920022"/>
                </a:cubicBezTo>
                <a:cubicBezTo>
                  <a:pt x="5680175" y="3906374"/>
                  <a:pt x="5693185" y="3894640"/>
                  <a:pt x="5698372" y="3879079"/>
                </a:cubicBezTo>
                <a:cubicBezTo>
                  <a:pt x="5707471" y="3851783"/>
                  <a:pt x="5708405" y="3820210"/>
                  <a:pt x="5725668" y="3797192"/>
                </a:cubicBezTo>
                <a:cubicBezTo>
                  <a:pt x="5776453" y="3729479"/>
                  <a:pt x="5753993" y="3761527"/>
                  <a:pt x="5793907" y="3701658"/>
                </a:cubicBezTo>
                <a:cubicBezTo>
                  <a:pt x="5798456" y="3688010"/>
                  <a:pt x="5801120" y="3673581"/>
                  <a:pt x="5807554" y="3660714"/>
                </a:cubicBezTo>
                <a:cubicBezTo>
                  <a:pt x="5814889" y="3646043"/>
                  <a:pt x="5828188" y="3634760"/>
                  <a:pt x="5834850" y="3619771"/>
                </a:cubicBezTo>
                <a:cubicBezTo>
                  <a:pt x="5899817" y="3473597"/>
                  <a:pt x="5827666" y="3589604"/>
                  <a:pt x="5889441" y="3496941"/>
                </a:cubicBezTo>
                <a:cubicBezTo>
                  <a:pt x="5917187" y="3358213"/>
                  <a:pt x="5888760" y="3485675"/>
                  <a:pt x="5916736" y="3387759"/>
                </a:cubicBezTo>
                <a:cubicBezTo>
                  <a:pt x="5921889" y="3369724"/>
                  <a:pt x="5924994" y="3351134"/>
                  <a:pt x="5930384" y="3333168"/>
                </a:cubicBezTo>
                <a:cubicBezTo>
                  <a:pt x="5938652" y="3305610"/>
                  <a:pt x="5948582" y="3278577"/>
                  <a:pt x="5957680" y="3251282"/>
                </a:cubicBezTo>
                <a:cubicBezTo>
                  <a:pt x="5962229" y="3237634"/>
                  <a:pt x="5968506" y="3224445"/>
                  <a:pt x="5971327" y="3210338"/>
                </a:cubicBezTo>
                <a:cubicBezTo>
                  <a:pt x="5975876" y="3187592"/>
                  <a:pt x="5981909" y="3165092"/>
                  <a:pt x="5984975" y="3142099"/>
                </a:cubicBezTo>
                <a:cubicBezTo>
                  <a:pt x="5991018" y="3096781"/>
                  <a:pt x="5992580" y="3050940"/>
                  <a:pt x="5998623" y="3005622"/>
                </a:cubicBezTo>
                <a:cubicBezTo>
                  <a:pt x="6005943" y="2950724"/>
                  <a:pt x="6010610" y="2942367"/>
                  <a:pt x="6025919" y="2896440"/>
                </a:cubicBezTo>
                <a:cubicBezTo>
                  <a:pt x="6030468" y="2869144"/>
                  <a:pt x="6033563" y="2841566"/>
                  <a:pt x="6039566" y="2814553"/>
                </a:cubicBezTo>
                <a:cubicBezTo>
                  <a:pt x="6042687" y="2800510"/>
                  <a:pt x="6050093" y="2787653"/>
                  <a:pt x="6053214" y="2773610"/>
                </a:cubicBezTo>
                <a:cubicBezTo>
                  <a:pt x="6078706" y="2658898"/>
                  <a:pt x="6055723" y="2714737"/>
                  <a:pt x="6080510" y="2582541"/>
                </a:cubicBezTo>
                <a:cubicBezTo>
                  <a:pt x="6087423" y="2545669"/>
                  <a:pt x="6101638" y="2510363"/>
                  <a:pt x="6107805" y="2473359"/>
                </a:cubicBezTo>
                <a:cubicBezTo>
                  <a:pt x="6125267" y="2368592"/>
                  <a:pt x="6116026" y="2418607"/>
                  <a:pt x="6135101" y="2323234"/>
                </a:cubicBezTo>
                <a:cubicBezTo>
                  <a:pt x="6120676" y="1789505"/>
                  <a:pt x="6174701" y="1978010"/>
                  <a:pt x="6094157" y="1736380"/>
                </a:cubicBezTo>
                <a:lnTo>
                  <a:pt x="6094157" y="1736380"/>
                </a:lnTo>
                <a:cubicBezTo>
                  <a:pt x="6074867" y="1639926"/>
                  <a:pt x="6087846" y="1690149"/>
                  <a:pt x="6053214" y="1586255"/>
                </a:cubicBezTo>
                <a:cubicBezTo>
                  <a:pt x="6048665" y="1572607"/>
                  <a:pt x="6047546" y="1557281"/>
                  <a:pt x="6039566" y="1545311"/>
                </a:cubicBezTo>
                <a:lnTo>
                  <a:pt x="6012271" y="1504368"/>
                </a:lnTo>
                <a:cubicBezTo>
                  <a:pt x="6007898" y="1486875"/>
                  <a:pt x="5994765" y="1428415"/>
                  <a:pt x="5984975" y="1408834"/>
                </a:cubicBezTo>
                <a:cubicBezTo>
                  <a:pt x="5977640" y="1394163"/>
                  <a:pt x="5965818" y="1382132"/>
                  <a:pt x="5957680" y="1367890"/>
                </a:cubicBezTo>
                <a:cubicBezTo>
                  <a:pt x="5947586" y="1350226"/>
                  <a:pt x="5942209" y="1329854"/>
                  <a:pt x="5930384" y="1313299"/>
                </a:cubicBezTo>
                <a:cubicBezTo>
                  <a:pt x="5919166" y="1297593"/>
                  <a:pt x="5901291" y="1287591"/>
                  <a:pt x="5889441" y="1272356"/>
                </a:cubicBezTo>
                <a:cubicBezTo>
                  <a:pt x="5869301" y="1246461"/>
                  <a:pt x="5849521" y="1219812"/>
                  <a:pt x="5834850" y="1190470"/>
                </a:cubicBezTo>
                <a:cubicBezTo>
                  <a:pt x="5825751" y="1172273"/>
                  <a:pt x="5820578" y="1151508"/>
                  <a:pt x="5807554" y="1135879"/>
                </a:cubicBezTo>
                <a:cubicBezTo>
                  <a:pt x="5797053" y="1123278"/>
                  <a:pt x="5778209" y="1120181"/>
                  <a:pt x="5766611" y="1108583"/>
                </a:cubicBezTo>
                <a:cubicBezTo>
                  <a:pt x="5746402" y="1088374"/>
                  <a:pt x="5679995" y="985482"/>
                  <a:pt x="5671077" y="972105"/>
                </a:cubicBezTo>
                <a:lnTo>
                  <a:pt x="5643781" y="931162"/>
                </a:lnTo>
                <a:cubicBezTo>
                  <a:pt x="5634683" y="917514"/>
                  <a:pt x="5626328" y="903341"/>
                  <a:pt x="5616486" y="890219"/>
                </a:cubicBezTo>
                <a:cubicBezTo>
                  <a:pt x="5602838" y="872022"/>
                  <a:pt x="5588586" y="854263"/>
                  <a:pt x="5575542" y="835628"/>
                </a:cubicBezTo>
                <a:cubicBezTo>
                  <a:pt x="5556729" y="808753"/>
                  <a:pt x="5548247" y="771938"/>
                  <a:pt x="5520951" y="753741"/>
                </a:cubicBezTo>
                <a:cubicBezTo>
                  <a:pt x="5471721" y="720922"/>
                  <a:pt x="5435519" y="700653"/>
                  <a:pt x="5398122" y="644559"/>
                </a:cubicBezTo>
                <a:cubicBezTo>
                  <a:pt x="5389023" y="630911"/>
                  <a:pt x="5382424" y="615214"/>
                  <a:pt x="5370826" y="603616"/>
                </a:cubicBezTo>
                <a:cubicBezTo>
                  <a:pt x="5359228" y="592018"/>
                  <a:pt x="5344283" y="584174"/>
                  <a:pt x="5329883" y="576320"/>
                </a:cubicBezTo>
                <a:cubicBezTo>
                  <a:pt x="5270424" y="543888"/>
                  <a:pt x="5237174" y="524486"/>
                  <a:pt x="5179757" y="508082"/>
                </a:cubicBezTo>
                <a:cubicBezTo>
                  <a:pt x="5161722" y="502929"/>
                  <a:pt x="5143363" y="498983"/>
                  <a:pt x="5125166" y="494434"/>
                </a:cubicBezTo>
                <a:cubicBezTo>
                  <a:pt x="5061942" y="452284"/>
                  <a:pt x="5104522" y="473165"/>
                  <a:pt x="5015984" y="453490"/>
                </a:cubicBezTo>
                <a:cubicBezTo>
                  <a:pt x="4997674" y="449421"/>
                  <a:pt x="4979428" y="444996"/>
                  <a:pt x="4961393" y="439843"/>
                </a:cubicBezTo>
                <a:cubicBezTo>
                  <a:pt x="4947561" y="435891"/>
                  <a:pt x="4934640" y="428560"/>
                  <a:pt x="4920450" y="426195"/>
                </a:cubicBezTo>
                <a:cubicBezTo>
                  <a:pt x="4705811" y="390421"/>
                  <a:pt x="4876730" y="431643"/>
                  <a:pt x="4729381" y="398899"/>
                </a:cubicBezTo>
                <a:cubicBezTo>
                  <a:pt x="4700767" y="392541"/>
                  <a:pt x="4609921" y="369300"/>
                  <a:pt x="4592904" y="357956"/>
                </a:cubicBezTo>
                <a:cubicBezTo>
                  <a:pt x="4579256" y="348858"/>
                  <a:pt x="4566202" y="338799"/>
                  <a:pt x="4551960" y="330661"/>
                </a:cubicBezTo>
                <a:cubicBezTo>
                  <a:pt x="4534296" y="320567"/>
                  <a:pt x="4513924" y="315190"/>
                  <a:pt x="4497369" y="303365"/>
                </a:cubicBezTo>
                <a:cubicBezTo>
                  <a:pt x="4481663" y="292147"/>
                  <a:pt x="4472485" y="273128"/>
                  <a:pt x="4456426" y="262422"/>
                </a:cubicBezTo>
                <a:cubicBezTo>
                  <a:pt x="4444456" y="254442"/>
                  <a:pt x="4428350" y="255208"/>
                  <a:pt x="4415483" y="248774"/>
                </a:cubicBezTo>
                <a:cubicBezTo>
                  <a:pt x="4400812" y="241439"/>
                  <a:pt x="4389210" y="228814"/>
                  <a:pt x="4374539" y="221479"/>
                </a:cubicBezTo>
                <a:cubicBezTo>
                  <a:pt x="4361672" y="215045"/>
                  <a:pt x="4346172" y="214817"/>
                  <a:pt x="4333596" y="207831"/>
                </a:cubicBezTo>
                <a:cubicBezTo>
                  <a:pt x="4200652" y="133972"/>
                  <a:pt x="4303806" y="166264"/>
                  <a:pt x="4197119" y="139592"/>
                </a:cubicBezTo>
                <a:cubicBezTo>
                  <a:pt x="4125884" y="92102"/>
                  <a:pt x="4184614" y="123165"/>
                  <a:pt x="4074289" y="98649"/>
                </a:cubicBezTo>
                <a:cubicBezTo>
                  <a:pt x="4060245" y="95528"/>
                  <a:pt x="4047677" y="86247"/>
                  <a:pt x="4033345" y="85001"/>
                </a:cubicBezTo>
                <a:cubicBezTo>
                  <a:pt x="3942589" y="77109"/>
                  <a:pt x="3851375" y="75902"/>
                  <a:pt x="3760390" y="71353"/>
                </a:cubicBezTo>
                <a:cubicBezTo>
                  <a:pt x="3651590" y="53219"/>
                  <a:pt x="3543283" y="36074"/>
                  <a:pt x="3432844" y="30410"/>
                </a:cubicBezTo>
                <a:cubicBezTo>
                  <a:pt x="3305551" y="23882"/>
                  <a:pt x="3178086" y="21311"/>
                  <a:pt x="3050707" y="16762"/>
                </a:cubicBezTo>
                <a:cubicBezTo>
                  <a:pt x="2838815" y="-6782"/>
                  <a:pt x="2917187" y="-4362"/>
                  <a:pt x="2600330" y="16762"/>
                </a:cubicBezTo>
                <a:cubicBezTo>
                  <a:pt x="2307199" y="36304"/>
                  <a:pt x="2647140" y="19824"/>
                  <a:pt x="2477501" y="44058"/>
                </a:cubicBezTo>
                <a:cubicBezTo>
                  <a:pt x="2427758" y="51164"/>
                  <a:pt x="2377417" y="53156"/>
                  <a:pt x="2327375" y="57705"/>
                </a:cubicBezTo>
                <a:cubicBezTo>
                  <a:pt x="2309178" y="62254"/>
                  <a:pt x="2291094" y="67284"/>
                  <a:pt x="2272784" y="71353"/>
                </a:cubicBezTo>
                <a:cubicBezTo>
                  <a:pt x="2215561" y="84069"/>
                  <a:pt x="2181915" y="88773"/>
                  <a:pt x="2122659" y="98649"/>
                </a:cubicBezTo>
                <a:cubicBezTo>
                  <a:pt x="1935041" y="192456"/>
                  <a:pt x="2235409" y="48964"/>
                  <a:pt x="1986181" y="139592"/>
                </a:cubicBezTo>
                <a:cubicBezTo>
                  <a:pt x="1961252" y="148657"/>
                  <a:pt x="1942871" y="171470"/>
                  <a:pt x="1917942" y="180535"/>
                </a:cubicBezTo>
                <a:cubicBezTo>
                  <a:pt x="1891936" y="189992"/>
                  <a:pt x="1863190" y="188756"/>
                  <a:pt x="1836056" y="194183"/>
                </a:cubicBezTo>
                <a:cubicBezTo>
                  <a:pt x="1817663" y="197862"/>
                  <a:pt x="1799775" y="203762"/>
                  <a:pt x="1781465" y="207831"/>
                </a:cubicBezTo>
                <a:cubicBezTo>
                  <a:pt x="1758821" y="212863"/>
                  <a:pt x="1735972" y="216930"/>
                  <a:pt x="1713226" y="221479"/>
                </a:cubicBezTo>
                <a:cubicBezTo>
                  <a:pt x="1695029" y="230577"/>
                  <a:pt x="1677335" y="240760"/>
                  <a:pt x="1658635" y="248774"/>
                </a:cubicBezTo>
                <a:cubicBezTo>
                  <a:pt x="1631222" y="260522"/>
                  <a:pt x="1590806" y="269144"/>
                  <a:pt x="1563101" y="276070"/>
                </a:cubicBezTo>
                <a:cubicBezTo>
                  <a:pt x="1484329" y="328583"/>
                  <a:pt x="1562080" y="281937"/>
                  <a:pt x="1440271" y="330661"/>
                </a:cubicBezTo>
                <a:cubicBezTo>
                  <a:pt x="1421381" y="338217"/>
                  <a:pt x="1404380" y="349942"/>
                  <a:pt x="1385680" y="357956"/>
                </a:cubicBezTo>
                <a:cubicBezTo>
                  <a:pt x="1372457" y="363623"/>
                  <a:pt x="1357959" y="365937"/>
                  <a:pt x="1344736" y="371604"/>
                </a:cubicBezTo>
                <a:cubicBezTo>
                  <a:pt x="1326036" y="379618"/>
                  <a:pt x="1308845" y="390885"/>
                  <a:pt x="1290145" y="398899"/>
                </a:cubicBezTo>
                <a:cubicBezTo>
                  <a:pt x="1276922" y="404566"/>
                  <a:pt x="1262069" y="406113"/>
                  <a:pt x="1249202" y="412547"/>
                </a:cubicBezTo>
                <a:cubicBezTo>
                  <a:pt x="1174464" y="449917"/>
                  <a:pt x="1222779" y="463509"/>
                  <a:pt x="1099077" y="494434"/>
                </a:cubicBezTo>
                <a:lnTo>
                  <a:pt x="989895" y="521729"/>
                </a:lnTo>
                <a:cubicBezTo>
                  <a:pt x="971698" y="530828"/>
                  <a:pt x="952556" y="538242"/>
                  <a:pt x="935304" y="549025"/>
                </a:cubicBezTo>
                <a:cubicBezTo>
                  <a:pt x="916015" y="561080"/>
                  <a:pt x="900462" y="578683"/>
                  <a:pt x="880713" y="589968"/>
                </a:cubicBezTo>
                <a:cubicBezTo>
                  <a:pt x="865485" y="598670"/>
                  <a:pt x="796996" y="614309"/>
                  <a:pt x="785178" y="617264"/>
                </a:cubicBezTo>
                <a:cubicBezTo>
                  <a:pt x="753333" y="640010"/>
                  <a:pt x="724100" y="666949"/>
                  <a:pt x="689644" y="685502"/>
                </a:cubicBezTo>
                <a:cubicBezTo>
                  <a:pt x="664311" y="699143"/>
                  <a:pt x="633881" y="700741"/>
                  <a:pt x="607757" y="712798"/>
                </a:cubicBezTo>
                <a:cubicBezTo>
                  <a:pt x="574456" y="728168"/>
                  <a:pt x="543166" y="747698"/>
                  <a:pt x="512223" y="767389"/>
                </a:cubicBezTo>
                <a:cubicBezTo>
                  <a:pt x="364359" y="861484"/>
                  <a:pt x="539759" y="756973"/>
                  <a:pt x="416689" y="849276"/>
                </a:cubicBezTo>
                <a:cubicBezTo>
                  <a:pt x="395468" y="865192"/>
                  <a:pt x="371196" y="876571"/>
                  <a:pt x="348450" y="890219"/>
                </a:cubicBezTo>
                <a:cubicBezTo>
                  <a:pt x="339351" y="903867"/>
                  <a:pt x="333962" y="920915"/>
                  <a:pt x="321154" y="931162"/>
                </a:cubicBezTo>
                <a:cubicBezTo>
                  <a:pt x="309920" y="940149"/>
                  <a:pt x="291567" y="935978"/>
                  <a:pt x="280211" y="944810"/>
                </a:cubicBezTo>
                <a:cubicBezTo>
                  <a:pt x="249741" y="968509"/>
                  <a:pt x="225620" y="999401"/>
                  <a:pt x="198324" y="1026696"/>
                </a:cubicBezTo>
                <a:lnTo>
                  <a:pt x="198324" y="1026696"/>
                </a:lnTo>
                <a:lnTo>
                  <a:pt x="143733" y="1108583"/>
                </a:lnTo>
                <a:cubicBezTo>
                  <a:pt x="134635" y="1122231"/>
                  <a:pt x="122530" y="1134297"/>
                  <a:pt x="116438" y="1149526"/>
                </a:cubicBezTo>
                <a:cubicBezTo>
                  <a:pt x="78453" y="1244486"/>
                  <a:pt x="96892" y="1194515"/>
                  <a:pt x="61847" y="1299652"/>
                </a:cubicBezTo>
                <a:cubicBezTo>
                  <a:pt x="57298" y="1313300"/>
                  <a:pt x="51688" y="1326639"/>
                  <a:pt x="48199" y="1340595"/>
                </a:cubicBezTo>
                <a:cubicBezTo>
                  <a:pt x="31062" y="1409142"/>
                  <a:pt x="40482" y="1377391"/>
                  <a:pt x="20904" y="1436129"/>
                </a:cubicBezTo>
                <a:cubicBezTo>
                  <a:pt x="-16077" y="1694991"/>
                  <a:pt x="3871" y="1517118"/>
                  <a:pt x="20904" y="2036631"/>
                </a:cubicBezTo>
                <a:cubicBezTo>
                  <a:pt x="24317" y="2140735"/>
                  <a:pt x="22503" y="2331235"/>
                  <a:pt x="48199" y="2459711"/>
                </a:cubicBezTo>
                <a:cubicBezTo>
                  <a:pt x="51020" y="2473818"/>
                  <a:pt x="55413" y="2487788"/>
                  <a:pt x="61847" y="2500655"/>
                </a:cubicBezTo>
                <a:cubicBezTo>
                  <a:pt x="73710" y="2524381"/>
                  <a:pt x="89142" y="2546147"/>
                  <a:pt x="102790" y="2568893"/>
                </a:cubicBezTo>
                <a:cubicBezTo>
                  <a:pt x="107339" y="2596189"/>
                  <a:pt x="112230" y="2623430"/>
                  <a:pt x="116438" y="2650780"/>
                </a:cubicBezTo>
                <a:cubicBezTo>
                  <a:pt x="121329" y="2682574"/>
                  <a:pt x="124332" y="2714665"/>
                  <a:pt x="130086" y="2746314"/>
                </a:cubicBezTo>
                <a:cubicBezTo>
                  <a:pt x="132585" y="2760060"/>
                  <a:pt x="149028" y="2825143"/>
                  <a:pt x="157381" y="2841849"/>
                </a:cubicBezTo>
                <a:cubicBezTo>
                  <a:pt x="164717" y="2856520"/>
                  <a:pt x="175578" y="2869144"/>
                  <a:pt x="184677" y="2882792"/>
                </a:cubicBezTo>
                <a:cubicBezTo>
                  <a:pt x="199522" y="2971870"/>
                  <a:pt x="190551" y="2954014"/>
                  <a:pt x="225620" y="3032917"/>
                </a:cubicBezTo>
                <a:cubicBezTo>
                  <a:pt x="233883" y="3051508"/>
                  <a:pt x="241091" y="3070953"/>
                  <a:pt x="252916" y="3087508"/>
                </a:cubicBezTo>
                <a:cubicBezTo>
                  <a:pt x="264134" y="3103214"/>
                  <a:pt x="280211" y="3114804"/>
                  <a:pt x="293859" y="3128452"/>
                </a:cubicBezTo>
                <a:cubicBezTo>
                  <a:pt x="298408" y="3142100"/>
                  <a:pt x="301554" y="3156299"/>
                  <a:pt x="307507" y="3169395"/>
                </a:cubicBezTo>
                <a:cubicBezTo>
                  <a:pt x="340878" y="3242811"/>
                  <a:pt x="355233" y="3277392"/>
                  <a:pt x="403041" y="3333168"/>
                </a:cubicBezTo>
                <a:cubicBezTo>
                  <a:pt x="415602" y="3347822"/>
                  <a:pt x="431423" y="3359457"/>
                  <a:pt x="443984" y="3374111"/>
                </a:cubicBezTo>
                <a:cubicBezTo>
                  <a:pt x="499092" y="3438404"/>
                  <a:pt x="484110" y="3448561"/>
                  <a:pt x="566814" y="3510589"/>
                </a:cubicBezTo>
                <a:cubicBezTo>
                  <a:pt x="585011" y="3524237"/>
                  <a:pt x="604287" y="3536554"/>
                  <a:pt x="621405" y="3551532"/>
                </a:cubicBezTo>
                <a:cubicBezTo>
                  <a:pt x="705710" y="3625299"/>
                  <a:pt x="645582" y="3591656"/>
                  <a:pt x="744235" y="3660714"/>
                </a:cubicBezTo>
                <a:cubicBezTo>
                  <a:pt x="765966" y="3675926"/>
                  <a:pt x="790403" y="3686944"/>
                  <a:pt x="812474" y="3701658"/>
                </a:cubicBezTo>
                <a:cubicBezTo>
                  <a:pt x="858678" y="3732461"/>
                  <a:pt x="903294" y="3765584"/>
                  <a:pt x="948951" y="3797192"/>
                </a:cubicBezTo>
                <a:cubicBezTo>
                  <a:pt x="962437" y="3806529"/>
                  <a:pt x="975654" y="3816349"/>
                  <a:pt x="989895" y="3824487"/>
                </a:cubicBezTo>
                <a:cubicBezTo>
                  <a:pt x="1021740" y="3842684"/>
                  <a:pt x="1053979" y="3860209"/>
                  <a:pt x="1085429" y="3879079"/>
                </a:cubicBezTo>
                <a:cubicBezTo>
                  <a:pt x="1099494" y="3887518"/>
                  <a:pt x="1111930" y="3898598"/>
                  <a:pt x="1126372" y="3906374"/>
                </a:cubicBezTo>
                <a:cubicBezTo>
                  <a:pt x="1171155" y="3930488"/>
                  <a:pt x="1220530" y="3946400"/>
                  <a:pt x="1262850" y="3974613"/>
                </a:cubicBezTo>
                <a:cubicBezTo>
                  <a:pt x="1360343" y="4039609"/>
                  <a:pt x="1312911" y="4021247"/>
                  <a:pt x="1399327" y="4042852"/>
                </a:cubicBezTo>
                <a:cubicBezTo>
                  <a:pt x="1412975" y="4051950"/>
                  <a:pt x="1425871" y="4062293"/>
                  <a:pt x="1440271" y="4070147"/>
                </a:cubicBezTo>
                <a:cubicBezTo>
                  <a:pt x="1475992" y="4089631"/>
                  <a:pt x="1515597" y="4102167"/>
                  <a:pt x="1549453" y="4124738"/>
                </a:cubicBezTo>
                <a:cubicBezTo>
                  <a:pt x="1602366" y="4160014"/>
                  <a:pt x="1574835" y="4146847"/>
                  <a:pt x="1631339" y="4165682"/>
                </a:cubicBezTo>
                <a:cubicBezTo>
                  <a:pt x="1703184" y="4237525"/>
                  <a:pt x="1637128" y="4182223"/>
                  <a:pt x="1740522" y="4233920"/>
                </a:cubicBezTo>
                <a:cubicBezTo>
                  <a:pt x="1755193" y="4241255"/>
                  <a:pt x="1766794" y="4253881"/>
                  <a:pt x="1781465" y="4261216"/>
                </a:cubicBezTo>
                <a:cubicBezTo>
                  <a:pt x="1836726" y="4288847"/>
                  <a:pt x="1919917" y="4308409"/>
                  <a:pt x="1972533" y="4329455"/>
                </a:cubicBezTo>
                <a:cubicBezTo>
                  <a:pt x="2018026" y="4347652"/>
                  <a:pt x="2060965" y="4374437"/>
                  <a:pt x="2109011" y="4384046"/>
                </a:cubicBezTo>
                <a:cubicBezTo>
                  <a:pt x="2155923" y="4393428"/>
                  <a:pt x="2186863" y="4398490"/>
                  <a:pt x="2231841" y="4411341"/>
                </a:cubicBezTo>
                <a:cubicBezTo>
                  <a:pt x="2245673" y="4415293"/>
                  <a:pt x="2258905" y="4421204"/>
                  <a:pt x="2272784" y="4424989"/>
                </a:cubicBezTo>
                <a:cubicBezTo>
                  <a:pt x="2308976" y="4434860"/>
                  <a:pt x="2381966" y="4452285"/>
                  <a:pt x="2381966" y="4452285"/>
                </a:cubicBezTo>
                <a:cubicBezTo>
                  <a:pt x="2468465" y="4509949"/>
                  <a:pt x="2369823" y="4452695"/>
                  <a:pt x="2518444" y="4493228"/>
                </a:cubicBezTo>
                <a:cubicBezTo>
                  <a:pt x="2538072" y="4498581"/>
                  <a:pt x="2553734" y="4514089"/>
                  <a:pt x="2573035" y="4520523"/>
                </a:cubicBezTo>
                <a:cubicBezTo>
                  <a:pt x="2595041" y="4527858"/>
                  <a:pt x="2618770" y="4528545"/>
                  <a:pt x="2641274" y="4534171"/>
                </a:cubicBezTo>
                <a:cubicBezTo>
                  <a:pt x="2655230" y="4537660"/>
                  <a:pt x="2668338" y="4544034"/>
                  <a:pt x="2682217" y="4547819"/>
                </a:cubicBezTo>
                <a:cubicBezTo>
                  <a:pt x="2718409" y="4557690"/>
                  <a:pt x="2755810" y="4563251"/>
                  <a:pt x="2791399" y="4575114"/>
                </a:cubicBezTo>
                <a:cubicBezTo>
                  <a:pt x="2805047" y="4579663"/>
                  <a:pt x="2818386" y="4585273"/>
                  <a:pt x="2832342" y="4588762"/>
                </a:cubicBezTo>
                <a:cubicBezTo>
                  <a:pt x="2854846" y="4594388"/>
                  <a:pt x="2877937" y="4597378"/>
                  <a:pt x="2900581" y="4602410"/>
                </a:cubicBezTo>
                <a:cubicBezTo>
                  <a:pt x="2918891" y="4606479"/>
                  <a:pt x="2936831" y="4612128"/>
                  <a:pt x="2955172" y="4616058"/>
                </a:cubicBezTo>
                <a:cubicBezTo>
                  <a:pt x="3000536" y="4625779"/>
                  <a:pt x="3047637" y="4628682"/>
                  <a:pt x="3091650" y="4643353"/>
                </a:cubicBezTo>
                <a:cubicBezTo>
                  <a:pt x="3215824" y="4684745"/>
                  <a:pt x="3140349" y="4665941"/>
                  <a:pt x="3296366" y="4684296"/>
                </a:cubicBezTo>
                <a:lnTo>
                  <a:pt x="3405548" y="46979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2127240" y="2235240"/>
            <a:ext cx="252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2436840" y="3780000"/>
            <a:ext cx="19033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4540320" y="3097080"/>
            <a:ext cx="998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Прямая со стрелкой 3"/>
          <p:cNvCxnSpPr>
            <a:stCxn id="252" idx="2"/>
          </p:cNvCxnSpPr>
          <p:nvPr/>
        </p:nvCxnSpPr>
        <p:spPr>
          <a:xfrm flipH="1">
            <a:off x="3563640" y="1263240"/>
            <a:ext cx="9532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Прямая со стрелкой 7"/>
          <p:cNvCxnSpPr/>
          <p:nvPr/>
        </p:nvCxnSpPr>
        <p:spPr>
          <a:xfrm>
            <a:off x="4913280" y="1347840"/>
            <a:ext cx="141840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Прямая со стрелкой 14"/>
          <p:cNvCxnSpPr/>
          <p:nvPr/>
        </p:nvCxnSpPr>
        <p:spPr>
          <a:xfrm flipH="1">
            <a:off x="3563640" y="1263600"/>
            <a:ext cx="1085040" cy="251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Прямая со стрелкой 19"/>
          <p:cNvCxnSpPr/>
          <p:nvPr/>
        </p:nvCxnSpPr>
        <p:spPr>
          <a:xfrm>
            <a:off x="4749840" y="1263600"/>
            <a:ext cx="1271880" cy="24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AROVAOA</cp:lastModifiedBy>
  <cp:lastPrinted>2014-02-18T12:34:11Z</cp:lastPrinted>
  <dcterms:modified xsi:type="dcterms:W3CDTF">2014-02-19T14:01:07Z</dcterms:modified>
  <cp:revision>17</cp:revision>
  <dc:subject/>
  <dc:title>Слайд 1</dc:title>
</cp:coreProperties>
</file>