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7160840" y="-12117600"/>
            <a:ext cx="34321680" cy="257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7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889C-D34F-406C-97AC-3AB0B0B56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A07D-FF3C-4009-8490-CE205FC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411B-A112-4A37-B740-D9852CA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A152-8AA9-44DC-8DE2-4A016873B8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48D79-EA5A-4EB6-882D-C55F46EB7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3F89-DE21-458E-8564-7BD5FB00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57EBD-1D71-4756-9BAA-FAB3142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1DB33-3943-4A0E-B9E0-051524DC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91C99-642C-4057-8B76-AA4E51E2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FA08C-F944-4A84-A091-0CCFDA8B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053D4-D0E9-46ED-9605-887FD528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A359-633F-4A3F-BB82-5F124F62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100BA-7166-4BA2-94E0-280FED9E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67487-95E4-49D9-B201-3D400D6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8AAFD-9AB7-4D08-AF48-770512B7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96401-F4BB-417F-9A7C-4CF3699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BF0FC-8B0B-42B0-A1EA-E356353C8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617F-7BBD-488A-9254-C70794A02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A02A-D1B4-4B41-96E2-604A4D7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EDD3-E70B-4869-8138-B9F548BC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A0F4-77F9-452D-9EE8-E59ACBCD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1C61-3CFD-4DCD-88CC-8EB45EDC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5A51-A77D-4D0C-813E-A5CB3A22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70A8-E068-4642-B469-990EEFFA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FD08-009C-42E5-84F5-A328EB89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C63-98E7-4A3B-AC54-59E9A624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C23-A9AB-4990-BDA9-67723111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8BEB-6F18-49B9-96A8-FC6D9702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FCAA-5807-4E76-9278-8F9F1DB8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55B-43D8-40E1-8E8A-28E2E4638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046FB-5B30-4AB2-8089-DC72E64364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26C34-81F5-4A39-AD50-496B7F8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8FDBB-0B39-4A90-9300-CBD761B8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4A5A-B5D7-4C8C-86D3-7D039D7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D6ADA-040B-4DC3-AA5F-F2137289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E374B-356F-465B-8095-493F3E2F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63544-3565-45CD-AF5E-996F1354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008CB-13E3-4915-80EF-D1BFBA86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86F35-D09B-43D2-8962-CD921EA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B41EE-B3F6-47F2-99AE-63EAE173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803FF-CE31-48B1-B89C-AC05CFF2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C3B2F-0C28-4023-89F9-A9AE5D81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3BB23-8760-4917-AAA9-180B7FB24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50FB-ACFB-48F1-9EF0-E7FB7D72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9957-757F-4D7E-8863-0CD73BC0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C79E-B29D-43D9-A78C-81A2CEC6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386A-1DD9-4735-BC05-2C7DF66A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E47B-C1CF-4018-BFD2-20083141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15FA3-0396-434F-A601-B0B14D68776A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e40059"/>
          </a:solidFill>
          <a:ln w="38160">
            <a:solidFill>
              <a:srgbClr val="e40059"/>
            </a:solidFill>
            <a:miter/>
          </a:ln>
          <a:effectLst>
            <a:outerShdw dist="152735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CD2792-BFE5-4C88-A8DA-1920065BDBC1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327DDF-D6FF-4DF6-9679-B69B308F68C6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3C3F93-68AB-4410-A795-6CE1456F8127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642960" y="357120"/>
            <a:ext cx="7572240" cy="5786640"/>
          </a:xfrm>
          <a:custGeom>
            <a:avLst/>
            <a:gdLst>
              <a:gd name="textAreaLeft" fmla="*/ 1108800 w 7572240"/>
              <a:gd name="textAreaRight" fmla="*/ 6463440 w 7572240"/>
              <a:gd name="textAreaTop" fmla="*/ 847440 h 5786640"/>
              <a:gd name="textAreaBottom" fmla="*/ 4939200 h 5786640"/>
            </a:gdLst>
            <a:ahLst/>
            <a:rect l="textAreaLeft" t="textAreaTop" r="textAreaRight" b="textAreaBottom"/>
            <a:pathLst>
              <a:path w="7572375" h="5786437">
                <a:moveTo>
                  <a:pt x="4927202" y="5651930"/>
                </a:moveTo>
                <a:lnTo>
                  <a:pt x="4927202" y="5651930"/>
                </a:lnTo>
                <a:cubicBezTo>
                  <a:pt x="4558098" y="5741074"/>
                  <a:pt x="4173287" y="5786436"/>
                  <a:pt x="3786188" y="5786437"/>
                </a:cubicBezTo>
                <a:cubicBezTo>
                  <a:pt x="1695134" y="5786437"/>
                  <a:pt x="0" y="4491098"/>
                  <a:pt x="0" y="2893218"/>
                </a:cubicBezTo>
                <a:cubicBezTo>
                  <a:pt x="0" y="1295337"/>
                  <a:pt x="1695134" y="-1"/>
                  <a:pt x="3786188" y="-1"/>
                </a:cubicBezTo>
                <a:cubicBezTo>
                  <a:pt x="5877241" y="-1"/>
                  <a:pt x="7572376" y="1295337"/>
                  <a:pt x="7572376" y="2893218"/>
                </a:cubicBezTo>
                <a:cubicBezTo>
                  <a:pt x="7572376" y="3278877"/>
                  <a:pt x="7471474" y="3660645"/>
                  <a:pt x="7275604" y="4016076"/>
                </a:cubicBezTo>
                <a:lnTo>
                  <a:pt x="3786188" y="2893219"/>
                </a:lnTo>
                <a:lnTo>
                  <a:pt x="4927202" y="5651930"/>
                </a:lnTo>
                <a:close/>
              </a:path>
            </a:pathLst>
          </a:custGeom>
          <a:solidFill>
            <a:srgbClr val="9d9d9d"/>
          </a:solidFill>
          <a:ln w="381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420920" y="912960"/>
            <a:ext cx="5155920" cy="335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876920" y="2998800"/>
            <a:ext cx="1463400" cy="12920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4929120" y="4143240"/>
            <a:ext cx="35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72002c"/>
                </a:solidFill>
                <a:latin typeface="Constantia"/>
              </a:rPr>
              <a:t>Каков смысл названия рома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116000" y="1114560"/>
            <a:ext cx="6994440" cy="53481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15840" y="28404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По мнению Штольца, Обломов «пропал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а как </a:t>
            </a:r>
            <a:r>
              <a:rPr b="0" lang="ru-RU" sz="28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думаете в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403280" y="4005360"/>
            <a:ext cx="3579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«Или  я не понял этой жизни, или она никуда не годится, а лучшего я и не знал, не видал, никто  не указал мне его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979640" y="1700280"/>
            <a:ext cx="506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«Скука, скука…! Где же тут человек? Где его цельность? Куда он скрылся, как разменялся на всякую мелочь? Где центр, около которого вращается все это: нет его… Все это мертвецы, спящие люди, хуже меня, эти члены света и обществ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692360" y="1496880"/>
            <a:ext cx="6441840" cy="4813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124000" y="344520"/>
            <a:ext cx="53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Что   выбираю  Я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5040360" y="2108160"/>
            <a:ext cx="241596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ч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2254320" y="2305080"/>
            <a:ext cx="2786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2436840" y="3780000"/>
            <a:ext cx="54482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пределы допустимого наси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  человеческой личн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540320" y="3097080"/>
            <a:ext cx="998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55640" y="1214280"/>
            <a:ext cx="7416720" cy="55422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332000" y="503280"/>
            <a:ext cx="65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Нравственные уроки р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1649520" y="1579680"/>
            <a:ext cx="562932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нял (а), ч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должны быть крыл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шны и обломовщин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цевщи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тивляться душевному  сн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то не поможет: надо сам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ть с дивана и снять ХАЛ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687240" y="927000"/>
            <a:ext cx="7417080" cy="55404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316160" y="476280"/>
            <a:ext cx="61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Нравственные уроки р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1649520" y="1579680"/>
            <a:ext cx="562932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ИРАЙТЕ  ЖЕ С СОБОЙ В ПУ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Я ИЗ МЯГКИХ ЮНОШЕСКИХ ЛЕТ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РОВОЕ  ОЖЕСТОЧАЮЩЕЕ МУЖЕСТВ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ИРАЙТЕ С СОБОЮ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ИЕ  ДВИЖЕНИЯ,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ЙТЕ ИХ НА ДОРОГЕ,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ЫМЕТЕ ПО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 В.ГОГ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"/>
          <p:cNvGrpSpPr/>
          <p:nvPr/>
        </p:nvGrpSpPr>
        <p:grpSpPr>
          <a:xfrm>
            <a:off x="689040" y="189000"/>
            <a:ext cx="8051760" cy="6124320"/>
            <a:chOff x="689040" y="189000"/>
            <a:chExt cx="8051760" cy="6124320"/>
          </a:xfrm>
        </p:grpSpPr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689040" y="189000"/>
              <a:ext cx="8051760" cy="61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3"/>
            <p:cNvSpPr/>
            <p:nvPr/>
          </p:nvSpPr>
          <p:spPr>
            <a:xfrm>
              <a:off x="1936440" y="1153800"/>
              <a:ext cx="555516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 Box 4"/>
          <p:cNvSpPr/>
          <p:nvPr/>
        </p:nvSpPr>
        <p:spPr>
          <a:xfrm>
            <a:off x="1000080" y="857160"/>
            <a:ext cx="70009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.  Продолжите   ря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e40059"/>
                </a:solidFill>
                <a:latin typeface="Constantia"/>
              </a:rPr>
              <a:t>Обломов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– облом, лом, 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I. Работа со словарем (значение слова)</a:t>
            </a:r>
            <a:r>
              <a:rPr b="0" lang="en-GB" sz="2400" spc="-1" strike="noStrike">
                <a:solidFill>
                  <a:srgbClr val="e40059"/>
                </a:solidFill>
                <a:latin typeface="Constantia"/>
              </a:rPr>
              <a:t>         Облом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1. все, что не це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нарушилось, обломило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. неуклюжий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ленивый, грубый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байбак, лежебо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невеж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"/>
          <p:cNvGrpSpPr/>
          <p:nvPr/>
        </p:nvGrpSpPr>
        <p:grpSpPr>
          <a:xfrm>
            <a:off x="974880" y="328680"/>
            <a:ext cx="7839000" cy="6051600"/>
            <a:chOff x="974880" y="328680"/>
            <a:chExt cx="7839000" cy="6051600"/>
          </a:xfrm>
        </p:grpSpPr>
        <p:pic>
          <p:nvPicPr>
            <p:cNvPr id="186" name="Picture 2" descr=""/>
            <p:cNvPicPr/>
            <p:nvPr/>
          </p:nvPicPr>
          <p:blipFill>
            <a:blip r:embed="rId1"/>
            <a:stretch/>
          </p:blipFill>
          <p:spPr>
            <a:xfrm>
              <a:off x="974880" y="328680"/>
              <a:ext cx="7839000" cy="60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"/>
            <p:cNvSpPr/>
            <p:nvPr/>
          </p:nvSpPr>
          <p:spPr>
            <a:xfrm>
              <a:off x="2190240" y="1285560"/>
              <a:ext cx="5404680" cy="41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4"/>
          <p:cNvSpPr/>
          <p:nvPr/>
        </p:nvSpPr>
        <p:spPr>
          <a:xfrm>
            <a:off x="1800360" y="1428840"/>
            <a:ext cx="248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«…был  не глупее других, душа  чиста и ясна , как стекло; благороден, нежен, и – пропал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643280" y="857160"/>
            <a:ext cx="31435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От чего же? Какая причи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Какая причина!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Обломовщина! –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сказал Штоль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"/>
          <p:cNvSpPr/>
          <p:nvPr/>
        </p:nvSpPr>
        <p:spPr>
          <a:xfrm>
            <a:off x="357120" y="1571760"/>
            <a:ext cx="4929120" cy="4714920"/>
          </a:xfrm>
          <a:custGeom>
            <a:avLst/>
            <a:gdLst>
              <a:gd name="textAreaLeft" fmla="*/ 392760 w 4929120"/>
              <a:gd name="textAreaRight" fmla="*/ 4536360 w 4929120"/>
              <a:gd name="textAreaTop" fmla="*/ 392760 h 4714920"/>
              <a:gd name="textAreaBottom" fmla="*/ 4322160 h 4714920"/>
            </a:gdLst>
            <a:ahLst/>
            <a:rect l="textAreaLeft" t="textAreaTop" r="textAreaRight" b="textAreaBottom"/>
            <a:pathLst>
              <a:path w="4929187" h="4714875">
                <a:moveTo>
                  <a:pt x="0" y="0"/>
                </a:moveTo>
                <a:lnTo>
                  <a:pt x="4143359" y="0"/>
                </a:lnTo>
                <a:lnTo>
                  <a:pt x="4929187" y="785828"/>
                </a:lnTo>
                <a:lnTo>
                  <a:pt x="4929187" y="4714875"/>
                </a:lnTo>
                <a:lnTo>
                  <a:pt x="785828" y="4714875"/>
                </a:lnTo>
                <a:lnTo>
                  <a:pt x="0" y="3929047"/>
                </a:lnTo>
                <a:lnTo>
                  <a:pt x="0" y="0"/>
                </a:lnTo>
                <a:close/>
              </a:path>
            </a:pathLst>
          </a:custGeom>
          <a:solidFill>
            <a:srgbClr val="9d9d9d"/>
          </a:solidFill>
          <a:ln w="38160">
            <a:solidFill>
              <a:srgbClr val="ff8e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3143160" y="4500720"/>
            <a:ext cx="57168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2786040" y="5214960"/>
            <a:ext cx="57168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2000160" y="550080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214280" y="5500800"/>
            <a:ext cx="500400" cy="42840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714240" y="4786200"/>
            <a:ext cx="57168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571680" y="3929040"/>
            <a:ext cx="57132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571680" y="3071880"/>
            <a:ext cx="57132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85880" y="221472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1500120" y="178596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2286000" y="1857240"/>
            <a:ext cx="500040" cy="42876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2928960" y="214308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1571760" y="3286080"/>
            <a:ext cx="1214280" cy="107172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П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4000680" y="3286080"/>
            <a:ext cx="1143000" cy="100008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5429160" y="500040"/>
            <a:ext cx="1571760" cy="135720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6"/>
          <p:cNvSpPr/>
          <p:nvPr/>
        </p:nvSpPr>
        <p:spPr>
          <a:xfrm>
            <a:off x="5643720" y="4786200"/>
            <a:ext cx="1500120" cy="135756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Ш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7"/>
          <p:cNvSpPr/>
          <p:nvPr/>
        </p:nvSpPr>
        <p:spPr>
          <a:xfrm>
            <a:off x="7072200" y="2714760"/>
            <a:ext cx="1928880" cy="192852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Г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2786040" y="3778200"/>
            <a:ext cx="4357800" cy="5256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 flipH="1">
            <a:off x="2492280" y="1177920"/>
            <a:ext cx="2944800" cy="232236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 flipH="1" flipV="1">
            <a:off x="2600280" y="4192200"/>
            <a:ext cx="3051360" cy="128124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6769080" y="1658880"/>
            <a:ext cx="1266840" cy="105588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6992640" y="4643280"/>
            <a:ext cx="1052280" cy="9288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6215040" y="1857240"/>
            <a:ext cx="142920" cy="314352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4"/>
          <p:cNvSpPr/>
          <p:nvPr/>
        </p:nvSpPr>
        <p:spPr>
          <a:xfrm flipH="1">
            <a:off x="4849920" y="1857240"/>
            <a:ext cx="1373040" cy="171468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5"/>
          <p:cNvSpPr/>
          <p:nvPr/>
        </p:nvSpPr>
        <p:spPr>
          <a:xfrm flipH="1" flipV="1">
            <a:off x="4849920" y="4064040"/>
            <a:ext cx="1552320" cy="73008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0" y="142920"/>
            <a:ext cx="607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«Идеал счастья, нарисованный им,  заключался  ни в чем другом, как в сытой жизни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Н.Добролю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1"/>
          <p:cNvGrpSpPr/>
          <p:nvPr/>
        </p:nvGrpSpPr>
        <p:grpSpPr>
          <a:xfrm>
            <a:off x="861840" y="993600"/>
            <a:ext cx="7129800" cy="5545440"/>
            <a:chOff x="861840" y="993600"/>
            <a:chExt cx="7129800" cy="5545440"/>
          </a:xfrm>
        </p:grpSpPr>
        <p:pic>
          <p:nvPicPr>
            <p:cNvPr id="217" name="Picture 2" descr=""/>
            <p:cNvPicPr/>
            <p:nvPr/>
          </p:nvPicPr>
          <p:blipFill>
            <a:blip r:embed="rId1"/>
            <a:stretch/>
          </p:blipFill>
          <p:spPr>
            <a:xfrm>
              <a:off x="861840" y="993600"/>
              <a:ext cx="712980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3"/>
            <p:cNvSpPr/>
            <p:nvPr/>
          </p:nvSpPr>
          <p:spPr>
            <a:xfrm>
              <a:off x="1969200" y="1870560"/>
              <a:ext cx="4916160" cy="37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Text Box 4"/>
          <p:cNvSpPr/>
          <p:nvPr/>
        </p:nvSpPr>
        <p:spPr>
          <a:xfrm>
            <a:off x="104760" y="46836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11280" y="26028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Constantia"/>
              </a:rPr>
              <a:t>Почему  любовь  к  Ольге не  смогла спасти Облом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593720" y="2060640"/>
            <a:ext cx="2833920" cy="29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ссоциации   с образом  Оль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пестков в цветке – к сча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х: стойкий, тонкий, душист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сирени – символ любв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4643280" y="2276640"/>
            <a:ext cx="283536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ссоциации   с образом  Облом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сир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"/>
          <p:cNvGrpSpPr/>
          <p:nvPr/>
        </p:nvGrpSpPr>
        <p:grpSpPr>
          <a:xfrm>
            <a:off x="863640" y="1041480"/>
            <a:ext cx="7129440" cy="5545080"/>
            <a:chOff x="863640" y="1041480"/>
            <a:chExt cx="7129440" cy="554508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863640" y="1041480"/>
              <a:ext cx="712944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3"/>
            <p:cNvSpPr/>
            <p:nvPr/>
          </p:nvSpPr>
          <p:spPr>
            <a:xfrm>
              <a:off x="1970640" y="1918080"/>
              <a:ext cx="4915800" cy="37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5"/>
          <p:cNvSpPr/>
          <p:nvPr/>
        </p:nvSpPr>
        <p:spPr>
          <a:xfrm>
            <a:off x="1547640" y="333360"/>
            <a:ext cx="559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Constantia"/>
              </a:rPr>
              <a:t>Почему  любовь  к Ольге не  смогла спасти Облом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1146240" y="1467000"/>
            <a:ext cx="5742000" cy="47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Болезнь – диагноз -  приговор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бломовщ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стоятельность в отноше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ел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-Д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Прямая со стрелкой 3"/>
          <p:cNvCxnSpPr/>
          <p:nvPr/>
        </p:nvCxnSpPr>
        <p:spPr>
          <a:xfrm>
            <a:off x="4274640" y="5451120"/>
            <a:ext cx="7236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925560" y="963720"/>
            <a:ext cx="7129440" cy="5545080"/>
            <a:chOff x="925560" y="963720"/>
            <a:chExt cx="7129440" cy="554508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tretch/>
          </p:blipFill>
          <p:spPr>
            <a:xfrm>
              <a:off x="925560" y="963720"/>
              <a:ext cx="712944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3"/>
            <p:cNvSpPr/>
            <p:nvPr/>
          </p:nvSpPr>
          <p:spPr>
            <a:xfrm>
              <a:off x="2032560" y="1840320"/>
              <a:ext cx="4915800" cy="37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4"/>
          <p:cNvSpPr/>
          <p:nvPr/>
        </p:nvSpPr>
        <p:spPr>
          <a:xfrm>
            <a:off x="104760" y="4683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Ка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к </a:t>
            </a: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вы относитесь к главному герою ром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730520" y="1709640"/>
            <a:ext cx="54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«…Вы думаете, что для мысли  не надо сердца? Нет, она оплодотворяется любовью. Потяните руку падшему  человеку, чтобы понять его, или горько плачьте над ним, если он погибнет, а не глумитесь. Любите его, помните в нем  самого себя и обращайтесь с ним, как с собой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"/>
          <p:cNvGrpSpPr/>
          <p:nvPr/>
        </p:nvGrpSpPr>
        <p:grpSpPr>
          <a:xfrm>
            <a:off x="898560" y="768240"/>
            <a:ext cx="7235640" cy="6045480"/>
            <a:chOff x="898560" y="768240"/>
            <a:chExt cx="7235640" cy="6045480"/>
          </a:xfrm>
        </p:grpSpPr>
        <p:pic>
          <p:nvPicPr>
            <p:cNvPr id="235" name="Picture 2" descr=""/>
            <p:cNvPicPr/>
            <p:nvPr/>
          </p:nvPicPr>
          <p:blipFill>
            <a:blip r:embed="rId1"/>
            <a:stretch/>
          </p:blipFill>
          <p:spPr>
            <a:xfrm>
              <a:off x="898560" y="768240"/>
              <a:ext cx="7235640" cy="604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"/>
            <p:cNvSpPr/>
            <p:nvPr/>
          </p:nvSpPr>
          <p:spPr>
            <a:xfrm>
              <a:off x="5572440" y="4240080"/>
              <a:ext cx="1536840" cy="16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Жизнь быстротеч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2-33 го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"/>
          <p:cNvSpPr/>
          <p:nvPr/>
        </p:nvSpPr>
        <p:spPr>
          <a:xfrm>
            <a:off x="-25560" y="2430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Схема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2"/>
          <p:cNvCxnSpPr/>
          <p:nvPr/>
        </p:nvCxnSpPr>
        <p:spPr>
          <a:xfrm>
            <a:off x="4491000" y="3736800"/>
            <a:ext cx="3394800" cy="55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Прямая со стрелкой 4"/>
          <p:cNvCxnSpPr/>
          <p:nvPr/>
        </p:nvCxnSpPr>
        <p:spPr>
          <a:xfrm flipV="1">
            <a:off x="4490640" y="1340640"/>
            <a:ext cx="152172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Прямая со стрелкой 6"/>
          <p:cNvCxnSpPr/>
          <p:nvPr/>
        </p:nvCxnSpPr>
        <p:spPr>
          <a:xfrm flipH="1" flipV="1">
            <a:off x="2268000" y="1709280"/>
            <a:ext cx="2223360" cy="20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Прямая со стрелкой 8"/>
          <p:cNvCxnSpPr/>
          <p:nvPr/>
        </p:nvCxnSpPr>
        <p:spPr>
          <a:xfrm flipH="1">
            <a:off x="1115280" y="3738240"/>
            <a:ext cx="337572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Прямая со стрелкой 10"/>
          <p:cNvCxnSpPr/>
          <p:nvPr/>
        </p:nvCxnSpPr>
        <p:spPr>
          <a:xfrm flipH="1">
            <a:off x="2987280" y="3736440"/>
            <a:ext cx="1504080" cy="235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3" name="TextBox 11"/>
          <p:cNvSpPr/>
          <p:nvPr/>
        </p:nvSpPr>
        <p:spPr>
          <a:xfrm>
            <a:off x="5456160" y="2724120"/>
            <a:ext cx="1728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3379680" y="1628640"/>
            <a:ext cx="1871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: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не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15"/>
          <p:cNvSpPr/>
          <p:nvPr/>
        </p:nvSpPr>
        <p:spPr>
          <a:xfrm>
            <a:off x="1476360" y="3014640"/>
            <a:ext cx="251928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оплексическ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1784520" y="4437000"/>
            <a:ext cx="19033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ная тишина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4002120" y="5051520"/>
            <a:ext cx="6634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"/>
          <p:cNvGrpSpPr/>
          <p:nvPr/>
        </p:nvGrpSpPr>
        <p:grpSpPr>
          <a:xfrm>
            <a:off x="1692360" y="1484280"/>
            <a:ext cx="6441840" cy="4813200"/>
            <a:chOff x="1692360" y="1484280"/>
            <a:chExt cx="6441840" cy="4813200"/>
          </a:xfrm>
        </p:grpSpPr>
        <p:pic>
          <p:nvPicPr>
            <p:cNvPr id="250" name="Picture 2" descr=""/>
            <p:cNvPicPr/>
            <p:nvPr/>
          </p:nvPicPr>
          <p:blipFill>
            <a:blip r:embed="rId1"/>
            <a:stretch/>
          </p:blipFill>
          <p:spPr>
            <a:xfrm>
              <a:off x="1692360" y="1484280"/>
              <a:ext cx="644184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3"/>
            <p:cNvSpPr/>
            <p:nvPr/>
          </p:nvSpPr>
          <p:spPr>
            <a:xfrm>
              <a:off x="5853600" y="3558240"/>
              <a:ext cx="1368360" cy="12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гафь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шеницы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 Box 4"/>
          <p:cNvSpPr/>
          <p:nvPr/>
        </p:nvSpPr>
        <p:spPr>
          <a:xfrm>
            <a:off x="898560" y="306360"/>
            <a:ext cx="72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Нужно ли торопиться жит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Как ж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5378400" y="1986120"/>
            <a:ext cx="172728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оль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2127240" y="2235240"/>
            <a:ext cx="252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2436840" y="3780000"/>
            <a:ext cx="19033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ьи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4540320" y="3097080"/>
            <a:ext cx="998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Прямая со стрелкой 3"/>
          <p:cNvCxnSpPr>
            <a:stCxn id="252" idx="2"/>
          </p:cNvCxnSpPr>
          <p:nvPr/>
        </p:nvCxnSpPr>
        <p:spPr>
          <a:xfrm flipH="1">
            <a:off x="3563640" y="1263240"/>
            <a:ext cx="9532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Прямая со стрелкой 7"/>
          <p:cNvCxnSpPr/>
          <p:nvPr/>
        </p:nvCxnSpPr>
        <p:spPr>
          <a:xfrm>
            <a:off x="4913280" y="1347840"/>
            <a:ext cx="141840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Прямая со стрелкой 14"/>
          <p:cNvCxnSpPr/>
          <p:nvPr/>
        </p:nvCxnSpPr>
        <p:spPr>
          <a:xfrm flipH="1">
            <a:off x="3563640" y="1263600"/>
            <a:ext cx="1085040" cy="251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Прямая со стрелкой 19"/>
          <p:cNvCxnSpPr/>
          <p:nvPr/>
        </p:nvCxnSpPr>
        <p:spPr>
          <a:xfrm>
            <a:off x="4749840" y="1263600"/>
            <a:ext cx="1271880" cy="240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AROVAOA</cp:lastModifiedBy>
  <cp:lastPrinted>2014-02-18T12:34:11Z</cp:lastPrinted>
  <dcterms:modified xsi:type="dcterms:W3CDTF">2014-02-19T14:01:07Z</dcterms:modified>
  <cp:revision>17</cp:revision>
  <dc:subject/>
  <dc:title>Слайд 1</dc:title>
</cp:coreProperties>
</file>