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D2A-AFF9-4CCD-9F11-EDAACBC3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B98-261D-44BC-BE34-7C70325E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18B-9866-4388-9C07-CE660B0D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CFC-8E94-4147-8C75-1B274D81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CC8-7697-4104-A9B0-501F3A41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807-AF17-4E64-A86E-B6F6BFE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F2E-F03C-4494-88B6-E1831C2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5D4-C98D-468A-8B9B-54F2B53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AD9-9C52-4B86-A38D-6074522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273-A271-4A0D-B8D8-7C3A643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2FA-1905-4927-85B4-465EEC4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F5D-099C-4F6D-BBFE-6424F07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765-65F1-46B1-A6D5-F42CC771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ith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mobile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laptop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iPad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e can surf the Intern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Walkman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player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MP3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TV set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and </a:t>
            </a:r>
            <a:r>
              <a:rPr b="1" lang="en-US" sz="4800" spc="-1" strike="noStrike" u="sng">
                <a:solidFill>
                  <a:srgbClr val="cc3300"/>
                </a:solidFill>
                <a:uFillTx/>
                <a:latin typeface="Berlin Sans FB Demi"/>
              </a:rPr>
              <a:t>DVD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We can use the whole da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If we have them, that’s O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t is a sm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portable compu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You can carry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around with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Tell us about </a:t>
            </a: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your favourite gadget</a:t>
            </a: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What do you use it fo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Liste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864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raditional toys of modern British teenagers are teddy bears and board gam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ost of teenagers receive gadgets as pres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MP3 players and computers are not popular among te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A surv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Berlin Sans FB Demi"/>
              </a:rPr>
              <a:t>	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What gadgets are popular among your classmat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800080"/>
                </a:solidFill>
                <a:uFillTx/>
                <a:latin typeface="Berlin Sans FB Demi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Gadgets are around us. Is it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Berlin Sans FB Demi"/>
              </a:rPr>
              <a:t>good or bad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Discuss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Berlin Sans FB Demi"/>
              </a:rPr>
              <a:t>pros and cons</a:t>
            </a: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Berlin Sans FB Demi"/>
              </a:rPr>
              <a:t>of gadget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38880" y="4686480"/>
            <a:ext cx="14907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80"/>
                </a:solidFill>
                <a:uFillTx/>
                <a:latin typeface="Berlin Sans FB Demi"/>
              </a:rPr>
              <a:t>How to write cinquai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4920" y="1371600"/>
            <a:ext cx="3313080" cy="521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nquain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(French) are poems that include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5 line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noun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wo adjective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ree verb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phras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noun (summary)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86200" y="2514600"/>
            <a:ext cx="5051520" cy="289548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bile phone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nderful, electronic (ad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ll, talk, send (ver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 like it very much (phr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rogress (sum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00080"/>
                </a:solidFill>
                <a:uFillTx/>
                <a:latin typeface="Berlin Sans FB Demi"/>
              </a:rPr>
              <a:t>Let’s write cinquains about gadge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?id=396991408-38-72&amp;n=21"/>
          <p:cNvPicPr/>
          <p:nvPr/>
        </p:nvPicPr>
        <p:blipFill>
          <a:blip r:embed="rId2"/>
          <a:stretch/>
        </p:blipFill>
        <p:spPr>
          <a:xfrm rot="20616600">
            <a:off x="533520" y="1447920"/>
            <a:ext cx="1923840" cy="1428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839160" y="29718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mart- 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?id=386307197-47-72&amp;n=21"/>
          <p:cNvPicPr/>
          <p:nvPr/>
        </p:nvPicPr>
        <p:blipFill>
          <a:blip r:embed="rId3"/>
          <a:stretch/>
        </p:blipFill>
        <p:spPr>
          <a:xfrm>
            <a:off x="6553080" y="99072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723960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i?id=286851057-26-72&amp;n=21"/>
          <p:cNvPicPr/>
          <p:nvPr/>
        </p:nvPicPr>
        <p:blipFill>
          <a:blip r:embed="rId4"/>
          <a:stretch/>
        </p:blipFill>
        <p:spPr>
          <a:xfrm rot="20864400">
            <a:off x="3352320" y="1066680"/>
            <a:ext cx="2089440" cy="15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997080" y="26370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P 3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7" descr="i?id=165149139-62-72&amp;n=21"/>
          <p:cNvPicPr/>
          <p:nvPr/>
        </p:nvPicPr>
        <p:blipFill>
          <a:blip r:embed="rId5"/>
          <a:stretch/>
        </p:blipFill>
        <p:spPr>
          <a:xfrm rot="20557200">
            <a:off x="380520" y="449568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1889280" y="57513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3" descr="i?id=112501701-45-72&amp;n=21"/>
          <p:cNvPicPr/>
          <p:nvPr/>
        </p:nvPicPr>
        <p:blipFill>
          <a:blip r:embed="rId6"/>
          <a:stretch/>
        </p:blipFill>
        <p:spPr>
          <a:xfrm rot="1021200">
            <a:off x="6291000" y="329076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4"/>
          <p:cNvSpPr/>
          <p:nvPr/>
        </p:nvSpPr>
        <p:spPr>
          <a:xfrm>
            <a:off x="6568560" y="5535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6" descr="i?id=149056996-01-72&amp;n=21"/>
          <p:cNvPicPr/>
          <p:nvPr/>
        </p:nvPicPr>
        <p:blipFill>
          <a:blip r:embed="rId7"/>
          <a:stretch/>
        </p:blipFill>
        <p:spPr>
          <a:xfrm rot="20822400">
            <a:off x="3347640" y="3573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7"/>
          <p:cNvSpPr/>
          <p:nvPr/>
        </p:nvSpPr>
        <p:spPr>
          <a:xfrm>
            <a:off x="3277440" y="5300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lectronic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80"/>
                </a:solidFill>
                <a:uFillTx/>
                <a:latin typeface="Berlin Sans FB Demi"/>
              </a:rPr>
              <a:t>Your 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4800600" cy="3048120"/>
          </a:xfrm>
          <a:prstGeom prst="ellipse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Carry out a surv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on what gadgets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family member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276720"/>
            <a:ext cx="5105520" cy="3276360"/>
          </a:xfrm>
          <a:prstGeom prst="ellipse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Find som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of </a:t>
            </a:r>
            <a:r>
              <a:rPr b="0" lang="en-US" sz="2800" spc="-1" strike="noStrike" u="sng">
                <a:solidFill>
                  <a:srgbClr val="9966ff"/>
                </a:solidFill>
                <a:uFillTx/>
                <a:latin typeface="Arial Black"/>
              </a:rPr>
              <a:t>Internet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ff"/>
                </a:solidFill>
                <a:uFillTx/>
                <a:latin typeface="Arial Black"/>
              </a:rPr>
              <a:t>SMS slang (language).</a:t>
            </a: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Present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 Black"/>
              </a:rPr>
              <a:t>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75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You know </a:t>
            </a:r>
            <a:r>
              <a:rPr b="1" lang="en-US" sz="4800" spc="-1" strike="noStrike">
                <a:solidFill>
                  <a:srgbClr val="cc3300"/>
                </a:solidFill>
                <a:latin typeface="Berlin Sans FB Demi"/>
              </a:rPr>
              <a:t>7 or 8 words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from the poem!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GREAT!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Today we’re speaking abou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800080"/>
                </a:solidFill>
                <a:uFillTx/>
                <a:latin typeface="Berlin Sans FB Demi"/>
              </a:rPr>
              <a:t>High-tech tee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3200400" cy="21384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3124440" cy="20844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76320"/>
            <a:ext cx="1828800" cy="1828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7" name="Picture 29" descr="i?id=393247650-51-72&amp;n=21"/>
          <p:cNvPicPr/>
          <p:nvPr/>
        </p:nvPicPr>
        <p:blipFill>
          <a:blip r:embed="rId5"/>
          <a:stretch/>
        </p:blipFill>
        <p:spPr>
          <a:xfrm rot="993000">
            <a:off x="6248160" y="380520"/>
            <a:ext cx="2592360" cy="173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48" name="Picture 13" descr="i?id=473786423-71-72&amp;n=21"/>
          <p:cNvPicPr/>
          <p:nvPr/>
        </p:nvPicPr>
        <p:blipFill>
          <a:blip r:embed="rId6"/>
          <a:stretch/>
        </p:blipFill>
        <p:spPr>
          <a:xfrm rot="20266800">
            <a:off x="380880" y="304560"/>
            <a:ext cx="1851120" cy="18507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Today we will learn t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talk about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using gadgets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discuss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pros (+)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and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cons (-)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 of gadgets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Berlin Sans FB Dem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carry out </a:t>
            </a:r>
            <a:r>
              <a:rPr b="1" lang="en-US" sz="4800" spc="-1" strike="noStrike" u="sng">
                <a:solidFill>
                  <a:srgbClr val="000066"/>
                </a:solidFill>
                <a:uFillTx/>
                <a:latin typeface="Berlin Sans FB Demi"/>
              </a:rPr>
              <a:t>a survey</a:t>
            </a:r>
            <a:r>
              <a:rPr b="1" lang="en-US" sz="4800" spc="-1" strike="noStrike">
                <a:solidFill>
                  <a:srgbClr val="000066"/>
                </a:solidFill>
                <a:latin typeface="Berlin Sans FB Dem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Berlin Sans FB Demi"/>
              </a:rPr>
              <a:t>What do you use these gadgets for?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Berlin Sans FB Demi"/>
              </a:rPr>
              <a:t> I use _______ to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523880"/>
            <a:ext cx="3581640" cy="5334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E-book device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MP3 player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Digital camera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Mobile phone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Laptop</a:t>
            </a:r>
            <a:r>
              <a:rPr b="0" lang="en-US" sz="30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Games cons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Headphones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 Black"/>
              </a:rPr>
              <a:t>DVD</a:t>
            </a: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114800" y="1523880"/>
            <a:ext cx="4876920" cy="5334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tor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tore music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take pi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talk to friend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end text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end e-m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surf the 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read electronic b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watch films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listen to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play computer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 can play footbal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drive racing ca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and fight wars with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 can listen to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with it and take it everyw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With this gadget you can speak to friends and send them messa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714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00080"/>
                </a:solidFill>
                <a:uFillTx/>
                <a:latin typeface="Berlin Sans FB Demi"/>
              </a:rPr>
              <a:t>Guess the gadg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 Black"/>
              </a:rPr>
              <a:t>It is a small electronic device that we use to read  stories in different languag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124080" y="4395960"/>
            <a:ext cx="28958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6:05:18Z</dcterms:created>
  <dc:creator>Григорьев Паха</dc:creator>
  <dc:description/>
  <dc:language>en-US</dc:language>
  <cp:lastModifiedBy>Customer</cp:lastModifiedBy>
  <dcterms:modified xsi:type="dcterms:W3CDTF">2015-03-04T02:13:1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