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4AC-F154-4CB5-9C87-EDF5467B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058-EA26-49A4-8674-E32E3BEB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2CD9-EE10-438B-BB16-C41B357B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919-3F1A-4402-BE77-94052E00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2D7F-1814-407B-BD60-60111A15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1470-5190-4474-80DF-08B4866F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2E30-F6B9-4665-8B08-E72ED544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59D5-CB7C-4AF9-9B37-E9C3E0AE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CA3B-E085-4F81-B965-A13A096E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504C-0F2B-451F-AC7E-C091D1C0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DF66-575F-43EC-8DAE-C5B36F7C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753-F116-45FB-AFB1-C2253518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A509-7F11-4384-B2D9-CEC94D30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0C32-C91A-48A0-B456-A834643D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E298-D9EB-4486-8FAA-998372D1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2370-DD1A-4123-B728-4FBA718F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2AE4-3E04-4F92-AC19-8166792F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5B3-43BD-4024-B27E-C07400D3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ACE-B983-4B7E-A06F-17B7480B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7C3-FE3A-4B4F-B57B-01434954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C26-4BE8-4393-A323-5AFAEA67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8EE-BEF1-4E95-BBC5-44A082D9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54A-1821-468E-84C8-2D48045E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D88-4DEB-4D2C-BC00-72090662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6598-1878-41C2-AF16-E0610C8936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869F-8106-4805-9548-401A3C892C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«Квадратные уравнения вокруг  нас»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8 клас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Times New Roman"/>
              </a:rPr>
              <a:t>                     </a:t>
            </a:r>
            <a:r>
              <a:rPr b="0" lang="ru-RU" sz="3200" spc="-1" strike="noStrike">
                <a:solidFill>
                  <a:srgbClr val="666699"/>
                </a:solidFill>
                <a:latin typeface="Times New Roman"/>
              </a:rPr>
              <a:t>Спасибо за внимани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Для чего нужны квадратные уравнения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вадратные уравнения представляют собой инструмент для решения большого класса задач. Они используются в различных областях науки: физике, математике, технике.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стейший пример - форматы чертёжной бумаги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хождение размера листа A4, при площади основного A0-1 м². Они строятся по такому принципу - отношение сторон всех форматов должно быть одинаковым, следующий формат получается разрезанием предыдущего пополам.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Garamond"/>
              </a:rPr>
              <a:t>Один из примеров квадратных уравнений:</a:t>
            </a:r>
            <a:br>
              <a:rPr sz="2800"/>
            </a:br>
            <a:r>
              <a:rPr b="0" lang="ru-RU" sz="2800" spc="-1" strike="noStrike">
                <a:solidFill>
                  <a:srgbClr val="666699"/>
                </a:solidFill>
                <a:latin typeface="Garamond"/>
              </a:rPr>
              <a:t>квадратичная функция, графиком которой является парабола.</a:t>
            </a:r>
            <a:r>
              <a:rPr b="0" lang="ru-RU" sz="2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7452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1044720" y="1844640"/>
          <a:ext cx="683712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1844640"/>
                    <a:ext cx="683712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Garamond"/>
              </a:rPr>
              <a:t>Применение уравнений для решения задач по физике</a:t>
            </a:r>
            <a:endParaRPr b="0" lang="en-US" sz="2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36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 помощью квадратных уравнений можно определить, через какой промежуток времени тело, брошенное вверх с определенной скоростью окажется на расстоянии нескольких метров от земл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5003640" y="2483280"/>
            <a:ext cx="3240000" cy="3250800"/>
            <a:chOff x="5003640" y="2483280"/>
            <a:chExt cx="3240000" cy="3250800"/>
          </a:xfrm>
        </p:grpSpPr>
        <p:sp>
          <p:nvSpPr>
            <p:cNvPr id="102" name="Oval 5"/>
            <p:cNvSpPr/>
            <p:nvPr/>
          </p:nvSpPr>
          <p:spPr>
            <a:xfrm rot="20034000">
              <a:off x="6138360" y="2565000"/>
              <a:ext cx="488880" cy="50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6"/>
            <p:cNvSpPr/>
            <p:nvPr/>
          </p:nvSpPr>
          <p:spPr>
            <a:xfrm>
              <a:off x="5328360" y="3065400"/>
              <a:ext cx="486360" cy="50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7"/>
            <p:cNvSpPr/>
            <p:nvPr/>
          </p:nvSpPr>
          <p:spPr>
            <a:xfrm>
              <a:off x="5003640" y="3732480"/>
              <a:ext cx="484200" cy="50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8"/>
            <p:cNvSpPr/>
            <p:nvPr/>
          </p:nvSpPr>
          <p:spPr>
            <a:xfrm>
              <a:off x="5003640" y="4400280"/>
              <a:ext cx="484200" cy="49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9"/>
            <p:cNvSpPr/>
            <p:nvPr/>
          </p:nvSpPr>
          <p:spPr>
            <a:xfrm>
              <a:off x="5003640" y="5233680"/>
              <a:ext cx="487440" cy="50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>
              <a:off x="6300000" y="3065400"/>
              <a:ext cx="1080" cy="2668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Line 11"/>
            <p:cNvSpPr/>
            <p:nvPr/>
          </p:nvSpPr>
          <p:spPr>
            <a:xfrm>
              <a:off x="5490000" y="4066200"/>
              <a:ext cx="810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Line 12"/>
            <p:cNvSpPr/>
            <p:nvPr/>
          </p:nvSpPr>
          <p:spPr>
            <a:xfrm>
              <a:off x="5813640" y="40662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5652000" y="4066200"/>
              <a:ext cx="720" cy="166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Line 14"/>
            <p:cNvSpPr/>
            <p:nvPr/>
          </p:nvSpPr>
          <p:spPr>
            <a:xfrm>
              <a:off x="5166360" y="5734080"/>
              <a:ext cx="307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Oval 15"/>
            <p:cNvSpPr/>
            <p:nvPr/>
          </p:nvSpPr>
          <p:spPr>
            <a:xfrm>
              <a:off x="6947280" y="3065400"/>
              <a:ext cx="488880" cy="49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Oval 16"/>
            <p:cNvSpPr/>
            <p:nvPr/>
          </p:nvSpPr>
          <p:spPr>
            <a:xfrm>
              <a:off x="7272000" y="3732480"/>
              <a:ext cx="487440" cy="49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Oval 17"/>
            <p:cNvSpPr/>
            <p:nvPr/>
          </p:nvSpPr>
          <p:spPr>
            <a:xfrm>
              <a:off x="7272000" y="4400280"/>
              <a:ext cx="487440" cy="496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Oval 18"/>
            <p:cNvSpPr/>
            <p:nvPr/>
          </p:nvSpPr>
          <p:spPr>
            <a:xfrm>
              <a:off x="7272000" y="5233680"/>
              <a:ext cx="485280" cy="50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19"/>
            <p:cNvSpPr/>
            <p:nvPr/>
          </p:nvSpPr>
          <p:spPr>
            <a:xfrm>
              <a:off x="6624000" y="2897640"/>
              <a:ext cx="648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>
              <a:off x="6947280" y="2897640"/>
              <a:ext cx="1080" cy="28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Text Box 21"/>
            <p:cNvSpPr/>
            <p:nvPr/>
          </p:nvSpPr>
          <p:spPr>
            <a:xfrm>
              <a:off x="5813640" y="4566960"/>
              <a:ext cx="324360" cy="83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22"/>
            <p:cNvSpPr/>
            <p:nvPr/>
          </p:nvSpPr>
          <p:spPr>
            <a:xfrm>
              <a:off x="5813640" y="4566960"/>
              <a:ext cx="486000" cy="66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00м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6462000" y="4066200"/>
              <a:ext cx="485280" cy="83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80 м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Garamond"/>
              </a:rPr>
              <a:t>Применение квадратных уравнений в строительстве, архитектуре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равнения применяют и в высшей математике. Для расчета сопротивления тел, прочности материалов и т.п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5" descr="Sopromat"/>
          <p:cNvPicPr/>
          <p:nvPr/>
        </p:nvPicPr>
        <p:blipFill>
          <a:blip r:embed="rId1"/>
          <a:stretch/>
        </p:blipFill>
        <p:spPr>
          <a:xfrm>
            <a:off x="5037120" y="1600200"/>
            <a:ext cx="32655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Garamond"/>
              </a:rPr>
              <a:t>Применение уравнений в механике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777744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ля определения реакции опор балок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пределение скоростей и ускорения тела. Все эти задачи, нужны для правильного построения чертежа конструк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Теоретическая механик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5" descr="24-1"/>
          <p:cNvPicPr/>
          <p:nvPr/>
        </p:nvPicPr>
        <p:blipFill>
          <a:blip r:embed="rId1"/>
          <a:stretch/>
        </p:blipFill>
        <p:spPr>
          <a:xfrm>
            <a:off x="1547640" y="4005360"/>
            <a:ext cx="590580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Garamond"/>
              </a:rPr>
              <a:t>Уравнения в физике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01440" y="184464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вадратные уравнения применяют во многих разделах физики. Кинематике, электростатике электродинамике. В формулах конденсатора и уравнениях электромагнитной индук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666699"/>
                </a:solidFill>
                <a:latin typeface="Times New Roman"/>
              </a:rPr>
              <a:t>Также квадратные уравнения применяю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программах для обработки звука, видео, векторной и растровой графики.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различных экономических дисциплинах.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истемах автоматизированного проектиров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9-01-09T11:30:03Z</dcterms:modified>
  <cp:revision>3</cp:revision>
  <dc:subject/>
  <dc:title>PowerPoint Presentation</dc:title>
</cp:coreProperties>
</file>