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A25-DDAE-439F-A97C-1AAC008A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B6B-2ECF-4350-99FE-68CA3A2C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547-4EBC-4D0E-B4AB-DF250C21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587-1109-42DF-A76B-A19B58D5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59FB-E072-4908-9228-91B4351F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6540-9F3C-4D53-B13F-1A3BB1DC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96F3-4B4F-45A4-AC75-64DF4295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2344-523D-42FA-B7CF-748BEA4C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4E72-8473-49EF-BA89-0B44077A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0824-EB5C-47CC-A66F-DA49851A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E2AE-B756-4E6C-A735-CD276BE3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6FB-30F7-4D39-AB38-4A680F70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561D-B0EE-4EF7-A5ED-309775E1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A169-10B7-42D3-89E5-F18A2AA0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59B4-E984-4765-A1F2-BA05BBDF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3575-8118-4BB2-BEEA-57F1E5D3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46D5-9C50-4703-9389-DEACA06F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C47-72A7-4C4B-93FE-A9B5188F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4DA-2950-4969-A75B-4CFAF9E7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25C-D61D-4E31-A57E-0A3B2F44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A7B-FFBE-4E98-BCAC-0DCE2765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96D-DFD3-4D2C-A88E-2F798758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7D5-2E68-449A-B199-8D5FDE54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1F7-FEE2-4E14-8914-C65751EF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AB54-975A-4498-AADA-B579B5F1F0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72C4-3BAB-455A-ACD4-C6F26D702E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«Квадратные уравнения вокруг  нас»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8 клас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666699"/>
                </a:solidFill>
                <a:latin typeface="Times New Roman"/>
              </a:rPr>
              <a:t>Спасибо за внимани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Для чего нужны квадратные уравнения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вадратные уравнения представляют собой инструмент для решения большого класса задач. Они используются в различных областях науки: физике, математике, технике.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стейший пример - форматы чертёжной бумаги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хождение размера листа A4, при площади основного A0-1 м². Они строятся по такому принципу - отношение сторон всех форматов должно быть одинаковым, следующий формат получается разрезанием предыдущего пополам.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Garamond"/>
              </a:rPr>
              <a:t>Один из примеров квадратных уравнений:</a:t>
            </a:r>
            <a:br>
              <a:rPr sz="2800"/>
            </a:br>
            <a:r>
              <a:rPr b="0" lang="ru-RU" sz="2800" spc="-1" strike="noStrike">
                <a:solidFill>
                  <a:srgbClr val="666699"/>
                </a:solidFill>
                <a:latin typeface="Garamond"/>
              </a:rPr>
              <a:t>квадратичная функция, графиком которой является парабола.</a:t>
            </a:r>
            <a:r>
              <a:rPr b="0" lang="ru-RU" sz="2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745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1044720" y="1844640"/>
          <a:ext cx="683712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844640"/>
                    <a:ext cx="683712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Garamond"/>
              </a:rPr>
              <a:t>Применение уравнений для решения задач по физике</a:t>
            </a:r>
            <a:endParaRPr b="0" lang="en-US" sz="2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36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 помощью квадратных уравнений можно определить, через какой промежуток времени тело, брошенное вверх с определенной скоростью окажется на расстоянии нескольких метров от зем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5003640" y="2483280"/>
            <a:ext cx="3240000" cy="3250800"/>
            <a:chOff x="5003640" y="2483280"/>
            <a:chExt cx="3240000" cy="3250800"/>
          </a:xfrm>
        </p:grpSpPr>
        <p:sp>
          <p:nvSpPr>
            <p:cNvPr id="102" name="Oval 5"/>
            <p:cNvSpPr/>
            <p:nvPr/>
          </p:nvSpPr>
          <p:spPr>
            <a:xfrm rot="20034000">
              <a:off x="6138360" y="2565000"/>
              <a:ext cx="488880" cy="50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6"/>
            <p:cNvSpPr/>
            <p:nvPr/>
          </p:nvSpPr>
          <p:spPr>
            <a:xfrm>
              <a:off x="5328360" y="3065400"/>
              <a:ext cx="486360" cy="50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7"/>
            <p:cNvSpPr/>
            <p:nvPr/>
          </p:nvSpPr>
          <p:spPr>
            <a:xfrm>
              <a:off x="5003640" y="3732480"/>
              <a:ext cx="484200" cy="50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8"/>
            <p:cNvSpPr/>
            <p:nvPr/>
          </p:nvSpPr>
          <p:spPr>
            <a:xfrm>
              <a:off x="5003640" y="4400280"/>
              <a:ext cx="484200" cy="49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9"/>
            <p:cNvSpPr/>
            <p:nvPr/>
          </p:nvSpPr>
          <p:spPr>
            <a:xfrm>
              <a:off x="5003640" y="5233680"/>
              <a:ext cx="487440" cy="50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6300000" y="3065400"/>
              <a:ext cx="1080" cy="2668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Line 11"/>
            <p:cNvSpPr/>
            <p:nvPr/>
          </p:nvSpPr>
          <p:spPr>
            <a:xfrm>
              <a:off x="5490000" y="4066200"/>
              <a:ext cx="810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Line 12"/>
            <p:cNvSpPr/>
            <p:nvPr/>
          </p:nvSpPr>
          <p:spPr>
            <a:xfrm>
              <a:off x="5813640" y="4066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5652000" y="4066200"/>
              <a:ext cx="720" cy="166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Line 14"/>
            <p:cNvSpPr/>
            <p:nvPr/>
          </p:nvSpPr>
          <p:spPr>
            <a:xfrm>
              <a:off x="5166360" y="5734080"/>
              <a:ext cx="307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Oval 15"/>
            <p:cNvSpPr/>
            <p:nvPr/>
          </p:nvSpPr>
          <p:spPr>
            <a:xfrm>
              <a:off x="6947280" y="3065400"/>
              <a:ext cx="488880" cy="49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Oval 16"/>
            <p:cNvSpPr/>
            <p:nvPr/>
          </p:nvSpPr>
          <p:spPr>
            <a:xfrm>
              <a:off x="7272000" y="3732480"/>
              <a:ext cx="487440" cy="49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Oval 17"/>
            <p:cNvSpPr/>
            <p:nvPr/>
          </p:nvSpPr>
          <p:spPr>
            <a:xfrm>
              <a:off x="7272000" y="4400280"/>
              <a:ext cx="487440" cy="49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Oval 18"/>
            <p:cNvSpPr/>
            <p:nvPr/>
          </p:nvSpPr>
          <p:spPr>
            <a:xfrm>
              <a:off x="7272000" y="5233680"/>
              <a:ext cx="485280" cy="50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>
              <a:off x="6624000" y="2897640"/>
              <a:ext cx="648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>
              <a:off x="6947280" y="2897640"/>
              <a:ext cx="1080" cy="28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21"/>
            <p:cNvSpPr/>
            <p:nvPr/>
          </p:nvSpPr>
          <p:spPr>
            <a:xfrm>
              <a:off x="5813640" y="4566960"/>
              <a:ext cx="324360" cy="83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22"/>
            <p:cNvSpPr/>
            <p:nvPr/>
          </p:nvSpPr>
          <p:spPr>
            <a:xfrm>
              <a:off x="5813640" y="4566960"/>
              <a:ext cx="486000" cy="66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00м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6462000" y="4066200"/>
              <a:ext cx="485280" cy="83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80 м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Garamond"/>
              </a:rPr>
              <a:t>Применение квадратных уравнений в строительстве, архитектуре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авнения применяют и в высшей математике. Для расчета сопротивления тел, прочности материалов и т.п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5" descr="Sopromat"/>
          <p:cNvPicPr/>
          <p:nvPr/>
        </p:nvPicPr>
        <p:blipFill>
          <a:blip r:embed="rId1"/>
          <a:stretch/>
        </p:blipFill>
        <p:spPr>
          <a:xfrm>
            <a:off x="5037120" y="1600200"/>
            <a:ext cx="32655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Garamond"/>
              </a:rPr>
              <a:t>Применение уравнений в механике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777744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я определения реакции опор балок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пределение скоростей и ускорения тела. Все эти задачи, нужны для правильного построения чертежа конструк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Теоретическая механик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5" descr="24-1"/>
          <p:cNvPicPr/>
          <p:nvPr/>
        </p:nvPicPr>
        <p:blipFill>
          <a:blip r:embed="rId1"/>
          <a:stretch/>
        </p:blipFill>
        <p:spPr>
          <a:xfrm>
            <a:off x="1547640" y="4005360"/>
            <a:ext cx="59058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Garamond"/>
              </a:rPr>
              <a:t>Уравнения в физике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01440" y="184464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вадратные уравнения применяют во многих разделах физики. Кинематике, электростатике электродинамике. В формулах конденсатора и уравнениях электромагнитной индук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666699"/>
                </a:solidFill>
                <a:latin typeface="Times New Roman"/>
              </a:rPr>
              <a:t>Также квадратные уравнения применя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программах для обработки звука, видео, векторной и растровой графики.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различных экономических дисциплинах.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истемах автоматизированного проектиров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9-01-09T11:30:03Z</dcterms:modified>
  <cp:revision>3</cp:revision>
  <dc:subject/>
  <dc:title>PowerPoint Presentation</dc:title>
</cp:coreProperties>
</file>