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883-85B7-4DA0-8297-F15A705C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E92-B0CF-438E-8A52-FFC86879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521-4687-4E23-B863-53785BA1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708-3028-45CD-84E3-CC840554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999-849E-42AF-AC42-AD2506A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183-7925-4F3A-8093-ECE44D8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92D-24B7-44E0-B169-761BF69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DBF-5FCF-4B2F-A4D2-28800E1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22F-7E68-47E1-94AD-238D834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398-7E3A-4CF2-8CA1-9CC2B56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B90-0CE0-4BDD-BD8B-BDE2F6E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834-1E9A-464E-BFF2-48514F1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8B37-0AF3-4B5E-9789-FFF3B2CD9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P"/>
          <p:cNvPicPr/>
          <p:nvPr/>
        </p:nvPicPr>
        <p:blipFill>
          <a:blip r:embed="rId1"/>
          <a:stretch/>
        </p:blipFill>
        <p:spPr>
          <a:xfrm>
            <a:off x="3962520" y="304920"/>
            <a:ext cx="1574640" cy="217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5638680" y="1371600"/>
            <a:ext cx="2914920" cy="40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0-40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6-18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7-27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3-19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762120" y="1447920"/>
            <a:ext cx="3276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6+20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9+11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0-16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5+35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 rot="10800000">
            <a:off x="1980360" y="4906080"/>
            <a:ext cx="434340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 rot="355200">
            <a:off x="837720" y="1447920"/>
            <a:ext cx="7159680" cy="38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  м    =  10  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  см  &gt;  11  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  см  &gt;  100  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дм  =  10с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514600" y="762120"/>
            <a:ext cx="41911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Чагыштыр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8" name="Picture 10" descr="77a14e0af077"/>
          <p:cNvPicPr/>
          <p:nvPr/>
        </p:nvPicPr>
        <p:blipFill>
          <a:blip r:embed="rId1"/>
          <a:stretch/>
        </p:blipFill>
        <p:spPr>
          <a:xfrm>
            <a:off x="3962520" y="1752480"/>
            <a:ext cx="558720" cy="5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7a14e0af077"/>
          <p:cNvPicPr/>
          <p:nvPr/>
        </p:nvPicPr>
        <p:blipFill>
          <a:blip r:embed="rId2"/>
          <a:stretch/>
        </p:blipFill>
        <p:spPr>
          <a:xfrm>
            <a:off x="3733920" y="436896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77a14e0af077"/>
          <p:cNvPicPr/>
          <p:nvPr/>
        </p:nvPicPr>
        <p:blipFill>
          <a:blip r:embed="rId3"/>
          <a:stretch/>
        </p:blipFill>
        <p:spPr>
          <a:xfrm>
            <a:off x="3962520" y="3429000"/>
            <a:ext cx="635040" cy="63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77a14e0af077"/>
          <p:cNvPicPr/>
          <p:nvPr/>
        </p:nvPicPr>
        <p:blipFill>
          <a:blip r:embed="rId4"/>
          <a:stretch/>
        </p:blipFill>
        <p:spPr>
          <a:xfrm>
            <a:off x="4114800" y="2514600"/>
            <a:ext cx="635040" cy="63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Бал кортына булышый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219320" y="1066680"/>
            <a:ext cx="5960520" cy="4764240"/>
            <a:chOff x="1219320" y="1066680"/>
            <a:chExt cx="5960520" cy="4764240"/>
          </a:xfrm>
        </p:grpSpPr>
        <p:sp>
          <p:nvSpPr>
            <p:cNvPr id="55" name="AutoShape 6"/>
            <p:cNvSpPr/>
            <p:nvPr/>
          </p:nvSpPr>
          <p:spPr>
            <a:xfrm>
              <a:off x="1219320" y="1066680"/>
              <a:ext cx="5940000" cy="47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4"/>
            <p:cNvSpPr/>
            <p:nvPr/>
          </p:nvSpPr>
          <p:spPr>
            <a:xfrm>
              <a:off x="1280880" y="319248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"/>
            <p:cNvSpPr/>
            <p:nvPr/>
          </p:nvSpPr>
          <p:spPr>
            <a:xfrm>
              <a:off x="4007160" y="1938960"/>
              <a:ext cx="28332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2316600" y="1938960"/>
              <a:ext cx="28404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5695920" y="1992960"/>
              <a:ext cx="28332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6512760" y="3246480"/>
              <a:ext cx="28368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316600" y="4555440"/>
              <a:ext cx="28404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4061520" y="455544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5697720" y="455544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2"/>
            <p:cNvSpPr/>
            <p:nvPr/>
          </p:nvSpPr>
          <p:spPr>
            <a:xfrm rot="18899400">
              <a:off x="1668960" y="2783520"/>
              <a:ext cx="762840" cy="270720"/>
            </a:xfrm>
            <a:prstGeom prst="rightArrow">
              <a:avLst>
                <a:gd name="adj1" fmla="val 50000"/>
                <a:gd name="adj2" fmla="val 70445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3"/>
            <p:cNvSpPr/>
            <p:nvPr/>
          </p:nvSpPr>
          <p:spPr>
            <a:xfrm rot="7604400">
              <a:off x="6137640" y="4146840"/>
              <a:ext cx="763560" cy="270720"/>
            </a:xfrm>
            <a:prstGeom prst="rightArrow">
              <a:avLst>
                <a:gd name="adj1" fmla="val 50000"/>
                <a:gd name="adj2" fmla="val 70512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4"/>
            <p:cNvSpPr/>
            <p:nvPr/>
          </p:nvSpPr>
          <p:spPr>
            <a:xfrm rot="2888400">
              <a:off x="6246720" y="2784960"/>
              <a:ext cx="763200" cy="271080"/>
            </a:xfrm>
            <a:prstGeom prst="rightArrow">
              <a:avLst>
                <a:gd name="adj1" fmla="val 50000"/>
                <a:gd name="adj2" fmla="val 70385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>
              <a:off x="4762440" y="2211480"/>
              <a:ext cx="257040" cy="219240"/>
            </a:xfrm>
            <a:prstGeom prst="rightArrow">
              <a:avLst>
                <a:gd name="adj1" fmla="val 50000"/>
                <a:gd name="adj2" fmla="val 2931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6"/>
            <p:cNvSpPr/>
            <p:nvPr/>
          </p:nvSpPr>
          <p:spPr>
            <a:xfrm>
              <a:off x="3073680" y="2211480"/>
              <a:ext cx="257040" cy="219240"/>
            </a:xfrm>
            <a:prstGeom prst="rightArrow">
              <a:avLst>
                <a:gd name="adj1" fmla="val 50000"/>
                <a:gd name="adj2" fmla="val 2931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7"/>
            <p:cNvSpPr/>
            <p:nvPr/>
          </p:nvSpPr>
          <p:spPr>
            <a:xfrm rot="13809600">
              <a:off x="1505520" y="4200480"/>
              <a:ext cx="763200" cy="271080"/>
            </a:xfrm>
            <a:prstGeom prst="rightArrow">
              <a:avLst>
                <a:gd name="adj1" fmla="val 50000"/>
                <a:gd name="adj2" fmla="val 70385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 rot="10800000">
              <a:off x="3134880" y="4827960"/>
              <a:ext cx="257760" cy="218520"/>
            </a:xfrm>
            <a:prstGeom prst="rightArrow">
              <a:avLst>
                <a:gd name="adj1" fmla="val 50000"/>
                <a:gd name="adj2" fmla="val 29489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 rot="10800000">
              <a:off x="4824360" y="4827960"/>
              <a:ext cx="257760" cy="218520"/>
            </a:xfrm>
            <a:prstGeom prst="rightArrow">
              <a:avLst>
                <a:gd name="adj1" fmla="val 50000"/>
                <a:gd name="adj2" fmla="val 29489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1306800" y="3301920"/>
              <a:ext cx="642600" cy="49104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1328400" y="2484000"/>
              <a:ext cx="7416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236760" y="504504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4925880" y="5045040"/>
              <a:ext cx="665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-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5"/>
            <p:cNvSpPr/>
            <p:nvPr/>
          </p:nvSpPr>
          <p:spPr>
            <a:xfrm>
              <a:off x="6560640" y="4173840"/>
              <a:ext cx="57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6616440" y="237492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7"/>
            <p:cNvSpPr/>
            <p:nvPr/>
          </p:nvSpPr>
          <p:spPr>
            <a:xfrm>
              <a:off x="4817880" y="1830240"/>
              <a:ext cx="7416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8"/>
            <p:cNvSpPr/>
            <p:nvPr/>
          </p:nvSpPr>
          <p:spPr>
            <a:xfrm>
              <a:off x="3127680" y="177624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9"/>
            <p:cNvSpPr/>
            <p:nvPr/>
          </p:nvSpPr>
          <p:spPr>
            <a:xfrm>
              <a:off x="2363040" y="19933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0"/>
            <p:cNvSpPr/>
            <p:nvPr/>
          </p:nvSpPr>
          <p:spPr>
            <a:xfrm>
              <a:off x="2363040" y="4664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1"/>
            <p:cNvSpPr/>
            <p:nvPr/>
          </p:nvSpPr>
          <p:spPr>
            <a:xfrm>
              <a:off x="4053240" y="4610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2"/>
            <p:cNvSpPr/>
            <p:nvPr/>
          </p:nvSpPr>
          <p:spPr>
            <a:xfrm>
              <a:off x="5742360" y="4610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6505920" y="33019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4"/>
            <p:cNvSpPr/>
            <p:nvPr/>
          </p:nvSpPr>
          <p:spPr>
            <a:xfrm>
              <a:off x="5742360" y="204768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5"/>
            <p:cNvSpPr/>
            <p:nvPr/>
          </p:nvSpPr>
          <p:spPr>
            <a:xfrm>
              <a:off x="4053240" y="19933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7"/>
            <p:cNvSpPr/>
            <p:nvPr/>
          </p:nvSpPr>
          <p:spPr>
            <a:xfrm>
              <a:off x="1983240" y="3082680"/>
              <a:ext cx="1418040" cy="491400"/>
            </a:xfrm>
            <a:prstGeom prst="wedgeEllipseCallout">
              <a:avLst>
                <a:gd name="adj1" fmla="val 48726"/>
                <a:gd name="adj2" fmla="val 11675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Book Antiqua"/>
                </a:rPr>
                <a:t>Спасибо!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3"/>
            <p:cNvSpPr/>
            <p:nvPr/>
          </p:nvSpPr>
          <p:spPr>
            <a:xfrm>
              <a:off x="1272960" y="444492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0" descr="pch"/>
            <p:cNvPicPr/>
            <p:nvPr/>
          </p:nvPicPr>
          <p:blipFill>
            <a:blip r:embed="rId10"/>
            <a:stretch/>
          </p:blipFill>
          <p:spPr>
            <a:xfrm>
              <a:off x="3834720" y="2810160"/>
              <a:ext cx="152640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41"/>
            <p:cNvSpPr txBox="1"/>
            <p:nvPr/>
          </p:nvSpPr>
          <p:spPr>
            <a:xfrm>
              <a:off x="2254680" y="1066680"/>
              <a:ext cx="3706200" cy="32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Бал кортына булышый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457200" y="457200"/>
            <a:ext cx="82296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әгать ничә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745200" y="1676520"/>
            <a:ext cx="2245680" cy="2086560"/>
            <a:chOff x="745200" y="1676520"/>
            <a:chExt cx="2245680" cy="2086560"/>
          </a:xfrm>
        </p:grpSpPr>
        <p:sp>
          <p:nvSpPr>
            <p:cNvPr id="93" name="Oval 7"/>
            <p:cNvSpPr/>
            <p:nvPr/>
          </p:nvSpPr>
          <p:spPr>
            <a:xfrm>
              <a:off x="838080" y="1676520"/>
              <a:ext cx="2152800" cy="208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>
              <a:off x="891000" y="1728000"/>
              <a:ext cx="2046960" cy="1983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"/>
            <p:cNvSpPr/>
            <p:nvPr/>
          </p:nvSpPr>
          <p:spPr>
            <a:xfrm>
              <a:off x="1678680" y="1676520"/>
              <a:ext cx="62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 rot="5400000">
              <a:off x="2470680" y="2463840"/>
              <a:ext cx="524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 rot="1610400">
              <a:off x="2173680" y="1791360"/>
              <a:ext cx="282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 rot="2748600">
              <a:off x="2400480" y="202356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 rot="12609600">
              <a:off x="1107720" y="3179880"/>
              <a:ext cx="62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 rot="14533800">
              <a:off x="746280" y="2789280"/>
              <a:ext cx="7498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 rot="10800000">
              <a:off x="1569600" y="330840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 rot="8879400">
              <a:off x="2093040" y="3223080"/>
              <a:ext cx="38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 rot="7396800">
              <a:off x="2375640" y="29408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 rot="19056000">
              <a:off x="1227600" y="178884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 rot="17565000">
              <a:off x="1004400" y="203580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0"/>
            <p:cNvSpPr/>
            <p:nvPr/>
          </p:nvSpPr>
          <p:spPr>
            <a:xfrm rot="16678800">
              <a:off x="819720" y="23479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1"/>
            <p:cNvGrpSpPr/>
            <p:nvPr/>
          </p:nvGrpSpPr>
          <p:grpSpPr>
            <a:xfrm>
              <a:off x="1182960" y="2673720"/>
              <a:ext cx="824400" cy="465840"/>
              <a:chOff x="1182960" y="2673720"/>
              <a:chExt cx="824400" cy="465840"/>
            </a:xfrm>
          </p:grpSpPr>
          <p:sp>
            <p:nvSpPr>
              <p:cNvPr id="108" name="Freeform 22"/>
              <p:cNvSpPr/>
              <p:nvPr/>
            </p:nvSpPr>
            <p:spPr>
              <a:xfrm rot="3607200">
                <a:off x="1527840" y="2585160"/>
                <a:ext cx="168120" cy="64260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3"/>
              <p:cNvSpPr/>
              <p:nvPr/>
            </p:nvSpPr>
            <p:spPr>
              <a:xfrm rot="3607200">
                <a:off x="1347120" y="2915280"/>
                <a:ext cx="59040" cy="1040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4"/>
              <p:cNvSpPr/>
              <p:nvPr/>
            </p:nvSpPr>
            <p:spPr>
              <a:xfrm rot="3607200">
                <a:off x="1917720" y="2758680"/>
                <a:ext cx="59400" cy="1040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3607200">
                <a:off x="1270440" y="2886840"/>
                <a:ext cx="15120" cy="1854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3607200">
                <a:off x="1232280" y="2937240"/>
                <a:ext cx="69120" cy="15408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045080" y="2176560"/>
              <a:ext cx="1004040" cy="640080"/>
              <a:chOff x="1045080" y="2176560"/>
              <a:chExt cx="1004040" cy="640080"/>
            </a:xfrm>
          </p:grpSpPr>
          <p:sp>
            <p:nvSpPr>
              <p:cNvPr id="114" name="Freeform 28"/>
              <p:cNvSpPr/>
              <p:nvPr/>
            </p:nvSpPr>
            <p:spPr>
              <a:xfrm rot="6225000">
                <a:off x="1428120" y="2080800"/>
                <a:ext cx="293040" cy="84204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9"/>
              <p:cNvSpPr/>
              <p:nvPr/>
            </p:nvSpPr>
            <p:spPr>
              <a:xfrm rot="6225000">
                <a:off x="1251000" y="2251440"/>
                <a:ext cx="103320" cy="1364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30"/>
              <p:cNvSpPr/>
              <p:nvPr/>
            </p:nvSpPr>
            <p:spPr>
              <a:xfrm rot="6225000">
                <a:off x="1918440" y="2681640"/>
                <a:ext cx="103680" cy="1364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6225000">
                <a:off x="1188720" y="2104200"/>
                <a:ext cx="26640" cy="2430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6225000">
                <a:off x="1097280" y="2157840"/>
                <a:ext cx="120600" cy="2019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33"/>
          <p:cNvGrpSpPr/>
          <p:nvPr/>
        </p:nvGrpSpPr>
        <p:grpSpPr>
          <a:xfrm>
            <a:off x="5774040" y="1599120"/>
            <a:ext cx="2247480" cy="2086560"/>
            <a:chOff x="5774040" y="1599120"/>
            <a:chExt cx="2247480" cy="2086560"/>
          </a:xfrm>
        </p:grpSpPr>
        <p:sp>
          <p:nvSpPr>
            <p:cNvPr id="120" name="Oval 34"/>
            <p:cNvSpPr/>
            <p:nvPr/>
          </p:nvSpPr>
          <p:spPr>
            <a:xfrm>
              <a:off x="5867280" y="1600200"/>
              <a:ext cx="2154240" cy="2084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5"/>
            <p:cNvSpPr/>
            <p:nvPr/>
          </p:nvSpPr>
          <p:spPr>
            <a:xfrm>
              <a:off x="5920200" y="1651320"/>
              <a:ext cx="2048040" cy="1982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6"/>
            <p:cNvSpPr/>
            <p:nvPr/>
          </p:nvSpPr>
          <p:spPr>
            <a:xfrm>
              <a:off x="6707880" y="1600200"/>
              <a:ext cx="62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7"/>
            <p:cNvSpPr/>
            <p:nvPr/>
          </p:nvSpPr>
          <p:spPr>
            <a:xfrm rot="5400000">
              <a:off x="7500960" y="2386440"/>
              <a:ext cx="52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 rot="1610400">
              <a:off x="7203600" y="1715400"/>
              <a:ext cx="28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9"/>
            <p:cNvSpPr/>
            <p:nvPr/>
          </p:nvSpPr>
          <p:spPr>
            <a:xfrm rot="2748600">
              <a:off x="7430400" y="1946880"/>
              <a:ext cx="403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0"/>
            <p:cNvSpPr/>
            <p:nvPr/>
          </p:nvSpPr>
          <p:spPr>
            <a:xfrm rot="12609600">
              <a:off x="6136560" y="3102840"/>
              <a:ext cx="62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1"/>
            <p:cNvSpPr/>
            <p:nvPr/>
          </p:nvSpPr>
          <p:spPr>
            <a:xfrm rot="14533800">
              <a:off x="5775120" y="2711880"/>
              <a:ext cx="749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 rot="10800000">
              <a:off x="6599520" y="323100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3"/>
            <p:cNvSpPr/>
            <p:nvPr/>
          </p:nvSpPr>
          <p:spPr>
            <a:xfrm rot="8879400">
              <a:off x="7122960" y="3145680"/>
              <a:ext cx="38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4"/>
            <p:cNvSpPr/>
            <p:nvPr/>
          </p:nvSpPr>
          <p:spPr>
            <a:xfrm rot="7396800">
              <a:off x="7406280" y="2863440"/>
              <a:ext cx="507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5"/>
            <p:cNvSpPr/>
            <p:nvPr/>
          </p:nvSpPr>
          <p:spPr>
            <a:xfrm rot="19056000">
              <a:off x="6257160" y="171216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6"/>
            <p:cNvSpPr/>
            <p:nvPr/>
          </p:nvSpPr>
          <p:spPr>
            <a:xfrm rot="17565000">
              <a:off x="6033600" y="1958760"/>
              <a:ext cx="3862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7"/>
            <p:cNvSpPr/>
            <p:nvPr/>
          </p:nvSpPr>
          <p:spPr>
            <a:xfrm rot="16678800">
              <a:off x="5848560" y="2271240"/>
              <a:ext cx="507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48"/>
            <p:cNvGrpSpPr/>
            <p:nvPr/>
          </p:nvGrpSpPr>
          <p:grpSpPr>
            <a:xfrm>
              <a:off x="6027120" y="2241360"/>
              <a:ext cx="1081800" cy="788400"/>
              <a:chOff x="6027120" y="2241360"/>
              <a:chExt cx="1081800" cy="788400"/>
            </a:xfrm>
          </p:grpSpPr>
          <p:sp>
            <p:nvSpPr>
              <p:cNvPr id="135" name="Freeform 49"/>
              <p:cNvSpPr/>
              <p:nvPr/>
            </p:nvSpPr>
            <p:spPr>
              <a:xfrm rot="2272200">
                <a:off x="6248880" y="2390400"/>
                <a:ext cx="654480" cy="48960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50"/>
              <p:cNvSpPr/>
              <p:nvPr/>
            </p:nvSpPr>
            <p:spPr>
              <a:xfrm rot="2272200">
                <a:off x="6152760" y="2583000"/>
                <a:ext cx="230760" cy="7920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51"/>
              <p:cNvSpPr/>
              <p:nvPr/>
            </p:nvSpPr>
            <p:spPr>
              <a:xfrm rot="2272200">
                <a:off x="6877080" y="2593080"/>
                <a:ext cx="231480" cy="7920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2"/>
              <p:cNvSpPr/>
              <p:nvPr/>
            </p:nvSpPr>
            <p:spPr>
              <a:xfrm rot="2272200">
                <a:off x="6076800" y="2514600"/>
                <a:ext cx="59760" cy="1414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3"/>
              <p:cNvSpPr/>
              <p:nvPr/>
            </p:nvSpPr>
            <p:spPr>
              <a:xfrm rot="2272200">
                <a:off x="6034680" y="2601360"/>
                <a:ext cx="269640" cy="117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54"/>
            <p:cNvGrpSpPr/>
            <p:nvPr/>
          </p:nvGrpSpPr>
          <p:grpSpPr>
            <a:xfrm>
              <a:off x="6609600" y="1599120"/>
              <a:ext cx="702360" cy="1139040"/>
              <a:chOff x="6609600" y="1599120"/>
              <a:chExt cx="702360" cy="1139040"/>
            </a:xfrm>
          </p:grpSpPr>
          <p:sp>
            <p:nvSpPr>
              <p:cNvPr id="141" name="Freeform 55"/>
              <p:cNvSpPr/>
              <p:nvPr/>
            </p:nvSpPr>
            <p:spPr>
              <a:xfrm rot="9196800">
                <a:off x="6766920" y="1793520"/>
                <a:ext cx="387360" cy="79236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6"/>
              <p:cNvSpPr/>
              <p:nvPr/>
            </p:nvSpPr>
            <p:spPr>
              <a:xfrm rot="9196800">
                <a:off x="6895080" y="1800720"/>
                <a:ext cx="136440" cy="1281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57"/>
              <p:cNvSpPr/>
              <p:nvPr/>
            </p:nvSpPr>
            <p:spPr>
              <a:xfrm rot="9196800">
                <a:off x="6906960" y="2585880"/>
                <a:ext cx="136800" cy="1281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8"/>
              <p:cNvSpPr/>
              <p:nvPr/>
            </p:nvSpPr>
            <p:spPr>
              <a:xfrm rot="9196800">
                <a:off x="6973920" y="1609200"/>
                <a:ext cx="35280" cy="2286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9"/>
              <p:cNvSpPr/>
              <p:nvPr/>
            </p:nvSpPr>
            <p:spPr>
              <a:xfrm rot="9196800">
                <a:off x="6847200" y="1624680"/>
                <a:ext cx="159480" cy="18972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60"/>
          <p:cNvGrpSpPr/>
          <p:nvPr/>
        </p:nvGrpSpPr>
        <p:grpSpPr>
          <a:xfrm>
            <a:off x="821520" y="4114800"/>
            <a:ext cx="2245680" cy="2097000"/>
            <a:chOff x="821520" y="4114800"/>
            <a:chExt cx="2245680" cy="2097000"/>
          </a:xfrm>
        </p:grpSpPr>
        <p:sp>
          <p:nvSpPr>
            <p:cNvPr id="147" name="Oval 61"/>
            <p:cNvSpPr/>
            <p:nvPr/>
          </p:nvSpPr>
          <p:spPr>
            <a:xfrm>
              <a:off x="914400" y="4114800"/>
              <a:ext cx="2152800" cy="2086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2"/>
            <p:cNvSpPr/>
            <p:nvPr/>
          </p:nvSpPr>
          <p:spPr>
            <a:xfrm>
              <a:off x="967320" y="4165920"/>
              <a:ext cx="2046960" cy="19857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3"/>
            <p:cNvSpPr/>
            <p:nvPr/>
          </p:nvSpPr>
          <p:spPr>
            <a:xfrm>
              <a:off x="1755000" y="411480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4"/>
            <p:cNvSpPr/>
            <p:nvPr/>
          </p:nvSpPr>
          <p:spPr>
            <a:xfrm rot="5400000">
              <a:off x="2546640" y="4902480"/>
              <a:ext cx="524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5"/>
            <p:cNvSpPr/>
            <p:nvPr/>
          </p:nvSpPr>
          <p:spPr>
            <a:xfrm rot="1610400">
              <a:off x="2250360" y="4230000"/>
              <a:ext cx="282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6"/>
            <p:cNvSpPr/>
            <p:nvPr/>
          </p:nvSpPr>
          <p:spPr>
            <a:xfrm rot="2748600">
              <a:off x="2476800" y="446184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7"/>
            <p:cNvSpPr/>
            <p:nvPr/>
          </p:nvSpPr>
          <p:spPr>
            <a:xfrm rot="12609600">
              <a:off x="1229400" y="562932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8"/>
            <p:cNvSpPr/>
            <p:nvPr/>
          </p:nvSpPr>
          <p:spPr>
            <a:xfrm rot="14533800">
              <a:off x="822240" y="5228280"/>
              <a:ext cx="750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9"/>
            <p:cNvSpPr/>
            <p:nvPr/>
          </p:nvSpPr>
          <p:spPr>
            <a:xfrm rot="10800000">
              <a:off x="1734840" y="575640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0"/>
            <p:cNvSpPr/>
            <p:nvPr/>
          </p:nvSpPr>
          <p:spPr>
            <a:xfrm rot="8879400">
              <a:off x="2169360" y="566280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1"/>
            <p:cNvSpPr/>
            <p:nvPr/>
          </p:nvSpPr>
          <p:spPr>
            <a:xfrm rot="7396800">
              <a:off x="2451960" y="53798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2"/>
            <p:cNvSpPr/>
            <p:nvPr/>
          </p:nvSpPr>
          <p:spPr>
            <a:xfrm rot="19056000">
              <a:off x="1303560" y="42271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3"/>
            <p:cNvSpPr/>
            <p:nvPr/>
          </p:nvSpPr>
          <p:spPr>
            <a:xfrm rot="17565000">
              <a:off x="1080720" y="4474080"/>
              <a:ext cx="3870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4"/>
            <p:cNvSpPr/>
            <p:nvPr/>
          </p:nvSpPr>
          <p:spPr>
            <a:xfrm rot="16678800">
              <a:off x="895680" y="4786920"/>
              <a:ext cx="5083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75"/>
            <p:cNvGrpSpPr/>
            <p:nvPr/>
          </p:nvGrpSpPr>
          <p:grpSpPr>
            <a:xfrm>
              <a:off x="1774800" y="5074200"/>
              <a:ext cx="569160" cy="916920"/>
              <a:chOff x="1774800" y="5074200"/>
              <a:chExt cx="569160" cy="916920"/>
            </a:xfrm>
          </p:grpSpPr>
          <p:sp>
            <p:nvSpPr>
              <p:cNvPr id="162" name="Freeform 76"/>
              <p:cNvSpPr/>
              <p:nvPr/>
            </p:nvSpPr>
            <p:spPr>
              <a:xfrm rot="19953000">
                <a:off x="1904760" y="5195880"/>
                <a:ext cx="308880" cy="63972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7"/>
              <p:cNvSpPr/>
              <p:nvPr/>
            </p:nvSpPr>
            <p:spPr>
              <a:xfrm rot="19953000">
                <a:off x="2007720" y="5725440"/>
                <a:ext cx="10872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78"/>
              <p:cNvSpPr/>
              <p:nvPr/>
            </p:nvSpPr>
            <p:spPr>
              <a:xfrm rot="19953000">
                <a:off x="1986480" y="5093280"/>
                <a:ext cx="10908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9"/>
              <p:cNvSpPr/>
              <p:nvPr/>
            </p:nvSpPr>
            <p:spPr>
              <a:xfrm rot="19953000">
                <a:off x="2026440" y="5798880"/>
                <a:ext cx="28080" cy="1846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0"/>
              <p:cNvSpPr/>
              <p:nvPr/>
            </p:nvSpPr>
            <p:spPr>
              <a:xfrm rot="19953000">
                <a:off x="2029680" y="5816880"/>
                <a:ext cx="127080" cy="153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81"/>
            <p:cNvGrpSpPr/>
            <p:nvPr/>
          </p:nvGrpSpPr>
          <p:grpSpPr>
            <a:xfrm>
              <a:off x="1763280" y="4240080"/>
              <a:ext cx="610920" cy="995760"/>
              <a:chOff x="1763280" y="4240080"/>
              <a:chExt cx="610920" cy="995760"/>
            </a:xfrm>
          </p:grpSpPr>
          <p:sp>
            <p:nvSpPr>
              <p:cNvPr id="168" name="Freeform 82"/>
              <p:cNvSpPr/>
              <p:nvPr/>
            </p:nvSpPr>
            <p:spPr>
              <a:xfrm rot="9230400">
                <a:off x="1898280" y="4410720"/>
                <a:ext cx="340560" cy="69228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83"/>
              <p:cNvSpPr/>
              <p:nvPr/>
            </p:nvSpPr>
            <p:spPr>
              <a:xfrm rot="9230400">
                <a:off x="2014560" y="4416480"/>
                <a:ext cx="119880" cy="1119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84"/>
              <p:cNvSpPr/>
              <p:nvPr/>
            </p:nvSpPr>
            <p:spPr>
              <a:xfrm rot="9230400">
                <a:off x="2016720" y="5103000"/>
                <a:ext cx="120240" cy="1119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85"/>
              <p:cNvSpPr/>
              <p:nvPr/>
            </p:nvSpPr>
            <p:spPr>
              <a:xfrm rot="9230400">
                <a:off x="2085840" y="4249080"/>
                <a:ext cx="30960" cy="1998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6"/>
              <p:cNvSpPr/>
              <p:nvPr/>
            </p:nvSpPr>
            <p:spPr>
              <a:xfrm rot="9230400">
                <a:off x="1973880" y="4262400"/>
                <a:ext cx="140400" cy="1659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87"/>
          <p:cNvGrpSpPr/>
          <p:nvPr/>
        </p:nvGrpSpPr>
        <p:grpSpPr>
          <a:xfrm>
            <a:off x="5774760" y="4037760"/>
            <a:ext cx="2245320" cy="2088000"/>
            <a:chOff x="5774760" y="4037760"/>
            <a:chExt cx="2245320" cy="2088000"/>
          </a:xfrm>
        </p:grpSpPr>
        <p:sp>
          <p:nvSpPr>
            <p:cNvPr id="174" name="Oval 88"/>
            <p:cNvSpPr/>
            <p:nvPr/>
          </p:nvSpPr>
          <p:spPr>
            <a:xfrm>
              <a:off x="5867280" y="4038480"/>
              <a:ext cx="2152800" cy="208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9"/>
            <p:cNvSpPr/>
            <p:nvPr/>
          </p:nvSpPr>
          <p:spPr>
            <a:xfrm>
              <a:off x="5920200" y="4089600"/>
              <a:ext cx="2046960" cy="1984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0"/>
            <p:cNvSpPr/>
            <p:nvPr/>
          </p:nvSpPr>
          <p:spPr>
            <a:xfrm>
              <a:off x="6707880" y="403848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1"/>
            <p:cNvSpPr/>
            <p:nvPr/>
          </p:nvSpPr>
          <p:spPr>
            <a:xfrm rot="5400000">
              <a:off x="7499520" y="4825800"/>
              <a:ext cx="524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2"/>
            <p:cNvSpPr/>
            <p:nvPr/>
          </p:nvSpPr>
          <p:spPr>
            <a:xfrm rot="1610400">
              <a:off x="7203240" y="4153320"/>
              <a:ext cx="282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3"/>
            <p:cNvSpPr/>
            <p:nvPr/>
          </p:nvSpPr>
          <p:spPr>
            <a:xfrm rot="2748600">
              <a:off x="7429680" y="438552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4"/>
            <p:cNvSpPr/>
            <p:nvPr/>
          </p:nvSpPr>
          <p:spPr>
            <a:xfrm rot="12609600">
              <a:off x="6136560" y="554256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5"/>
            <p:cNvSpPr/>
            <p:nvPr/>
          </p:nvSpPr>
          <p:spPr>
            <a:xfrm rot="14533800">
              <a:off x="5775840" y="5151600"/>
              <a:ext cx="749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6"/>
            <p:cNvSpPr/>
            <p:nvPr/>
          </p:nvSpPr>
          <p:spPr>
            <a:xfrm rot="10800000">
              <a:off x="6598800" y="56707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7"/>
            <p:cNvSpPr/>
            <p:nvPr/>
          </p:nvSpPr>
          <p:spPr>
            <a:xfrm rot="8879400">
              <a:off x="7122240" y="558576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8"/>
            <p:cNvSpPr/>
            <p:nvPr/>
          </p:nvSpPr>
          <p:spPr>
            <a:xfrm rot="7396800">
              <a:off x="7404840" y="5302800"/>
              <a:ext cx="507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9"/>
            <p:cNvSpPr/>
            <p:nvPr/>
          </p:nvSpPr>
          <p:spPr>
            <a:xfrm rot="19056000">
              <a:off x="6256440" y="41504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0"/>
            <p:cNvSpPr/>
            <p:nvPr/>
          </p:nvSpPr>
          <p:spPr>
            <a:xfrm rot="17565000">
              <a:off x="6033600" y="439812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01"/>
            <p:cNvSpPr/>
            <p:nvPr/>
          </p:nvSpPr>
          <p:spPr>
            <a:xfrm rot="16678800">
              <a:off x="5848920" y="470988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2"/>
            <p:cNvGrpSpPr/>
            <p:nvPr/>
          </p:nvGrpSpPr>
          <p:grpSpPr>
            <a:xfrm>
              <a:off x="6954120" y="4796640"/>
              <a:ext cx="916920" cy="558000"/>
              <a:chOff x="6954120" y="4796640"/>
              <a:chExt cx="916920" cy="558000"/>
            </a:xfrm>
          </p:grpSpPr>
          <p:sp>
            <p:nvSpPr>
              <p:cNvPr id="189" name="Freeform 103"/>
              <p:cNvSpPr/>
              <p:nvPr/>
            </p:nvSpPr>
            <p:spPr>
              <a:xfrm rot="14641800">
                <a:off x="7240680" y="4755600"/>
                <a:ext cx="308880" cy="63972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04"/>
              <p:cNvSpPr/>
              <p:nvPr/>
            </p:nvSpPr>
            <p:spPr>
              <a:xfrm rot="14641800">
                <a:off x="7602480" y="5027760"/>
                <a:ext cx="10872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05"/>
              <p:cNvSpPr/>
              <p:nvPr/>
            </p:nvSpPr>
            <p:spPr>
              <a:xfrm rot="14641800">
                <a:off x="6969960" y="5032080"/>
                <a:ext cx="10908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6"/>
              <p:cNvSpPr/>
              <p:nvPr/>
            </p:nvSpPr>
            <p:spPr>
              <a:xfrm rot="14641800">
                <a:off x="7755840" y="5011560"/>
                <a:ext cx="28080" cy="1846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7"/>
              <p:cNvSpPr/>
              <p:nvPr/>
            </p:nvSpPr>
            <p:spPr>
              <a:xfrm rot="14641800">
                <a:off x="7710480" y="4974840"/>
                <a:ext cx="127080" cy="153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08"/>
            <p:cNvGrpSpPr/>
            <p:nvPr/>
          </p:nvGrpSpPr>
          <p:grpSpPr>
            <a:xfrm>
              <a:off x="6607800" y="4037760"/>
              <a:ext cx="706680" cy="1139760"/>
              <a:chOff x="6607800" y="4037760"/>
              <a:chExt cx="706680" cy="1139760"/>
            </a:xfrm>
          </p:grpSpPr>
          <p:sp>
            <p:nvSpPr>
              <p:cNvPr id="195" name="Freeform 109"/>
              <p:cNvSpPr/>
              <p:nvPr/>
            </p:nvSpPr>
            <p:spPr>
              <a:xfrm rot="9170400">
                <a:off x="6767280" y="4232520"/>
                <a:ext cx="387360" cy="79308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10"/>
              <p:cNvSpPr/>
              <p:nvPr/>
            </p:nvSpPr>
            <p:spPr>
              <a:xfrm rot="9170400">
                <a:off x="6892920" y="4239360"/>
                <a:ext cx="136440" cy="12852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11"/>
              <p:cNvSpPr/>
              <p:nvPr/>
            </p:nvSpPr>
            <p:spPr>
              <a:xfrm rot="9170400">
                <a:off x="6910920" y="5024880"/>
                <a:ext cx="136800" cy="12852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2"/>
              <p:cNvSpPr/>
              <p:nvPr/>
            </p:nvSpPr>
            <p:spPr>
              <a:xfrm rot="9170400">
                <a:off x="6970680" y="4047840"/>
                <a:ext cx="35280" cy="22896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3"/>
              <p:cNvSpPr/>
              <p:nvPr/>
            </p:nvSpPr>
            <p:spPr>
              <a:xfrm rot="9170400">
                <a:off x="6843240" y="4063680"/>
                <a:ext cx="159480" cy="19008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айсы санда 5 дистә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8 берәмл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8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5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айсы санда 5 дистә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8 берәмл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3520" y="-1615428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96"/>
          <p:cNvSpPr/>
          <p:nvPr/>
        </p:nvSpPr>
        <p:spPr>
          <a:xfrm>
            <a:off x="4114800" y="1066680"/>
            <a:ext cx="4876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990720" y="1981080"/>
            <a:ext cx="2971800" cy="25909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9"/>
          <p:cNvCxnSpPr>
            <a:stCxn id="208" idx="2"/>
            <a:endCxn id="208" idx="5"/>
          </p:cNvCxnSpPr>
          <p:nvPr/>
        </p:nvCxnSpPr>
        <p:spPr>
          <a:xfrm flipV="1">
            <a:off x="990360" y="3276360"/>
            <a:ext cx="1486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AutoShape 10"/>
          <p:cNvCxnSpPr>
            <a:stCxn id="208" idx="0"/>
            <a:endCxn id="208" idx="3"/>
          </p:cNvCxnSpPr>
          <p:nvPr/>
        </p:nvCxnSpPr>
        <p:spPr>
          <a:xfrm>
            <a:off x="990360" y="1980720"/>
            <a:ext cx="148644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 rot="2433000">
            <a:off x="4978080" y="2009520"/>
            <a:ext cx="2900160" cy="2743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12"/>
          <p:cNvCxnSpPr>
            <a:stCxn id="211" idx="2"/>
            <a:endCxn id="211" idx="0"/>
          </p:cNvCxnSpPr>
          <p:nvPr/>
        </p:nvCxnSpPr>
        <p:spPr>
          <a:xfrm flipV="1">
            <a:off x="5535720" y="2337840"/>
            <a:ext cx="1784880" cy="208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AutoShape 13"/>
          <p:cNvCxnSpPr>
            <a:endCxn id="211" idx="3"/>
          </p:cNvCxnSpPr>
          <p:nvPr/>
        </p:nvCxnSpPr>
        <p:spPr>
          <a:xfrm>
            <a:off x="5409720" y="2514240"/>
            <a:ext cx="212004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AutoShape 14"/>
          <p:cNvCxnSpPr/>
          <p:nvPr/>
        </p:nvCxnSpPr>
        <p:spPr>
          <a:xfrm>
            <a:off x="990360" y="1980720"/>
            <a:ext cx="148644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Җавапларын 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+ 25=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14=             c+10-b=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17=           b+25=            c -3 +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=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b=20               c=20,   b=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mg5"/>
          <p:cNvPicPr/>
          <p:nvPr/>
        </p:nvPicPr>
        <p:blipFill>
          <a:blip r:embed="rId1"/>
          <a:stretch/>
        </p:blipFill>
        <p:spPr>
          <a:xfrm>
            <a:off x="7162920" y="152280"/>
            <a:ext cx="1815840" cy="13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Өй эше.</a:t>
            </a:r>
            <a:br>
              <a:rPr sz="4000"/>
            </a:b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9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e027d61329d2"/>
          <p:cNvPicPr/>
          <p:nvPr/>
        </p:nvPicPr>
        <p:blipFill>
          <a:blip r:embed="rId1"/>
          <a:stretch/>
        </p:blipFill>
        <p:spPr>
          <a:xfrm>
            <a:off x="2438280" y="1592280"/>
            <a:ext cx="1176480" cy="29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1-09T10:47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