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75E5-DD37-4718-A8C0-CBEA1ECC19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5971-C69C-48A2-ADF1-2CEA425E0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ED1-044F-4331-8C34-DD092E3D2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B999-F094-4209-9D25-CF37690AA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9AC-8A72-49A1-873B-D0B25A91D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56CA-D493-44D6-BAA9-029783F40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3A5-2C22-4C47-B900-AFAD70F5C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13C-798A-4D28-9524-B81F9995A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1B5F-881E-4E31-BFB7-7869F9EA3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8F4-3E35-4F74-84F3-4C7A83B3D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E32-2986-4147-8625-15414A010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E874-4C33-4FB0-900A-83F5629CC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0F9-F0EA-4858-B0FC-E2A535E5A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EE5B-6F5C-412B-8B7A-A25DB180C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6BA-D731-423B-8023-759381A5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5B8-1121-4FBC-9146-2DA2CB3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26F-23C2-44F3-8FD2-9B0C94CD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D3B-92EF-4959-8455-CF819171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8162-6D16-4E88-B6B6-F021592B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0508-E15D-488D-8F2C-BEF9642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AA6-6E58-44C7-9256-57667F08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38B4-B241-43CD-BFF9-A001D61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5D8-9C1D-4762-B653-246A4650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2D66-F33A-4253-AA5B-D7A72CFA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9D24-B57A-428A-862C-C89FB62B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5B3-A2E0-4E09-9191-E84BB43A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B82-701F-4A98-ABAE-1E4803B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E6B-0B5C-464F-B1BC-833A9AC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E3CD-ECE3-48B4-BC65-44C87F1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2D16-FD5E-4F29-B177-AF13D621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4BE-876A-42ED-82CD-9DF2C95E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3903-ABBB-40DC-A339-FE2BB37C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73E7-4078-4CFE-91D6-22A51FCA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92B7-D1A6-40C9-95EC-3810E870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146F-813F-4C3D-BAC5-798E2E5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B9D8-0BA4-4433-8D9D-AA9A03EF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096-5EBA-4909-A35B-0BEE54DF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57DC-9FF1-4399-AE61-42D2CF9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ABCE-9FF4-4CC3-9F30-CBB3E73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49DB-546E-4A26-9707-CC51281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2F31-7C94-4511-B495-ACD8FD5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2A12-6B89-4DA5-8A5B-0932D2F4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C690-1DE7-4849-8BB1-18AA16BE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2C58-8FF7-4027-A4D4-2643C560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8AF-EE79-45A6-A9F2-52AFECAB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708-B83A-4E29-804F-1A0726D5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1F0-EC47-49BB-803E-35FDBBD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424-4DE9-425A-87BF-FEBABD7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6C3-CC30-42A1-A217-35A178E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AD2-94C0-4A3C-BB0D-92CC27C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CAE-231A-4657-86B7-3D2E0C132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EC7-692D-472A-A88A-012FD079F0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849-711F-4A9E-991C-7DAE8F2A2A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79280" y="0"/>
            <a:ext cx="871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01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</a:rPr>
              <a:t>изменение  имён  существительны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1619280" y="2276640"/>
            <a:ext cx="55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 падежа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835280" y="4005360"/>
            <a:ext cx="6791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итель  начальных  клас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5724360" y="189000"/>
            <a:ext cx="3133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Закреплени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324000" y="1197000"/>
            <a:ext cx="2808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Гуляли в рощ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3564000" y="1197000"/>
            <a:ext cx="48243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приблизились к черёмух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24000" y="1844640"/>
            <a:ext cx="3801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нах..дился в ло..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0920" y="2349360"/>
            <a:ext cx="3929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..традь без обло..к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4500720" y="2349360"/>
            <a:ext cx="4051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н..здо без насе..ки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468360" y="2997360"/>
            <a:ext cx="3892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адник на лошад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6" name="WordArt 11"/>
          <p:cNvSpPr txBox="1"/>
          <p:nvPr/>
        </p:nvSpPr>
        <p:spPr>
          <a:xfrm>
            <a:off x="250920" y="3500280"/>
            <a:ext cx="3504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Ж..л в гор..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4284720" y="3573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полз по ..деж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468360" y="4076640"/>
            <a:ext cx="417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подошёл к ферм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395280" y="4653000"/>
            <a:ext cx="4200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рубили б..рёзу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4932360" y="4797360"/>
            <a:ext cx="273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пил ч..ю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395280" y="5300640"/>
            <a:ext cx="367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..жал на печ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2" name="WordArt 22"/>
          <p:cNvSpPr txBox="1"/>
          <p:nvPr/>
        </p:nvSpPr>
        <p:spPr>
          <a:xfrm>
            <a:off x="324000" y="1844640"/>
            <a:ext cx="3801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находился в лод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53" name="WordArt 23"/>
          <p:cNvSpPr txBox="1"/>
          <p:nvPr/>
        </p:nvSpPr>
        <p:spPr>
          <a:xfrm>
            <a:off x="250920" y="2349360"/>
            <a:ext cx="3929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традь без обложк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4" name="WordArt 24"/>
          <p:cNvSpPr txBox="1"/>
          <p:nvPr/>
        </p:nvSpPr>
        <p:spPr>
          <a:xfrm>
            <a:off x="4500720" y="2349360"/>
            <a:ext cx="4051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нездо без наседки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5" name="WordArt 25"/>
          <p:cNvSpPr txBox="1"/>
          <p:nvPr/>
        </p:nvSpPr>
        <p:spPr>
          <a:xfrm>
            <a:off x="250920" y="3500280"/>
            <a:ext cx="3504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Жил в горо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56" name="WordArt 26"/>
          <p:cNvSpPr txBox="1"/>
          <p:nvPr/>
        </p:nvSpPr>
        <p:spPr>
          <a:xfrm>
            <a:off x="4284720" y="3573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полз по одеж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57" name="WordArt 27"/>
          <p:cNvSpPr txBox="1"/>
          <p:nvPr/>
        </p:nvSpPr>
        <p:spPr>
          <a:xfrm>
            <a:off x="395280" y="4653000"/>
            <a:ext cx="4200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рубили берёзу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8" name="WordArt 28"/>
          <p:cNvSpPr txBox="1"/>
          <p:nvPr/>
        </p:nvSpPr>
        <p:spPr>
          <a:xfrm>
            <a:off x="4932360" y="4797360"/>
            <a:ext cx="273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пил чаю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9" name="WordArt 29"/>
          <p:cNvSpPr txBox="1"/>
          <p:nvPr/>
        </p:nvSpPr>
        <p:spPr>
          <a:xfrm>
            <a:off x="395280" y="5300640"/>
            <a:ext cx="367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жал на печ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971640" y="260280"/>
            <a:ext cx="7010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Impact"/>
              </a:rPr>
              <a:t>Самостоятельная работа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468360" y="1700280"/>
            <a:ext cx="8280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На языке,  без учителя,  от ученика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395280" y="321300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по улице,  за трактором, на станках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395280" y="4221000"/>
            <a:ext cx="8280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перед соломой, с севера,  по Родин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468360" y="5445000"/>
            <a:ext cx="639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на рисунках,  с ребятам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5" name="WordArt 9"/>
          <p:cNvSpPr txBox="1"/>
          <p:nvPr/>
        </p:nvSpPr>
        <p:spPr>
          <a:xfrm>
            <a:off x="1476360" y="1484280"/>
            <a:ext cx="719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6" name="WordArt 10"/>
          <p:cNvSpPr txBox="1"/>
          <p:nvPr/>
        </p:nvSpPr>
        <p:spPr>
          <a:xfrm>
            <a:off x="4356000" y="1413000"/>
            <a:ext cx="720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11"/>
          <p:cNvSpPr txBox="1"/>
          <p:nvPr/>
        </p:nvSpPr>
        <p:spPr>
          <a:xfrm>
            <a:off x="6877080" y="1413000"/>
            <a:ext cx="720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8" name="WordArt 12"/>
          <p:cNvSpPr txBox="1"/>
          <p:nvPr/>
        </p:nvSpPr>
        <p:spPr>
          <a:xfrm>
            <a:off x="1187280" y="2708280"/>
            <a:ext cx="720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WordArt 13"/>
          <p:cNvSpPr txBox="1"/>
          <p:nvPr/>
        </p:nvSpPr>
        <p:spPr>
          <a:xfrm>
            <a:off x="4140360" y="2708280"/>
            <a:ext cx="64764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WordArt 14"/>
          <p:cNvSpPr txBox="1"/>
          <p:nvPr/>
        </p:nvSpPr>
        <p:spPr>
          <a:xfrm>
            <a:off x="7164360" y="2781360"/>
            <a:ext cx="719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2843280" y="3933720"/>
            <a:ext cx="64764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5148360" y="3933720"/>
            <a:ext cx="72072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7524720" y="3933720"/>
            <a:ext cx="72072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WordArt 18"/>
          <p:cNvSpPr txBox="1"/>
          <p:nvPr/>
        </p:nvSpPr>
        <p:spPr>
          <a:xfrm>
            <a:off x="2700360" y="5229360"/>
            <a:ext cx="719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5" name="WordArt 19"/>
          <p:cNvSpPr txBox="1"/>
          <p:nvPr/>
        </p:nvSpPr>
        <p:spPr>
          <a:xfrm>
            <a:off x="5867280" y="5157720"/>
            <a:ext cx="6480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000"/>
                            </p:stCondLst>
                            <p:childTnLst>
                              <p:par>
                                <p:cTn id="9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9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971640" y="333360"/>
            <a:ext cx="684036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Times New Roman"/>
              </a:rPr>
              <a:t>Итог урока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Times New Roman"/>
              <a:ea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84360" y="14842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Что  мы  называем  скло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Сколько  падежей  в  русском  я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К  какому  падежу  относится  существительное  в  начальной  фор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Чем  является  начальная  форма  имени  существи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Назовите  вопросы  косвенных  падеж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Какие  предлоги  употребляются  с  косвенными  падеж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У  кого  из  вас  вызвало  затруднение  склонение  имён 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3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8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3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 flipH="1">
            <a:off x="1546920" y="692280"/>
            <a:ext cx="287640" cy="129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719280" y="-274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те по шкале следующие критер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187280" y="3789360"/>
            <a:ext cx="701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 flipH="1">
            <a:off x="4427640" y="692280"/>
            <a:ext cx="287280" cy="129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 flipH="1">
            <a:off x="7093080" y="765000"/>
            <a:ext cx="287280" cy="129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539640" y="2205000"/>
            <a:ext cx="22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99564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5796000" y="22050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14"/>
          <p:cNvSpPr txBox="1"/>
          <p:nvPr/>
        </p:nvSpPr>
        <p:spPr>
          <a:xfrm>
            <a:off x="684360" y="2565360"/>
            <a:ext cx="5184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Impact"/>
              </a:rPr>
              <a:t>Домашнее  задани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66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pic>
        <p:nvPicPr>
          <p:cNvPr id="287" name="Picture 15" descr="MMj02828550000[1]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403280" y="4149720"/>
            <a:ext cx="2233800" cy="2521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6"/>
          <p:cNvSpPr/>
          <p:nvPr/>
        </p:nvSpPr>
        <p:spPr>
          <a:xfrm>
            <a:off x="4140360" y="4221000"/>
            <a:ext cx="46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7"/>
          <p:cNvSpPr txBox="1"/>
          <p:nvPr/>
        </p:nvSpPr>
        <p:spPr>
          <a:xfrm>
            <a:off x="4211640" y="4149720"/>
            <a:ext cx="37558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Arial"/>
              </a:rPr>
              <a:t>1. Прочитайте правила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Arial"/>
              </a:rPr>
              <a:t>определения в учебни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Arial"/>
              </a:rPr>
              <a:t>по данной тем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290" name="WordArt 18"/>
          <p:cNvSpPr txBox="1"/>
          <p:nvPr/>
        </p:nvSpPr>
        <p:spPr>
          <a:xfrm>
            <a:off x="4356000" y="5805360"/>
            <a:ext cx="222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 Упр. 91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1042920" y="404640"/>
            <a:ext cx="1038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3348000" y="404640"/>
            <a:ext cx="19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5580000" y="549360"/>
            <a:ext cx="287280" cy="287280"/>
          </a:xfrm>
          <a:prstGeom prst="rect">
            <a:avLst/>
          </a:prstGeom>
          <a:solidFill>
            <a:srgbClr val="9966ff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971640" y="1052640"/>
            <a:ext cx="126684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г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5580000" y="1125360"/>
            <a:ext cx="2574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3419640" y="1052640"/>
            <a:ext cx="197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900000" y="1628640"/>
            <a:ext cx="1390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3" name="WordArt 14"/>
          <p:cNvSpPr txBox="1"/>
          <p:nvPr/>
        </p:nvSpPr>
        <p:spPr>
          <a:xfrm>
            <a:off x="3419640" y="1628640"/>
            <a:ext cx="197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15"/>
          <p:cNvSpPr txBox="1"/>
          <p:nvPr/>
        </p:nvSpPr>
        <p:spPr>
          <a:xfrm>
            <a:off x="3492360" y="2276640"/>
            <a:ext cx="1971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5580000" y="1700280"/>
            <a:ext cx="257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46" name="WordArt 17"/>
          <p:cNvSpPr txBox="1"/>
          <p:nvPr/>
        </p:nvSpPr>
        <p:spPr>
          <a:xfrm>
            <a:off x="1116000" y="2276640"/>
            <a:ext cx="10382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651640" y="2421000"/>
            <a:ext cx="287280" cy="287280"/>
          </a:xfrm>
          <a:prstGeom prst="rect">
            <a:avLst/>
          </a:prstGeom>
          <a:solidFill>
            <a:srgbClr val="9966ff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1042920" y="2852640"/>
            <a:ext cx="113364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3492360" y="2852640"/>
            <a:ext cx="19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" name="WordArt 21"/>
          <p:cNvSpPr txBox="1"/>
          <p:nvPr/>
        </p:nvSpPr>
        <p:spPr>
          <a:xfrm>
            <a:off x="3348000" y="3429000"/>
            <a:ext cx="211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 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22"/>
          <p:cNvSpPr txBox="1"/>
          <p:nvPr/>
        </p:nvSpPr>
        <p:spPr>
          <a:xfrm>
            <a:off x="5580000" y="2924280"/>
            <a:ext cx="60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611280" y="3429000"/>
            <a:ext cx="1533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 чё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24"/>
          <p:cNvSpPr txBox="1"/>
          <p:nvPr/>
        </p:nvSpPr>
        <p:spPr>
          <a:xfrm>
            <a:off x="5651640" y="3500280"/>
            <a:ext cx="257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11280" y="4292640"/>
            <a:ext cx="81374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вопросам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м по падеж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лон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ло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 грамматический  признак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900000" y="260280"/>
            <a:ext cx="7272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 русском  языке 6 падежей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547640" y="91800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н  ещё  не  родился,  а  уже  думали,  какое  имя  ему  дать,  и  решили  назвать  -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имен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одился  -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родительный.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то  имя  ему  ещё  больше  понрав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о  он  был  малышом,  ему  всё  давали,  и  он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д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о  он  был  ещё  большим  озорником,  за  всякие  проделки  его  винили,  и  он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вин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Потом  подрос,  стал  творить  добрые  дела  и  называться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твор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н  всем  предлагал  свою  помощь,  о  нём  заговорили  и  назвали  теперь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предлож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MCj04115640000[1]"/>
          <p:cNvPicPr/>
          <p:nvPr/>
        </p:nvPicPr>
        <p:blipFill>
          <a:blip r:embed="rId2"/>
          <a:stretch/>
        </p:blipFill>
        <p:spPr>
          <a:xfrm>
            <a:off x="179280" y="981000"/>
            <a:ext cx="1297080" cy="127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MCj04247420000[1]"/>
          <p:cNvPicPr/>
          <p:nvPr/>
        </p:nvPicPr>
        <p:blipFill>
          <a:blip r:embed="rId3"/>
          <a:stretch/>
        </p:blipFill>
        <p:spPr>
          <a:xfrm>
            <a:off x="468360" y="4581360"/>
            <a:ext cx="1152360" cy="137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MCj04120440000[1]"/>
          <p:cNvPicPr/>
          <p:nvPr/>
        </p:nvPicPr>
        <p:blipFill>
          <a:blip r:embed="rId4"/>
          <a:srcRect l="18186" t="0" r="30288" b="0"/>
          <a:stretch/>
        </p:blipFill>
        <p:spPr>
          <a:xfrm>
            <a:off x="7812000" y="2781360"/>
            <a:ext cx="1008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0" name="Picture 10" descr="MCj04134620000[1]"/>
          <p:cNvPicPr/>
          <p:nvPr/>
        </p:nvPicPr>
        <p:blipFill>
          <a:blip r:embed="rId5"/>
          <a:srcRect l="12547" t="0" r="37500" b="10018"/>
          <a:stretch/>
        </p:blipFill>
        <p:spPr>
          <a:xfrm>
            <a:off x="468360" y="2637000"/>
            <a:ext cx="1150920" cy="158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4322330000[1]"/>
          <p:cNvPicPr/>
          <p:nvPr/>
        </p:nvPicPr>
        <p:blipFill>
          <a:blip r:embed="rId6"/>
          <a:srcRect l="0" t="51142" r="40695" b="0"/>
          <a:stretch/>
        </p:blipFill>
        <p:spPr>
          <a:xfrm>
            <a:off x="8101080" y="5373720"/>
            <a:ext cx="8650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80360" cy="6858000"/>
        </p:xfrm>
        <a:graphic>
          <a:graphicData uri="http://schemas.openxmlformats.org/drawingml/2006/table">
            <a:tbl>
              <a:tblPr/>
              <a:tblGrid>
                <a:gridCol w="2549520"/>
                <a:gridCol w="1476360"/>
                <a:gridCol w="1487520"/>
                <a:gridCol w="1484280"/>
                <a:gridCol w="21826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,  за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 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 до, из, без, у, для, с, око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а, за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 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у, зай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на, за, про, чер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, за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ую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 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, под, с, между, перед, 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м, зайц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 чё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, о, на, в, при, 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лес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 зай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547640" y="260280"/>
            <a:ext cx="4465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физ.пау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250920" y="1052640"/>
            <a:ext cx="54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рибежали, прибеж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2843280" y="1557360"/>
            <a:ext cx="32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Ёжики, ёж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395280" y="2276640"/>
            <a:ext cx="518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Наточили, наточи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411280" y="2924280"/>
            <a:ext cx="35146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ожики, нож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395280" y="3500280"/>
            <a:ext cx="51912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рискакали, прискак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2124000" y="4221000"/>
            <a:ext cx="3791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йчики, зайч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1187280" y="479736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Ну-ка вместе, ну-ка друж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1476360" y="5734080"/>
            <a:ext cx="5616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- Девочки! Мальчи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72" name="Picture 13" descr="Заяц-побегаец"/>
          <p:cNvPicPr/>
          <p:nvPr/>
        </p:nvPicPr>
        <p:blipFill>
          <a:blip r:embed="rId2"/>
          <a:stretch/>
        </p:blipFill>
        <p:spPr>
          <a:xfrm>
            <a:off x="7308720" y="3213000"/>
            <a:ext cx="1303560" cy="151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Picture 14" descr="Ни головы, ни ножек"/>
          <p:cNvPicPr/>
          <p:nvPr/>
        </p:nvPicPr>
        <p:blipFill>
          <a:blip r:embed="rId3"/>
          <a:stretch/>
        </p:blipFill>
        <p:spPr>
          <a:xfrm>
            <a:off x="6732720" y="907920"/>
            <a:ext cx="1820880" cy="1311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468360" y="260280"/>
            <a:ext cx="7775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рибежали,  прибежал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539640" y="1268280"/>
            <a:ext cx="518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Ёжики, ёжики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539640" y="2133720"/>
            <a:ext cx="70916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рискакали, прискакал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684360" y="3213000"/>
            <a:ext cx="54003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Зайчики, зайчики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4788000" y="285264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1835280" y="285264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3780000" y="90792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1" name="WordArt 12"/>
          <p:cNvSpPr txBox="1"/>
          <p:nvPr/>
        </p:nvSpPr>
        <p:spPr>
          <a:xfrm>
            <a:off x="1258920" y="90792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539640" y="198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3276720" y="198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826920" y="4005360"/>
            <a:ext cx="22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3635280" y="400536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39640" y="3933720"/>
            <a:ext cx="820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мя существительное в именительном падеже в предложении  чаще всего бывает </a:t>
            </a:r>
            <a:r>
              <a:rPr b="1" i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подлежа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орма именительного падежа единственного числа называется </a:t>
            </a:r>
            <a:r>
              <a:rPr b="1" i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начальной формой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BD21533_"/>
          <p:cNvPicPr/>
          <p:nvPr/>
        </p:nvPicPr>
        <p:blipFill>
          <a:blip r:embed="rId1"/>
          <a:stretch/>
        </p:blipFill>
        <p:spPr>
          <a:xfrm>
            <a:off x="4140360" y="3213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04769 C 0.00382 -0.19676 -0.09063 -0.40856 -0.21754 -0.42315 C -0.33837 -0.44097 -0.45156 -0.27731 -0.45938 -0.03958 C -0.46858 0.17894 -0.38924 0.38403 -0.2757 0.39838 C -0.17222 0.40949 -0.07361 0.27384 -0.06615 0.06991 C -0.05851 -0.1169 -0.12465 -0.2919 -0.22101 -0.30625 C -0.3099 -0.31736 -0.3934 -0.2037 -0.39879 -0.03264 C -0.40434 0.1206 -0.35174 0.27037 -0.27205 0.27778 C -0.20035 0.28866 -0.13247 0.20116 -0.12656 0.06227 C -0.12292 -0.0618 -0.16267 -0.18241 -0.22483 -0.18935 C -0.27969 -0.19676 -0.33455 -0.13102 -0.33837 -0.02546 C -0.34201 0.06621 -0.31389 0.15347 -0.26823 0.16134 C -0.23056 0.16806 -0.1908 0.12847 -0.18872 0.05556 C -0.18507 -0.0037 -0.20035 -0.06574 -0.22847 -0.07245 C -0.25139 -0.07245 -0.27413 -0.0581 -0.27761 -0.01805 C -0.27969 0.00787 -0.2757 0.03333 -0.26458 0.04421 C -0.25903 0.04769 -0.25504 0.04769 -0.24948 0.04421 E">
                                      <p:cBhvr>
                                        <p:cTn id="398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792 C -0.004 -0.19676 0.096 -0.40833 0.23003 -0.42291 C 0.35816 -0.44097 0.47795 -0.27708 0.48593 -0.03935 C 0.496 0.17917 0.41198 0.38403 0.29184 0.39838 C 0.18211 0.40949 0.07795 0.27431 0.06996 0.07014 C 0.06198 -0.11597 0.13211 -0.29166 0.23385 -0.30648 C 0.32795 -0.31713 0.41614 -0.2037 0.42205 -0.0324 C 0.42795 0.12084 0.37205 0.27061 0.28802 0.27801 C 0.21198 0.28866 0.1401 0.20139 0.13385 0.06273 C 0.13003 -0.0618 0.17205 -0.18194 0.23802 -0.18889 C 0.296 -0.19676 0.35399 -0.13078 0.35816 -0.025 C 0.36198 0.06644 0.33211 0.15348 0.28385 0.16135 C 0.24392 0.16806 0.20191 0.12824 0.19982 0.05556 C 0.196 -0.00324 0.21198 -0.06551 0.24184 -0.07245 C 0.26614 -0.07245 0.2901 -0.05787 0.29392 -0.01805 C 0.296 0.00811 0.29184 0.03357 0.28003 0.04422 C 0.27413 0.04792 0.26996 0.04792 0.26406 0.04422 E">
                                      <p:cBhvr>
                                        <p:cTn id="401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5"/>
          <p:cNvSpPr txBox="1"/>
          <p:nvPr/>
        </p:nvSpPr>
        <p:spPr>
          <a:xfrm>
            <a:off x="5292720" y="260280"/>
            <a:ext cx="3133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Закреплени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24000" y="1557360"/>
            <a:ext cx="647640" cy="45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2627280" y="1628640"/>
            <a:ext cx="1514520" cy="456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 ко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е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г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г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5724360" y="1484280"/>
            <a:ext cx="163836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б отц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971640" y="1844640"/>
            <a:ext cx="1800000" cy="33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4140360" y="5084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900000" y="2565360"/>
            <a:ext cx="1800360" cy="31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4284720" y="5950080"/>
            <a:ext cx="1582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900000" y="1988640"/>
            <a:ext cx="165600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4427640" y="1844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900000" y="4149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 flipV="1">
            <a:off x="971640" y="3573000"/>
            <a:ext cx="1800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284720" y="350028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V="1">
            <a:off x="900000" y="2781360"/>
            <a:ext cx="1729080" cy="31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4500720" y="2637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21"/>
          <p:cNvSpPr txBox="1"/>
          <p:nvPr/>
        </p:nvSpPr>
        <p:spPr>
          <a:xfrm>
            <a:off x="2411280" y="1628640"/>
            <a:ext cx="16956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ему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 чём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ем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т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т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ег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5" name="WordArt 22"/>
          <p:cNvSpPr txBox="1"/>
          <p:nvPr/>
        </p:nvSpPr>
        <p:spPr>
          <a:xfrm>
            <a:off x="5651640" y="1557360"/>
            <a:ext cx="2295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 дружб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о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971640" y="1844640"/>
            <a:ext cx="1512720" cy="2448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3851280" y="4365720"/>
            <a:ext cx="194472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971640" y="2637000"/>
            <a:ext cx="1368360" cy="3384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>
            <a:off x="4140360" y="5877000"/>
            <a:ext cx="158400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 flipV="1">
            <a:off x="971640" y="2133720"/>
            <a:ext cx="1439640" cy="1366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356000" y="1916280"/>
            <a:ext cx="1295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>
            <a:off x="1042920" y="4221000"/>
            <a:ext cx="151308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971640" y="3644640"/>
            <a:ext cx="1368360" cy="1368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>
            <a:off x="4284720" y="3573360"/>
            <a:ext cx="136692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 flipV="1">
            <a:off x="971640" y="2923920"/>
            <a:ext cx="1224000" cy="30258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3"/>
          <p:cNvSpPr/>
          <p:nvPr/>
        </p:nvSpPr>
        <p:spPr>
          <a:xfrm>
            <a:off x="4500720" y="2708280"/>
            <a:ext cx="107928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 flipV="1">
            <a:off x="3780000" y="4221000"/>
            <a:ext cx="194436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5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5292720" y="189000"/>
            <a:ext cx="3133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акреплени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395280" y="1052640"/>
            <a:ext cx="75834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С листом связано здоровье растени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468360" y="2276640"/>
            <a:ext cx="7920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По ним в лист поступают вода и питательные вещест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539640" y="3429000"/>
            <a:ext cx="732024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Лист под ветром не ломаетс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539640" y="4653000"/>
            <a:ext cx="777744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Жилки придают листу прочность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611280" y="587700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У листа гибкая ножка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11280" y="1773360"/>
            <a:ext cx="187164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619280" y="2997360"/>
            <a:ext cx="100800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684360" y="4076640"/>
            <a:ext cx="11509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500720" y="5300640"/>
            <a:ext cx="1296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755640" y="6453360"/>
            <a:ext cx="2160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5"/>
          <p:cNvSpPr txBox="1"/>
          <p:nvPr/>
        </p:nvSpPr>
        <p:spPr>
          <a:xfrm>
            <a:off x="468360" y="1125360"/>
            <a:ext cx="73198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Лист под ветром не ломаетс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900000" y="692280"/>
            <a:ext cx="857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468360" y="2349360"/>
            <a:ext cx="62658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 листа гибкая ножка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2" name="WordArt 18"/>
          <p:cNvSpPr txBox="1"/>
          <p:nvPr/>
        </p:nvSpPr>
        <p:spPr>
          <a:xfrm>
            <a:off x="1403280" y="1916280"/>
            <a:ext cx="8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3" name="WordArt 19"/>
          <p:cNvSpPr txBox="1"/>
          <p:nvPr/>
        </p:nvSpPr>
        <p:spPr>
          <a:xfrm>
            <a:off x="611280" y="3500280"/>
            <a:ext cx="777708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Жилки придают листу прочность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4" name="WordArt 20"/>
          <p:cNvSpPr txBox="1"/>
          <p:nvPr/>
        </p:nvSpPr>
        <p:spPr>
          <a:xfrm>
            <a:off x="4572000" y="3068640"/>
            <a:ext cx="847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324000" y="4653000"/>
            <a:ext cx="8535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 ним в лист поступают вода и питательные вещест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1619280" y="4221000"/>
            <a:ext cx="857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611280" y="5734080"/>
            <a:ext cx="82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 листом связано здоровье растени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1403280" y="5373720"/>
            <a:ext cx="809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7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500"/>
                            </p:stCondLst>
                            <p:childTnLst>
                              <p:par>
                                <p:cTn id="7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4:22:09Z</dcterms:created>
  <dc:creator>Юра</dc:creator>
  <dc:description/>
  <dc:language>en-US</dc:language>
  <cp:lastModifiedBy>HOME</cp:lastModifiedBy>
  <dcterms:modified xsi:type="dcterms:W3CDTF">2019-01-09T15:43:57Z</dcterms:modified>
  <cp:revision>9</cp:revision>
  <dc:subject/>
  <dc:title>Слайд 1</dc:title>
</cp:coreProperties>
</file>