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FDDA-556D-4FBF-8252-A2DB80BF7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A08B-4A44-4455-B3C3-75DB4BD8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9701-A3E4-48BA-98B6-BF0F604FF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D346-FE7D-41D7-B3A4-61E098DE7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2901D-7FE3-499A-B5C2-931040077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90A001-2296-432F-99C9-B3CF46AF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016E2-DB28-4F42-8BAA-72A21B99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05BE9-E3E8-4BD4-8AEE-4C812C7E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C0FC2-5D49-432B-87E3-9AB861A1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849D4-7019-479A-A0D0-D0FCAE28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F7712-3E42-4B2D-B0D9-96F50321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80E7-D01A-46F7-9B4B-94ABCD33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82DDE-F521-4032-9948-98033431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23454-DA28-49CD-8C44-A0FDCAA4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DAC77-FF91-4C1A-8F14-262DDB58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893FD-C8E4-492E-AFED-6FFE39D03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02FB6-A6A0-4FEF-B537-12F563ECE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0AF4-D60A-4720-A80F-1848A2AE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C224-10DF-4AEB-ABCA-389A7E04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2887-3696-4004-B37B-43566009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C623-C777-4473-B0C0-9654F5BD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961E-C025-409B-A1B4-CB2E0374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3BEA-4BCC-46FB-BF11-000E7AF5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C1E3-FBB8-40D5-9B86-EE143692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9117-7393-4343-BDC2-3128A267AC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61D9-88FB-40B5-8938-9EFE60C6B2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одводный ми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19280" y="3284280"/>
            <a:ext cx="615312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лайд-шо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ля детей среднего возрас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4-5 лет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979640" y="2781360"/>
            <a:ext cx="5172120" cy="3886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1042920" y="1197000"/>
            <a:ext cx="7010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 встречи, друзья!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-1523880" y="-633240"/>
            <a:ext cx="12191760" cy="81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одводные обитатели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Хищница акул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820728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Нарядные весёлые рыб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43280" y="2420640"/>
            <a:ext cx="417672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340000" y="1844640"/>
            <a:ext cx="51721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Необыкновенный морской конё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00360" y="2133360"/>
            <a:ext cx="4680000" cy="33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411280" y="1484280"/>
            <a:ext cx="51818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охожий на инопланетянина осьмино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76360" y="2420640"/>
            <a:ext cx="5205600" cy="34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403280" y="2025720"/>
            <a:ext cx="537372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Кто такие дельфин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ельфины – это необыкновенно красивые животные. У них удлиненное тело – темная спинка, светлый животик, красивый хвост, плавники на спине и животе, нос как клюв и добрые умные глаза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95280" y="1230480"/>
            <a:ext cx="820908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ельфины - дружные животные, они редко плавают по морю в одиночку, чаще стайками или парами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700000" y="1905120"/>
            <a:ext cx="46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700360" y="1916280"/>
            <a:ext cx="4681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5T16:29:25Z</dcterms:created>
  <dc:creator>1</dc:creator>
  <dc:description/>
  <dc:language>en-US</dc:language>
  <cp:lastModifiedBy>1</cp:lastModifiedBy>
  <dcterms:modified xsi:type="dcterms:W3CDTF">2013-10-15T19:39:03Z</dcterms:modified>
  <cp:revision>3</cp:revision>
  <dc:subject/>
  <dc:title>Подводный мир</dc:title>
</cp:coreProperties>
</file>