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3CF6-E3EF-4042-B828-8A8092D8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BBEE-5349-4C5B-B1EA-259E1BA0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68F-AF65-48CA-9494-D3AF4F72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0689-70E6-46A0-B047-F641141C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41C22-251D-47DC-8251-ED09DAAB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83FB7-B6CC-46B9-98E4-F3EA67E6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42C43-03AD-4E0D-AB1C-923F37DB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EF46F-DE55-4B32-9C16-1ECF7EFC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8226B-AB81-491D-B8C5-C939F6D0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CD79F-BFF2-4AA6-B167-88469429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212C8-6205-42A3-8AE7-880A9876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AAD3-B5F3-4928-8B5C-422671C0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85397-0873-46BB-993D-49B0D07E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32340-1D8D-498D-9A80-59ACFAFC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889FD-0488-49D0-820E-2BCA7DAD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6542C-2569-48D7-A612-0CE836AA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C6360-6B5F-4DCB-A910-09A20FBA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074-79D6-4397-A52E-7C90B2A5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20F1-5477-47BF-B803-06661515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7FDD-D045-46CA-87A4-3E4D379E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83B2-37C0-4604-A2E7-F7A66CF3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DB51-AEE2-48DB-A91C-94DD11C4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3BAF-25E6-4982-B6C3-8587BFBB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E750-8EF1-41C7-99C3-8FDE90BA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1ACA-F7B6-4A49-8675-1A8E534D91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2B04-A779-4EF7-BEA8-8F363775B8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дводный ми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19280" y="3284280"/>
            <a:ext cx="615312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айд-шо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ля детей среднего возра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4-5 ле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79640" y="2781360"/>
            <a:ext cx="517212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042920" y="1197000"/>
            <a:ext cx="7010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встречи, друзья!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1523880" y="-633240"/>
            <a:ext cx="12191760" cy="81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дводные обитатели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Хищница аку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207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рядные весёлые рыб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43280" y="2420640"/>
            <a:ext cx="417672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40000" y="1844640"/>
            <a:ext cx="51721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еобыкновенный морской конё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00360" y="2133360"/>
            <a:ext cx="4680000" cy="33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11280" y="1484280"/>
            <a:ext cx="5181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хожий на инопланетянина осьмино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76360" y="2420640"/>
            <a:ext cx="520560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3280" y="2025720"/>
            <a:ext cx="537372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то такие дельфи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льфины – это необыкновенно красивые животные. У них удлиненное тело – темная спинка, светлый животик, красивый хвост, плавники на спине и животе, нос как клюв и добрые умные глаза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1230480"/>
            <a:ext cx="82090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льфины - дружные животные, они редко плавают по морю в одиночку, чаще стайками или парами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00000" y="190512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700360" y="1916280"/>
            <a:ext cx="4681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16:29:25Z</dcterms:created>
  <dc:creator>1</dc:creator>
  <dc:description/>
  <dc:language>en-US</dc:language>
  <cp:lastModifiedBy>1</cp:lastModifiedBy>
  <dcterms:modified xsi:type="dcterms:W3CDTF">2013-10-15T19:39:03Z</dcterms:modified>
  <cp:revision>3</cp:revision>
  <dc:subject/>
  <dc:title>Подводный мир</dc:title>
</cp:coreProperties>
</file>