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DB19-366B-4577-BD87-133943A9D4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F29E-AB71-455F-A6CE-B186471191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EDF8-BB5D-4568-AA10-F89B5EDD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1895-70FD-40DA-8650-62E575C9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2AD-63E5-4E0B-9012-A2FE08DF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8D7-3231-4FB6-A3CE-F0EA0700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63A3-F7DD-4D0E-94AC-A49C21D9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F2BE-7A25-4EFE-9AE7-5414B0BF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307F-88AA-4774-BC82-4AC2F9F9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AF4A-7650-4767-98F1-21999A1E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3395-3675-478E-A04B-84F0DB1F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99A8-0129-498B-835D-DB5BFBE5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8B7B-5989-4430-9C23-260ACF9E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29C-F7BC-4080-82AD-6DC56660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47EF-E2B2-4CB8-BAEC-BC34F2A2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35CF-9196-40BD-8A4E-38A8453C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3339-46CB-49B1-8727-A85FF927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5D72-A308-49DF-A69C-645118DF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7DA3-B05C-4A0B-BD8D-EAD9F89F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AB416-38B2-491E-9107-6A3A1297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2F544-9C86-4153-8ECF-937AF23A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31049-3484-4FDE-AFB0-74B5C6F5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A0ED9-4A2F-4663-B929-C59F05C1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72CDE-79E7-4A11-8B9A-738F744D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5B26-4E39-4D64-9944-8A982DCF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CE71C-43ED-4738-9721-89F23F82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4138B-AB4F-43F8-93BE-E3454105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F1F1C-96EC-468A-8BE8-6B351B6B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C624A-58BE-4031-910D-1F8E43AE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776A9-6512-442C-A99C-E458A8D3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C5B27-CC33-4512-97CA-79D5FE49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EA79C-CFF4-40D0-A2E2-CCD2D4F8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6B89F-7805-4C39-A66B-F61D8A4B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973F4-D0D3-417D-90DA-D74EA993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3FF01-5159-41AE-A2C0-6C9A45F4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C543-08B4-4ABE-9DAE-F6144FB8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B7EEB-1737-420F-BAE4-534B8707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50D43-5734-479C-881D-AE577843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2F14D-3471-4E75-A196-25CD4308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742DF-5947-4A9D-89E1-D87032C5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72331-CF11-4653-9784-3E17F833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EEAE1-110E-454E-A085-569073B5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641CC-F978-4042-8D58-33D0D77E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2DF22-9968-4A7F-BFE8-23BCBF01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BD04F-2A2D-423C-90BA-A507D50D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AA77A7-664B-4735-8CCB-9139F212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A5C-B0FF-4D29-86EF-F5A83A21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073DCD-B652-4450-BCFD-4F38408E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9267E1-0047-4690-B935-9EC042E7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1F2FD4-9CF5-47F8-B6C4-F54A0C64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DBEC44-FF0D-4F10-B0A2-34208F88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489E4-8D8A-427B-B49A-9230A207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7ADCA-1726-4699-B2C1-151D8C24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F3DD9B-D2B4-4A64-B0CD-7203E9BD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983E22-C802-4E20-AA73-3541ED98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D01583-75FF-4E0A-8281-347FF132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645A3B-7C4A-49F8-A81F-1C3652CD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8F9-7FC1-488C-B7B9-1B190014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A75159-8B55-4F08-808A-36007402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2645B1-9BCC-4085-8503-2FFF6603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503AD9-2965-461B-8685-72BE412A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CECCF6-7CAC-44F1-A8D8-15B413B8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DD5BD9-6FB6-4E4B-AC3A-8ABE321D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AEEDDB-58BD-41D4-908F-91763841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E7300E-3056-402E-8FD5-1F061818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D3A1E1-3E84-4CA3-9C38-39555C8F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75AABD-008A-49CE-A367-B60A7DEE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A35647-D0EF-4827-A7C9-F073B264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E049-7537-466F-A81F-0A358B3C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82D934-8CE1-4F6A-8718-A4407673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13C504-AE24-4C48-8C70-91130BE3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A0FB28-CB9B-4C45-99F1-400B46C1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7EEB25-5D40-480D-AD78-7BD8B9F8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0B799C-9793-4422-BDA5-E25A2717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FD0962-294B-456A-8006-C383352E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7D44D0-FA6A-40F3-ADF4-F8BA47B2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94B181-E40B-48CA-ADC1-B84ED1D1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3E5947-75F6-4BD8-862B-11ACCA01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A4A247-B980-43A5-948C-EAAECFA8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076-F21B-4E9C-BF28-8EC6180B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D92258-28C4-4B50-9E88-01D18B8F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E2FED-4C6E-4F19-B4C3-F5C642B4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E20FEE-5897-46B1-ACCB-96EB88AC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67D61D-E66A-4FFD-9C10-FC37B7A2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066E79-E535-4EE8-8067-9500AEEB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270-068A-4082-9B2F-A3A70086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6C03-A953-415A-9965-B00E9201591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1B50-59E2-48E9-802F-25B846DAF63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78A8-0B1C-4575-A1DB-22663099400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94E7-7340-497A-B94C-D7D806A2891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4518-4D64-43A7-A8CB-4B70CC054FA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888A-8829-4E7C-B95A-667940B3863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EE85-CD7E-4645-82A2-7E55A1539DA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Прямоугольник 1" descr=""/>
          <p:cNvPicPr/>
          <p:nvPr/>
        </p:nvPicPr>
        <p:blipFill>
          <a:blip r:embed="rId1"/>
          <a:stretch/>
        </p:blipFill>
        <p:spPr>
          <a:xfrm>
            <a:off x="542880" y="506520"/>
            <a:ext cx="7845480" cy="137772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4"/>
          <p:cNvSpPr/>
          <p:nvPr/>
        </p:nvSpPr>
        <p:spPr>
          <a:xfrm>
            <a:off x="2688480" y="4365720"/>
            <a:ext cx="338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БОУ «Средняя школа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Рисунок 2" descr=""/>
          <p:cNvPicPr/>
          <p:nvPr/>
        </p:nvPicPr>
        <p:blipFill>
          <a:blip r:embed="rId2"/>
          <a:stretch/>
        </p:blipFill>
        <p:spPr>
          <a:xfrm>
            <a:off x="1187280" y="1749600"/>
            <a:ext cx="648036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b050"/>
                </a:solidFill>
                <a:latin typeface="Century Schoolbook"/>
              </a:rPr>
              <a:t>3 – 4 КЛАС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341000"/>
            <a:ext cx="74674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ю записи задач геометрического типа учащихся также необходимо обучать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ертежи выполняются простым карандашом по линейк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ия можно подписывать ручкой. Обозначения буквами выполняются печатным шрифтом, прописными буквами латинского алфавита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С Д 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лова длина, ширина прямоугольника не допускается обозначать кратко латинскими буквами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прямоугольника 12 см, его ширина равна 6 см. Вычислите периметр и площадь прямоугольника. Образец краткой записи и решения задачи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–12 с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а = 12 см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на – 6 с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в = 6см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метр -? с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Р = ? см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- ? см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S = ? см2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+6)*2=36 (см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иметр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*6=72 (см2) – площадь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Р = 36 см,  S = 72 см2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ри сокращении наименований единиц измерений точки не ставятс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Например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: мм, м, см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Прямоугольник 3"/>
          <p:cNvSpPr/>
          <p:nvPr/>
        </p:nvSpPr>
        <p:spPr>
          <a:xfrm>
            <a:off x="5867280" y="4149720"/>
            <a:ext cx="1779840" cy="9144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15640" y="-103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Century Schoolbook"/>
              </a:rPr>
              <a:t>ОФОРМЛЕНИЕ ЗАДАЧ В ВИДЕ ТАБЛИЦ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539640" y="3716280"/>
          <a:ext cx="7467840" cy="1246320"/>
        </p:xfrm>
        <a:graphic>
          <a:graphicData uri="http://schemas.openxmlformats.org/drawingml/2006/table">
            <a:tbl>
              <a:tblPr/>
              <a:tblGrid>
                <a:gridCol w="2489400"/>
                <a:gridCol w="2489040"/>
                <a:gridCol w="2489400"/>
              </a:tblGrid>
              <a:tr h="62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2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 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611280" y="1989000"/>
          <a:ext cx="7200720" cy="935280"/>
        </p:xfrm>
        <a:graphic>
          <a:graphicData uri="http://schemas.openxmlformats.org/drawingml/2006/table">
            <a:tbl>
              <a:tblPr/>
              <a:tblGrid>
                <a:gridCol w="2287440"/>
                <a:gridCol w="2289240"/>
                <a:gridCol w="2624040"/>
              </a:tblGrid>
              <a:tr h="46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Рассто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6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 км/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 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4546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оформлении математического диктанта следует соблюдать следующие требования: - записывать только ответы в строчку через запятую, отступая одну клетку - рядом с числом писать наименования единиц измерений и предлоги на, в .. раз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: 675, 564, на 78, в 7 раз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Рисунок 2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33289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8360" y="404280"/>
            <a:ext cx="7786800" cy="57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и оформлении решения выражений  следует требовать от учащихся соблюдения следующих нор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писать выражение полностью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казать знаки действий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казать цифрами над математическими знаками промежуточный результат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писать окончательное значение выраж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94920" y="3284640"/>
            <a:ext cx="65530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Например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3    5    7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4 -1 + 2 + 2 = 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4" descr=""/>
          <p:cNvPicPr/>
          <p:nvPr/>
        </p:nvPicPr>
        <p:blipFill>
          <a:blip r:embed="rId1"/>
          <a:stretch/>
        </p:blipFill>
        <p:spPr>
          <a:xfrm>
            <a:off x="7164360" y="4437000"/>
            <a:ext cx="1563840" cy="1943280"/>
          </a:xfrm>
          <a:prstGeom prst="rect">
            <a:avLst/>
          </a:prstGeom>
          <a:ln w="38160">
            <a:solidFill>
              <a:srgbClr val="e75c0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00200"/>
            <a:ext cx="749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оформления сложных уравнений, как это требуют учителя математики в средней школе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+ 56*2= 63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+112=63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=638-1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Х=52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26+56*2=63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638=63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 письменные вычисления выполняются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прав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от уравн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927560" y="4292280"/>
            <a:ext cx="17316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7" name="Объект 2" descr=""/>
          <p:cNvPicPr/>
          <p:nvPr/>
        </p:nvPicPr>
        <p:blipFill>
          <a:blip r:embed="rId1"/>
          <a:stretch/>
        </p:blipFill>
        <p:spPr>
          <a:xfrm>
            <a:off x="457200" y="1554120"/>
            <a:ext cx="3749760" cy="4621320"/>
          </a:xfrm>
          <a:prstGeom prst="rect">
            <a:avLst/>
          </a:prstGeom>
          <a:ln w="0">
            <a:noFill/>
          </a:ln>
        </p:spPr>
      </p:pic>
      <p:pic>
        <p:nvPicPr>
          <p:cNvPr id="408" name="Объект 3" descr=""/>
          <p:cNvPicPr/>
          <p:nvPr/>
        </p:nvPicPr>
        <p:blipFill>
          <a:blip r:embed="rId2"/>
          <a:stretch/>
        </p:blipFill>
        <p:spPr>
          <a:xfrm>
            <a:off x="4273560" y="1554120"/>
            <a:ext cx="3657600" cy="462132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4"/>
          <p:cNvSpPr/>
          <p:nvPr/>
        </p:nvSpPr>
        <p:spPr>
          <a:xfrm>
            <a:off x="2845800" y="476280"/>
            <a:ext cx="349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Book Antiqua"/>
              </a:rPr>
              <a:t>Предлож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ff0000"/>
                </a:solidFill>
                <a:uFillTx/>
                <a:latin typeface="Book Antiqua"/>
              </a:rPr>
              <a:t>НЕДЕЛЯ МАТЕМАТИКИ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спользуемые методы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беседы, игры, уроки, конкурсы, нестандартные уроки, КВН, соревнования, викторины, сказки, презентации.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0" y="1413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лимпиада проводилась с целью выявления наиболее подготовленных учащихся, имеющих особые склонности к математике, развития познавательных интересов и любви к математик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ИТОГИ ПРОВЕДЕНИЯ ОЛИМПИАДЫ</a:t>
            </a: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ПО МАТЕМАТИКЕ СРЕДИ УЧАЩИХСЯ 3-4-Х КЛАССОВ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05 декабря 2018 г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была проведена олимпиада по математик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одилась учителями: Шубиной О.С., Рачек О.В.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го в олимпиаде приняло участ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3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челове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тоги проведения олимпиады в 3-х классах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 мест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1.Саргсян Альберт , 3-а класс – 19 балл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 место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1.Маслова Екатерина, 3-в класс – 15 баллов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ощрительное место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Карягин Сергей, 3-б класс – 13 балл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тоги проведения олимпиады в 4-х классах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 мест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1.Беляева Софья , 4-б класс – 20 балл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 место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1.Шлыкова Диана, 4-б класс – 18 баллов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ощрительное место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Маркевич Мария, 4-б класс – 17 балл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Пенкина Дарья, 4-б класс – 17 балл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entury Schoolbook"/>
              </a:rPr>
              <a:t>НАИБОЛЕЕ ИНТЕРЕСНЫЕ ЗАНЯТ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61880" y="86184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 А - Конкурс загадок о числах (Семенова О.В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 Б  - Рисунки «Превращаем число в забавное животное» (Алейникова Е.С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 В – Конкурс рисунков «Ожившие цифры». (Шубина О.С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 А – Конкурс математических листовок (Луценко Л.Н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 Б - Загадки «Город математики» (Ракова В.И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 В – Математическая мастерская «Оформи свое число» (Грищенко С.В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00720" y="981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А  - «Геометрический турнир» (Басова Е.Д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 Б -   Конкурс рисунков из геометрических фигур (Киселева Н.Г.)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 В – КВН по математике (Шерстобитова И.Э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 А -  Занимательные лабиринты и задачи». (Фролова Л.Г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Б -  БРЕЙН – РИНГ Математическая игра.  (Силаева Е.А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 В – В стране ребусов (Рачек О.В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68000" y="942480"/>
            <a:ext cx="7427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entury Schoolbook"/>
              </a:rPr>
              <a:t>В начальной школе ученики имеют тетради для выполнения всех видов обучающих и контрольных  работ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entury Schoolbook"/>
              </a:rPr>
              <a:t>Математика: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entury Schoolbook"/>
              </a:rPr>
              <a:t>Тетради (2) ( для текущих работ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entury Schoolbook"/>
              </a:rPr>
              <a:t>Тетрадь ( для контрольных работ.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Прямоугольник 4"/>
          <p:cNvSpPr/>
          <p:nvPr/>
        </p:nvSpPr>
        <p:spPr>
          <a:xfrm>
            <a:off x="285840" y="214200"/>
            <a:ext cx="7454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Century Schoolbook"/>
              </a:rPr>
              <a:t>Порядок ведения и оформления тетрадей</a:t>
            </a: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Century Schoolbook"/>
              </a:rPr>
              <a:t>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7093080" y="4292640"/>
            <a:ext cx="1655640" cy="21938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entury Schoolbook"/>
              </a:rPr>
              <a:t>ПРЕДЛОЖ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тметить целенаправленную работу учителей по выявлению наиболее способных и одаренных учащихся, имеющих особые склонности к математике и развитию у них познавательных интересов и любви к предмету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4" name="Объект 4" descr=""/>
          <p:cNvPicPr/>
          <p:nvPr/>
        </p:nvPicPr>
        <p:blipFill>
          <a:blip r:embed="rId1"/>
          <a:stretch/>
        </p:blipFill>
        <p:spPr>
          <a:xfrm>
            <a:off x="4270320" y="1557360"/>
            <a:ext cx="383076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0000"/>
                </a:solidFill>
                <a:uFillTx/>
                <a:latin typeface="Century Schoolbook"/>
              </a:rPr>
              <a:t>ОФОРМЛЕНИЕ НАДПИСЕЙ НА ОБЛОЖКЕ ТЕТРАДЕЙ.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 </a:t>
            </a:r>
            <a:br>
              <a:rPr sz="36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749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етради учащихся 1-го и 2-го классов подписывает  учитель или родители. Тетради учащихся 3-4 классов подписывают сами учащиеся под руководством учителя или родителя 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Не обязательно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чтобы тетради были подписаны одним почерком.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дписи на обложках  необходимо оформлять по единой форме, с соблюдением норм каллиграфии.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Рисунок 4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8749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755640" y="404280"/>
            <a:ext cx="4176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Образец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Тетрадь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для рабо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по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математик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е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ученика 1 класса Б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МБОУ 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«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Средн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яя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школ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а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№2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г. Десногорск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Иванова Иван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едлог 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«по»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ишется  на одной строке с названием предмет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умерация класса пишетс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арабскими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цифрам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Фамилию и имя следует писать в форме родительного падежа. Сначала пишут фамилию, а затем полное им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Рисунок 4" descr=""/>
          <p:cNvPicPr/>
          <p:nvPr/>
        </p:nvPicPr>
        <p:blipFill>
          <a:blip r:embed="rId1"/>
          <a:stretch/>
        </p:blipFill>
        <p:spPr>
          <a:xfrm>
            <a:off x="6227640" y="3983040"/>
            <a:ext cx="1854360" cy="204804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1"/>
          <p:cNvSpPr/>
          <p:nvPr/>
        </p:nvSpPr>
        <p:spPr>
          <a:xfrm>
            <a:off x="5148360" y="907920"/>
            <a:ext cx="331128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Тетрад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для контрольных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по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математик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е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ученика 1 класса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МБОУ 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«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Средн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яя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школ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а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№2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г. Десногорск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Иванова Ив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ОФОРМЛЕНИЕ ПИСЬМЕННЫХ РАБОТ ПО МАТЕМАТИКЕ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000" y="981000"/>
            <a:ext cx="828036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м классе в период обучения грамоте запись даты ведется учителем или учащимися в виде числа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окончании этого периода дата записывается полностью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декабр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ежду классной и домашней работами следует отступать 4 клетки 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вниз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на пятой клетке начинается следующая работа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ледует отметить, что для заглавных букв клетка не отводитс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ежду столбиками выражений, уравнений, равенств и прочими отступаются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три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клетки вправо (пишем на четвертой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ату  записывать традиционно посередин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лассная и домашняя работа пишется  в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-5 клетке  слева от начала  строк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юбой работе отступается одна клетка слева от края тетради (5 мм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3"/>
          <p:cNvSpPr/>
          <p:nvPr/>
        </p:nvSpPr>
        <p:spPr>
          <a:xfrm>
            <a:off x="468360" y="333360"/>
            <a:ext cx="8280360" cy="56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форм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Задача»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шет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редине строки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им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дач также требует соблюдения принятых но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ая запись - условия задач оформляется в соответствии с их видо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пускается их неполная запись (по начальным буквам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е-  7 м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-7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е 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м.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-3 м.  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+3=10 (м) – вс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10 мяч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лавные» слова пишутся с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глав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квы. Следует отметить, что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заглавных букв клетка не отводится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От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пиш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 заглавной буквы под решени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атематике при сокращении наименований единиц измерений точки не ставятс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мм, м, см, ч, мин, км, кг, г и др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1" descr=""/>
          <p:cNvPicPr/>
          <p:nvPr/>
        </p:nvPicPr>
        <p:blipFill>
          <a:blip r:embed="rId1"/>
          <a:stretch/>
        </p:blipFill>
        <p:spPr>
          <a:xfrm>
            <a:off x="6156360" y="5373720"/>
            <a:ext cx="2519280" cy="1295280"/>
          </a:xfrm>
          <a:prstGeom prst="rect">
            <a:avLst/>
          </a:prstGeom>
          <a:ln w="0">
            <a:noFill/>
          </a:ln>
        </p:spPr>
      </p:pic>
      <p:sp>
        <p:nvSpPr>
          <p:cNvPr id="375" name="Правая фигурная скобка 1"/>
          <p:cNvSpPr/>
          <p:nvPr/>
        </p:nvSpPr>
        <p:spPr>
          <a:xfrm>
            <a:off x="4452840" y="184464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авая фигурная скобка 2"/>
          <p:cNvSpPr/>
          <p:nvPr/>
        </p:nvSpPr>
        <p:spPr>
          <a:xfrm>
            <a:off x="7194600" y="189216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ществует несколько форм записи решения задач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)по действиям, выражением, уравнение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) по действиям с письменными пояснениями, по действиям с запись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пускается запись условия задачи в виде рисунка, схемы, графического изображения и таблицы. Названия граф (колонок) пишется с большой букв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особы: арифметический, алгебраический (решение через х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DejaVu Serif"/>
              </a:rPr>
              <a:t>ОФОРМЛЕНИЕ ЗАДАЧ - 1 КЛАСС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DejaVu Serif"/>
              </a:rPr>
              <a:t>РИСУНОК, СЛОВЕСНАЯ ЗАПИСЬ</a:t>
            </a: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Times New Roman"/>
                <a:ea typeface="DejaVu Serif"/>
              </a:rPr>
              <a:t>АНЯ ВЫМЫЛА 5 ТАРЕЛОК, А МИША ВЫМЫЛ 4 ТАРЕЛКИ. СКОЛЬКО ВСЕГО ТАРЕЛОК ВЫМЫЛИ ДЕТИ? </a:t>
            </a:r>
            <a:br>
              <a:rPr sz="27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8000" y="2028600"/>
            <a:ext cx="746748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Аня – 5 т.              ?     </a:t>
            </a:r>
            <a:r>
              <a:rPr b="0" lang="ru-RU" sz="3200" spc="-1" strike="noStrike">
                <a:solidFill>
                  <a:srgbClr val="00b050"/>
                </a:solidFill>
                <a:latin typeface="Monotype Corsiva"/>
                <a:ea typeface="Gautami"/>
              </a:rPr>
              <a:t>/////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  <a:ea typeface="Gautami"/>
              </a:rPr>
              <a:t>////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Миша – 4 т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5 + 4 = 9 (т.) – вымыли дет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Ответ: 9 тарелок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Правая фигурная скобка 3"/>
          <p:cNvSpPr/>
          <p:nvPr/>
        </p:nvSpPr>
        <p:spPr>
          <a:xfrm>
            <a:off x="2278080" y="2133720"/>
            <a:ext cx="709560" cy="1074600"/>
          </a:xfrm>
          <a:custGeom>
            <a:avLst/>
            <a:gdLst>
              <a:gd name="textAreaLeft" fmla="*/ 0 w 709560"/>
              <a:gd name="textAreaRight" fmla="*/ 256320 w 709560"/>
              <a:gd name="textAreaTop" fmla="*/ 18360 h 1074600"/>
              <a:gd name="textAreaBottom" fmla="*/ 1056240 h 10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4"/>
                  <a:pt x="10800" y="1188"/>
                </a:cubicBezTo>
                <a:lnTo>
                  <a:pt x="10800" y="9385"/>
                </a:lnTo>
                <a:cubicBezTo>
                  <a:pt x="10800" y="9979"/>
                  <a:pt x="16200" y="10573"/>
                  <a:pt x="21600" y="10573"/>
                </a:cubicBezTo>
                <a:cubicBezTo>
                  <a:pt x="16200" y="10573"/>
                  <a:pt x="10800" y="11167"/>
                  <a:pt x="10800" y="11761"/>
                </a:cubicBezTo>
                <a:lnTo>
                  <a:pt x="10800" y="20412"/>
                </a:lnTo>
                <a:cubicBezTo>
                  <a:pt x="10800" y="2100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Рисунок 4" descr=""/>
          <p:cNvPicPr/>
          <p:nvPr/>
        </p:nvPicPr>
        <p:blipFill>
          <a:blip r:embed="rId1"/>
          <a:stretch/>
        </p:blipFill>
        <p:spPr>
          <a:xfrm>
            <a:off x="5003640" y="3933720"/>
            <a:ext cx="302580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-200880"/>
            <a:ext cx="7385040" cy="16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DejaVu Serif"/>
                <a:ea typeface="DejaVu Serif"/>
              </a:rPr>
              <a:t>                                </a:t>
            </a:r>
            <a:r>
              <a:rPr b="1" i="1" lang="ru-RU" sz="2000" spc="-1" strike="noStrike">
                <a:solidFill>
                  <a:srgbClr val="00b050"/>
                </a:solidFill>
                <a:latin typeface="DejaVu Serif"/>
                <a:ea typeface="DejaVu Serif"/>
              </a:rPr>
              <a:t>2-3КЛАСС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DejaVu Serif"/>
                <a:ea typeface="DejaVu Serif"/>
              </a:rPr>
              <a:t>НА ПРИШКОЛЬНОМ УЧАСТКЕ 6 БЕРЁЗ, А ЛИП НА 4 МЕНЬШЕ. СКОЛЬКО ВСЕГО ДЕРЕВЬЕВ НА ПРИШКОЛЬНОМ УЧАСТКЕ?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TextBox 1"/>
          <p:cNvSpPr/>
          <p:nvPr/>
        </p:nvSpPr>
        <p:spPr>
          <a:xfrm>
            <a:off x="369720" y="1773360"/>
            <a:ext cx="46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ерёз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– 6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? д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Лип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– ?д., на 4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Группа 3"/>
          <p:cNvGrpSpPr/>
          <p:nvPr/>
        </p:nvGrpSpPr>
        <p:grpSpPr>
          <a:xfrm>
            <a:off x="2123280" y="2003040"/>
            <a:ext cx="793080" cy="800280"/>
            <a:chOff x="2123280" y="2003040"/>
            <a:chExt cx="793080" cy="800280"/>
          </a:xfrm>
        </p:grpSpPr>
        <p:sp>
          <p:nvSpPr>
            <p:cNvPr id="386" name="Прямая соединительная линия 6"/>
            <p:cNvSpPr/>
            <p:nvPr/>
          </p:nvSpPr>
          <p:spPr>
            <a:xfrm flipV="1">
              <a:off x="2916360" y="2003040"/>
              <a:ext cx="0" cy="80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7" name="Прямая со стрелкой 7"/>
            <p:cNvCxnSpPr/>
            <p:nvPr/>
          </p:nvCxnSpPr>
          <p:spPr>
            <a:xfrm flipH="1">
              <a:off x="2123280" y="2003040"/>
              <a:ext cx="793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388" name="Правая фигурная скобка 8"/>
          <p:cNvSpPr/>
          <p:nvPr/>
        </p:nvSpPr>
        <p:spPr>
          <a:xfrm>
            <a:off x="3065400" y="1881360"/>
            <a:ext cx="426960" cy="936360"/>
          </a:xfrm>
          <a:custGeom>
            <a:avLst/>
            <a:gdLst>
              <a:gd name="textAreaLeft" fmla="*/ 0 w 426960"/>
              <a:gd name="textAreaRight" fmla="*/ 154080 w 426960"/>
              <a:gd name="textAreaTop" fmla="*/ 10800 h 936360"/>
              <a:gd name="textAreaBottom" fmla="*/ 9255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11"/>
                  <a:pt x="10800" y="821"/>
                </a:cubicBezTo>
                <a:lnTo>
                  <a:pt x="10800" y="9979"/>
                </a:lnTo>
                <a:cubicBezTo>
                  <a:pt x="10800" y="10390"/>
                  <a:pt x="16200" y="10800"/>
                  <a:pt x="21600" y="10800"/>
                </a:cubicBezTo>
                <a:cubicBezTo>
                  <a:pt x="16200" y="10800"/>
                  <a:pt x="10800" y="11211"/>
                  <a:pt x="10800" y="11621"/>
                </a:cubicBezTo>
                <a:lnTo>
                  <a:pt x="10800" y="20779"/>
                </a:lnTo>
                <a:cubicBezTo>
                  <a:pt x="10800" y="2119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01760" y="3130560"/>
            <a:ext cx="75549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)6 – 4 = 2 (д.) – лип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2) 6 + 2 = 8 (д.) – всег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твет: 8 деревье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(6 – 4) + 6= 8 (д.) – всег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Ответ: 8 деревье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Monotype Corsiva"/>
                <a:ea typeface="Arial"/>
              </a:rPr>
              <a:t>Запись по действиям или выражени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Рисунок 1" descr=""/>
          <p:cNvPicPr/>
          <p:nvPr/>
        </p:nvPicPr>
        <p:blipFill>
          <a:blip r:embed="rId1"/>
          <a:stretch/>
        </p:blipFill>
        <p:spPr>
          <a:xfrm>
            <a:off x="4427640" y="1773360"/>
            <a:ext cx="3673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08:40:37Z</dcterms:created>
  <dc:creator>Андрей</dc:creator>
  <dc:description/>
  <dc:language>en-US</dc:language>
  <cp:lastModifiedBy>Пользователь Windows</cp:lastModifiedBy>
  <dcterms:modified xsi:type="dcterms:W3CDTF">2018-12-27T18:03:57Z</dcterms:modified>
  <cp:revision>1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120000000000010243100207f6000400038000</vt:lpwstr>
  </property>
</Properties>
</file>