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E797-EB51-45E5-BF3D-59E458BAC4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C373-4F27-4636-9DC5-5C9F6998FD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B691-4249-4A7C-9D9E-DB390CBE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0835-B09F-4450-BD48-834194AB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1BD3-027B-4340-B3C2-D3726FD0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34D0-0029-45DA-9370-F7ABB0EF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9B2D-1D32-4986-8F2F-CCB810A8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A697-7A5D-4131-9797-ED7768D6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7311-922A-4B56-BC3F-44FAE419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8A9A-327D-4DE1-BDF2-708148D8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D359-555B-4405-B1F8-CA740F11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B1D5-CBA5-4495-82F5-66861EA4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1057-2925-47CF-AB14-818C35F7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77CA-3A83-4184-994C-3E64219F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D4AD-AFCB-420E-A380-9FCFB056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7548-2404-4AA9-B776-932869B7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5361-4F7C-48C6-A3A5-DB3F5870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A4DE-2F48-4FDE-86BB-C85E2FDE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FA75-0039-43C9-B586-3EC95D4F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5F9EA-B177-4F75-A3FB-F732097A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BF53D6-115F-4EF9-8B63-D441E2B8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607D37-FBD7-4560-BBFA-223E9A34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96C434-EE70-489D-9C4D-7BD63AD0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F55348-B138-4BA3-AE3D-A8280F49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0F99-3A31-4A4D-825A-19AAEADB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9E65B-0414-44D2-8101-A9ACDAA2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9AAFA4-F287-47A2-ACAC-74F4CFD4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36F0A-9620-481C-BCE6-5F8C9ED1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D42CD7-A402-4C5D-9F95-CB6FFF52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69877E-A6C6-4824-A77A-FFBFC8BF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3B6E45-3DEA-4AAB-8195-E8ACC276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2452A-9A75-486B-8624-56A7E2FD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D10D0-80C2-47CE-8C76-F39C89BB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5986C-64A3-4D19-A1C9-E78DC3FA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74D94-ECAB-4CB3-AF94-1852A212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027-D8D5-4073-97CC-F0606AE4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7055C-CA52-436E-BD34-C999BDE6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FD6B6-84C1-45D9-81D3-269D86A3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5F0E2-BB60-471B-86F6-DDD99C58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F5912-63E0-45F8-8E22-15EDEAA4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A18FA-70B2-48F3-80F9-5709BC51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2BA76-BF7A-4E26-BEEA-976C70CC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607B7-41FF-46AB-A822-CCAD65FC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1452B-0AC9-4F90-BD3A-4CF8FB6D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AACA5-2A56-4B3A-975A-F52D0B93E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BEDFF5-686C-4CE0-BDAA-3E15E204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A44F-A0E1-41D4-95B1-55831D16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84AC33-33FA-47B7-B20E-7EE7A8CD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7C23D7-0F3B-4AF9-955E-27A013CA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EA2517-E498-4C69-902A-59F14430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48D3CE-5EFA-4570-8C55-6CB1354C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A13143-F3FF-4B74-8DD8-D4B96AC9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FC2DB7-C936-44A5-B948-A4C8B464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83307D-0564-43F7-A8B3-24F0E315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F13041-0FBC-436D-A801-920DE9FD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7ADBD3-03C4-4AFE-B0B4-EE53807C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6EF16A-DE95-4ABB-9F55-3F46C87B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B77B-60ED-4A72-BCEC-43B4AF4E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A68312-1845-4D37-91FE-E2976B91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B5EABA-F34E-4000-B929-8597AF1A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05EBF3-927A-4D4C-891D-19A18D4C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751D20-0ECC-49B8-BD1D-F3439206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312C81-B9F3-45C5-A55E-CC0882A0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D86F89-71AF-46A2-A1D7-CF09DCA9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09682C-21BE-4D65-89CE-8D307C70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54BA56-B7ED-4CA5-9CE0-89B48687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F89013-A504-4E96-9E77-8F347B74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C09182-AD51-4177-A6E1-AA12225F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EA22-2F81-4395-81B6-FAE9D54A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5B7AAE-CBF2-4E50-9429-E0E9F266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C7F755-6DA2-474D-8981-DF5D3121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339982-1B64-4358-ACCE-2CCE6D77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488317-035A-488C-BC64-21446BB6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B11530-5114-4E08-B01F-F532FAA1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9282C5-FE4C-42D3-BDD3-89791E4A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B3282C-051A-4F32-BBE7-CE4751AA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FE080B-0319-4D46-B0CA-9C7C7D93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0C76E1-A43D-4B73-B0A8-370F2B9E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61B814-B16B-4056-BD2D-6BE05696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BA15-488F-4C98-95EF-3BB9E055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ABF5C6-8007-4C93-B38A-655F9032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0D1AAA-F7F6-4F08-A02F-C9EEF369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C055AC-DF94-4DBB-84C3-BDCFA657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B2265E-EF33-42EC-9447-C634B72E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E4AAF4-3407-44F0-8BD7-BC663DE6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D8CF-AFEF-485C-B96E-F301A206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3000-D363-414A-B5CF-DA2DB2EC5EF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AAEC-61C1-452C-8571-2ECC36815FA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C92E-9119-4D13-9E04-073EACD0F08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DA11-65F3-4965-B289-973BF455175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31FB-3F18-4590-9740-988CB9C0897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48E8-6867-4F38-B828-74771AB403F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10EB-9597-4D8D-A60A-2061D0679CE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Прямоугольник 1" descr=""/>
          <p:cNvPicPr/>
          <p:nvPr/>
        </p:nvPicPr>
        <p:blipFill>
          <a:blip r:embed="rId1"/>
          <a:stretch/>
        </p:blipFill>
        <p:spPr>
          <a:xfrm>
            <a:off x="542880" y="506520"/>
            <a:ext cx="7845480" cy="1377720"/>
          </a:xfrm>
          <a:prstGeom prst="rect">
            <a:avLst/>
          </a:prstGeom>
          <a:ln w="0">
            <a:noFill/>
          </a:ln>
        </p:spPr>
      </p:pic>
      <p:sp>
        <p:nvSpPr>
          <p:cNvPr id="359" name="Прямоугольник 4"/>
          <p:cNvSpPr/>
          <p:nvPr/>
        </p:nvSpPr>
        <p:spPr>
          <a:xfrm>
            <a:off x="2688480" y="4365720"/>
            <a:ext cx="3381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БОУ «Средняя школа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Рисунок 2" descr=""/>
          <p:cNvPicPr/>
          <p:nvPr/>
        </p:nvPicPr>
        <p:blipFill>
          <a:blip r:embed="rId2"/>
          <a:stretch/>
        </p:blipFill>
        <p:spPr>
          <a:xfrm>
            <a:off x="1187280" y="1749600"/>
            <a:ext cx="648036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b050"/>
                </a:solidFill>
                <a:latin typeface="Century Schoolbook"/>
              </a:rPr>
              <a:t>3 – 4 КЛАСС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341000"/>
            <a:ext cx="74674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ю записи задач геометрического типа учащихся также необходимо обучать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чертежи выполняются простым карандашом по линейке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ения можно подписывать ручкой. Обозначения буквами выполняются печатным шрифтом, прописными буквами латинского алфавита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С Д 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лова длина, ширина прямоугольника не допускается обозначать кратко латинскими буквами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прямоугольника 12 см, его ширина равна 6 см. Вычислите периметр и площадь прямоугольника. Образец краткой записи и решения задачи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–12 с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а = 12 см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ина – 6 с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в = 6см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метр -? с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Р = ? см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- ? см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S = ? см2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2+6)*2=36 (см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иметр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*6=72 (см2) – площадь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Р = 36 см,  S = 72 см2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ри сокращении наименований единиц измерений точки не ставятс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Например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: мм, м, см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Прямоугольник 3"/>
          <p:cNvSpPr/>
          <p:nvPr/>
        </p:nvSpPr>
        <p:spPr>
          <a:xfrm>
            <a:off x="5867280" y="4149720"/>
            <a:ext cx="1779840" cy="9144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15640" y="-1036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50"/>
                </a:solidFill>
                <a:latin typeface="Century Schoolbook"/>
              </a:rPr>
              <a:t>ОФОРМЛЕНИЕ ЗАДАЧ В ВИДЕ ТАБЛИЦ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539640" y="3716280"/>
          <a:ext cx="7467840" cy="1246320"/>
        </p:xfrm>
        <a:graphic>
          <a:graphicData uri="http://schemas.openxmlformats.org/drawingml/2006/table">
            <a:tbl>
              <a:tblPr/>
              <a:tblGrid>
                <a:gridCol w="2489400"/>
                <a:gridCol w="2489040"/>
                <a:gridCol w="2489400"/>
              </a:tblGrid>
              <a:tr h="623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622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 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611280" y="1989000"/>
          <a:ext cx="7200720" cy="935280"/>
        </p:xfrm>
        <a:graphic>
          <a:graphicData uri="http://schemas.openxmlformats.org/drawingml/2006/table">
            <a:tbl>
              <a:tblPr/>
              <a:tblGrid>
                <a:gridCol w="2287440"/>
                <a:gridCol w="2289240"/>
                <a:gridCol w="2624040"/>
              </a:tblGrid>
              <a:tr h="46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кор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Рассто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6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 км/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 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600200"/>
            <a:ext cx="45464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оформлении математического диктанта следует соблюдать следующие требования: - записывать только ответы в строчку через запятую, отступая одну клетку - рядом с числом писать наименования единиц измерений и предлоги на, в .. раз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: 675, 564, на 78, в 7 раз.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9" name="Рисунок 2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33289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68360" y="404280"/>
            <a:ext cx="7786800" cy="57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и оформлении решения выражений  следует требовать от учащихся соблюдения следующих норм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аписать выражение полностью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казать знаки действий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казать цифрами над математическими знаками промежуточный результат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аписать окончательное значение выраже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94920" y="3284640"/>
            <a:ext cx="65530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Например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3    5    7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4 -1 + 2 + 2 = 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2" name="Picture 4" descr=""/>
          <p:cNvPicPr/>
          <p:nvPr/>
        </p:nvPicPr>
        <p:blipFill>
          <a:blip r:embed="rId1"/>
          <a:stretch/>
        </p:blipFill>
        <p:spPr>
          <a:xfrm>
            <a:off x="7164360" y="4437000"/>
            <a:ext cx="1563840" cy="1943280"/>
          </a:xfrm>
          <a:prstGeom prst="rect">
            <a:avLst/>
          </a:prstGeom>
          <a:ln w="38160">
            <a:solidFill>
              <a:srgbClr val="e75c0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600200"/>
            <a:ext cx="7499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оформления сложных уравнений, как это требуют учителя математики в средней школе.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+ 56*2= 63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+112=63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=638-11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Х=52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26+56*2=63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638=63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 письменные вычисления выполняются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прав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от уравн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7927560" y="4292280"/>
            <a:ext cx="17316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7" name="Объект 2" descr=""/>
          <p:cNvPicPr/>
          <p:nvPr/>
        </p:nvPicPr>
        <p:blipFill>
          <a:blip r:embed="rId1"/>
          <a:stretch/>
        </p:blipFill>
        <p:spPr>
          <a:xfrm>
            <a:off x="457200" y="1554120"/>
            <a:ext cx="3749760" cy="4621320"/>
          </a:xfrm>
          <a:prstGeom prst="rect">
            <a:avLst/>
          </a:prstGeom>
          <a:ln w="0">
            <a:noFill/>
          </a:ln>
        </p:spPr>
      </p:pic>
      <p:pic>
        <p:nvPicPr>
          <p:cNvPr id="408" name="Объект 3" descr=""/>
          <p:cNvPicPr/>
          <p:nvPr/>
        </p:nvPicPr>
        <p:blipFill>
          <a:blip r:embed="rId2"/>
          <a:stretch/>
        </p:blipFill>
        <p:spPr>
          <a:xfrm>
            <a:off x="4273560" y="1554120"/>
            <a:ext cx="3657600" cy="462132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4"/>
          <p:cNvSpPr/>
          <p:nvPr/>
        </p:nvSpPr>
        <p:spPr>
          <a:xfrm>
            <a:off x="2845800" y="476280"/>
            <a:ext cx="349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Book Antiqua"/>
              </a:rPr>
              <a:t>Предлож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ff0000"/>
                </a:solidFill>
                <a:uFillTx/>
                <a:latin typeface="Book Antiqua"/>
              </a:rPr>
              <a:t>НЕДЕЛЯ МАТЕМАТИКИ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спользуемые методы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беседы, игры, уроки, конкурсы, нестандартные уроки, КВН, соревнования, викторины, сказки, презентации.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0" y="14130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лимпиада проводилась с целью выявления наиболее подготовленных учащихся, имеющих особые склонности к математике, развития познавательных интересов и любви к математик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ИТОГИ ПРОВЕДЕНИЯ ОЛИМПИАДЫ</a:t>
            </a: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ПО МАТЕМАТИКЕ СРЕДИ УЧАЩИХСЯ 3-4-Х КЛАССОВ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05 декабря 2018 г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была проведена олимпиада по математик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одилась учителями: Шубиной О.С., Рачек О.В.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го в олимпиаде приняло участи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34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челове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тоги проведения олимпиады в 3-х классах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 мест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1.Саргсян Альберт , 3-а класс – 19 балл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 место: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1.Маслова Екатерина, 3-в класс – 15 баллов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ощрительное место: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Карягин Сергей, 3-б класс – 13 балл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тоги проведения олимпиады в 4-х классах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 мест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1.Беляева Софья , 4-б класс – 20 балл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 место: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1.Шлыкова Диана, 4-б класс – 18 баллов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ощрительное место: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Маркевич Мария, 4-б класс – 17 балл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Пенкина Дарья, 4-б класс – 17 балл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entury Schoolbook"/>
              </a:rPr>
              <a:t>НАИБОЛЕЕ ИНТЕРЕСНЫЕ ЗАНЯТ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61880" y="86184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 А - Конкурс загадок о числах (Семенова О.В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 Б  - Рисунки «Превращаем число в забавное животное» (Алейникова Е.С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 В – Конкурс рисунков «Ожившие цифры». (Шубина О.С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 А – Конкурс математических листовок (Луценко Л.Н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 Б - Загадки «Город математики» (Ракова В.И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 В – Математическая мастерская «Оформи свое число» (Грищенко С.В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00720" y="9810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3А  - «Геометрический турнир» (Басова Е.Д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220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3 Б -   Конкурс рисунков из геометрических фигур (Киселева Н.Г.)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220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3 В – КВН по математике (Шерстобитова И.Э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220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4 А -  Занимательные лабиринты и задачи». (Фролова Л.Г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220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4Б -  БРЕЙН – РИНГ Математическая игра.  (Силаева Е.А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220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4 В – В стране ребусов (Рачек О.В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220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68000" y="942480"/>
            <a:ext cx="74278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entury Schoolbook"/>
              </a:rPr>
              <a:t>В начальной школе ученики имеют тетради для выполнения всех видов обучающих и контрольных  работ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entury Schoolbook"/>
              </a:rPr>
              <a:t>Математика: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entury Schoolbook"/>
              </a:rPr>
              <a:t>Тетради (2) ( для текущих работ)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entury Schoolbook"/>
              </a:rPr>
              <a:t>Тетрадь ( для контрольных работ.)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Прямоугольник 4"/>
          <p:cNvSpPr/>
          <p:nvPr/>
        </p:nvSpPr>
        <p:spPr>
          <a:xfrm>
            <a:off x="285840" y="214200"/>
            <a:ext cx="7454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Century Schoolbook"/>
              </a:rPr>
              <a:t>Порядок ведения и оформления тетрадей</a:t>
            </a: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Century Schoolbook"/>
              </a:rPr>
              <a:t>.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7093080" y="4292640"/>
            <a:ext cx="1655640" cy="219384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0000"/>
                </a:solidFill>
                <a:latin typeface="Century Schoolbook"/>
              </a:rPr>
              <a:t>ПРЕДЛОЖ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тметить целенаправленную работу учителей по выявлению наиболее способных и одаренных учащихся, имеющих особые склонности к математике и развитию у них познавательных интересов и любви к предмету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4" name="Объект 4" descr=""/>
          <p:cNvPicPr/>
          <p:nvPr/>
        </p:nvPicPr>
        <p:blipFill>
          <a:blip r:embed="rId1"/>
          <a:stretch/>
        </p:blipFill>
        <p:spPr>
          <a:xfrm>
            <a:off x="4270320" y="1557360"/>
            <a:ext cx="383076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0000"/>
                </a:solidFill>
                <a:uFillTx/>
                <a:latin typeface="Century Schoolbook"/>
              </a:rPr>
              <a:t>ОФОРМЛЕНИЕ НАДПИСЕЙ НА ОБЛОЖКЕ ТЕТРАДЕЙ.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 </a:t>
            </a:r>
            <a:br>
              <a:rPr sz="3600"/>
            </a:b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7499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етради учащихся 1-го и 2-го классов подписывает  учитель или родители. Тетради учащихся 3-4 классов подписывают сами учащиеся под руководством учителя или родителя 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Не обязательно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чтобы тетради были подписаны одним почерком.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дписи на обложках  необходимо оформлять по единой форме, с соблюдением норм каллиграфии.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Рисунок 4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8749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755640" y="404280"/>
            <a:ext cx="4176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entury Schoolbook"/>
              </a:rPr>
              <a:t>Образец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Тетрадь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для работ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entury Schoolbook"/>
              </a:rPr>
              <a:t>по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математик</a:t>
            </a:r>
            <a:r>
              <a:rPr b="1" i="1" lang="ru-RU" sz="1600" spc="-1" strike="noStrike">
                <a:solidFill>
                  <a:srgbClr val="ff0000"/>
                </a:solidFill>
                <a:latin typeface="Century Schoolbook"/>
              </a:rPr>
              <a:t>е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ученика 1 класса Б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МБОУ </a:t>
            </a:r>
            <a:r>
              <a:rPr b="1" i="1" lang="ru-RU" sz="1600" spc="-1" strike="noStrike">
                <a:solidFill>
                  <a:srgbClr val="ff0000"/>
                </a:solidFill>
                <a:latin typeface="Century Schoolbook"/>
              </a:rPr>
              <a:t>«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Средн</a:t>
            </a:r>
            <a:r>
              <a:rPr b="1" i="1" lang="ru-RU" sz="1600" spc="-1" strike="noStrike">
                <a:solidFill>
                  <a:srgbClr val="ff0000"/>
                </a:solidFill>
                <a:latin typeface="Century Schoolbook"/>
              </a:rPr>
              <a:t>яя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школ</a:t>
            </a:r>
            <a:r>
              <a:rPr b="1" i="1" lang="ru-RU" sz="1600" spc="-1" strike="noStrike">
                <a:solidFill>
                  <a:srgbClr val="ff0000"/>
                </a:solidFill>
                <a:latin typeface="Century Schoolbook"/>
              </a:rPr>
              <a:t>а 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№2</a:t>
            </a:r>
            <a:r>
              <a:rPr b="1" i="1" lang="ru-RU" sz="1600" spc="-1" strike="noStrike">
                <a:solidFill>
                  <a:srgbClr val="ff0000"/>
                </a:solidFill>
                <a:latin typeface="Century Schoolbook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г. Десногорск</a:t>
            </a:r>
            <a:r>
              <a:rPr b="1" i="1" lang="ru-RU" sz="1600" spc="-1" strike="noStrike">
                <a:solidFill>
                  <a:srgbClr val="ff0000"/>
                </a:solidFill>
                <a:latin typeface="Century Schoolbook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Иванова Иван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едлог </a:t>
            </a: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«по»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ишется  на одной строке с названием предмет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умерация класса пишетс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арабскими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цифрам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Фамилию и имя следует писать в форме родительного падежа. Сначала пишут фамилию, а затем полное им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Рисунок 4" descr=""/>
          <p:cNvPicPr/>
          <p:nvPr/>
        </p:nvPicPr>
        <p:blipFill>
          <a:blip r:embed="rId1"/>
          <a:stretch/>
        </p:blipFill>
        <p:spPr>
          <a:xfrm>
            <a:off x="6227640" y="3983040"/>
            <a:ext cx="1854360" cy="204804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1"/>
          <p:cNvSpPr/>
          <p:nvPr/>
        </p:nvSpPr>
        <p:spPr>
          <a:xfrm>
            <a:off x="5148360" y="907920"/>
            <a:ext cx="331128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Тетрад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для контрольных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entury Schoolbook"/>
              </a:rPr>
              <a:t>по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математик</a:t>
            </a:r>
            <a:r>
              <a:rPr b="1" i="1" lang="ru-RU" sz="1600" spc="-1" strike="noStrike">
                <a:solidFill>
                  <a:srgbClr val="ff0000"/>
                </a:solidFill>
                <a:latin typeface="Century Schoolbook"/>
              </a:rPr>
              <a:t>е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ученика 1 класса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МБОУ </a:t>
            </a:r>
            <a:r>
              <a:rPr b="1" i="1" lang="ru-RU" sz="1600" spc="-1" strike="noStrike">
                <a:solidFill>
                  <a:srgbClr val="ff0000"/>
                </a:solidFill>
                <a:latin typeface="Century Schoolbook"/>
              </a:rPr>
              <a:t>«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Средн</a:t>
            </a:r>
            <a:r>
              <a:rPr b="1" i="1" lang="ru-RU" sz="1600" spc="-1" strike="noStrike">
                <a:solidFill>
                  <a:srgbClr val="ff0000"/>
                </a:solidFill>
                <a:latin typeface="Century Schoolbook"/>
              </a:rPr>
              <a:t>яя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школ</a:t>
            </a:r>
            <a:r>
              <a:rPr b="1" i="1" lang="ru-RU" sz="1600" spc="-1" strike="noStrike">
                <a:solidFill>
                  <a:srgbClr val="ff0000"/>
                </a:solidFill>
                <a:latin typeface="Century Schoolbook"/>
              </a:rPr>
              <a:t>а 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№2</a:t>
            </a:r>
            <a:r>
              <a:rPr b="1" i="1" lang="ru-RU" sz="1600" spc="-1" strike="noStrike">
                <a:solidFill>
                  <a:srgbClr val="ff0000"/>
                </a:solidFill>
                <a:latin typeface="Century Schoolbook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г. Десногорск</a:t>
            </a:r>
            <a:r>
              <a:rPr b="1" i="1" lang="ru-RU" sz="1600" spc="-1" strike="noStrike">
                <a:solidFill>
                  <a:srgbClr val="ff0000"/>
                </a:solidFill>
                <a:latin typeface="Century Schoolbook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Иванова Ив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ОФОРМЛЕНИЕ ПИСЬМЕННЫХ РАБОТ ПО МАТЕМАТИКЕ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000" y="981000"/>
            <a:ext cx="8280360" cy="54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ом классе в период обучения грамоте запись даты ведется учителем или учащимися в виде числа: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окончании этого периода дата записывается полностью: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декабр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ежду классной и домашней работами следует отступать 4 клетки 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вниз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(на пятой клетке начинается следующая работа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ледует отметить, что для заглавных букв клетка не отводитс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ежду столбиками выражений, уравнений, равенств и прочими отступаются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три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клетки вправо (пишем на четвертой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ату  записывать традиционно посередин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лассная и домашняя работа пишется  в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4-5 клетке  слева от начала  строк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юбой работе отступается одна клетка слева от края тетради (5 мм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3"/>
          <p:cNvSpPr/>
          <p:nvPr/>
        </p:nvSpPr>
        <p:spPr>
          <a:xfrm>
            <a:off x="468360" y="333360"/>
            <a:ext cx="8280360" cy="56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форм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Задача»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шетс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редине строки,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им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дач также требует соблюдения принятых нор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ая запись - условия задач оформляется в соответствии с их видо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пускается их неполная запись (по начальным буквам)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ие-  7 м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-7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е -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м.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-3 м.   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+3=10 (м) – вс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10 мяч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лавные» слова пишутся с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главн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квы. Следует отметить, что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заглавных букв клетка не отводится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Отв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пише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 заглавной буквы под решени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атематике при сокращении наименований единиц измерений точки не ставятс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мм, м, см, ч, мин, км, кг, г и др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Рисунок 1" descr=""/>
          <p:cNvPicPr/>
          <p:nvPr/>
        </p:nvPicPr>
        <p:blipFill>
          <a:blip r:embed="rId1"/>
          <a:stretch/>
        </p:blipFill>
        <p:spPr>
          <a:xfrm>
            <a:off x="6156360" y="5373720"/>
            <a:ext cx="2519280" cy="1295280"/>
          </a:xfrm>
          <a:prstGeom prst="rect">
            <a:avLst/>
          </a:prstGeom>
          <a:ln w="0">
            <a:noFill/>
          </a:ln>
        </p:spPr>
      </p:pic>
      <p:sp>
        <p:nvSpPr>
          <p:cNvPr id="375" name="Правая фигурная скобка 1"/>
          <p:cNvSpPr/>
          <p:nvPr/>
        </p:nvSpPr>
        <p:spPr>
          <a:xfrm>
            <a:off x="4452840" y="1844640"/>
            <a:ext cx="155520" cy="914400"/>
          </a:xfrm>
          <a:custGeom>
            <a:avLst/>
            <a:gdLst>
              <a:gd name="textAreaLeft" fmla="*/ 0 w 155520"/>
              <a:gd name="textAreaRight" fmla="*/ 5616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авая фигурная скобка 2"/>
          <p:cNvSpPr/>
          <p:nvPr/>
        </p:nvSpPr>
        <p:spPr>
          <a:xfrm>
            <a:off x="7194600" y="1892160"/>
            <a:ext cx="155520" cy="914400"/>
          </a:xfrm>
          <a:custGeom>
            <a:avLst/>
            <a:gdLst>
              <a:gd name="textAreaLeft" fmla="*/ 0 w 155520"/>
              <a:gd name="textAreaRight" fmla="*/ 5616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уществует несколько форм записи решения задач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)по действиям, выражением, уравнение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) по действиям с письменными пояснениями, по действиям с записью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пускается запись условия задачи в виде рисунка, схемы, графического изображения и таблицы. Названия граф (колонок) пишется с большой букв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особы: арифметический, алгебраический (решение через х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DejaVu Serif"/>
              </a:rPr>
              <a:t>ОФОРМЛЕНИЕ ЗАДАЧ - 1 КЛАСС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DejaVu Serif"/>
              </a:rPr>
              <a:t>РИСУНОК, СЛОВЕСНАЯ ЗАПИСЬ</a:t>
            </a:r>
            <a:br>
              <a:rPr sz="2000"/>
            </a:br>
            <a:r>
              <a:rPr b="1" lang="ru-RU" sz="2000" spc="-1" strike="noStrike">
                <a:solidFill>
                  <a:srgbClr val="575f6d"/>
                </a:solidFill>
                <a:latin typeface="Times New Roman"/>
                <a:ea typeface="DejaVu Serif"/>
              </a:rPr>
              <a:t>АНЯ ВЫМЫЛА 5 ТАРЕЛОК, А МИША ВЫМЫЛ 4 ТАРЕЛКИ. СКОЛЬКО ВСЕГО ТАРЕЛОК ВЫМЫЛИ ДЕТИ? </a:t>
            </a:r>
            <a:br>
              <a:rPr sz="2700"/>
            </a:b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8000" y="2028600"/>
            <a:ext cx="746748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Gautami"/>
              </a:rPr>
              <a:t>Аня – 5 т.              ?     </a:t>
            </a:r>
            <a:r>
              <a:rPr b="0" lang="ru-RU" sz="3200" spc="-1" strike="noStrike">
                <a:solidFill>
                  <a:srgbClr val="00b050"/>
                </a:solidFill>
                <a:latin typeface="Monotype Corsiva"/>
                <a:ea typeface="Gautami"/>
              </a:rPr>
              <a:t>/////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Gautami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Monotype Corsiva"/>
                <a:ea typeface="Gautami"/>
              </a:rPr>
              <a:t>////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Gautami"/>
              </a:rPr>
              <a:t>Миша – 4 т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Gautami"/>
              </a:rPr>
              <a:t>5 + 4 = 9 (т.) – вымыли дет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Gautami"/>
              </a:rPr>
              <a:t>Ответ: 9 тарелок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Правая фигурная скобка 3"/>
          <p:cNvSpPr/>
          <p:nvPr/>
        </p:nvSpPr>
        <p:spPr>
          <a:xfrm>
            <a:off x="2278080" y="2133720"/>
            <a:ext cx="709560" cy="1074600"/>
          </a:xfrm>
          <a:custGeom>
            <a:avLst/>
            <a:gdLst>
              <a:gd name="textAreaLeft" fmla="*/ 0 w 709560"/>
              <a:gd name="textAreaRight" fmla="*/ 256320 w 709560"/>
              <a:gd name="textAreaTop" fmla="*/ 18360 h 1074600"/>
              <a:gd name="textAreaBottom" fmla="*/ 1056240 h 10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4"/>
                  <a:pt x="10800" y="1188"/>
                </a:cubicBezTo>
                <a:lnTo>
                  <a:pt x="10800" y="9385"/>
                </a:lnTo>
                <a:cubicBezTo>
                  <a:pt x="10800" y="9979"/>
                  <a:pt x="16200" y="10573"/>
                  <a:pt x="21600" y="10573"/>
                </a:cubicBezTo>
                <a:cubicBezTo>
                  <a:pt x="16200" y="10573"/>
                  <a:pt x="10800" y="11167"/>
                  <a:pt x="10800" y="11761"/>
                </a:cubicBezTo>
                <a:lnTo>
                  <a:pt x="10800" y="20412"/>
                </a:lnTo>
                <a:cubicBezTo>
                  <a:pt x="10800" y="21006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Рисунок 4" descr=""/>
          <p:cNvPicPr/>
          <p:nvPr/>
        </p:nvPicPr>
        <p:blipFill>
          <a:blip r:embed="rId1"/>
          <a:stretch/>
        </p:blipFill>
        <p:spPr>
          <a:xfrm>
            <a:off x="5003640" y="3933720"/>
            <a:ext cx="302580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-200880"/>
            <a:ext cx="7385040" cy="16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DejaVu Serif"/>
                <a:ea typeface="DejaVu Serif"/>
              </a:rPr>
              <a:t>                                </a:t>
            </a:r>
            <a:r>
              <a:rPr b="1" i="1" lang="ru-RU" sz="2000" spc="-1" strike="noStrike">
                <a:solidFill>
                  <a:srgbClr val="00b050"/>
                </a:solidFill>
                <a:latin typeface="DejaVu Serif"/>
                <a:ea typeface="DejaVu Serif"/>
              </a:rPr>
              <a:t>2-3КЛАСС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DejaVu Serif"/>
                <a:ea typeface="DejaVu Serif"/>
              </a:rPr>
              <a:t>НА ПРИШКОЛЬНОМ УЧАСТКЕ 6 БЕРЁЗ, А ЛИП НА 4 МЕНЬШЕ. СКОЛЬКО ВСЕГО ДЕРЕВЬЕВ НА ПРИШКОЛЬНОМ УЧАСТКЕ?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TextBox 1"/>
          <p:cNvSpPr/>
          <p:nvPr/>
        </p:nvSpPr>
        <p:spPr>
          <a:xfrm>
            <a:off x="369720" y="1773360"/>
            <a:ext cx="46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ерёз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– 6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? д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Лип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– ?д., на 4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Группа 3"/>
          <p:cNvGrpSpPr/>
          <p:nvPr/>
        </p:nvGrpSpPr>
        <p:grpSpPr>
          <a:xfrm>
            <a:off x="2123280" y="2003040"/>
            <a:ext cx="793080" cy="800280"/>
            <a:chOff x="2123280" y="2003040"/>
            <a:chExt cx="793080" cy="800280"/>
          </a:xfrm>
        </p:grpSpPr>
        <p:sp>
          <p:nvSpPr>
            <p:cNvPr id="386" name="Прямая соединительная линия 6"/>
            <p:cNvSpPr/>
            <p:nvPr/>
          </p:nvSpPr>
          <p:spPr>
            <a:xfrm flipV="1">
              <a:off x="2916360" y="2003040"/>
              <a:ext cx="0" cy="80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7" name="Прямая со стрелкой 7"/>
            <p:cNvCxnSpPr/>
            <p:nvPr/>
          </p:nvCxnSpPr>
          <p:spPr>
            <a:xfrm flipH="1">
              <a:off x="2123280" y="2003040"/>
              <a:ext cx="793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388" name="Правая фигурная скобка 8"/>
          <p:cNvSpPr/>
          <p:nvPr/>
        </p:nvSpPr>
        <p:spPr>
          <a:xfrm>
            <a:off x="3065400" y="1881360"/>
            <a:ext cx="426960" cy="936360"/>
          </a:xfrm>
          <a:custGeom>
            <a:avLst/>
            <a:gdLst>
              <a:gd name="textAreaLeft" fmla="*/ 0 w 426960"/>
              <a:gd name="textAreaRight" fmla="*/ 154080 w 426960"/>
              <a:gd name="textAreaTop" fmla="*/ 10800 h 936360"/>
              <a:gd name="textAreaBottom" fmla="*/ 9255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11"/>
                  <a:pt x="10800" y="821"/>
                </a:cubicBezTo>
                <a:lnTo>
                  <a:pt x="10800" y="9979"/>
                </a:lnTo>
                <a:cubicBezTo>
                  <a:pt x="10800" y="10390"/>
                  <a:pt x="16200" y="10800"/>
                  <a:pt x="21600" y="10800"/>
                </a:cubicBezTo>
                <a:cubicBezTo>
                  <a:pt x="16200" y="10800"/>
                  <a:pt x="10800" y="11211"/>
                  <a:pt x="10800" y="11621"/>
                </a:cubicBezTo>
                <a:lnTo>
                  <a:pt x="10800" y="20779"/>
                </a:lnTo>
                <a:cubicBezTo>
                  <a:pt x="10800" y="2119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01760" y="3130560"/>
            <a:ext cx="75549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)6 – 4 = 2 (д.) – лип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2) 6 + 2 = 8 (д.) – всег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твет: 8 деревье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(6 – 4) + 6= 8 (д.) – всег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Ответ: 8 деревье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Monotype Corsiva"/>
                <a:ea typeface="Arial"/>
              </a:rPr>
              <a:t>Запись по действиям или выражение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Рисунок 1" descr=""/>
          <p:cNvPicPr/>
          <p:nvPr/>
        </p:nvPicPr>
        <p:blipFill>
          <a:blip r:embed="rId1"/>
          <a:stretch/>
        </p:blipFill>
        <p:spPr>
          <a:xfrm>
            <a:off x="4427640" y="1773360"/>
            <a:ext cx="3673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08:40:37Z</dcterms:created>
  <dc:creator>Андрей</dc:creator>
  <dc:description/>
  <dc:language>en-US</dc:language>
  <cp:lastModifiedBy>Пользователь Windows</cp:lastModifiedBy>
  <dcterms:modified xsi:type="dcterms:W3CDTF">2018-12-27T18:03:57Z</dcterms:modified>
  <cp:revision>1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c120000000000010243100207f6000400038000</vt:lpwstr>
  </property>
</Properties>
</file>