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4AEBF-CC19-4761-A36B-C44CF8117A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BFA8B-D140-488B-83C8-2D6AAD50BF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A9A8C-E129-4514-8E26-06FC29717B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065-8A5F-4EE6-92A9-D622E018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B01-2411-4766-816C-C1D91FE0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0A3-AA63-414A-BCE4-6F531AC1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207-7407-479B-8EB0-903B7ADD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99D-081E-44E9-B475-25BCDB16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2E8-80DB-454A-AE77-835DF6A4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63D-CB0E-4E8F-BB4B-3FF61D72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EFE-12D0-48A0-974C-4D82DAB6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0B2-A6B8-42D5-8A41-AFE11C17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608-A079-4ED1-9468-34220C5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378-77C9-4194-861F-541CCF1E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B4F-1AFA-4A98-BDA6-29398FD8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F8F9F-F151-44E4-8BFB-7E256FA61A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039680" y="1136520"/>
            <a:ext cx="7929720" cy="51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Личностно-ориентированный подход к учащимся на уроках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читель начальных классов МБОУ «Средняя школа №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Шубина 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г. Десного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611440" y="208080"/>
            <a:ext cx="707220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Главная задача учителя в личностно-ориентированном образовательном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4160" y="2192400"/>
            <a:ext cx="93582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Главное, на что работает учитель в личностно - ориентированном образова-тельном пространстве – организация «событийной  общности» с учеником, помощь ему в освоении позиции субъекта собственной жизнедеятельности. Важно, чтобы ученик сумел преодолеть пассив-ную позицию в учебном процессе и открыть себя как носителя активного преобразующего 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Личностно - ориентированное об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2136240"/>
            <a:ext cx="90694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ставит воспитанника в новые условия, трансформирующие привычный ход его жизнедеятельности, востребующие от него новую модель поведения, чему предшествует рефлексия, осмысление, переосмысление сложившейся ситу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15880" y="520812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Palatino Linotype"/>
              </a:rPr>
              <a:t>К. Д. 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96720" y="2293920"/>
            <a:ext cx="9358560" cy="2452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Умение учителя занять во время урока</a:t>
            </a:r>
            <a:endParaRPr b="1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всех учащихся есть критерий достоинства</a:t>
            </a:r>
            <a:endParaRPr b="1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учителя.</a:t>
            </a:r>
            <a:endParaRPr b="1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55640" y="168120"/>
            <a:ext cx="757548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968640" y="4724280"/>
            <a:ext cx="611208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54160" y="2637000"/>
            <a:ext cx="935820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выступает не сумма знаний, умений, навыков, а активный запас ключевых компетенций, обеспечивающих образование на современном уровне, самореализацию и успешную адаптацию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521080" y="779400"/>
            <a:ext cx="70912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Целью образования в настояще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36240" y="1708200"/>
            <a:ext cx="907236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Palatino Linotype"/>
              </a:rPr>
              <a:t>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Общеобразовательная школа должна форми-ровать целостную систему универсальных знаний, умений, навыков, а так же опыт самос-тоятельной деятельности и личной ответствен-ности обучающихся, т. е. ключевые компетен-ции, определяющие современное качество об-разования"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(Концепция модернизации Российского образования на период до 2010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Человек не ценится теперь только как носитель знаний, а важно, чтобы он был деятель” ( из речи  В.В. Пути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2325600" y="779400"/>
            <a:ext cx="72867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Palatino Linotype"/>
              </a:rPr>
              <a:t>Задача шко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54160" y="2279520"/>
            <a:ext cx="942948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Обучение, обеспечивающее право каждого школьника на индивидуальное развитие, максимальное раскрытие его психологического потенци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2680" y="301320"/>
            <a:ext cx="73900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Palatino Linotype"/>
              </a:rPr>
              <a:t>Личностно - ориентированное обучение</a:t>
            </a: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5440" y="2136240"/>
            <a:ext cx="950112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308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«Это такое обучение, которое во главу угла ставит самобытность ребенка, его самоценность, субъективность про-цесса учения. ЛОО – это не просто учет особенностей субъекта учения, это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иная методология организации условий обучения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, которая предпо-лагает не «учет», а «включение» его собственно личностных функций»            Н.А.Алексее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39320" y="993240"/>
            <a:ext cx="885852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Личностно-ориентированное образование включает следующие подход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2922480"/>
            <a:ext cx="906948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spcAft>
                <a:spcPts val="1426"/>
              </a:spcAft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Разноуровне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spcAft>
                <a:spcPts val="1426"/>
              </a:spcAft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Дифференциров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spcAft>
                <a:spcPts val="1426"/>
              </a:spcAft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Индивиду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spcAft>
                <a:spcPts val="1426"/>
              </a:spcAft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Субъективно-лично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1254240" y="-720720"/>
            <a:ext cx="85914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Особенность личностно-ориентированного подхода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039680" y="1279440"/>
            <a:ext cx="8786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93000"/>
              </a:lnSpc>
              <a:spcBef>
                <a:spcPts val="437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Образовательный процесс дол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93000"/>
              </a:lnSpc>
              <a:spcBef>
                <a:spcPts val="437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быть 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аправлен на: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2738520" y="3621240"/>
            <a:ext cx="4603680" cy="2143080"/>
          </a:xfrm>
          <a:prstGeom prst="octagon">
            <a:avLst>
              <a:gd name="adj" fmla="val 2314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В цен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Его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Мо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Интере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кло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ровень обуч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15880" y="3859200"/>
            <a:ext cx="2222640" cy="1984320"/>
          </a:xfrm>
          <a:prstGeom prst="rightArrow">
            <a:avLst>
              <a:gd name="adj1" fmla="val 50000"/>
              <a:gd name="adj2" fmla="val 2799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своение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4245120" y="1779480"/>
            <a:ext cx="1906560" cy="1819440"/>
          </a:xfrm>
          <a:prstGeom prst="downArrow">
            <a:avLst>
              <a:gd name="adj1" fmla="val 49676"/>
              <a:gd name="adj2" fmla="val 2493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t" anchorCtr="1" vert="eaVer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Разви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7342200" y="3938760"/>
            <a:ext cx="2556000" cy="1984320"/>
          </a:xfrm>
          <a:prstGeom prst="leftArrow">
            <a:avLst>
              <a:gd name="adj1" fmla="val 50000"/>
              <a:gd name="adj2" fmla="val 279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пособы усво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процессы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4325760" y="5764320"/>
            <a:ext cx="1984680" cy="1587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t" anchorCtr="1" vert="eaVert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творче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1825560" y="15840"/>
            <a:ext cx="785808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Отличия личностно- ориентированного урока от традицион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755640" y="2016000"/>
            <a:ext cx="8485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просматриваются в четырёх аспект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-в организации самого урока и деятельности на нё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-в иной позиции педагога по отношению к ученику и к учебному процессу,  к роли учителя в нё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-в иной позиции самого ученика как субъекта учебной деятельности (именно благодаря иной позиции педагога и выращивается субъектная позиция ученик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-в ином характере взаимоотношений между учителем и учеником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/>
  <dc:description/>
  <dc:language>en-US</dc:language>
  <cp:lastModifiedBy>Пользователь Windows</cp:lastModifiedBy>
  <dcterms:modified xsi:type="dcterms:W3CDTF">2017-11-01T05:02:30Z</dcterms:modified>
  <cp:revision>42</cp:revision>
  <dc:subject/>
  <dc:title>Слайд 1</dc:title>
</cp:coreProperties>
</file>