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9B49-1D45-407A-B73B-1B80AD91B0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3C2BE-289B-4523-9A90-70AE86779F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3263A-0BDA-4BA9-8A3D-5CD7764A4C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4BF-38EC-49F5-A791-CFD89AD2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B8B-E318-4423-9DBF-1D5BF632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58D-4C7C-4D89-8AB7-67336542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927-6BC3-455E-BA47-1D9DADC7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FBA-1282-4206-B71D-B81DC8E5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6B4-B586-4CDC-998E-F79743B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04E-9782-4856-8B0E-4E18A86D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ACE-0609-4B1A-B1BC-6A4124A1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64F-791E-4E77-AE26-AF8C91C6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224-ABFF-40A6-BA7C-5E2509C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346-A6BA-4FDB-BF30-C3079FA3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D49-59FF-43B0-943F-F32F335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3AEC0-E884-49C3-820A-1CF85A3A77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039680" y="1136520"/>
            <a:ext cx="792972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Личностно-ориентированный подход к учащимся на уроках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начальных классов МБОУ «Средняя школа 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Шубина 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г. Десно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611440" y="208080"/>
            <a:ext cx="707220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Главная задача учителя в личностно-ориентированном образовательном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4160" y="2192400"/>
            <a:ext cx="93582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Главное, на что работает учитель в личностно - ориентированном образова-тельном пространстве – организация «событийной  общности» с учеником, помощь ему в освоении позиции субъекта собственной жизнедеятельности. Важно, чтобы ученик сумел преодолеть пассив-ную позицию в учебном процессе и открыть себя как носителя активного преобразующего 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Личностно - ориентированн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2136240"/>
            <a:ext cx="90694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ставит воспитанника в новые условия, трансформирующие привычный ход его жизнедеятельности, востребующие от него новую модель поведения, чему предшествует рефлексия, осмысление, переосмысление сложившейся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5880" y="520812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96720" y="2293920"/>
            <a:ext cx="9358560" cy="2452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мение учителя занять во время урока</a:t>
            </a:r>
            <a:endParaRPr b="1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всех учащихся есть критерий достоинства</a:t>
            </a:r>
            <a:endParaRPr b="1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чителя.</a:t>
            </a:r>
            <a:endParaRPr b="1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55640" y="168120"/>
            <a:ext cx="75754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968640" y="4724280"/>
            <a:ext cx="611208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4160" y="2637000"/>
            <a:ext cx="935820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ыступает не сумма знаний, умений, навыков, а активный запас ключевых компетенций, обеспечивающих образование на современном уровне, самореализацию и успешную адаптацию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21080" y="779400"/>
            <a:ext cx="70912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Целью образования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36240" y="1708200"/>
            <a:ext cx="907236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Общеобразовательная школа должна форми-ровать целостную систему универсальных знаний, умений, навыков, а так же опыт самос-тоятельной деятельности и личной ответствен-ности обучающихся, т. е. ключевые компетен-ции, определяющие современное качество об-разования"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(Концепция модернизации Российского образования на период до 2010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Человек не ценится теперь только как носитель знаний, а важно, чтобы он был деятель” ( из речи  В.В. Пути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325600" y="779400"/>
            <a:ext cx="72867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alatino Linotype"/>
              </a:rPr>
              <a:t>Задача шк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4160" y="2279520"/>
            <a:ext cx="942948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Обучение, обеспечивающее право каждого школьника на индивидуальное развитие, максимальное раскрытие его психологического потенци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2680" y="301320"/>
            <a:ext cx="73900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Palatino Linotype"/>
              </a:rPr>
              <a:t>Личностно - ориентированное обучение</a:t>
            </a: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5440" y="2136240"/>
            <a:ext cx="950112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08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«Это такое обучение, которое во главу угла ставит самобытность ребенка, его самоценность, субъективность про-цесса учения. ЛОО – это не просто учет особенностей субъекта учения, эт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иная методология организации условий обучения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, которая предпо-лагает не «учет», а «включение» его собственно личностных функций»            Н.А.Алексее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9320" y="993240"/>
            <a:ext cx="88585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Личностно-ориентированное образование включает следующие подход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2922480"/>
            <a:ext cx="906948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Разноуровн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Дифференцир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Индивиду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Субъективно-лично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1254240" y="-720720"/>
            <a:ext cx="85914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Особенность личностно-ориентированного подхода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039680" y="1279440"/>
            <a:ext cx="8786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Образовательный процесс дол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быть 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аправлен на: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2738520" y="3621240"/>
            <a:ext cx="4603680" cy="2143080"/>
          </a:xfrm>
          <a:prstGeom prst="octagon">
            <a:avLst>
              <a:gd name="adj" fmla="val 2314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В цен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Его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кло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ровень обу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15880" y="3859200"/>
            <a:ext cx="2222640" cy="1984320"/>
          </a:xfrm>
          <a:prstGeom prst="rightArrow">
            <a:avLst>
              <a:gd name="adj1" fmla="val 50000"/>
              <a:gd name="adj2" fmla="val 2799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своение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245120" y="1779480"/>
            <a:ext cx="1906560" cy="1819440"/>
          </a:xfrm>
          <a:prstGeom prst="downArrow">
            <a:avLst>
              <a:gd name="adj1" fmla="val 49676"/>
              <a:gd name="adj2" fmla="val 2493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7342200" y="3938760"/>
            <a:ext cx="2556000" cy="1984320"/>
          </a:xfrm>
          <a:prstGeom prst="leftArrow">
            <a:avLst>
              <a:gd name="adj1" fmla="val 50000"/>
              <a:gd name="adj2" fmla="val 279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ы усво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роцесс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4325760" y="5764320"/>
            <a:ext cx="1984680" cy="1587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твор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825560" y="15840"/>
            <a:ext cx="78580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Отличия личностно- ориентированного урока от традицио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755640" y="2016000"/>
            <a:ext cx="8485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росматриваются в четырёх аспект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организации самого урока и деятельности на нё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иной позиции педагога по отношению к ученику и к учебному процессу,  к роли учителя в нё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иной позиции самого ученика как субъекта учебной деятельности (именно благодаря иной позиции педагога и выращивается субъектная позиция ученик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ином характере взаимоотношений между учителем и учеником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Пользователь Windows</cp:lastModifiedBy>
  <dcterms:modified xsi:type="dcterms:W3CDTF">2017-11-01T05:02:30Z</dcterms:modified>
  <cp:revision>42</cp:revision>
  <dc:subject/>
  <dc:title>Слайд 1</dc:title>
</cp:coreProperties>
</file>