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09A82-09A6-4A04-8448-520598692CE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1E787-16B8-4BCD-A958-6ADEF6B024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4CD3-6877-4038-8CBE-5046FC51F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D49B-8E56-4044-B1FF-4AF8E94D7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6574-0F6E-4168-89AB-DB98283F8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D2A6-D208-49A1-BB2E-5A97BDB05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51F7E-E840-4171-BFFC-FB758783B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5914E-0400-452D-959A-7A4D286F1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F019F-D719-4A81-A648-5D67D6F1E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7E944-3FDF-4F5F-B252-F4D5440E3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B977E-7F74-4B6D-9F28-7388A732B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A8C5A-2C77-4686-8123-069657A1C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909AA-162E-449B-A5EB-22916E8D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B6CA-3B93-493B-8A9F-CB3F94889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AB6D9-2DE3-4FAC-B431-247652E0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B913A-8174-4817-85F2-546BBB34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12134-3DFA-4E47-9DAB-3C6DD31CC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354C8-CD00-4028-93AF-412F58F68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B5A22-BCB4-455F-B8AC-1097F9BAC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022F7-3080-4F02-92B0-6C0239635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02F52-28CD-4881-9B2D-0A22B68CC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7CB43-387F-4CC2-A345-ACB5649C9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B62BA-C0DD-43CA-BE04-B31C8DB9F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42E1B-960F-465E-A7E1-349CC4D9D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6B01-A9A9-4D90-A2DC-6CEFE8CA7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03498-1827-4C26-830D-397601DE9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57ED5-7DF3-45A1-84CB-0E29AB80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339CE-1B7C-49F9-8CDF-B41FD8A3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3AA87-86F4-47FD-A7A0-901F8736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1FB82-0565-48A9-B1EB-A0A6A15A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3FE27-A781-48BE-8657-9AC8EA0AE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B6C74-9400-4E0D-B87F-F7D5219D2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C88D7-6DB0-4C01-8DB9-8295BE942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07B02-9BC0-45DF-8048-772455B7D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47C31-CDF1-496C-9D34-FCA38EDE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CB65-00B0-4831-A758-516807ECF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1824A-A4F3-45F0-996A-25553CE29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F35C0-C688-4852-BBA9-6367691CC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EF2AF-0575-43A0-BBFF-9BE7BA29D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E207F-BA74-493D-B90B-479F1CB6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D0F84-5784-4745-AA45-53813170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1622C-A97D-4929-A230-D85F057E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286F9-1FC0-4055-944E-F0BDA678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65644-C3F9-49EA-9645-A856FE496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69E75-4FA8-458F-9C96-4C944FA5D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F3FA6-F224-496C-89C8-10A4E1DEA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5D77-E818-4B2F-A81E-23428CFFC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73A10-005A-44DC-AB2E-317A0F68E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1A9F7-041F-46F7-8AB8-0BAFA0639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D4182-09DE-47AD-B727-27BAC606E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880BA-93EE-4951-AEA6-4F51D4DC5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E1EB9-D6B5-4340-873C-305E3FFF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C7C20-B256-488E-9B58-68509851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F0B7A-71E9-4044-9445-1E1D04E3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EB6E7-0290-43A9-A024-C2897AC1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19E01-2496-42CD-8349-17A26B8CD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A5147-FEF6-4F26-B051-F97B3126C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ADBA-97F7-4229-8EBC-96E76E6C0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EA9A7-393B-44BD-B075-08062E597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10003-64BB-44CE-B1AE-A68E5F6B3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235B2-5715-421F-A80B-2BEABAB53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05E68-8BB3-4999-B3CF-18EEEB29F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F5946-0F94-4BD1-A328-088376230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0FE39-C732-4523-B8FD-053D23E6C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50700-EB8A-4EBA-A2E2-5EEF8A756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DB5DB-BC67-4345-A9F1-846307AA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0A2B3-E929-4E0E-B1D5-B44317E4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2BD49-2749-4A2B-9175-0D081784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1CEF-888F-47B8-8598-E8415BA9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4A6F3-6FFE-41EC-82A0-ECFA511DC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24323-F401-4106-A9D5-F6310F98D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8E9DA-E46C-4EC5-83C2-4872B7D94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CF080-87E7-46A4-A1B5-BBBF6F663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93B791-194E-4A49-B734-B4DC51115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BFA8F-90A7-4C23-95A4-AA4CE6E4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5A47D-6234-47B5-B0C8-BC4E086A8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5800AF-DAB1-401C-BD01-8DAB4B19E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1B6EF-A816-46B9-AC76-4CEF5A577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1773F9-171C-49EE-8625-23A690B2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E7AF-BF85-43D9-B29E-632AA554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79C66A-ADB0-4AC9-87A7-5C0F3843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6F452-B6A8-40ED-8A55-55F6E725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D82B53-7DD0-4A22-88A1-D32C14262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73200-1F45-4A56-96E5-78CA51B51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D99BD3-1953-4800-A17F-CE2B0B6AD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F4CC-39C7-421D-8131-B95DD9E4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E8A0E-88C3-4919-867A-6B35D54A4A1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DDA63-F8B8-4A97-872D-6DC6BA04358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40C39-01C6-4703-9E92-8E588DD9A9F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AFE1A-984B-4BE2-BB80-6233EFFCFC0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9E518-92BC-4F57-AA2F-41B9193532E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ACA54-B0D1-4630-956D-2D317D62613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nstanti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72189-A9E6-4E92-932C-FA63381823F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2"/>
          <p:cNvSpPr/>
          <p:nvPr/>
        </p:nvSpPr>
        <p:spPr>
          <a:xfrm>
            <a:off x="838080" y="1463760"/>
            <a:ext cx="7772400" cy="26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Гимнастика пробужд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 форма эффективно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здоровительной работ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WordArt 14"/>
          <p:cNvSpPr txBox="1"/>
          <p:nvPr/>
        </p:nvSpPr>
        <p:spPr>
          <a:xfrm>
            <a:off x="1523880" y="396720"/>
            <a:ext cx="5943600" cy="1067040"/>
          </a:xfrm>
          <a:prstGeom prst="rect">
            <a:avLst/>
          </a:prstGeom>
        </p:spPr>
        <p:txBody>
          <a:bodyPr wrap="none" lIns="90000" rIns="90000" tIns="46800" bIns="46800" anchor="t">
            <a:prstTxWarp prst="textCanDown">
              <a:avLst>
                <a:gd name="adj" fmla="val 123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2060"/>
                </a:solidFill>
                <a:latin typeface="Times New Roman"/>
              </a:rPr>
              <a:t>Презентация</a:t>
            </a:r>
            <a:endParaRPr b="1" lang="en-US" sz="1800" spc="1" strike="noStrike">
              <a:ln w="0">
                <a:noFill/>
              </a:ln>
              <a:solidFill>
                <a:srgbClr val="002060"/>
              </a:solidFill>
              <a:latin typeface="Times New Roman"/>
              <a:ea typeface="Times New Roman"/>
            </a:endParaRPr>
          </a:p>
        </p:txBody>
      </p:sp>
      <p:sp>
        <p:nvSpPr>
          <p:cNvPr id="344" name="Text Box 16"/>
          <p:cNvSpPr/>
          <p:nvPr/>
        </p:nvSpPr>
        <p:spPr>
          <a:xfrm>
            <a:off x="4327560" y="5827680"/>
            <a:ext cx="397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7"/>
          <p:cNvSpPr/>
          <p:nvPr/>
        </p:nvSpPr>
        <p:spPr>
          <a:xfrm>
            <a:off x="4724280" y="411480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Bodoni MT"/>
              </a:rPr>
              <a:t>Составила воспитате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Bodoni MT"/>
              </a:rPr>
              <a:t>МДОУ  «Детский сад № 9 группа №3 «Капель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Bodoni MT"/>
              </a:rPr>
              <a:t>Глазова И. 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Рисунок 3" descr=""/>
          <p:cNvPicPr/>
          <p:nvPr/>
        </p:nvPicPr>
        <p:blipFill>
          <a:blip r:embed="rId1"/>
          <a:stretch/>
        </p:blipFill>
        <p:spPr>
          <a:xfrm>
            <a:off x="533520" y="3892680"/>
            <a:ext cx="4190760" cy="234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Содержимое 2"/>
          <p:cNvSpPr/>
          <p:nvPr/>
        </p:nvSpPr>
        <p:spPr>
          <a:xfrm>
            <a:off x="762120" y="1295280"/>
            <a:ext cx="74991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 укрепить здоровье, иммунитет и опорно-двигательный аппарат де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эффективен  показатель изменения сколиоза и плоскостоп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 повысить жизненный тонус и снижение утомляемости во второй половине дн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развить координацию движ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 научит дышать через нос, выполнять движения по показу воспитател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 способствовать воспитанию привычки к здоровому образу жизни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WordArt 6"/>
          <p:cNvSpPr txBox="1"/>
          <p:nvPr/>
        </p:nvSpPr>
        <p:spPr>
          <a:xfrm>
            <a:off x="955800" y="304920"/>
            <a:ext cx="66294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002060"/>
                </a:solidFill>
                <a:latin typeface="Times New Roman"/>
              </a:rPr>
              <a:t>Ожидаемые результаты</a:t>
            </a:r>
            <a:endParaRPr b="1" lang="en-US" sz="4400" spc="1" strike="noStrike">
              <a:ln w="0">
                <a:noFill/>
              </a:ln>
              <a:solidFill>
                <a:srgbClr val="002060"/>
              </a:solidFill>
              <a:latin typeface="Times New Roman"/>
              <a:ea typeface="Times New Roman"/>
            </a:endParaRPr>
          </a:p>
        </p:txBody>
      </p:sp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9" name="Прямоугольник 2"/>
          <p:cNvSpPr/>
          <p:nvPr/>
        </p:nvSpPr>
        <p:spPr>
          <a:xfrm>
            <a:off x="2286000" y="1536840"/>
            <a:ext cx="4572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002060"/>
                </a:solidFill>
                <a:latin typeface="Monotype Corsiva"/>
                <a:ea typeface="Arial"/>
              </a:rPr>
              <a:t>Спасибо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002060"/>
                </a:solidFill>
                <a:latin typeface="Monotype Corsiva"/>
                <a:ea typeface="Arial"/>
              </a:rPr>
              <a:t>за внимание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06280" y="304920"/>
            <a:ext cx="873144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бота о здоровье – важнейший труд воспитателя».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В.А.Сухомлинский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8" name="WordArt 7"/>
          <p:cNvSpPr txBox="1"/>
          <p:nvPr/>
        </p:nvSpPr>
        <p:spPr>
          <a:xfrm>
            <a:off x="2590920" y="533520"/>
            <a:ext cx="3962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cc99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cc99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49" name="Объект 4" descr=""/>
          <p:cNvPicPr/>
          <p:nvPr/>
        </p:nvPicPr>
        <p:blipFill>
          <a:blip r:embed="rId1"/>
          <a:stretch/>
        </p:blipFill>
        <p:spPr>
          <a:xfrm>
            <a:off x="2666880" y="2514600"/>
            <a:ext cx="4496040" cy="36115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WordArt 6"/>
          <p:cNvSpPr txBox="1"/>
          <p:nvPr/>
        </p:nvSpPr>
        <p:spPr>
          <a:xfrm>
            <a:off x="1143000" y="380880"/>
            <a:ext cx="67816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cc99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2800" spc="1" strike="noStrike">
              <a:ln w="9360">
                <a:solidFill>
                  <a:srgbClr val="800080"/>
                </a:solidFill>
                <a:miter/>
              </a:ln>
              <a:solidFill>
                <a:srgbClr val="cc99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-1219680"/>
            <a:ext cx="8229600" cy="716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br>
              <a:rPr sz="4100"/>
            </a:br>
            <a:r>
              <a:rPr b="1" lang="ru-RU" sz="4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имнастика после дневного сна –</a:t>
            </a:r>
            <a:br>
              <a:rPr sz="4100"/>
            </a:br>
            <a:br>
              <a:rPr sz="41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о комплекс мероприятий облегчающих переход от сна к бодрствованию. Бодрящая гимнастика помогает детскому организму проснуться, улучшает настроение, поднимает мышечный тонус.  После хорошей гимнастики у детей исчезает чувство сонливости, вялости, слабости, повышается умственная и физическая работоспособность, улучшается настроение и самочувствие ребёнка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52" name="Picture 3" descr=""/>
          <p:cNvPicPr/>
          <p:nvPr/>
        </p:nvPicPr>
        <p:blipFill>
          <a:blip r:embed="rId1"/>
          <a:stretch/>
        </p:blipFill>
        <p:spPr>
          <a:xfrm>
            <a:off x="6629400" y="4680000"/>
            <a:ext cx="2139840" cy="2144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WordArt 11"/>
          <p:cNvSpPr txBox="1"/>
          <p:nvPr/>
        </p:nvSpPr>
        <p:spPr>
          <a:xfrm>
            <a:off x="380880" y="549360"/>
            <a:ext cx="7925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cc99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2800" spc="1" strike="noStrike">
              <a:ln w="9360">
                <a:solidFill>
                  <a:srgbClr val="800080"/>
                </a:solidFill>
                <a:miter/>
              </a:ln>
              <a:solidFill>
                <a:srgbClr val="cc99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6176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увеличить тонус нервной системы;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укрепить мышечный тонус;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способствовать профилактике нарушений опорно-двигательного аппарата;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способствовать профилактике простудных     заболеваний;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развитие физических навыков;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сохранить положительные эмоции при выполнении физических упражнений и прочих режимных моментов во второй половине дня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040" y="549360"/>
            <a:ext cx="6875640" cy="82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ые задачи:</a:t>
            </a:r>
            <a:endParaRPr b="0" lang="en-US" sz="4400" spc="-1" strike="noStrike">
              <a:solidFill>
                <a:srgbClr val="073e87"/>
              </a:solidFill>
              <a:latin typeface="Constantia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иды гимнастики после дневного сна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266720" y="1828440"/>
            <a:ext cx="43434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миночные упражнения в кровати;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полнение пальчиковой гимнастики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имнастика игрового характера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ыхательная гимнастика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бежки по дорожкам здоровья</a:t>
            </a: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onstantia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624120" cy="3674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stok</dc:creator>
  <dc:description/>
  <dc:language>en-US</dc:language>
  <cp:lastModifiedBy>Istok</cp:lastModifiedBy>
  <dcterms:modified xsi:type="dcterms:W3CDTF">2019-01-08T21:09:35Z</dcterms:modified>
  <cp:revision>6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