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74B5-7FFA-4CB2-87D9-379AB12C0D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97CD-6674-40D3-AEC7-54648E24B3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788-38B0-482B-9B90-939C0845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BE51-8A1B-4A15-ADBF-4C216C87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614-EF71-45B8-BC43-39F65103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1F7C-86E6-4470-AC10-8AC10E47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03DB-6956-4824-B6EA-5D1B80B8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B3F0-BE47-4A5B-98A3-6976B896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8938-908B-4B78-95DD-9FE4AEC7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98E9-9346-4962-85B6-585B7D2C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D5D4-2470-4309-ABA5-CA9BCC30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B080-F5C6-415B-860F-07485712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A9B8-291F-4FD8-B6E0-95DF1FD1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3371-EF05-4BD9-888B-6C165F82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FCB2-9D63-4FE6-A623-1170DDF9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E2D9-11B5-4C0F-B905-2E1BDA10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4898-F5DA-45AD-BD91-CA907426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A655-0C3A-49C4-A41D-1D023C9C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6D0F-93BE-4667-BAAB-2757505E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B057B-2FA8-4186-B150-401285EC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8B0C9-44D7-4356-8666-0271914C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6319A-5EAC-46F9-8D79-F0A8243B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C5752-9283-411A-8299-0B58E1FC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EE909-425F-4021-AE38-E1668C97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B861-9E06-4F2C-B009-EF465119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E5FD7-FE11-4A9F-AC66-E30941DF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F44B9-F219-456E-858F-0806CAEB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60F9E-B141-468A-81F2-2D74FF0A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230D9-61C3-4067-9BC3-17BB04E9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94BEF-FEED-4941-9846-0A0DEC71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1C93E-5315-4A8E-B475-64113CB6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8B35D-9FA1-4780-8FBC-24EA58CE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40F98-D36B-44B7-A5A0-8C5A9994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6CF4B-8693-4B86-B2D9-30EE7BA7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7F001-95F4-4234-9C0E-ABE735DF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970-D50F-42D3-95AB-5CAD60FF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E767D-F252-430D-A544-61544431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06EC8-11AB-4A20-9A17-7DCC2463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BE09E-FE90-4F74-89D8-DEF87A2F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1407B-856D-487D-A7FE-9CDE05C4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EDAF0-814B-4307-B088-E262134F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93051-6AD3-4E45-B919-AAC31988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9A592-FB91-455C-919D-DEFEA41D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ADFFF-D59E-4E09-90FD-DA0EE725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7D654-EE40-4AA5-BD92-CC2FD2FA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C9754-5B09-4DA2-8B82-02CFF943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4FA-66E8-4EF3-ACC1-0365707A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BE69E-970F-4D1D-B20E-AAFA94E0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93F0A-7E01-483C-9C47-E4458895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CC7CF-BC7C-4A37-87A3-FE396CF0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BC0C4-6419-4573-8CC6-A4899C0A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5E0F4-C25D-425E-B906-7308AE80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876DD-D5C5-405B-B603-4985FDD3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3453E-28BC-4926-A641-313541F9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0ED74-2519-412D-AD6A-D8A23ADA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AB254-EE16-45A2-92C3-7B27D98C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4864A-3842-4D21-A562-6020A9B8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5BA-7EBD-43D7-B295-FDA63C93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8EAA8-6132-4B49-AAD9-0521615D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50B87-853B-4332-A2FD-8174804B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C488F-894E-4266-AD75-ADF42637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BA2C9-BBB4-4794-9219-68D9E6B6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E6EBA-5D37-4829-81FD-79A54F73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A47FE-E9CA-44CB-82F8-5DE4BE94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22223-4F6C-4FCE-9C80-E267D829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E05D6-65C8-4620-A85B-AE97C97B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79601-467E-4C7F-ACF7-7618D2AC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3BB15-AB6A-4491-BDC6-C3779369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742-448E-4B8A-BF98-72607AB7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01AED-D19A-4AEB-9223-6A625465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5ED68-D8D5-41E1-936A-3175AF2D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7A91F-0DDF-4B44-85B9-887A6414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ABE08-E74D-4C4A-B207-A4B34428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D4867-B52B-45C0-B679-58327D0F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08F22-6EFE-41A3-ACF5-3DAD3BED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2C1F2-79C5-40D6-B182-99B7D5B6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D1B9F-B12C-48F8-BE35-7BBA2EE0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47B1C-EAE6-4E91-ACAD-48CBEF14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BD9C3-E5FC-4D1B-A2CA-3F1E9EA1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607-D425-4FEF-88AA-4043E19A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5022A-51E6-4A85-AFE1-06BA00BC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2C95C-A482-4CE2-8DC0-BA7357B5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B4EA3-8CEE-45B3-B0EF-BA248F34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77F43-B0B7-4E2A-97F4-D577C69F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112B5-82D0-44FC-9692-3654CDED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95BC-D36D-499F-8658-828BCE8E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7C89-89F1-46A3-804D-788DCF73CD5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E7E9-6399-40A4-8AC1-2B17170D793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B6CF-3BA5-432D-9A31-B475D807988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F7BD-4D0B-4945-9C4B-60CEF56D09A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35DC-2FF0-4ED8-B647-261A55736B7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3FF4-6D15-4504-8DFA-1BEA56399F8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7F28-36C3-4DF4-A687-1E5AECCCA28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838080" y="1463760"/>
            <a:ext cx="777240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Гимнастика проб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форма эффектив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доровительной работ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4"/>
          <p:cNvSpPr txBox="1"/>
          <p:nvPr/>
        </p:nvSpPr>
        <p:spPr>
          <a:xfrm>
            <a:off x="1523880" y="396720"/>
            <a:ext cx="5943600" cy="1067040"/>
          </a:xfrm>
          <a:prstGeom prst="rect">
            <a:avLst/>
          </a:prstGeom>
        </p:spPr>
        <p:txBody>
          <a:bodyPr wrap="none" lIns="90000" rIns="90000" tIns="46800" bIns="46800" anchor="t">
            <a:prstTxWarp prst="textCanDown">
              <a:avLst>
                <a:gd name="adj" fmla="val 12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2060"/>
                </a:solidFill>
                <a:latin typeface="Times New Roman"/>
              </a:rPr>
              <a:t>Презентация</a:t>
            </a:r>
            <a:endParaRPr b="1" lang="en-US" sz="1800" spc="1" strike="noStrike">
              <a:ln w="0">
                <a:noFill/>
              </a:ln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4327560" y="5827680"/>
            <a:ext cx="397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4724280" y="411480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doni MT"/>
              </a:rPr>
              <a:t>Составила воспит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doni MT"/>
              </a:rPr>
              <a:t>МДОУ  «Детский сад № 9 группа №3 «Капель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doni MT"/>
              </a:rPr>
              <a:t>Глазова И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Рисунок 3" descr=""/>
          <p:cNvPicPr/>
          <p:nvPr/>
        </p:nvPicPr>
        <p:blipFill>
          <a:blip r:embed="rId1"/>
          <a:stretch/>
        </p:blipFill>
        <p:spPr>
          <a:xfrm>
            <a:off x="533520" y="3892680"/>
            <a:ext cx="4190760" cy="23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Содержимое 2"/>
          <p:cNvSpPr/>
          <p:nvPr/>
        </p:nvSpPr>
        <p:spPr>
          <a:xfrm>
            <a:off x="762120" y="1295280"/>
            <a:ext cx="7499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укрепить здоровье, иммунитет и опорно-двигательный аппарат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ффективен  показатель изменения сколиоза и плоскостоп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повысить жизненный тонус и снижение утомляемости во второй половине д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вить координацию дви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научит дышать через нос, выполнять движения по показу воспитате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способствовать воспитанию привычки к здоровому образу жизни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WordArt 6"/>
          <p:cNvSpPr txBox="1"/>
          <p:nvPr/>
        </p:nvSpPr>
        <p:spPr>
          <a:xfrm>
            <a:off x="955800" y="304920"/>
            <a:ext cx="6629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latin typeface="Times New Roman"/>
              </a:rPr>
              <a:t>Ожидаемые результаты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9" name="Прямоугольник 2"/>
          <p:cNvSpPr/>
          <p:nvPr/>
        </p:nvSpPr>
        <p:spPr>
          <a:xfrm>
            <a:off x="2286000" y="153684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2060"/>
                </a:solidFill>
                <a:latin typeface="Monotype Corsiva"/>
                <a:ea typeface="Arial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2060"/>
                </a:solidFill>
                <a:latin typeface="Monotype Corsiva"/>
                <a:ea typeface="Arial"/>
              </a:rPr>
              <a:t>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06280" y="304920"/>
            <a:ext cx="87314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бота о здоровье – важнейший труд воспитателя»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В.А.Сухомлинский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8" name="WordArt 7"/>
          <p:cNvSpPr txBox="1"/>
          <p:nvPr/>
        </p:nvSpPr>
        <p:spPr>
          <a:xfrm>
            <a:off x="2590920" y="533520"/>
            <a:ext cx="3962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49" name="Объект 4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4496040" cy="3611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6"/>
          <p:cNvSpPr txBox="1"/>
          <p:nvPr/>
        </p:nvSpPr>
        <p:spPr>
          <a:xfrm>
            <a:off x="1143000" y="380880"/>
            <a:ext cx="6781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1219680"/>
            <a:ext cx="8229600" cy="716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имнастика после дневного сна –</a:t>
            </a:r>
            <a:br>
              <a:rPr sz="4100"/>
            </a:br>
            <a:br>
              <a:rPr sz="41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комплекс мероприятий облегчающих переход от сна к бодрствованию. Бодрящая гимнастика помогает детскому организму проснуться, улучшает настроение, поднимает мышечный тонус.  После хорошей гимнастики у детей исчезает чувство сонливости, вялости, слабости, повышается умственная и физическая работоспособность, улучшается настроение и самочувствие ребёнка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6629400" y="4680000"/>
            <a:ext cx="2139840" cy="214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WordArt 11"/>
          <p:cNvSpPr txBox="1"/>
          <p:nvPr/>
        </p:nvSpPr>
        <p:spPr>
          <a:xfrm>
            <a:off x="380880" y="549360"/>
            <a:ext cx="7925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176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величить тонус нервной системы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крепить мышечный тонус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пособствовать профилактике нарушений опорно-двигательного аппарата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пособствовать профилактике простудных     заболеваний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витие физических навыков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охранить положительные эмоции при выполнении физических упражнений и прочих режимных моментов во второй половине дн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549360"/>
            <a:ext cx="68756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задачи:</a:t>
            </a:r>
            <a:endParaRPr b="0" lang="en-US" sz="4400" spc="-1" strike="noStrike">
              <a:solidFill>
                <a:srgbClr val="073e87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ы гимнастики после дневного сна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266720" y="1828440"/>
            <a:ext cx="434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миночные упражнения в кровати;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ение пальчиковой гимнастики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имнастика игрового характера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ыхательная гимнастика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бежки по дорожкам здоровья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624120" cy="3674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tok</dc:creator>
  <dc:description/>
  <dc:language>en-US</dc:language>
  <cp:lastModifiedBy>Istok</cp:lastModifiedBy>
  <dcterms:modified xsi:type="dcterms:W3CDTF">2019-01-08T21:09:35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