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2F2-813B-48BF-A8EF-8A906215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84C-5695-4AAF-A979-3483645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063-7DDB-4D66-A4A5-41191AC8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EE8-0085-415E-BBE6-032D8031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FE2-8CA8-4C84-9FDD-3420668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18B-20CB-403B-98B4-8F51000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D90-DF83-4F0F-AD4F-FF01C33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50C-84F5-4BBC-8889-5334604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3DF-8FAE-4C69-A098-C0E3EB67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6F2-B311-497A-A811-069B950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409-6429-48B9-8F6F-C6D1929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3F5-5A78-4741-AF4B-2FEB567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5CE-2759-4E1E-9088-ED0D53507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Урок литературы по повести Н.В.Гоголя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«Тарас Бульба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«Это бранное, трудное время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Андр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андрий обнимает "/>
          <p:cNvPicPr/>
          <p:nvPr/>
        </p:nvPicPr>
        <p:blipFill>
          <a:blip r:embed="rId1"/>
          <a:stretch/>
        </p:blipFill>
        <p:spPr>
          <a:xfrm>
            <a:off x="2484360" y="2060640"/>
            <a:ext cx="428616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Ему, казалось, был на роду написан битвенный путь и трудное званье вершить ратные дела…Уже испытанной уверенностью стали теперь означаться его движения, и в них не могли не быть заметны наклонности будущего вождя. Крепостью дышало его тело, и рыцарские качества уже приобрели широкую силу ль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Ос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значит"/>
          <p:cNvPicPr/>
          <p:nvPr/>
        </p:nvPicPr>
        <p:blipFill>
          <a:blip r:embed="rId1"/>
          <a:stretch/>
        </p:blipFill>
        <p:spPr>
          <a:xfrm>
            <a:off x="2700360" y="2637000"/>
            <a:ext cx="36496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50021"/>
                </a:solidFill>
                <a:latin typeface="Arial"/>
              </a:rPr>
              <a:t>Воинские должности каз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Сот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Еса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Коше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Куренной атам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иды оружия ,которыми пользовались каз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а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Сек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ал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Копь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Алебар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ищ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0000"/>
                </a:solidFill>
                <a:latin typeface="Arial"/>
              </a:rPr>
              <a:t>Герои - запорож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Моисей Ш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Степан Гу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Охрим Гус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Кукуб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Бовдю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Балаб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Терпи, козак, - атаманом будеш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Нет уз святее товарищества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Нет силы сильнее вер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« Вся сечь представляла необыкновенное явление. Это было какое – то беспрерывное пиршество, бал, начавшийся шумно и потерявший конец свой .Такой показалась Сечь только что прибывшим туда сыновьям Тараса. Поразили юношей многие особенности быта и обычаи запорожцев. Для читателя эти подробности тоже небезынтерес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«Вся Сечь представляля необыкновенное явление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По мотивам репинского сюжета сочините для заключительной главы «вставной» эпизод с новыми персонажами, посмевшими бросить вызов иноземному владыке, тем самым доказав, что казачий дух сломить не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2. Завершить цитатные записи по характеристике Остапа и Анд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бразы главных героев- Тараса, Остапа, Андрия охарактеризовать время,в котором они жи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ить характеристики главных героев и понять,что даёт это нам для раскрытия основной идеи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ть умение работать с художественным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аться понять, что же влекло Н.В.Гоголя в том смутном времени, какой идеал увидел в той эпо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чувство патриотизма, гордости за свою страну, учиться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«Тарас Бульба», это дивная эпопея, написанная кистью смелою и широкою, этот резкий очерк героической жизни младенчествующего народа, это огромная картина в тесных рамках,достойная Г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.Г.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Да разве найдутся на свете такие огни, муки и такая сила, которая бы пересилила русскую сил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                      </a:t>
            </a: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Н.В.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история создания"/>
          <p:cNvPicPr/>
          <p:nvPr/>
        </p:nvPicPr>
        <p:blipFill>
          <a:blip r:embed="rId1"/>
          <a:stretch/>
        </p:blipFill>
        <p:spPr>
          <a:xfrm>
            <a:off x="468360" y="2133720"/>
            <a:ext cx="822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Есау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редний офицерский чин в казачьих войс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Бусурм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оверец, инозем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мут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ч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урен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лаш, в котором жили запорож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Рад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аз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т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Хорунж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менос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Главные герои пов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Весь был создан для бранной тревоги и отличался грубой прямотой своего нрава. Он любил простую жизнь Козаков и перессорился с теми из своих товарищей, которые были наклонны к варшавской стороне, называя их холопьями польских панов. Вечно неугомонный, он считал себя законным защитником православи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Тарас Буль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речь тараса перед запорожцами"/>
          <p:cNvPicPr/>
          <p:nvPr/>
        </p:nvPicPr>
        <p:blipFill>
          <a:blip r:embed="rId1"/>
          <a:stretch/>
        </p:blipFill>
        <p:spPr>
          <a:xfrm>
            <a:off x="2411280" y="2133720"/>
            <a:ext cx="414504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Впереди друзей пронёсся витязь всех богачей, всех красивее. Так и летели чёрные волосы из-под медной его шапки; вился вязанный по руке дорогой шарф, шитый руками первой красавицы…а между тем, объятый пылом и жаром битвы…понёсся, как молодой борзой пёс, красивейший и молодший всех в ста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03:44Z</dcterms:created>
  <dc:creator>1</dc:creator>
  <dc:description/>
  <dc:language>en-US</dc:language>
  <cp:lastModifiedBy>Коля</cp:lastModifiedBy>
  <dcterms:modified xsi:type="dcterms:W3CDTF">2013-04-26T11:46:34Z</dcterms:modified>
  <cp:revision>8</cp:revision>
  <dc:subject/>
  <dc:title>Урок литературы по повести Н.В.Гоголя»Тарас Бульба»</dc:title>
</cp:coreProperties>
</file>