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B83-E603-465A-B10F-31E9FC4C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371-7824-41A2-901D-B4815E51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3CB-2BFC-4219-B4FE-501FBF48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06A-86EB-48F8-A2D9-58F24E6A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1CB-11EA-4C18-8C76-65579CBE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05E4-7E6B-4E82-8BF7-4D91C3B5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839-E051-4A12-9B5B-282BBD0A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E50-A7C0-49B1-978D-920D0A3F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7AE-12D6-4117-9086-4D2542B5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B8A-97BA-49C5-875C-1ABF0979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38C-FCFC-45BC-8AED-24B4F04B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15E-D456-45DF-8E4E-251FE001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D3DA-F5C1-493D-B67E-6D851E5FD8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00"/>
                </a:solidFill>
                <a:latin typeface="Arial"/>
              </a:rPr>
              <a:t>Урок литературы по повести Н.В.Гоголя</a:t>
            </a:r>
            <a:br>
              <a:rPr sz="4400"/>
            </a:br>
            <a:r>
              <a:rPr b="0" i="1" lang="ru-RU" sz="4400" spc="-1" strike="noStrike">
                <a:solidFill>
                  <a:srgbClr val="003300"/>
                </a:solidFill>
                <a:latin typeface="Arial"/>
              </a:rPr>
              <a:t>«Тарас Бульба»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«Это бранное, трудное время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50021"/>
                </a:solidFill>
                <a:latin typeface="Arial"/>
              </a:rPr>
              <a:t>Андр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андрий обнимает "/>
          <p:cNvPicPr/>
          <p:nvPr/>
        </p:nvPicPr>
        <p:blipFill>
          <a:blip r:embed="rId1"/>
          <a:stretch/>
        </p:blipFill>
        <p:spPr>
          <a:xfrm>
            <a:off x="2484360" y="2060640"/>
            <a:ext cx="428616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 Ему, казалось, был на роду написан битвенный путь и трудное званье вершить ратные дела…Уже испытанной уверенностью стали теперь означаться его движения, и в них не могли не быть заметны наклонности будущего вождя. Крепостью дышало его тело, и рыцарские качества уже приобрели широкую силу ль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50021"/>
                </a:solidFill>
                <a:latin typeface="Arial"/>
              </a:rPr>
              <a:t>Оста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значит"/>
          <p:cNvPicPr/>
          <p:nvPr/>
        </p:nvPicPr>
        <p:blipFill>
          <a:blip r:embed="rId1"/>
          <a:stretch/>
        </p:blipFill>
        <p:spPr>
          <a:xfrm>
            <a:off x="2700360" y="2637000"/>
            <a:ext cx="364968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50021"/>
                </a:solidFill>
                <a:latin typeface="Arial"/>
              </a:rPr>
              <a:t>Воинские должности каза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Сотни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Есау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Кошев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                 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Куренной атам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Виды оружия ,которыми пользовались каз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Arial"/>
              </a:rPr>
              <a:t>Пал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i="1" lang="ru-RU" sz="3600" spc="-1" strike="noStrike">
                <a:solidFill>
                  <a:srgbClr val="6600cc"/>
                </a:solidFill>
                <a:latin typeface="Arial"/>
              </a:rPr>
              <a:t>Сек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Arial"/>
              </a:rPr>
              <a:t>         </a:t>
            </a:r>
            <a:r>
              <a:rPr b="0" i="1" lang="ru-RU" sz="3600" spc="-1" strike="noStrike">
                <a:solidFill>
                  <a:srgbClr val="6600cc"/>
                </a:solidFill>
                <a:latin typeface="Arial"/>
              </a:rPr>
              <a:t>Пал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Arial"/>
              </a:rPr>
              <a:t>              </a:t>
            </a:r>
            <a:r>
              <a:rPr b="0" i="1" lang="ru-RU" sz="3600" spc="-1" strike="noStrike">
                <a:solidFill>
                  <a:srgbClr val="6600cc"/>
                </a:solidFill>
                <a:latin typeface="Arial"/>
              </a:rPr>
              <a:t>Копь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Arial"/>
              </a:rPr>
              <a:t>                  </a:t>
            </a:r>
            <a:r>
              <a:rPr b="0" i="1" lang="ru-RU" sz="3600" spc="-1" strike="noStrike">
                <a:solidFill>
                  <a:srgbClr val="6600cc"/>
                </a:solidFill>
                <a:latin typeface="Arial"/>
              </a:rPr>
              <a:t>Алебар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Arial"/>
              </a:rPr>
              <a:t>                       </a:t>
            </a:r>
            <a:r>
              <a:rPr b="0" i="1" lang="ru-RU" sz="3600" spc="-1" strike="noStrike">
                <a:solidFill>
                  <a:srgbClr val="6600cc"/>
                </a:solidFill>
                <a:latin typeface="Arial"/>
              </a:rPr>
              <a:t>Пища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990000"/>
                </a:solidFill>
                <a:latin typeface="Arial"/>
              </a:rPr>
              <a:t>Герои - запорож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Моисей Ши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Степан Гу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Охрим Гус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Кукуб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         </a:t>
            </a: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Бовдю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           </a:t>
            </a:r>
            <a:r>
              <a:rPr b="0" i="1" lang="ru-RU" sz="4000" spc="-1" strike="noStrike">
                <a:solidFill>
                  <a:srgbClr val="009999"/>
                </a:solidFill>
                <a:latin typeface="Arial"/>
              </a:rPr>
              <a:t>Балаб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« Терпи, козак, - атаманом будешь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« Нет уз святее товарищества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« Нет силы сильнее веры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« Вся сечь представляла необыкновенное явление. Это было какое – то беспрерывное пиршество, бал, начавшийся шумно и потерявший конец свой .Такой показалась Сечь только что прибывшим туда сыновьям Тараса. Поразили юношей многие особенности быта и обычаи запорожцев. Для читателя эти подробности тоже небезынтересны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a50021"/>
                </a:solidFill>
                <a:latin typeface="Arial"/>
              </a:rPr>
              <a:t>«Вся Сечь представляля необыкновенное явление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1.По мотивам репинского сюжета сочините для заключительной главы «вставной» эпизод с новыми персонажами, посмевшими бросить вызов иноземному владыке, тем самым доказав, что казачий дух сломить невозмож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2. Завершить цитатные записи по характеристике Остапа и Анд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9999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образы главных героев- Тараса, Остапа, Андрия охарактеризовать время,в котором они жи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оставить характеристики главных героев и понять,что даёт это нам для раскрытия основной идеи произ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батывать умение работать с художественным текс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ытаться понять, что же влекло Н.В.Гоголя в том смутном времени, какой идеал увидел в той эпох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ывать чувство патриотизма, гордости за свою страну, учиться толеран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Arial"/>
              </a:rPr>
              <a:t>«Тарас Бульба», это дивная эпопея, написанная кистью смелою и широкою, этот резкий очерк героической жизни младенчествующего народа, это огромная картина в тесных рамках,достойная Го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Arial"/>
              </a:rPr>
              <a:t>                      </a:t>
            </a:r>
            <a:r>
              <a:rPr b="0" i="1" lang="ru-RU" sz="3200" spc="-1" strike="noStrike">
                <a:solidFill>
                  <a:srgbClr val="990000"/>
                </a:solidFill>
                <a:latin typeface="Arial"/>
              </a:rPr>
              <a:t>В.Г.Бе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a50021"/>
                </a:solidFill>
                <a:latin typeface="Arial"/>
              </a:rPr>
              <a:t>Да разве найдутся на свете такие огни, муки и такая сила, которая бы пересилила русскую сил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Arial"/>
              </a:rPr>
              <a:t>                      </a:t>
            </a:r>
            <a:r>
              <a:rPr b="0" i="1" lang="ru-RU" sz="3600" spc="-1" strike="noStrike">
                <a:solidFill>
                  <a:srgbClr val="a50021"/>
                </a:solidFill>
                <a:latin typeface="Arial"/>
              </a:rPr>
              <a:t>Н.В.Го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история создания"/>
          <p:cNvPicPr/>
          <p:nvPr/>
        </p:nvPicPr>
        <p:blipFill>
          <a:blip r:embed="rId1"/>
          <a:stretch/>
        </p:blipFill>
        <p:spPr>
          <a:xfrm>
            <a:off x="468360" y="2133720"/>
            <a:ext cx="82278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Есау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редний офицерский чин в казачьих войс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Бусурма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оверец, инозем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мутн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ча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Курен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алаш, в котором жили запорож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Рад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Каза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тё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Хорунж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наменос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</a:rPr>
              <a:t>Главные герои пове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 Весь был создан для бранной тревоги и отличался грубой прямотой своего нрава. Он любил простую жизнь Козаков и перессорился с теми из своих товарищей, которые были наклонны к варшавской стороне, называя их холопьями польских панов. Вечно неугомонный, он считал себя законным защитником православия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50021"/>
                </a:solidFill>
                <a:latin typeface="Arial"/>
              </a:rPr>
              <a:t>Тарас Бульб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речь тараса перед запорожцами"/>
          <p:cNvPicPr/>
          <p:nvPr/>
        </p:nvPicPr>
        <p:blipFill>
          <a:blip r:embed="rId1"/>
          <a:stretch/>
        </p:blipFill>
        <p:spPr>
          <a:xfrm>
            <a:off x="2411280" y="2133720"/>
            <a:ext cx="4145040" cy="31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 Впереди друзей пронёсся витязь всех богачей, всех красивее. Так и летели чёрные волосы из-под медной его шапки; вился вязанный по руке дорогой шарф, шитый руками первой красавицы…а между тем, объятый пылом и жаром битвы…понёсся, как молодой борзой пёс, красивейший и молодший всех в стае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5:03:44Z</dcterms:created>
  <dc:creator>1</dc:creator>
  <dc:description/>
  <dc:language>en-US</dc:language>
  <cp:lastModifiedBy>Коля</cp:lastModifiedBy>
  <dcterms:modified xsi:type="dcterms:W3CDTF">2013-04-26T11:46:34Z</dcterms:modified>
  <cp:revision>8</cp:revision>
  <dc:subject/>
  <dc:title>Урок литературы по повести Н.В.Гоголя»Тарас Бульба»</dc:title>
</cp:coreProperties>
</file>