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3.gif" ContentType="image/gif"/>
  <Override PartName="/ppt/media/image1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0E1E-13B8-4D8C-A1A5-209E76172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1962-3BDA-4642-8766-29758B5C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A9AC-D4E0-4E53-8448-7FC92116A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3ED3-8B62-4BC1-9EB4-DC2CB9C72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DAFE-61E8-4B18-B1A2-8E109547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69A6-ECD6-4CEA-837D-A44949D0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4752-D748-4854-A0BC-A2A6F8C3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BA33-851D-42F5-A40E-ED89B3F0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52E8-7DB1-4423-A1A8-12026631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B4AF-339F-42EC-A1BD-4AD1E6BF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6C89-1BE7-4EAE-A90C-F950276C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6DDD-6401-46D3-B45D-9419FCD7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B373-CF63-4686-8783-364D157A2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162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66680" y="144792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00"/>
                </a:solidFill>
                <a:latin typeface="Arial"/>
              </a:rPr>
              <a:t>Экологический проек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00"/>
                </a:solidFill>
                <a:latin typeface="Arial"/>
              </a:rPr>
              <a:t>во второй младшей груп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00"/>
                </a:solidFill>
                <a:latin typeface="Arial"/>
              </a:rPr>
              <a:t>«Как растёт цвето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2"/>
          <p:cNvPicPr/>
          <p:nvPr/>
        </p:nvPicPr>
        <p:blipFill>
          <a:blip r:embed="rId2"/>
          <a:stretch/>
        </p:blipFill>
        <p:spPr>
          <a:xfrm>
            <a:off x="4038480" y="3048120"/>
            <a:ext cx="3810240" cy="2190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343400" y="5715000"/>
            <a:ext cx="48006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Руководитель проекта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воспитатель Файзуллина Н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162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4800600" cy="2702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114800" y="3581280"/>
            <a:ext cx="5029200" cy="2828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562720" y="838080"/>
            <a:ext cx="3581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Совместное твор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(рисовани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162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971800" y="1447920"/>
            <a:ext cx="6172200" cy="5083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33520" y="3808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«Солнышко и дожди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162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95280" y="30492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Наблюдения за веточкам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90720" y="1066680"/>
            <a:ext cx="2442960" cy="4343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90720" y="55627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веточках  набухли п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809880" y="1143000"/>
            <a:ext cx="4800600" cy="2700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733920" y="39625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явились первые лис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876920" y="4572000"/>
            <a:ext cx="441936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162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33520" y="3808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Художественное творчество (аппликация с элементами рисова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990720" y="1600200"/>
            <a:ext cx="7924680" cy="4249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362320" y="59436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60958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Почки и листоч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162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62120" y="152280"/>
            <a:ext cx="8381880" cy="613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удожественно-эстетическое 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Чтение художественной литературы)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Сказки «Репка», «Вершки и кореш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Разгадывание загадок о цветах.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Проговаривание чистоговорок: 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 «Ромашки», «Василек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знавательное развитие, речевое 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Дидактические иг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«Чего не стал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«Найди такой ж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«Большой – маленьк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изическое 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Подвижная игра «Солнышко и дождик», «Посади цвет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Малоподвижная игра «Дерево, кустик, трав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Пальчиковые игры: «Мы цветы в саду сажаем»; «Солнышко»; «Дождик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бота с родителями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Памятка для родителей по трудовому воспитанию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524880" cy="7162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295280" y="457200"/>
            <a:ext cx="7391520" cy="33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ходе проекта дети узнали много нового и интересного из жизни растений, у них появилось желание ухаживать за ними, следить за их ростом и цветением. Дети научились видеть прекрасное. Они с большим интересом принимали участие в занятиях и играх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162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rot="20881800">
            <a:off x="372960" y="100152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Спасибо за вним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9"/>
          <p:cNvPicPr/>
          <p:nvPr/>
        </p:nvPicPr>
        <p:blipFill>
          <a:blip r:embed="rId2"/>
          <a:stretch/>
        </p:blipFill>
        <p:spPr>
          <a:xfrm>
            <a:off x="4876920" y="2286000"/>
            <a:ext cx="3429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190440" y="-152280"/>
            <a:ext cx="9524880" cy="7162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38080" y="228600"/>
            <a:ext cx="7620120" cy="51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Цель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здание условий стимулирующих интерес к исследовательской деятельности, раскрытие творческого и интеллектуального потенциала дошкольников, вовлечение детей в трудовую деятельность по уходу за расте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Задачи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ать наглядное представление детям о росте и развитии растения, о необходимости света и влаги для роста раст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ить, правильно ухаживать за растени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вать наблюдательность, внимание, логическое мышл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тие коммуникативных навы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спитывать стремление к познанию природы через творческую, познавательно-исследовательскую дея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162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295280" y="1143000"/>
            <a:ext cx="70106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Участники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ти второй младшей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спитатель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Вид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следователь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знавательно-твор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аткосрочный, групп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162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66680" y="533520"/>
            <a:ext cx="6096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533520"/>
            <a:ext cx="8229600" cy="54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Актуальность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Зеленое царство» начнет вызывать огромный интерес ребенка, если взрослые научат наблюдать за растением, видеть в зеленом ростке особое живое существо, жизнь которого целиком зависит от того, получает он уход или нет. Только с помощью взрослых дошкольник может понять, что жизнь растения зависит от наличия тепла, света и хорошей почвы, научится отличать здоровое и сильное растение от слабого, хилого, требующего «лечения». Научившись понимать состояние растений, ребенок будет сочувствовать и ухаживать. Маленькие дети любят действовать. Мир вокруг себя они познают практически, а свои действия с наблюдениями за результатами. Практической деятельностью является непосредственное участие детей в ходе за растениями. Приобщение к посильному труду по уходу за растениями – это, прежде всего развитие таких качеств, как ответственность за выполнение поручения, за полученный результат, обязательность, целеустремлен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162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66680" y="3049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Ознакомление с миром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352680" y="2057400"/>
            <a:ext cx="3565800" cy="4419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04920" y="990720"/>
            <a:ext cx="2808000" cy="3429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rcRect l="15000" t="0" r="15000" b="-4994"/>
          <a:stretch/>
        </p:blipFill>
        <p:spPr>
          <a:xfrm>
            <a:off x="7010280" y="914400"/>
            <a:ext cx="21337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162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43000" y="228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От семечка до цве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3489480" cy="4211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724280" y="1905120"/>
            <a:ext cx="414036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162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4648320" cy="26146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952880" y="121932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Беседы на темы: «Удивительный мир растений», «От семечка до цвет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905120" y="3352680"/>
            <a:ext cx="4267080" cy="2400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248520" y="38098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Просмотр иллюстраций по т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162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52280" y="1447920"/>
            <a:ext cx="4496040" cy="26049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1447920"/>
            <a:ext cx="4572000" cy="2571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28600" y="380880"/>
            <a:ext cx="90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Просмотр презентации «Как растёт цвето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1"/>
          <p:cNvPicPr/>
          <p:nvPr/>
        </p:nvPicPr>
        <p:blipFill>
          <a:blip r:embed="rId4"/>
          <a:stretch/>
        </p:blipFill>
        <p:spPr>
          <a:xfrm>
            <a:off x="3276720" y="3701880"/>
            <a:ext cx="4190760" cy="3156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http://img0.liveinternet.ru/images/attach/c/6/91/255/91255838_babochka2.gif"/>
          <p:cNvPicPr/>
          <p:nvPr/>
        </p:nvPicPr>
        <p:blipFill>
          <a:blip r:embed="rId5"/>
          <a:stretch/>
        </p:blipFill>
        <p:spPr>
          <a:xfrm>
            <a:off x="5257800" y="4495680"/>
            <a:ext cx="128124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162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3810240" cy="2143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62120" y="3809880"/>
            <a:ext cx="3962160" cy="2229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105520" y="1676520"/>
            <a:ext cx="4038480" cy="2271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4952880" y="4267080"/>
            <a:ext cx="4191120" cy="2357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90720" y="30492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28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Уход за растениями в уголке при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5T15:43:32Z</dcterms:created>
  <dc:creator>итсм</dc:creator>
  <dc:description/>
  <dc:language>en-US</dc:language>
  <cp:lastModifiedBy>итсм</cp:lastModifiedBy>
  <dcterms:modified xsi:type="dcterms:W3CDTF">2019-01-09T17:41:16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