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CEC-0722-4EEE-A9A8-DB399DB1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C7C-E469-45F4-82AC-119A08F0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CBE-2BB5-4265-A32B-AC05DA31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2A8-9DEC-476C-BE13-D044CF64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479-F938-4DB5-8E95-FA866C33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256-99CB-45BC-83D0-7FDBC161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CE8-03D6-4162-BC2D-A2FDF706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6F6-CB64-454B-8A22-14980110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9C0-68C7-4996-AE86-68300719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85A-4E3A-469F-8C50-92EE83F7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505-E727-4318-BEA9-BBC81F37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944-8EA3-4541-9637-31C6624D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EFA2-B799-496D-9D17-78CF8924F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14479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Экологический проек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во второй младше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«Как растёт цвет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2"/>
          <p:cNvPicPr/>
          <p:nvPr/>
        </p:nvPicPr>
        <p:blipFill>
          <a:blip r:embed="rId2"/>
          <a:stretch/>
        </p:blipFill>
        <p:spPr>
          <a:xfrm>
            <a:off x="4038480" y="3048120"/>
            <a:ext cx="3810240" cy="219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5715000"/>
            <a:ext cx="48006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Руководитель проект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воспитатель Файзуллина Н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4800600" cy="270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114800" y="3581280"/>
            <a:ext cx="5029200" cy="2828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562720" y="838080"/>
            <a:ext cx="3581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Совместное твор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(рисов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971800" y="1447920"/>
            <a:ext cx="6172200" cy="5083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380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«Солнышко и дожд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3049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Наблюдения за веточк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2442960" cy="434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90720" y="55627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еточках  набухли п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809880" y="1143000"/>
            <a:ext cx="4800600" cy="270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733920" y="3962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вились первые лис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76920" y="4572000"/>
            <a:ext cx="44193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3808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Художественное творчество (аппликация с элементами рисов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990720" y="1600200"/>
            <a:ext cx="7924680" cy="4249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62320" y="5943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60958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Почки и листоч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120" y="152280"/>
            <a:ext cx="8381880" cy="61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удожественно-эстет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Чтение художественной литературы)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Сказки «Репка», «Вершки и кореш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Разгадывание загадок о цветах.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роговаривание чистоговорок: 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«Ромашки», «Василе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знавательное развитие, речев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Дидактические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«Чего не стал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«Найди такой ж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«Большой – маленьк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з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одвижная игра «Солнышко и дождик», «Посади цвет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Малоподвижная игра «Дерево, кустик, трав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альчиковые игры: «Мы цветы в саду сажаем»; «Солнышко»; «Дожд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амятка для родителей по трудовому воспитанию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95280" y="457200"/>
            <a:ext cx="739152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ходе проекта дети узнали много нового и интересного из жизни растений, у них появилось желание ухаживать за ними, следить за их ростом и цветением. Дети научились видеть прекрасное. Они с большим интересом принимали участие в занятиях и играх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20881800">
            <a:off x="372960" y="1001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9"/>
          <p:cNvPicPr/>
          <p:nvPr/>
        </p:nvPicPr>
        <p:blipFill>
          <a:blip r:embed="rId2"/>
          <a:stretch/>
        </p:blipFill>
        <p:spPr>
          <a:xfrm>
            <a:off x="4876920" y="228600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90440" y="-152280"/>
            <a:ext cx="9524880" cy="7162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228600"/>
            <a:ext cx="76201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условий стимулирующих интерес к исследовательской деятельности, раскрытие творческого и интеллектуального потенциала дошкольников, вовлечение детей в трудовую деятельность по уходу за раст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Задач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ть наглядное представление детям о росте и развитии растения, о необходимости света и влаги для роста раст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ь, правильно ухаживать за растен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наблюдательность, внимание, логическое мыш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коммуникативных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ывать стремление к познанию природы через творческую, познавательно-исследовательск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5280" y="1143000"/>
            <a:ext cx="7010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и второй младш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тель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Вид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те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навательно-твор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ткосрочный, групп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533520"/>
            <a:ext cx="6096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533520"/>
            <a:ext cx="8229600" cy="54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ктуальност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Зеленое царство» начнет вызывать огромный интерес ребенка, если взрослые научат наблюдать за растением, видеть в зеленом ростке особое живое существо, жизнь которого целиком зависит от того, получает он уход или нет. Только с помощью взрослых дошкольник может понять, что жизнь растения зависит от наличия тепла, света и хорошей почвы, научится отличать здоровое и сильное растение от слабого, хилого, требующего «лечения». Научившись понимать состояние растений, ребенок будет сочувствовать и ухаживать. Маленькие дети любят действовать. Мир вокруг себя они познают практически, а свои действия с наблюдениями за результатами. Практической деятельностью является непосредственное участие детей в ходе за растениями. Приобщение к посильному труду по уходу за растениями – это, прежде всего развитие таких качеств, как ответственность за выполнение поручения, за полученный результат, обязательность, целеустремл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668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Ознакомление с миром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3565800" cy="4419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04920" y="990720"/>
            <a:ext cx="2808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rcRect l="15000" t="0" r="15000" b="-4994"/>
          <a:stretch/>
        </p:blipFill>
        <p:spPr>
          <a:xfrm>
            <a:off x="7010280" y="914400"/>
            <a:ext cx="2133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228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От семечка до цв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3489480" cy="421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190512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4648320" cy="2614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52880" y="12193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Беседы на темы: «Удивительный мир растений», «От семечка до цвет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905120" y="3352680"/>
            <a:ext cx="4267080" cy="2400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248520" y="38098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Просмотр иллюстраций по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496040" cy="2604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1447920"/>
            <a:ext cx="4572000" cy="2571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3808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росмотр презентации «Как растёт цвет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"/>
          <p:cNvPicPr/>
          <p:nvPr/>
        </p:nvPicPr>
        <p:blipFill>
          <a:blip r:embed="rId4"/>
          <a:stretch/>
        </p:blipFill>
        <p:spPr>
          <a:xfrm>
            <a:off x="3276720" y="3701880"/>
            <a:ext cx="4190760" cy="315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http://img0.liveinternet.ru/images/attach/c/6/91/255/91255838_babochka2.gif"/>
          <p:cNvPicPr/>
          <p:nvPr/>
        </p:nvPicPr>
        <p:blipFill>
          <a:blip r:embed="rId5"/>
          <a:stretch/>
        </p:blipFill>
        <p:spPr>
          <a:xfrm>
            <a:off x="5257800" y="4495680"/>
            <a:ext cx="12812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381024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962160" cy="222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952880" y="4267080"/>
            <a:ext cx="4191120" cy="2357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90720" y="3049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28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Уход за растениями в уголке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5T15:43:32Z</dcterms:created>
  <dc:creator>итсм</dc:creator>
  <dc:description/>
  <dc:language>en-US</dc:language>
  <cp:lastModifiedBy>итсм</cp:lastModifiedBy>
  <dcterms:modified xsi:type="dcterms:W3CDTF">2019-01-09T17:41:16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