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808-7840-4512-B7AB-5897ECB1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C64-B1BF-41EC-9793-211BB361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110-E624-4BFC-8664-DAB26D76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650-54AC-4476-80CC-D77047CC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05F-2974-4869-9682-B0373BA6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0F5-4A54-4D87-B339-8B72FFE7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5D1-2FE9-4EF9-B7D1-B476AAD4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083-C046-4764-9054-048BD838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33A-A824-4CCA-8B55-0BB271C9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258-A241-4463-B38F-A64D8F3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EC9-6B63-4C5A-A6D0-CFAA17C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3D6-AD00-4229-8822-B4D6A6A5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B24C-3B1A-4A63-82AE-01F185F234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Здоровье наших детей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50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тельское собр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ла: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жнова А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орпл"/>
          <p:cNvPicPr/>
          <p:nvPr/>
        </p:nvPicPr>
        <p:blipFill>
          <a:blip r:embed="rId1"/>
          <a:stretch/>
        </p:blipFill>
        <p:spPr>
          <a:xfrm>
            <a:off x="6516720" y="3141720"/>
            <a:ext cx="22384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редные привыч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м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22936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Стрес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56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носит уд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 слаженной работе дыхательно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сердечно-сосудистой систем, ухудшает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j0286034"/>
          <p:cNvPicPr/>
          <p:nvPr/>
        </p:nvPicPr>
        <p:blipFill>
          <a:blip r:embed="rId1"/>
          <a:stretch/>
        </p:blipFill>
        <p:spPr>
          <a:xfrm>
            <a:off x="7093080" y="428760"/>
            <a:ext cx="1566720" cy="15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Всем известно, что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еды человек может прожить 30-40 дн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воды – 5-10 дн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воздуха – всего лишь несколько мин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А это означает, что дыхание – важнейший физиологический процесс в организ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5"/>
          <p:cNvPicPr/>
          <p:nvPr/>
        </p:nvPicPr>
        <p:blipFill>
          <a:blip r:embed="rId1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24000" y="1668600"/>
            <a:ext cx="8319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стоящее время является актуальным вопрос оздоровления учащихся школьного возраста. В эти годы формируется осанка, идет активный рост и развитие всех систем орган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От чего зависит здоровье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6" name="Object 3"/>
          <p:cNvGraphicFramePr/>
          <p:nvPr/>
        </p:nvGraphicFramePr>
        <p:xfrm>
          <a:off x="2484360" y="549360"/>
          <a:ext cx="6469200" cy="58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49360"/>
                    <a:ext cx="6469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5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Факторы, влияющие отрицательно на наше здоровье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авильное питани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оподвижный образ жиз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ьютериз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дные привыч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е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ит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619280" y="1899720"/>
            <a:ext cx="626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ahoma"/>
              </a:rPr>
              <a:t>Правильное питание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- основа здоровья человека. Именно пища, которую мы принимаем, обеспечивает развитие и постоянное обновление клеток и тканей организма, является источником энергии, которую наш организм тратит не только при физических нагрузках, но и в состоянии покоя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Малоподвижный образ жиз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Малоподвижный образ жизни становится нормой существования взрослых и детей. В достаточной мере этому помогает телевидение и компьютерные игры. Ежедневно ребенок проводит более 2 часов у телеэкр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следств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лость органов зрения и слух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ловные бо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ливость, апа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облемы концентрации внимания, памяти, запоминания учебного матери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блемы с усидчивостью на уроках, школьные страх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стойких интересов и увлече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11280" y="104652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ые вредные факторы, действующие на человека за компьютер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дячее положение в течение длительного времени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электромагнитное излучение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перегрузка суставов кистей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повышенная нагрузка на зрение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стресс при потере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2:23:00Z</dcterms:created>
  <dc:creator>Admin</dc:creator>
  <dc:description/>
  <dc:language>en-US</dc:language>
  <cp:lastModifiedBy>татьяна зубкова</cp:lastModifiedBy>
  <dcterms:modified xsi:type="dcterms:W3CDTF">2018-11-19T17:11:24Z</dcterms:modified>
  <cp:revision>5</cp:revision>
  <dc:subject/>
  <dc:title>Здоровье наших детей</dc:title>
</cp:coreProperties>
</file>