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27D-4FEF-4921-B16A-25567DB7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481-317F-4307-A2B2-5FA31F25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899-398E-4026-9695-76824FD0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A33-DDAB-44C1-A7A7-0B8D0FAD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762-24C6-4D32-8801-4A21FB19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0BF-1B80-4E42-8360-BE686E25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61F-55F2-4107-8F88-64D3AF07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FCF-904F-4591-A84F-3902230A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591-C71A-464E-ACF1-570DC58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A66-2B46-4539-8978-3FFE7F73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809-C340-44B5-9EC6-DB12F694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FD7-C5C8-46B6-83F5-A3EA16C1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207A-9684-4B01-92E6-9F10FE8A36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Здоровье наших детей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50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тельское собр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л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жнова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орпл"/>
          <p:cNvPicPr/>
          <p:nvPr/>
        </p:nvPicPr>
        <p:blipFill>
          <a:blip r:embed="rId1"/>
          <a:stretch/>
        </p:blipFill>
        <p:spPr>
          <a:xfrm>
            <a:off x="6516720" y="3141720"/>
            <a:ext cx="2238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редные привыч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м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2293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Стрес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56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носит уд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 слаженной работе дыхательно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сердечно-сосудистой систем, ухудшает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j0286034"/>
          <p:cNvPicPr/>
          <p:nvPr/>
        </p:nvPicPr>
        <p:blipFill>
          <a:blip r:embed="rId1"/>
          <a:stretch/>
        </p:blipFill>
        <p:spPr>
          <a:xfrm>
            <a:off x="7093080" y="428760"/>
            <a:ext cx="1566720" cy="15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Всем известно, что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еды человек может прожить 30-40 д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воды – 5-10 д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воздуха – всего лишь несколько мин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А это означает, что дыхание – важнейший физиологический процесс в организ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5"/>
          <p:cNvPicPr/>
          <p:nvPr/>
        </p:nvPicPr>
        <p:blipFill>
          <a:blip r:embed="rId1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1668600"/>
            <a:ext cx="8319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стоящее время является актуальным вопрос оздоровления учащихся школьного возраста. В эти годы формируется осанка, идет активный рост и развитие всех систем орган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От чего зависит здоровье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2484360" y="549360"/>
          <a:ext cx="6469200" cy="58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49360"/>
                    <a:ext cx="6469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акторы, влияющие отрицательно на наше здоровь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авильное питани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оподвижный образ жиз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ьютериз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дные привыч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619280" y="1899720"/>
            <a:ext cx="626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ahoma"/>
              </a:rPr>
              <a:t>Правильное питание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- основа здоровья человека. Именно пища, которую мы принимаем, обеспечивает развитие и постоянное обновление клеток и тканей организма, является источником энергии, которую наш организм тратит не только при физических нагрузках, но и в состоянии покоя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Малоподвижный образ жиз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Малоподвижный образ жизни становится нормой существования взрослых и детей. В достаточной мере этому помогает телевидение и компьютерные игры. Ежедневно ребенок проводит более 2 часов у телеэкр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следств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лость органов зрения и слух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ловные бо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ливость, апа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облемы концентрации внимания, памяти, запомина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блемы с усидчивостью на уроках, школьные страх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стойких интересов и увлече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11280" y="104652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ячее положение в течение длительного времени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электромагнитное излучение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перегрузка суставов кистей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повышенная нагрузка на зрение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стресс при потере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2:23:00Z</dcterms:created>
  <dc:creator>Admin</dc:creator>
  <dc:description/>
  <dc:language>en-US</dc:language>
  <cp:lastModifiedBy>татьяна зубкова</cp:lastModifiedBy>
  <dcterms:modified xsi:type="dcterms:W3CDTF">2018-11-19T17:11:24Z</dcterms:modified>
  <cp:revision>5</cp:revision>
  <dc:subject/>
  <dc:title>Здоровье наших детей</dc:title>
</cp:coreProperties>
</file>