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654-CF5C-45DD-B173-6331CE00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554-20B5-491D-A6D2-3DDFBCE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73F-C570-4197-BB5D-F89953A3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43D-3211-4354-A199-D233957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5CF-C443-4EA0-8D9A-D5456587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1A7-50B8-4B0E-ADD0-1E025AD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1D9-3657-42A7-AC17-DE7063C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BF1-DCE7-4A36-85CB-123477A2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306-0605-4145-A81C-1904C37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881-863B-4099-B6C5-E04A0658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543-40EA-41ED-A65F-826DD2D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3D71-F387-47E0-813E-2C10411C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BF4C-82BB-40FE-855D-C7A656AA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1F2C-BE5B-46E5-9B5E-2DB14FE6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6D7E-FC53-4C64-A274-C6BCC0E2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64DB-C6BE-4790-92C4-1E7F12C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145-2186-4273-9D11-FAE9C3D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204-AE7E-4B82-84B0-5D0B2E2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C4C-0E73-46F4-83AD-CD8AF4B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4F6-A5D1-4772-A322-F71AB3B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6171-900C-45FC-8258-0F1294C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586-9735-425E-8957-F5EC9417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BC9-999A-4271-9980-3E1B1797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DE0-998C-4929-B2FB-80125074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6D0-9647-41FE-82F3-47306A2C1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245-3A87-4440-8582-91FC00366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57360" y="1785960"/>
            <a:ext cx="578628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Роль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омашнего задания в самообразовании школьника</a:t>
            </a: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63680" y="5297040"/>
            <a:ext cx="5057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9900"/>
              </a:solidFill>
              <a:latin typeface="Segoe Script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1"/>
          <a:stretch/>
        </p:blipFill>
        <p:spPr>
          <a:xfrm>
            <a:off x="-219240" y="-291960"/>
            <a:ext cx="2919600" cy="3998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5857920" y="0"/>
            <a:ext cx="2786040" cy="2617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43120" y="2357280"/>
            <a:ext cx="5370480" cy="293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Placeholder 5" descr="1111.jpg"/>
          <p:cNvPicPr/>
          <p:nvPr/>
        </p:nvPicPr>
        <p:blipFill>
          <a:blip r:embed="rId1"/>
          <a:stretch/>
        </p:blipFill>
        <p:spPr>
          <a:xfrm>
            <a:off x="122400" y="407880"/>
            <a:ext cx="8332560" cy="489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34.jpg"/>
          <p:cNvPicPr/>
          <p:nvPr/>
        </p:nvPicPr>
        <p:blipFill>
          <a:blip r:embed="rId2"/>
          <a:stretch/>
        </p:blipFill>
        <p:spPr>
          <a:xfrm>
            <a:off x="7072200" y="364320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85840" y="7344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Чаще тренировать его память, внимание  и мышления используя для этого развивающие игры. Разгадывайте кроссворды, головоломки, ш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учайте ребенка к режиму дня, тем самым, развивая его 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омогайте ему стремиться совершенствовать свои способности не только в учебе, но и в других делах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828720"/>
            <a:ext cx="8996400" cy="36273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714240" y="1428840"/>
            <a:ext cx="707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 работу  качественно и в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0" name="Рисунок 5" descr="12.jpg"/>
          <p:cNvPicPr/>
          <p:nvPr/>
        </p:nvPicPr>
        <p:blipFill>
          <a:blip r:embed="rId2"/>
          <a:stretch/>
        </p:blipFill>
        <p:spPr>
          <a:xfrm>
            <a:off x="6786720" y="2643120"/>
            <a:ext cx="159516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" descr="61.jpg"/>
          <p:cNvPicPr/>
          <p:nvPr/>
        </p:nvPicPr>
        <p:blipFill>
          <a:blip r:embed="rId3"/>
          <a:stretch/>
        </p:blipFill>
        <p:spPr>
          <a:xfrm>
            <a:off x="3429000" y="2714760"/>
            <a:ext cx="2709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353880"/>
            <a:ext cx="8747280" cy="5364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357120" y="805680"/>
            <a:ext cx="84297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Занятие в школе может только  доставить ограниченному рассудку  и как бы вдолбить  в него  все правила, добытые чужим пониманием, но способность правильно пользоваться ими  разовьет только домашний самостоятельный труд</a:t>
            </a: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.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4a452a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4a452a"/>
                </a:solidFill>
                <a:latin typeface="Arial"/>
                <a:ea typeface="Times New Roman"/>
              </a:rPr>
              <a:t>И.К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85960" y="500040"/>
            <a:ext cx="71438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Segoe"/>
              </a:rPr>
              <a:t>	</a:t>
            </a:r>
            <a:r>
              <a:rPr b="1" i="1" lang="ru-RU" sz="6600" spc="-1" strike="noStrike">
                <a:solidFill>
                  <a:srgbClr val="c00000"/>
                </a:solidFill>
                <a:latin typeface="Segoe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500720" y="3500280"/>
            <a:ext cx="22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4643280" y="4357800"/>
            <a:ext cx="2714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19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74880"/>
            <a:ext cx="9582480" cy="3835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5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8680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Segoe Script"/>
              </a:rPr>
              <a:t>Задачи собрания: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1.Показать  родителям значение учебной домашней  работы школьника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2.Обсудить проблемы подготовки домашних заданий учащимися класса, определить  возможные пути  решения  данной проблемы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3. Предложить  родителям рекомендации по контролю выполнения домашних заданий школьником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Segoe Script"/>
              </a:rPr>
              <a:t>4.Дать рекомендации родителям по организации самообразования школьни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-429120" y="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1" name="Рисунок 13" descr="106.png"/>
          <p:cNvPicPr/>
          <p:nvPr/>
        </p:nvPicPr>
        <p:blipFill>
          <a:blip r:embed="rId2"/>
          <a:stretch/>
        </p:blipFill>
        <p:spPr>
          <a:xfrm>
            <a:off x="7786800" y="364320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335" name="Picture Placeholder 2" descr="111111.jpg"/>
          <p:cNvPicPr/>
          <p:nvPr/>
        </p:nvPicPr>
        <p:blipFill>
          <a:blip r:embed="rId1"/>
          <a:stretch/>
        </p:blipFill>
        <p:spPr>
          <a:xfrm>
            <a:off x="2646360" y="384120"/>
            <a:ext cx="6607080" cy="3535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12920" y="487440"/>
            <a:ext cx="1527120" cy="1503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6.jpg"/>
          <p:cNvPicPr/>
          <p:nvPr/>
        </p:nvPicPr>
        <p:blipFill>
          <a:blip r:embed="rId3"/>
          <a:stretch/>
        </p:blipFill>
        <p:spPr>
          <a:xfrm>
            <a:off x="4714920" y="257184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34.jpg"/>
          <p:cNvPicPr/>
          <p:nvPr/>
        </p:nvPicPr>
        <p:blipFill>
          <a:blip r:embed="rId2"/>
          <a:stretch/>
        </p:blipFill>
        <p:spPr>
          <a:xfrm>
            <a:off x="0" y="185724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1285920" y="101268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оспитание волевых усилий ребенка и самостоятельности, его усидчивости и  ответственности за выполняемое учеб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28720"/>
            <a:ext cx="8759880" cy="46339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1785960" y="13586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User</cp:lastModifiedBy>
  <dcterms:modified xsi:type="dcterms:W3CDTF">2017-01-29T06:30:25Z</dcterms:modified>
  <cp:revision>93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