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2C44-9130-4A6F-8C38-F7EB546B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D12-4F56-4FCB-A383-618CE296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F4E-507E-4D1D-8235-0F033689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890-DAC4-43FF-82A5-DA51F90A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0FFA-8D9A-48F5-8FDD-D33C5A12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31A-5B28-47FD-B1A0-BA43FA1E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978-4B14-4C4E-98FB-C4F2F50A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43B-624C-4538-AA3C-1B3D0C76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1C0-7BD9-413B-8562-3D2FBF51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C2F-9276-4C12-AD9F-B61B6BC8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40F-B68C-4F47-8C22-2E118F32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8F7E-1BAB-4E80-8694-FAF72F43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9BDA-38BA-4667-ACB7-CC4D0F62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EDD8-FDEF-4B60-981D-33D0BB03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AD3C-E9B5-48EF-BE25-4374BE2D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EC3D-2810-4CB4-B871-352B6F22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837-B86F-4966-BC03-1C0AFA77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4B41-DDF3-4844-AC1B-1084C5A6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9484-771B-4299-AD1A-5031A956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FC33-0C4E-4A86-B089-5EF29F0A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8258-4811-4348-B63E-A54A0436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A13F-834B-4368-A990-51FCB6F2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64ED-D31B-4800-88D4-0EDE3CF3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453C-3763-45C0-96D3-6C8229DD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5660-4F1C-4573-8E24-28FCC5D64E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AF54-429C-4328-8CAC-37194CC8EA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0;&#1086;&#1085;&#1090;&#1088;&#1086;&#1083;&#1100;%20&#1079;&#1072;%20&#1074;&#1099;&#1087;&#1086;&#1083;&#1085;&#1077;&#1085;&#1080;&#1077;&#1084;%20&#1096;&#1082;&#1086;&#1083;&#1100;&#1085;&#1080;&#1082;&#1086;&#1084;%20&#1076;&#1086;&#1084;&#1072;&#1096;&#1085;&#1080;&#1093;%20&#1079;&#1072;&#1076;&#1072;&#1085;&#1080;&#1081;.doc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357360" y="1785960"/>
            <a:ext cx="578628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Segoe Script"/>
              </a:rPr>
              <a:t>Роль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Segoe Script"/>
              </a:rPr>
              <a:t>домашнего задания в самообразовании школьника</a:t>
            </a:r>
            <a:endParaRPr b="0" lang="en-US" sz="4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063680" y="5297040"/>
            <a:ext cx="50576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9900"/>
              </a:solidFill>
              <a:latin typeface="Segoe Script"/>
            </a:endParaRPr>
          </a:p>
        </p:txBody>
      </p:sp>
      <p:pic>
        <p:nvPicPr>
          <p:cNvPr id="316" name="Прямоугольник 7" descr=""/>
          <p:cNvPicPr/>
          <p:nvPr/>
        </p:nvPicPr>
        <p:blipFill>
          <a:blip r:embed="rId1"/>
          <a:stretch/>
        </p:blipFill>
        <p:spPr>
          <a:xfrm>
            <a:off x="-219240" y="-291960"/>
            <a:ext cx="2919600" cy="3998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5857920" y="0"/>
            <a:ext cx="2786040" cy="26179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4" descr="34.jpg"/>
          <p:cNvPicPr/>
          <p:nvPr/>
        </p:nvPicPr>
        <p:blipFill>
          <a:blip r:embed="rId1"/>
          <a:stretch/>
        </p:blipFill>
        <p:spPr>
          <a:xfrm>
            <a:off x="0" y="2000160"/>
            <a:ext cx="2833560" cy="371484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4"/>
          <p:cNvSpPr/>
          <p:nvPr/>
        </p:nvSpPr>
        <p:spPr>
          <a:xfrm>
            <a:off x="785880" y="428760"/>
            <a:ext cx="785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Все эти проблемы решаемы, необходимо только внимание и терпение взросл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2643120" y="2357280"/>
            <a:ext cx="5370480" cy="2935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Placeholder 5" descr="1111.jpg"/>
          <p:cNvPicPr/>
          <p:nvPr/>
        </p:nvPicPr>
        <p:blipFill>
          <a:blip r:embed="rId1"/>
          <a:stretch/>
        </p:blipFill>
        <p:spPr>
          <a:xfrm>
            <a:off x="122400" y="407880"/>
            <a:ext cx="8332560" cy="489600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4" descr="34.jpg"/>
          <p:cNvPicPr/>
          <p:nvPr/>
        </p:nvPicPr>
        <p:blipFill>
          <a:blip r:embed="rId2"/>
          <a:stretch/>
        </p:blipFill>
        <p:spPr>
          <a:xfrm>
            <a:off x="7072200" y="364320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3"/>
          <p:cNvSpPr/>
          <p:nvPr/>
        </p:nvSpPr>
        <p:spPr>
          <a:xfrm>
            <a:off x="285840" y="734400"/>
            <a:ext cx="81439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Нужно помогать ребенку в учебе, чтобы он понял все детали трудного задания и сам мог выполнить аналогичное, подробно объясняя сво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Чаще тренировать его память, внимание  и мышления используя для этого развивающие игры. Разгадывайте кроссворды, головоломки, ша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Приучайте ребенка к режиму дня, тем самым, развивая его  волю и собр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Помогайте ему стремиться совершенствовать свои способности не только в учебе, но и в других делах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Placeholder 5" descr="111111.jpg"/>
          <p:cNvPicPr/>
          <p:nvPr/>
        </p:nvPicPr>
        <p:blipFill>
          <a:blip r:embed="rId1"/>
          <a:stretch/>
        </p:blipFill>
        <p:spPr>
          <a:xfrm>
            <a:off x="128520" y="828720"/>
            <a:ext cx="8996400" cy="362736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"/>
          <p:cNvSpPr/>
          <p:nvPr/>
        </p:nvSpPr>
        <p:spPr>
          <a:xfrm>
            <a:off x="0" y="1543680"/>
            <a:ext cx="8643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Рисунок 4" descr="34.jpg"/>
          <p:cNvPicPr/>
          <p:nvPr/>
        </p:nvPicPr>
        <p:blipFill>
          <a:blip r:embed="rId2"/>
          <a:stretch/>
        </p:blipFill>
        <p:spPr>
          <a:xfrm>
            <a:off x="428760" y="3071880"/>
            <a:ext cx="2214360" cy="32734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6" descr="78.jpg"/>
          <p:cNvPicPr/>
          <p:nvPr/>
        </p:nvPicPr>
        <p:blipFill>
          <a:blip r:embed="rId3"/>
          <a:stretch/>
        </p:blipFill>
        <p:spPr>
          <a:xfrm>
            <a:off x="7215120" y="3786120"/>
            <a:ext cx="1928880" cy="23767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7"/>
          <p:cNvSpPr/>
          <p:nvPr/>
        </p:nvSpPr>
        <p:spPr>
          <a:xfrm>
            <a:off x="714240" y="1428840"/>
            <a:ext cx="707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Системная работа ученика дома приводит к тому, что процесс учения его не отягощает, он получает навыки поиска информации, учится выполнять  работу  качественно и в с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0200" y="428760"/>
            <a:ext cx="68868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Segoe Script"/>
                <a:hlinkClick r:id="rId1"/>
              </a:rPr>
              <a:t>Как помочь ребенку в подготовке домашнего задания?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60" name="Рисунок 5" descr="12.jpg"/>
          <p:cNvPicPr/>
          <p:nvPr/>
        </p:nvPicPr>
        <p:blipFill>
          <a:blip r:embed="rId2"/>
          <a:stretch/>
        </p:blipFill>
        <p:spPr>
          <a:xfrm>
            <a:off x="6786720" y="2643120"/>
            <a:ext cx="1595160" cy="33577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6" descr="61.jpg"/>
          <p:cNvPicPr/>
          <p:nvPr/>
        </p:nvPicPr>
        <p:blipFill>
          <a:blip r:embed="rId3"/>
          <a:stretch/>
        </p:blipFill>
        <p:spPr>
          <a:xfrm>
            <a:off x="3429000" y="2714760"/>
            <a:ext cx="2709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Placeholder 5" descr="111111.jpg"/>
          <p:cNvPicPr/>
          <p:nvPr/>
        </p:nvPicPr>
        <p:blipFill>
          <a:blip r:embed="rId1"/>
          <a:stretch/>
        </p:blipFill>
        <p:spPr>
          <a:xfrm>
            <a:off x="128520" y="353880"/>
            <a:ext cx="8747280" cy="53643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1"/>
          <p:cNvSpPr/>
          <p:nvPr/>
        </p:nvSpPr>
        <p:spPr>
          <a:xfrm>
            <a:off x="0" y="1543680"/>
            <a:ext cx="8643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4" descr="34.jpg"/>
          <p:cNvPicPr/>
          <p:nvPr/>
        </p:nvPicPr>
        <p:blipFill>
          <a:blip r:embed="rId2"/>
          <a:stretch/>
        </p:blipFill>
        <p:spPr>
          <a:xfrm>
            <a:off x="428760" y="3071880"/>
            <a:ext cx="2214360" cy="327348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78.jpg"/>
          <p:cNvPicPr/>
          <p:nvPr/>
        </p:nvPicPr>
        <p:blipFill>
          <a:blip r:embed="rId3"/>
          <a:stretch/>
        </p:blipFill>
        <p:spPr>
          <a:xfrm>
            <a:off x="7215120" y="3786120"/>
            <a:ext cx="1928880" cy="23767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"/>
          <p:cNvSpPr/>
          <p:nvPr/>
        </p:nvSpPr>
        <p:spPr>
          <a:xfrm>
            <a:off x="357120" y="805680"/>
            <a:ext cx="842976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a452a"/>
                </a:solidFill>
                <a:latin typeface="Arial"/>
                <a:ea typeface="Times New Roman"/>
              </a:rPr>
              <a:t>Занятие в школе может только  доставить ограниченному рассудку  и как бы вдолбить  в него  все правила, добытые чужим пониманием, но способность правильно пользоваться ими  разовьет только домашний самостоятельный труд</a:t>
            </a:r>
            <a:r>
              <a:rPr b="1" i="1" lang="ru-RU" sz="1100" spc="-1" strike="noStrike">
                <a:solidFill>
                  <a:srgbClr val="4a452a"/>
                </a:solidFill>
                <a:latin typeface="Arial"/>
                <a:ea typeface="Times New Roman"/>
              </a:rPr>
              <a:t>.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4a452a"/>
                </a:solidFill>
                <a:latin typeface="Arial"/>
                <a:ea typeface="Times New Roman"/>
              </a:rPr>
              <a:t>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4a452a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</a:t>
            </a:r>
            <a:r>
              <a:rPr b="1" i="1" lang="ru-RU" sz="3200" spc="-1" strike="noStrike">
                <a:solidFill>
                  <a:srgbClr val="4a452a"/>
                </a:solidFill>
                <a:latin typeface="Arial"/>
                <a:ea typeface="Times New Roman"/>
              </a:rPr>
              <a:t>И.К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785960" y="500040"/>
            <a:ext cx="714384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Segoe"/>
              </a:rPr>
              <a:t>	</a:t>
            </a:r>
            <a:r>
              <a:rPr b="1" i="1" lang="ru-RU" sz="6600" spc="-1" strike="noStrike">
                <a:solidFill>
                  <a:srgbClr val="c00000"/>
                </a:solidFill>
                <a:latin typeface="Segoe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4500720" y="3500280"/>
            <a:ext cx="22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4643280" y="4357800"/>
            <a:ext cx="27147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643120" y="5076360"/>
            <a:ext cx="485784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Segoe Script"/>
              </a:rPr>
              <a:t>Д.И Писарев</a:t>
            </a:r>
            <a:endParaRPr b="0" lang="en-US" sz="44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19" name="Picture Placeholder 5" descr="111111.jpg"/>
          <p:cNvPicPr/>
          <p:nvPr/>
        </p:nvPicPr>
        <p:blipFill>
          <a:blip r:embed="rId1"/>
          <a:stretch/>
        </p:blipFill>
        <p:spPr>
          <a:xfrm>
            <a:off x="-219240" y="974880"/>
            <a:ext cx="9582480" cy="38350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"/>
          <p:cNvSpPr/>
          <p:nvPr/>
        </p:nvSpPr>
        <p:spPr>
          <a:xfrm>
            <a:off x="0" y="1543680"/>
            <a:ext cx="8643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Рисунок 4" descr="34.jpg"/>
          <p:cNvPicPr/>
          <p:nvPr/>
        </p:nvPicPr>
        <p:blipFill>
          <a:blip r:embed="rId2"/>
          <a:stretch/>
        </p:blipFill>
        <p:spPr>
          <a:xfrm>
            <a:off x="357120" y="-1000080"/>
            <a:ext cx="2214720" cy="327348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6" descr="78.jpg"/>
          <p:cNvPicPr/>
          <p:nvPr/>
        </p:nvPicPr>
        <p:blipFill>
          <a:blip r:embed="rId3"/>
          <a:stretch/>
        </p:blipFill>
        <p:spPr>
          <a:xfrm>
            <a:off x="7215120" y="3286080"/>
            <a:ext cx="1928880" cy="23763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7"/>
          <p:cNvSpPr/>
          <p:nvPr/>
        </p:nvSpPr>
        <p:spPr>
          <a:xfrm>
            <a:off x="0" y="20095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Знание составляется из мелких крупинок ежедневного опы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Placeholder 3" descr="111111.jpg"/>
          <p:cNvPicPr/>
          <p:nvPr/>
        </p:nvPicPr>
        <p:blipFill>
          <a:blip r:embed="rId1"/>
          <a:stretch/>
        </p:blipFill>
        <p:spPr>
          <a:xfrm>
            <a:off x="285840" y="857160"/>
            <a:ext cx="88581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5" name="Рисунок 4" descr="34.jpg"/>
          <p:cNvPicPr/>
          <p:nvPr/>
        </p:nvPicPr>
        <p:blipFill>
          <a:blip r:embed="rId2"/>
          <a:stretch/>
        </p:blipFill>
        <p:spPr>
          <a:xfrm>
            <a:off x="0" y="2000160"/>
            <a:ext cx="2552760" cy="3773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5"/>
          <p:cNvSpPr/>
          <p:nvPr/>
        </p:nvSpPr>
        <p:spPr>
          <a:xfrm flipV="1" rot="10800000">
            <a:off x="571680" y="1197720"/>
            <a:ext cx="828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Если наши дети хотят быть людьми, в самом деле, образованными, они должны приобретать образование самостоятельными занятия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6"/>
          <p:cNvSpPr/>
          <p:nvPr/>
        </p:nvSpPr>
        <p:spPr>
          <a:xfrm>
            <a:off x="2643120" y="4572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84807"/>
                </a:solidFill>
                <a:latin typeface="Arial"/>
              </a:rPr>
              <a:t>Н. Г. Черныш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86800" cy="51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Segoe Script"/>
              </a:rPr>
              <a:t>Задачи собрания: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Segoe Script"/>
              </a:rPr>
              <a:t>1.Показать  родителям значение учебной домашней  работы школьника.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Segoe Script"/>
              </a:rPr>
              <a:t>2.Обсудить проблемы подготовки домашних заданий учащимися класса, определить  возможные пути  решения  данной проблемы.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Segoe Script"/>
              </a:rPr>
              <a:t>3. Предложить  родителям рекомендации по контролю выполнения домашних заданий школьником.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Segoe Script"/>
              </a:rPr>
              <a:t>4.Дать рекомендации родителям по организации самообразования школьник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Placeholder 6" descr="111111.jpg"/>
          <p:cNvPicPr/>
          <p:nvPr/>
        </p:nvPicPr>
        <p:blipFill>
          <a:blip r:embed="rId1"/>
          <a:stretch/>
        </p:blipFill>
        <p:spPr>
          <a:xfrm>
            <a:off x="291960" y="512640"/>
            <a:ext cx="7632720" cy="96789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-429120" y="0"/>
            <a:ext cx="407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31" name="Рисунок 13" descr="106.png"/>
          <p:cNvPicPr/>
          <p:nvPr/>
        </p:nvPicPr>
        <p:blipFill>
          <a:blip r:embed="rId2"/>
          <a:stretch/>
        </p:blipFill>
        <p:spPr>
          <a:xfrm>
            <a:off x="7786800" y="3643200"/>
            <a:ext cx="1643040" cy="17146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642960" y="66348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  <a:ea typeface="Times New Roman"/>
              </a:rPr>
              <a:t>«Фактически постепенно должна стираться грань между классными, домашними заданиями с переходом к непрерывной, индивидуальной самостоятельной учебной деятельности школьник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57320" y="2130120"/>
            <a:ext cx="56005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285720" y="3571560"/>
            <a:ext cx="46292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Segoe Script"/>
            </a:endParaRPr>
          </a:p>
        </p:txBody>
      </p:sp>
      <p:pic>
        <p:nvPicPr>
          <p:cNvPr id="335" name="Picture Placeholder 2" descr="111111.jpg"/>
          <p:cNvPicPr/>
          <p:nvPr/>
        </p:nvPicPr>
        <p:blipFill>
          <a:blip r:embed="rId1"/>
          <a:stretch/>
        </p:blipFill>
        <p:spPr>
          <a:xfrm>
            <a:off x="2646360" y="384120"/>
            <a:ext cx="6607080" cy="3535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"/>
          <p:cNvSpPr/>
          <p:nvPr/>
        </p:nvSpPr>
        <p:spPr>
          <a:xfrm>
            <a:off x="2571840" y="1005480"/>
            <a:ext cx="62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Bookman Old Style"/>
                <a:ea typeface="Calibri"/>
              </a:rPr>
              <a:t>Назначение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7" descr="14.jpg"/>
          <p:cNvPicPr/>
          <p:nvPr/>
        </p:nvPicPr>
        <p:blipFill>
          <a:blip r:embed="rId2"/>
          <a:srcRect l="9788" t="0" r="0" b="18157"/>
          <a:stretch/>
        </p:blipFill>
        <p:spPr>
          <a:xfrm rot="20953200">
            <a:off x="412920" y="487440"/>
            <a:ext cx="1527120" cy="15033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" descr="6.jpg"/>
          <p:cNvPicPr/>
          <p:nvPr/>
        </p:nvPicPr>
        <p:blipFill>
          <a:blip r:embed="rId3"/>
          <a:stretch/>
        </p:blipFill>
        <p:spPr>
          <a:xfrm>
            <a:off x="4714920" y="2571840"/>
            <a:ext cx="383220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762120"/>
            <a:ext cx="8759880" cy="463212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" descr="34.jpg"/>
          <p:cNvPicPr/>
          <p:nvPr/>
        </p:nvPicPr>
        <p:blipFill>
          <a:blip r:embed="rId2"/>
          <a:stretch/>
        </p:blipFill>
        <p:spPr>
          <a:xfrm>
            <a:off x="0" y="185724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7"/>
          <p:cNvSpPr/>
          <p:nvPr/>
        </p:nvSpPr>
        <p:spPr>
          <a:xfrm>
            <a:off x="1285920" y="1012680"/>
            <a:ext cx="757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Воспитание волевых усилий ребенка и самостоятельности, его усидчивости и  ответственности за выполняемое учебно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828720"/>
            <a:ext cx="8759880" cy="463392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" descr="34.jpg"/>
          <p:cNvPicPr/>
          <p:nvPr/>
        </p:nvPicPr>
        <p:blipFill>
          <a:blip r:embed="rId2"/>
          <a:stretch/>
        </p:blipFill>
        <p:spPr>
          <a:xfrm>
            <a:off x="0" y="-107172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7"/>
          <p:cNvSpPr/>
          <p:nvPr/>
        </p:nvSpPr>
        <p:spPr>
          <a:xfrm>
            <a:off x="1785960" y="1358640"/>
            <a:ext cx="7072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владение навыками учебного труда, выраженное в различных способах учебной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Формирование умения добывать  необходимую информацию из различных  справочников, пособий, слов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762120"/>
            <a:ext cx="8759880" cy="46321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" descr="34.jpg"/>
          <p:cNvPicPr/>
          <p:nvPr/>
        </p:nvPicPr>
        <p:blipFill>
          <a:blip r:embed="rId2"/>
          <a:stretch/>
        </p:blipFill>
        <p:spPr>
          <a:xfrm>
            <a:off x="0" y="100008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7"/>
          <p:cNvSpPr/>
          <p:nvPr/>
        </p:nvSpPr>
        <p:spPr>
          <a:xfrm>
            <a:off x="1500120" y="101520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Формирование исследовательских  умений ученика (сопоставление, сравнение, предположение, построение гипотезы и т.д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9:53:55Z</dcterms:created>
  <dc:creator>Юлия Николаевна</dc:creator>
  <dc:description>Корпорация Майкрософт</dc:description>
  <cp:keywords>Фотоальбом</cp:keywords>
  <dc:language>en-US</dc:language>
  <cp:lastModifiedBy>User</cp:lastModifiedBy>
  <dcterms:modified xsi:type="dcterms:W3CDTF">2017-01-29T06:30:25Z</dcterms:modified>
  <cp:revision>93</cp:revision>
  <dc:subject>Фотоальбом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