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4813-768B-4714-A58B-21EB31F65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7CF7-142A-440A-AF7E-744E4010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7D8B-2058-4D1A-91FF-60965F3CF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B0B1-6665-45C0-98E4-68E0FC167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DB80-7ACA-4A4B-9072-3EEED47C4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1510-137F-44F4-90B8-2820CDF9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5628-8CE9-40D8-82ED-5BEFCA89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CD15-F975-4A71-96C9-74A192E6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3A97-F1A8-40AD-BFC0-B15C7E19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4AC4-3A68-431C-BCC8-7A7C8947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DCB8-01C4-4E5A-B31B-9208A70A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C0D6-1A7A-48D4-A621-55B0C2D3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5E9D-8AB2-4CAB-9321-60612714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C29D-FC24-4457-921D-78982F1B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F07B-5323-4B7C-8EE4-B1066B0F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FCCC-A7E2-4ECB-81B3-57A201A0A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547C-B0F8-40CA-949A-627091D53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21C0-0586-48EB-A3CB-A77994E3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BB78-869F-4B35-B9F0-E21368198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68E1-E9AA-4FCF-A72B-B9D9D493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E102-F761-4A55-907D-CE9901D3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07F5-E668-4CE8-B409-4182A8A7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05CB-47D7-4DB6-9AFF-93DF4065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2A72-7A28-4B73-B85D-2F540D07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E552-4675-4BCA-8ACE-4A9A4BECFE7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FB66-FD1B-4BF3-9AA4-93863C141E8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330066"/>
                </a:solidFill>
                <a:latin typeface="Arial"/>
              </a:rPr>
              <a:t>Семья</a:t>
            </a:r>
            <a:endParaRPr b="1" lang="en-US" sz="8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i?id=b6ad064aa52956353256699698c5674e-l&amp;n=13"/>
          <p:cNvPicPr/>
          <p:nvPr/>
        </p:nvPicPr>
        <p:blipFill>
          <a:blip r:embed="rId1"/>
          <a:stretch/>
        </p:blipFill>
        <p:spPr>
          <a:xfrm>
            <a:off x="0" y="2565360"/>
            <a:ext cx="727236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40384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Семья-это семь «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8" descr="%D1%81%D0%B5%D0%BC%D1%8C%D1%8F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 u="sng">
                <a:solidFill>
                  <a:srgbClr val="ff0000"/>
                </a:solidFill>
                <a:uFillTx/>
                <a:latin typeface="Arial"/>
              </a:rPr>
              <a:t>Семья от слова «Семь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11-1-15-1024x683"/>
          <p:cNvPicPr/>
          <p:nvPr/>
        </p:nvPicPr>
        <p:blipFill>
          <a:blip r:embed="rId1"/>
          <a:stretch/>
        </p:blipFill>
        <p:spPr>
          <a:xfrm>
            <a:off x="179280" y="2492280"/>
            <a:ext cx="604836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Семья-от слова «семя»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3_48"/>
          <p:cNvPicPr/>
          <p:nvPr/>
        </p:nvPicPr>
        <p:blipFill>
          <a:blip r:embed="rId1"/>
          <a:stretch/>
        </p:blipFill>
        <p:spPr>
          <a:xfrm>
            <a:off x="250920" y="1844640"/>
            <a:ext cx="71532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e9ce8"/>
                </a:solidFill>
                <a:latin typeface="Times New Roman"/>
              </a:rPr>
              <a:t>Права и обязанности семьи</a:t>
            </a:r>
            <a:r>
              <a:rPr b="1" lang="ru-RU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article_1616_1462923480265_depositphotos_25009365_m-2015_large"/>
          <p:cNvPicPr/>
          <p:nvPr/>
        </p:nvPicPr>
        <p:blipFill>
          <a:blip r:embed="rId1"/>
          <a:stretch/>
        </p:blipFill>
        <p:spPr>
          <a:xfrm>
            <a:off x="1763640" y="2781360"/>
            <a:ext cx="5327640" cy="3551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669999"/>
                </a:solidFill>
                <a:latin typeface="Arial"/>
              </a:rPr>
              <a:t>Обязанности в семь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) Готовить обед.-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ма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) Отремонтировать утюг.-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ап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3) Собирать портфель-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де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) Мыть посуду.-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вс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5) Ухаживать за цветами.-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де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98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98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98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98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669999"/>
                </a:solidFill>
                <a:latin typeface="Arial"/>
              </a:rPr>
              <a:t>Обязанности в семь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6) Застилать постель.-вс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7) Убирать квартиру.-мама с папой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(дети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8) Погулять с младшим братиком или сестренкой.-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де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9) Сделать покупки в магазине.-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мам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0) Заботиться друг о друге-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вс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d8d8ec"/>
                </a:solidFill>
                <a:latin typeface="Arial"/>
              </a:rPr>
              <a:t>Права в семь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ыть любимы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ыть под защит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ыть поняты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считывать на помощь других членов семь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8T18:16:54Z</dcterms:created>
  <dc:creator>XXXX</dc:creator>
  <dc:description/>
  <dc:language>en-US</dc:language>
  <cp:lastModifiedBy>Ксюша</cp:lastModifiedBy>
  <dcterms:modified xsi:type="dcterms:W3CDTF">2019-01-09T17:28:58Z</dcterms:modified>
  <cp:revision>3</cp:revision>
  <dc:subject/>
  <dc:title>Семья</dc:title>
</cp:coreProperties>
</file>