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727-C0E9-4A8F-B311-0C24EE3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50D-A309-40AB-A5FF-0937D81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5EA-534F-4F35-89AB-90B88DA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08A-8711-458B-BEF6-048C02A4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9704-0D5A-4334-9318-0C4441EF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BE09-DC4A-4392-8805-3B049BB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8AA2-447A-4D2A-80B7-C4AD427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B04-BBD1-4469-A969-3990297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4E97-8A15-4E8C-9B52-8B87D0A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E84-7F6B-4638-8AF4-761F13EC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D044-7CE8-4957-ABCE-23CBC80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035-1E88-44B1-959A-8F0AFCD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933-21A8-477B-807C-3FB83FD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FA3B-2A3B-4564-88A4-33D788E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659-803E-4236-AD59-2775276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30C7-A051-4F0D-9EF7-B4024D9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01DD-274E-4A50-B39D-AA58FAA9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BCA-D4A1-496E-BF9C-EC60BBE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D4B-116A-4BF8-B22A-5D74421E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494-87BE-477A-BA53-C627CFBD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6E6-A673-4E10-825A-1BC519A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A80-B8A4-4B9D-8DCE-5FE9486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BF6-DC3F-41CC-B0B8-2098A62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CB9-6545-4628-850D-1F294A4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747-95FD-431B-A468-BD55FA24E0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E5D-3895-4525-93AA-69C8874425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0066"/>
                </a:solidFill>
                <a:latin typeface="Arial"/>
              </a:rPr>
              <a:t>Семья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i?id=b6ad064aa52956353256699698c5674e-l&amp;n=13"/>
          <p:cNvPicPr/>
          <p:nvPr/>
        </p:nvPicPr>
        <p:blipFill>
          <a:blip r:embed="rId1"/>
          <a:stretch/>
        </p:blipFill>
        <p:spPr>
          <a:xfrm>
            <a:off x="0" y="2565360"/>
            <a:ext cx="72723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емья-это семь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%D1%81%D0%B5%D0%BC%D1%8C%D1%8F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Семья от слова «Семь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11-1-15-1024x683"/>
          <p:cNvPicPr/>
          <p:nvPr/>
        </p:nvPicPr>
        <p:blipFill>
          <a:blip r:embed="rId1"/>
          <a:stretch/>
        </p:blipFill>
        <p:spPr>
          <a:xfrm>
            <a:off x="179280" y="2492280"/>
            <a:ext cx="6048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емья-от слова «семя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3_48"/>
          <p:cNvPicPr/>
          <p:nvPr/>
        </p:nvPicPr>
        <p:blipFill>
          <a:blip r:embed="rId1"/>
          <a:stretch/>
        </p:blipFill>
        <p:spPr>
          <a:xfrm>
            <a:off x="250920" y="1844640"/>
            <a:ext cx="7153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e9ce8"/>
                </a:solidFill>
                <a:latin typeface="Times New Roman"/>
              </a:rPr>
              <a:t>Права и обязанности семьи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article_1616_1462923480265_depositphotos_25009365_m-2015_large"/>
          <p:cNvPicPr/>
          <p:nvPr/>
        </p:nvPicPr>
        <p:blipFill>
          <a:blip r:embed="rId1"/>
          <a:stretch/>
        </p:blipFill>
        <p:spPr>
          <a:xfrm>
            <a:off x="1763640" y="2781360"/>
            <a:ext cx="5327640" cy="3551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669999"/>
                </a:solidFill>
                <a:latin typeface="Arial"/>
              </a:rPr>
              <a:t>Обязанности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Готовить обед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Отремонтировать утюг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Собирать портфель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Мыть посуду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) Ухаживать за цветами.-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669999"/>
                </a:solidFill>
                <a:latin typeface="Arial"/>
              </a:rPr>
              <a:t>Обязанности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) Застилать постель.-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) Убирать квартиру.-мама с папо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д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) Погулять с младшим братиком или сестренкой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) Сделать покупки в магазине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) Заботиться друг о друге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d8d8ec"/>
                </a:solidFill>
                <a:latin typeface="Arial"/>
              </a:rPr>
              <a:t>Права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люби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под защи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понят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читывать на помощь других членов семь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18:16:54Z</dcterms:created>
  <dc:creator>XXXX</dc:creator>
  <dc:description/>
  <dc:language>en-US</dc:language>
  <cp:lastModifiedBy>Ксюша</cp:lastModifiedBy>
  <dcterms:modified xsi:type="dcterms:W3CDTF">2019-01-09T17:28:58Z</dcterms:modified>
  <cp:revision>3</cp:revision>
  <dc:subject/>
  <dc:title>Семья</dc:title>
</cp:coreProperties>
</file>