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6E3C-7869-4E72-8C02-CCFFB537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37B-FE17-4B8B-AD0E-FCFDB93A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3A2-414B-4691-ADF3-64D87F0B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46C-2180-4CBD-9AA6-AD830F4D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CA2-89FA-4811-AD2C-CA53AA11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AFC7-EC8C-443E-BA9A-F491CDCB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47E-4962-4BC6-BC5E-159EE57F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A21B-AB67-4930-ADFD-C6E551A5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DC2-9BE6-447A-8922-DD5F2842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E7B-907C-4B37-88D0-9AB7961D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E83-592E-4A7B-9468-C5BF567C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F32-A31E-4378-A485-39DEF403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8168-B119-496C-8A7E-484542FF5A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32822880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713880" y="4071960"/>
            <a:ext cx="79297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32523"/>
                </a:solidFill>
                <a:latin typeface="Calibri"/>
              </a:rPr>
              <a:t>Стихи и загадки о ягодах Кольского полуостр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Исаева Юлия Евгеньевн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воспитатель МБДОУ №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2019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5" descr="sev_yag_logo_b.jpg"/>
          <p:cNvPicPr/>
          <p:nvPr/>
        </p:nvPicPr>
        <p:blipFill>
          <a:blip r:embed="rId2"/>
          <a:stretch/>
        </p:blipFill>
        <p:spPr>
          <a:xfrm>
            <a:off x="2643120" y="500040"/>
            <a:ext cx="38577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" descr="080cc70bf990387df1d2ec4a273ea472.jpg"/>
          <p:cNvPicPr/>
          <p:nvPr/>
        </p:nvPicPr>
        <p:blipFill>
          <a:blip r:embed="rId2"/>
          <a:stretch/>
        </p:blipFill>
        <p:spPr>
          <a:xfrm>
            <a:off x="357120" y="571680"/>
            <a:ext cx="5000760" cy="38574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5429160" y="306360"/>
            <a:ext cx="3500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рус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стики с глянц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годки с румянц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 сами кусточки не выше к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ого ягоды в лукошка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ут и клюква, и морош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т черника, голубик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ядом – красная … (брусн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857160" y="4791600"/>
            <a:ext cx="75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  <a:ea typeface="Times New Roman"/>
              </a:rPr>
              <a:t>Брусника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  <a:ea typeface="Times New Roman"/>
              </a:rPr>
              <a:t> - кисло-сладкая, красная; вечно зеленое растение, листики остаются зелеными и под снег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08_brusnika.jpg"/>
          <p:cNvPicPr/>
          <p:nvPr/>
        </p:nvPicPr>
        <p:blipFill>
          <a:blip r:embed="rId2"/>
          <a:stretch/>
        </p:blipFill>
        <p:spPr>
          <a:xfrm>
            <a:off x="357120" y="857160"/>
            <a:ext cx="5643720" cy="4214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5929200" y="558360"/>
            <a:ext cx="307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 брусники вкус особ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ли кислый, толи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олько ты ее ни пробу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найдешь на то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 зеленые лис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желтеют и зи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носили мы из л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у ягоду до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20214_b_article.jpg"/>
          <p:cNvPicPr/>
          <p:nvPr/>
        </p:nvPicPr>
        <p:blipFill>
          <a:blip r:embed="rId2"/>
          <a:stretch/>
        </p:blipFill>
        <p:spPr>
          <a:xfrm>
            <a:off x="500040" y="64296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4643280" y="428760"/>
            <a:ext cx="4143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яб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ень в сад к нам пришл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сный факел зажгл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есь дрозды, скворцы сную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, галдя, её клю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сною зеленел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том загорал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енью надел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сные корал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енокос - горька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в мороз - сладка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за ягод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а…(ряб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0_2949c_a58a7350_XL.jpg"/>
          <p:cNvPicPr/>
          <p:nvPr/>
        </p:nvPicPr>
        <p:blipFill>
          <a:blip r:embed="rId2"/>
          <a:stretch/>
        </p:blipFill>
        <p:spPr>
          <a:xfrm>
            <a:off x="3643200" y="1071720"/>
            <a:ext cx="5143680" cy="4143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214200" y="736920"/>
            <a:ext cx="3357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ойную рябину вижу во дворе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умруд на ветках утром на зар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ого ягод красных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елых и прекрас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оздьями висят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х красив наря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бери на нитку ягод -для душ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рябины бусы очень хорош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0_17a88_c751debe_XL.jpg"/>
          <p:cNvPicPr/>
          <p:nvPr/>
        </p:nvPicPr>
        <p:blipFill>
          <a:blip r:embed="rId2"/>
          <a:stretch/>
        </p:blipFill>
        <p:spPr>
          <a:xfrm>
            <a:off x="500040" y="428760"/>
            <a:ext cx="5000760" cy="38574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5643720" y="374400"/>
            <a:ext cx="328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луб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 листиком на каждой ве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дят маленькие д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т, кто деток собе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уки вымажет и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попробовав пойме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лубика здесь расте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928800" y="46468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  <a:ea typeface="Times New Roman"/>
              </a:rPr>
              <a:t>Голубика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  <a:ea typeface="Times New Roman"/>
              </a:rPr>
              <a:t> - сладкая, темно-синего цвета, на кустике ее очень м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" descr="008486_811058.jpg"/>
          <p:cNvPicPr/>
          <p:nvPr/>
        </p:nvPicPr>
        <p:blipFill>
          <a:blip r:embed="rId2"/>
          <a:stretch/>
        </p:blipFill>
        <p:spPr>
          <a:xfrm>
            <a:off x="3643200" y="1071720"/>
            <a:ext cx="5143680" cy="39146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285840" y="1071720"/>
            <a:ext cx="3286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лубая ягод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ял Ванюша туес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шел Ваня во лесо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дит: ягодка на кочк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рывается листочк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Что за ягодка так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вно небо, голуба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годка шепнула тихо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Я, Ванюша, голубика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12ecad166f86.jpg"/>
          <p:cNvPicPr/>
          <p:nvPr/>
        </p:nvPicPr>
        <p:blipFill>
          <a:blip r:embed="rId2"/>
          <a:stretch/>
        </p:blipFill>
        <p:spPr>
          <a:xfrm>
            <a:off x="214200" y="1785960"/>
            <a:ext cx="4214880" cy="33577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1258209318_knaigen1.jpg"/>
          <p:cNvPicPr/>
          <p:nvPr/>
        </p:nvPicPr>
        <p:blipFill>
          <a:blip r:embed="rId3"/>
          <a:stretch/>
        </p:blipFill>
        <p:spPr>
          <a:xfrm>
            <a:off x="4643280" y="3143160"/>
            <a:ext cx="4286520" cy="32860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6"/>
          <p:cNvSpPr/>
          <p:nvPr/>
        </p:nvSpPr>
        <p:spPr>
          <a:xfrm>
            <a:off x="785880" y="50004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В наших лесах встречаются и другие ягоды с очень необычными назва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785880" y="557352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роника (шикш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5072040" y="221616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няже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0_3b065_4df49b84_XL.jpg"/>
          <p:cNvPicPr/>
          <p:nvPr/>
        </p:nvPicPr>
        <p:blipFill>
          <a:blip r:embed="rId2"/>
          <a:stretch/>
        </p:blipFill>
        <p:spPr>
          <a:xfrm>
            <a:off x="214200" y="428760"/>
            <a:ext cx="4286520" cy="32860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3" descr="6499.jpg"/>
          <p:cNvPicPr/>
          <p:nvPr/>
        </p:nvPicPr>
        <p:blipFill>
          <a:blip r:embed="rId3"/>
          <a:stretch/>
        </p:blipFill>
        <p:spPr>
          <a:xfrm>
            <a:off x="4714920" y="3357720"/>
            <a:ext cx="4214880" cy="3286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"/>
          <p:cNvSpPr/>
          <p:nvPr/>
        </p:nvSpPr>
        <p:spPr>
          <a:xfrm>
            <a:off x="1214280" y="428760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тя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5643720" y="250200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рём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2" descr="0_1b022_e884096b_XL.jpg"/>
          <p:cNvPicPr/>
          <p:nvPr/>
        </p:nvPicPr>
        <p:blipFill>
          <a:blip r:embed="rId2"/>
          <a:stretch/>
        </p:blipFill>
        <p:spPr>
          <a:xfrm>
            <a:off x="357120" y="642960"/>
            <a:ext cx="4357800" cy="26431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acai1.jpg"/>
          <p:cNvPicPr/>
          <p:nvPr/>
        </p:nvPicPr>
        <p:blipFill>
          <a:blip r:embed="rId3"/>
          <a:stretch/>
        </p:blipFill>
        <p:spPr>
          <a:xfrm>
            <a:off x="357120" y="3714840"/>
            <a:ext cx="4357800" cy="26431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"/>
          <p:cNvSpPr/>
          <p:nvPr/>
        </p:nvSpPr>
        <p:spPr>
          <a:xfrm>
            <a:off x="4929120" y="948960"/>
            <a:ext cx="3929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лесу растёт черни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русника, голуб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бы ягоду сор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о глубже присе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гулялся я в лесу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зину с ягодой н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ава от дорожки – заросли морош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Я сверну с дорожки – наберу моро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32822880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Img_1472.jpg"/>
          <p:cNvPicPr/>
          <p:nvPr/>
        </p:nvPicPr>
        <p:blipFill>
          <a:blip r:embed="rId2"/>
          <a:stretch/>
        </p:blipFill>
        <p:spPr>
          <a:xfrm>
            <a:off x="214200" y="500040"/>
            <a:ext cx="4286520" cy="3429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5" descr="2220.jpg"/>
          <p:cNvPicPr/>
          <p:nvPr/>
        </p:nvPicPr>
        <p:blipFill>
          <a:blip r:embed="rId3"/>
          <a:stretch/>
        </p:blipFill>
        <p:spPr>
          <a:xfrm>
            <a:off x="4643280" y="571680"/>
            <a:ext cx="4214880" cy="33573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6"/>
          <p:cNvSpPr/>
          <p:nvPr/>
        </p:nvSpPr>
        <p:spPr>
          <a:xfrm>
            <a:off x="1071720" y="4429080"/>
            <a:ext cx="71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32523"/>
                </a:solidFill>
                <a:latin typeface="Calibri"/>
                <a:ea typeface="Times New Roman"/>
              </a:rPr>
              <a:t>Ягод всех не перечесть, тех, что в нашем крае ес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32822880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642960" y="357120"/>
            <a:ext cx="792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428760" y="357120"/>
            <a:ext cx="8358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представлений о многообразии  ягод  северной природы и их пользе для сохранения здоровья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и: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  Закрепить знания о внешнем виде ягод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  Учить выразительно читать стихи, отгадывать загадк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 Рассказать  о полезных свойствах северных я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brusnika2.jpg"/>
          <p:cNvPicPr/>
          <p:nvPr/>
        </p:nvPicPr>
        <p:blipFill>
          <a:blip r:embed="rId2"/>
          <a:stretch/>
        </p:blipFill>
        <p:spPr>
          <a:xfrm>
            <a:off x="5429160" y="214200"/>
            <a:ext cx="3038400" cy="42674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Oxycoccus_microcarpus_1.jpg"/>
          <p:cNvPicPr/>
          <p:nvPr/>
        </p:nvPicPr>
        <p:blipFill>
          <a:blip r:embed="rId3"/>
          <a:stretch/>
        </p:blipFill>
        <p:spPr>
          <a:xfrm>
            <a:off x="285840" y="3500280"/>
            <a:ext cx="4214880" cy="31435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85.jpg"/>
          <p:cNvPicPr/>
          <p:nvPr/>
        </p:nvPicPr>
        <p:blipFill>
          <a:blip r:embed="rId4"/>
          <a:stretch/>
        </p:blipFill>
        <p:spPr>
          <a:xfrm>
            <a:off x="357120" y="214200"/>
            <a:ext cx="4143600" cy="3143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4929120" y="4934160"/>
            <a:ext cx="40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Цветущие растения: морошка, клюква, брус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0_1d0ce_d991227a_XL.jpg"/>
          <p:cNvPicPr/>
          <p:nvPr/>
        </p:nvPicPr>
        <p:blipFill>
          <a:blip r:embed="rId2"/>
          <a:stretch/>
        </p:blipFill>
        <p:spPr>
          <a:xfrm>
            <a:off x="571680" y="428760"/>
            <a:ext cx="4857480" cy="3643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5572080" y="515160"/>
            <a:ext cx="32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ро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рошка, морош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ненькая нож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годка - фонар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адостью ода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ень подоспе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года посп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елая морошк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Желтая сереж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928800" y="450396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  <a:ea typeface="Times New Roman"/>
              </a:rPr>
              <a:t>Морошка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  <a:ea typeface="Times New Roman"/>
              </a:rPr>
              <a:t> - оранжевая ягодка, состоит  из долек, в каждой дольке - косто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1500120" y="4222440"/>
            <a:ext cx="621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лою метелью гуси налетел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болото сели, всю морошку съе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уси на болото прилетели рано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втра за морошкой раньше солнца вст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Ю. Аксен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5276.jpg"/>
          <p:cNvPicPr/>
          <p:nvPr/>
        </p:nvPicPr>
        <p:blipFill>
          <a:blip r:embed="rId2"/>
          <a:stretch/>
        </p:blipFill>
        <p:spPr>
          <a:xfrm>
            <a:off x="4143240" y="500040"/>
            <a:ext cx="4643640" cy="3500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214200" y="515160"/>
            <a:ext cx="385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года морошка попала мне в лукошко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азом жёлтым подмигнул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тихонько мне шепнул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Ты меня, морошку, бери понемножк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тавляй птицам, зверята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 малым ребят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Н.Ермак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1240ba3305dc.jpg"/>
          <p:cNvPicPr/>
          <p:nvPr/>
        </p:nvPicPr>
        <p:blipFill>
          <a:blip r:embed="rId2"/>
          <a:stretch/>
        </p:blipFill>
        <p:spPr>
          <a:xfrm>
            <a:off x="428760" y="714240"/>
            <a:ext cx="4929120" cy="3857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5500800" y="37764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юк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за бусинка вот т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стебле повис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янешь - слюнки потеку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 раскусишь - к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красна, я к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болоте я рос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зревала под снеж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у-ка, кто со мной знак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28800" y="507528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  <a:ea typeface="Times New Roman"/>
              </a:rPr>
              <a:t>Клюква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  <a:ea typeface="Times New Roman"/>
              </a:rPr>
              <a:t> - кислая, красная, крупная, растёт на боло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5500800" y="310680"/>
            <a:ext cx="335736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в сахарной пудре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мелком сне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йти тебя в тундр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сразу смог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юбишь понежитьс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ждать свой с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ыгай, подснежниц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мой туес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Л. Татьянич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500040" y="4500720"/>
            <a:ext cx="47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т кислее ягод эти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все равно приветь и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тамин в них - лучший друг ва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мечательная клюква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jagoda.jpg"/>
          <p:cNvPicPr/>
          <p:nvPr/>
        </p:nvPicPr>
        <p:blipFill>
          <a:blip r:embed="rId2"/>
          <a:stretch/>
        </p:blipFill>
        <p:spPr>
          <a:xfrm>
            <a:off x="357120" y="500040"/>
            <a:ext cx="5000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e5ea845f4fd4a8ef2ae49d94629257f4.jpg"/>
          <p:cNvPicPr/>
          <p:nvPr/>
        </p:nvPicPr>
        <p:blipFill>
          <a:blip r:embed="rId2"/>
          <a:stretch/>
        </p:blipFill>
        <p:spPr>
          <a:xfrm>
            <a:off x="500040" y="642960"/>
            <a:ext cx="5000760" cy="38577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5786280" y="35712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р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5572080" y="78588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 листом на каждой ветк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дят маленькие детк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т, кто деток собер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и вымажет и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лесу и на бол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вку вы найдё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на ней синеет гроздь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исло-сладких ягод горс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143000" y="521820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  <a:ea typeface="Times New Roman"/>
              </a:rPr>
              <a:t>Сок черники 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  <a:ea typeface="Times New Roman"/>
              </a:rPr>
              <a:t>окрашивает рот и руки в синий цвет, и он очень полезен для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60603392_1277114731_0_ab90_f194c037_XL.jpg"/>
          <p:cNvPicPr/>
          <p:nvPr/>
        </p:nvPicPr>
        <p:blipFill>
          <a:blip r:embed="rId2"/>
          <a:stretch/>
        </p:blipFill>
        <p:spPr>
          <a:xfrm>
            <a:off x="3786120" y="2500200"/>
            <a:ext cx="5000760" cy="4000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285840" y="380880"/>
            <a:ext cx="328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рничный компо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спросил у Вас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Чем ты губы красил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 тебя лиловый ро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усы лиловы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лиловый сок тече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рубашку новую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ответил Ва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Губы я не краси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черничный пил компо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т и стал лиловым ро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4214880" y="214200"/>
            <a:ext cx="4357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рнику рвите осторожно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расит руки, как чернил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мыть их сразу невозможно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не поможет даже мыло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 радует черника нас —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а полезная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Н. Меркушова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ма</cp:lastModifiedBy>
  <dcterms:modified xsi:type="dcterms:W3CDTF">2019-01-08T21:00:22Z</dcterms:modified>
  <cp:revision>29</cp:revision>
  <dc:subject/>
  <dc:title>Слайд 1</dc:title>
</cp:coreProperties>
</file>