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EC74-79A1-40A3-ABED-2FE937201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7112-AE49-4A8B-B2BF-37CFAB9FE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E949-F025-4352-BE5C-8E9353399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59F8-6501-4C77-8DE9-93AF5F2AF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237D-69FA-46B4-9A09-3E3C7B263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F193-793B-4E80-B84F-5F97850EE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419D-E685-4BA4-BB0A-0CD72BBD6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F63A-4C41-4851-80B8-44F3B516F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9CF0-F9CC-48AA-984B-480614DB9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7EAC-30E5-4087-9B08-933F1FBA3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3AA3-C4DE-4B97-A62A-2B2285F91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F177-32B5-42EB-B27E-444A018F6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99767-7FCC-48C6-ABBA-B1B7A8A432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4" descr="32822880_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713880" y="4071960"/>
            <a:ext cx="792972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32523"/>
                </a:solidFill>
                <a:latin typeface="Calibri"/>
              </a:rPr>
              <a:t>Стихи и загадки о ягодах Кольского полуостров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32523"/>
                </a:solidFill>
                <a:latin typeface="Calibri"/>
              </a:rPr>
              <a:t>Исаева Юлия Евгеньевна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32523"/>
                </a:solidFill>
                <a:latin typeface="Calibri"/>
              </a:rPr>
              <a:t>воспитатель МБДОУ №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32523"/>
                </a:solidFill>
                <a:latin typeface="Calibri"/>
              </a:rPr>
              <a:t>2019 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5" descr="sev_yag_logo_b.jpg"/>
          <p:cNvPicPr/>
          <p:nvPr/>
        </p:nvPicPr>
        <p:blipFill>
          <a:blip r:embed="rId2"/>
          <a:stretch/>
        </p:blipFill>
        <p:spPr>
          <a:xfrm>
            <a:off x="2643120" y="500040"/>
            <a:ext cx="385776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1" descr="pic_47e5ee17c657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2" descr="080cc70bf990387df1d2ec4a273ea472.jpg"/>
          <p:cNvPicPr/>
          <p:nvPr/>
        </p:nvPicPr>
        <p:blipFill>
          <a:blip r:embed="rId2"/>
          <a:stretch/>
        </p:blipFill>
        <p:spPr>
          <a:xfrm>
            <a:off x="357120" y="571680"/>
            <a:ext cx="5000760" cy="38574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1"/>
          <p:cNvSpPr/>
          <p:nvPr/>
        </p:nvSpPr>
        <p:spPr>
          <a:xfrm>
            <a:off x="5429160" y="306360"/>
            <a:ext cx="3500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Брус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Листики с глянце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Ягодки с румянц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А сами кусточки не выше коч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Много ягоды в лукошках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Тут и клюква, и морошк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от черника, голубик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ядом – красная … (брусни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857160" y="4791600"/>
            <a:ext cx="7572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Calibri"/>
                <a:ea typeface="Times New Roman"/>
              </a:rPr>
              <a:t>Брусника</a:t>
            </a:r>
            <a:r>
              <a:rPr b="0" lang="ru-RU" sz="2800" spc="-1" strike="noStrike">
                <a:solidFill>
                  <a:srgbClr val="632523"/>
                </a:solidFill>
                <a:latin typeface="Calibri"/>
                <a:ea typeface="Times New Roman"/>
              </a:rPr>
              <a:t> - кисло-сладкая, красная; вечно зеленое растение, листики остаются зелеными и под снег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1" descr="pic_47e5ee17c657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2" descr="08_brusnika.jpg"/>
          <p:cNvPicPr/>
          <p:nvPr/>
        </p:nvPicPr>
        <p:blipFill>
          <a:blip r:embed="rId2"/>
          <a:stretch/>
        </p:blipFill>
        <p:spPr>
          <a:xfrm>
            <a:off x="357120" y="857160"/>
            <a:ext cx="5643720" cy="42148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"/>
          <p:cNvSpPr/>
          <p:nvPr/>
        </p:nvSpPr>
        <p:spPr>
          <a:xfrm>
            <a:off x="5929200" y="558360"/>
            <a:ext cx="307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У брусники вкус особы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Толи кислый, толи 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колько ты ее ни пробу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е найдешь на то от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А зеленые листо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е желтеют и зи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иносили мы из ле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Эту ягоду до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1" descr="pic_47e5ee17c657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2" descr="20214_b_article.jpg"/>
          <p:cNvPicPr/>
          <p:nvPr/>
        </p:nvPicPr>
        <p:blipFill>
          <a:blip r:embed="rId2"/>
          <a:stretch/>
        </p:blipFill>
        <p:spPr>
          <a:xfrm>
            <a:off x="500040" y="642960"/>
            <a:ext cx="3929040" cy="521496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3"/>
          <p:cNvSpPr/>
          <p:nvPr/>
        </p:nvSpPr>
        <p:spPr>
          <a:xfrm>
            <a:off x="4643280" y="428760"/>
            <a:ext cx="41436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яб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ень в сад к нам пришл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асный факел зажгл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десь дрозды, скворцы снуют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, галдя, её клюю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есною зеленел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етом загорал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енью надел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асные корал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сенокос - горька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 в мороз - сладка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 за ягодк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на…(ряби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1" descr="pic_47e5ee17c657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2" descr="0_2949c_a58a7350_XL.jpg"/>
          <p:cNvPicPr/>
          <p:nvPr/>
        </p:nvPicPr>
        <p:blipFill>
          <a:blip r:embed="rId2"/>
          <a:stretch/>
        </p:blipFill>
        <p:spPr>
          <a:xfrm>
            <a:off x="3643200" y="1071720"/>
            <a:ext cx="5143680" cy="41432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"/>
          <p:cNvSpPr/>
          <p:nvPr/>
        </p:nvSpPr>
        <p:spPr>
          <a:xfrm>
            <a:off x="214200" y="736920"/>
            <a:ext cx="3357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ройную рябину вижу во дворе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Изумруд на ветках утром на заре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Много ягод красных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пелых и прекрасных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Гроздьями висят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Их красив наря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бери на нитку ягод -для души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Из рябины бусы очень хорош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1" descr="pic_47e5ee17c657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2" descr="0_17a88_c751debe_XL.jpg"/>
          <p:cNvPicPr/>
          <p:nvPr/>
        </p:nvPicPr>
        <p:blipFill>
          <a:blip r:embed="rId2"/>
          <a:stretch/>
        </p:blipFill>
        <p:spPr>
          <a:xfrm>
            <a:off x="500040" y="428760"/>
            <a:ext cx="5000760" cy="38574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"/>
          <p:cNvSpPr/>
          <p:nvPr/>
        </p:nvSpPr>
        <p:spPr>
          <a:xfrm>
            <a:off x="5643720" y="374400"/>
            <a:ext cx="3286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Голуб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д листиком на каждой вет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идят маленькие де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Тот, кто деток собер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уки вымажет и р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 попробовав поймет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лубика здесь растет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928800" y="4646880"/>
            <a:ext cx="764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Calibri"/>
                <a:ea typeface="Times New Roman"/>
              </a:rPr>
              <a:t>Голубика</a:t>
            </a:r>
            <a:r>
              <a:rPr b="0" lang="ru-RU" sz="2800" spc="-1" strike="noStrike">
                <a:solidFill>
                  <a:srgbClr val="632523"/>
                </a:solidFill>
                <a:latin typeface="Calibri"/>
                <a:ea typeface="Times New Roman"/>
              </a:rPr>
              <a:t> - сладкая, темно-синего цвета, на кустике ее очень мн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1" descr="pic_47e5ee17c657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2" descr="008486_811058.jpg"/>
          <p:cNvPicPr/>
          <p:nvPr/>
        </p:nvPicPr>
        <p:blipFill>
          <a:blip r:embed="rId2"/>
          <a:stretch/>
        </p:blipFill>
        <p:spPr>
          <a:xfrm>
            <a:off x="3643200" y="1071720"/>
            <a:ext cx="5143680" cy="391464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3"/>
          <p:cNvSpPr/>
          <p:nvPr/>
        </p:nvSpPr>
        <p:spPr>
          <a:xfrm>
            <a:off x="285840" y="1071720"/>
            <a:ext cx="3286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олубая ягодк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зял Ванюша туесок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шел Ваня во лесок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идит: ягодка на кочк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крывается листочком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Что за ягодка такая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ловно небо, голубая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Ягодка шепнула тихо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Я, Ванюша, голубика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1" descr="pic_47e5ee17c657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3" descr="12ecad166f86.jpg"/>
          <p:cNvPicPr/>
          <p:nvPr/>
        </p:nvPicPr>
        <p:blipFill>
          <a:blip r:embed="rId2"/>
          <a:stretch/>
        </p:blipFill>
        <p:spPr>
          <a:xfrm>
            <a:off x="214200" y="1785960"/>
            <a:ext cx="4214880" cy="335772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5" descr="1258209318_knaigen1.jpg"/>
          <p:cNvPicPr/>
          <p:nvPr/>
        </p:nvPicPr>
        <p:blipFill>
          <a:blip r:embed="rId3"/>
          <a:stretch/>
        </p:blipFill>
        <p:spPr>
          <a:xfrm>
            <a:off x="4643280" y="3143160"/>
            <a:ext cx="4286520" cy="328608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6"/>
          <p:cNvSpPr/>
          <p:nvPr/>
        </p:nvSpPr>
        <p:spPr>
          <a:xfrm>
            <a:off x="785880" y="500040"/>
            <a:ext cx="785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Calibri"/>
              </a:rPr>
              <a:t>В наших лесах встречаются и другие ягоды с очень необычными названи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"/>
          <p:cNvSpPr/>
          <p:nvPr/>
        </p:nvSpPr>
        <p:spPr>
          <a:xfrm>
            <a:off x="785880" y="5573520"/>
            <a:ext cx="32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ороника (шикш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5072040" y="2216160"/>
            <a:ext cx="36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Княже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1" descr="pic_47e5ee17c657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2" descr="0_3b065_4df49b84_XL.jpg"/>
          <p:cNvPicPr/>
          <p:nvPr/>
        </p:nvPicPr>
        <p:blipFill>
          <a:blip r:embed="rId2"/>
          <a:stretch/>
        </p:blipFill>
        <p:spPr>
          <a:xfrm>
            <a:off x="214200" y="428760"/>
            <a:ext cx="4286520" cy="328608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3" descr="6499.jpg"/>
          <p:cNvPicPr/>
          <p:nvPr/>
        </p:nvPicPr>
        <p:blipFill>
          <a:blip r:embed="rId3"/>
          <a:stretch/>
        </p:blipFill>
        <p:spPr>
          <a:xfrm>
            <a:off x="4714920" y="3357720"/>
            <a:ext cx="4214880" cy="328608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1"/>
          <p:cNvSpPr/>
          <p:nvPr/>
        </p:nvSpPr>
        <p:spPr>
          <a:xfrm>
            <a:off x="1214280" y="4287600"/>
            <a:ext cx="235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стя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5643720" y="2502000"/>
            <a:ext cx="264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Черёму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1" descr="pic_47e5ee17c657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2" descr="0_1b022_e884096b_XL.jpg"/>
          <p:cNvPicPr/>
          <p:nvPr/>
        </p:nvPicPr>
        <p:blipFill>
          <a:blip r:embed="rId2"/>
          <a:stretch/>
        </p:blipFill>
        <p:spPr>
          <a:xfrm>
            <a:off x="357120" y="642960"/>
            <a:ext cx="4357800" cy="264312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3" descr="acai1.jpg"/>
          <p:cNvPicPr/>
          <p:nvPr/>
        </p:nvPicPr>
        <p:blipFill>
          <a:blip r:embed="rId3"/>
          <a:stretch/>
        </p:blipFill>
        <p:spPr>
          <a:xfrm>
            <a:off x="357120" y="3714840"/>
            <a:ext cx="4357800" cy="264312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1"/>
          <p:cNvSpPr/>
          <p:nvPr/>
        </p:nvSpPr>
        <p:spPr>
          <a:xfrm>
            <a:off x="4929120" y="948960"/>
            <a:ext cx="39290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 лесу растёт черни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Брусника, голуб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Чтобы ягоду сорва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до глубже присед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гулялся я в лесу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рзину с ягодой нес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права от дорожки – заросли морошк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Я сверну с дорожки – наберу морош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Рисунок 2" descr="32822880_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4" descr="Img_1472.jpg"/>
          <p:cNvPicPr/>
          <p:nvPr/>
        </p:nvPicPr>
        <p:blipFill>
          <a:blip r:embed="rId2"/>
          <a:stretch/>
        </p:blipFill>
        <p:spPr>
          <a:xfrm>
            <a:off x="214200" y="500040"/>
            <a:ext cx="4286520" cy="342900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5" descr="2220.jpg"/>
          <p:cNvPicPr/>
          <p:nvPr/>
        </p:nvPicPr>
        <p:blipFill>
          <a:blip r:embed="rId3"/>
          <a:stretch/>
        </p:blipFill>
        <p:spPr>
          <a:xfrm>
            <a:off x="4643280" y="571680"/>
            <a:ext cx="4214880" cy="335736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6"/>
          <p:cNvSpPr/>
          <p:nvPr/>
        </p:nvSpPr>
        <p:spPr>
          <a:xfrm>
            <a:off x="1071720" y="4429080"/>
            <a:ext cx="7143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32523"/>
                </a:solidFill>
                <a:latin typeface="Calibri"/>
                <a:ea typeface="Times New Roman"/>
              </a:rPr>
              <a:t>Ягод всех не перечесть, тех, что в нашем крае есть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32822880_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2"/>
          <p:cNvSpPr/>
          <p:nvPr/>
        </p:nvSpPr>
        <p:spPr>
          <a:xfrm>
            <a:off x="642960" y="357120"/>
            <a:ext cx="7929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3"/>
          <p:cNvSpPr/>
          <p:nvPr/>
        </p:nvSpPr>
        <p:spPr>
          <a:xfrm>
            <a:off x="428760" y="357120"/>
            <a:ext cx="83581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Цель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рмирование представлений о многообразии  ягод  северной природы и их пользе для сохранения здоровья.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дачи:  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  Закрепить знания о внешнем виде ягод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  Учить выразительно читать стихи, отгадывать загадки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 Рассказать  о полезных свойствах северных яг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pic_47e5ee17c657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2" descr="brusnika2.jpg"/>
          <p:cNvPicPr/>
          <p:nvPr/>
        </p:nvPicPr>
        <p:blipFill>
          <a:blip r:embed="rId2"/>
          <a:stretch/>
        </p:blipFill>
        <p:spPr>
          <a:xfrm>
            <a:off x="5429160" y="214200"/>
            <a:ext cx="3038400" cy="426744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3" descr="Oxycoccus_microcarpus_1.jpg"/>
          <p:cNvPicPr/>
          <p:nvPr/>
        </p:nvPicPr>
        <p:blipFill>
          <a:blip r:embed="rId3"/>
          <a:stretch/>
        </p:blipFill>
        <p:spPr>
          <a:xfrm>
            <a:off x="285840" y="3500280"/>
            <a:ext cx="4214880" cy="314352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4" descr="85.jpg"/>
          <p:cNvPicPr/>
          <p:nvPr/>
        </p:nvPicPr>
        <p:blipFill>
          <a:blip r:embed="rId4"/>
          <a:stretch/>
        </p:blipFill>
        <p:spPr>
          <a:xfrm>
            <a:off x="357120" y="214200"/>
            <a:ext cx="4143600" cy="31435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"/>
          <p:cNvSpPr/>
          <p:nvPr/>
        </p:nvSpPr>
        <p:spPr>
          <a:xfrm>
            <a:off x="4929120" y="4934160"/>
            <a:ext cx="4000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Цветущие растения: морошка, клюква, брус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pic_47e5ee17c657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2" descr="0_1d0ce_d991227a_XL.jpg"/>
          <p:cNvPicPr/>
          <p:nvPr/>
        </p:nvPicPr>
        <p:blipFill>
          <a:blip r:embed="rId2"/>
          <a:stretch/>
        </p:blipFill>
        <p:spPr>
          <a:xfrm>
            <a:off x="571680" y="428760"/>
            <a:ext cx="4857480" cy="36432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"/>
          <p:cNvSpPr/>
          <p:nvPr/>
        </p:nvSpPr>
        <p:spPr>
          <a:xfrm>
            <a:off x="5572080" y="515160"/>
            <a:ext cx="3214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Моро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Морошка, морош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Тоненькая нож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Ягодка - фонар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ладостью одар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сень подоспел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Ягода поспе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пелая морошка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Желтая сереж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928800" y="4503960"/>
            <a:ext cx="7429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Calibri"/>
                <a:ea typeface="Times New Roman"/>
              </a:rPr>
              <a:t>Морошка</a:t>
            </a:r>
            <a:r>
              <a:rPr b="0" lang="ru-RU" sz="2800" spc="-1" strike="noStrike">
                <a:solidFill>
                  <a:srgbClr val="632523"/>
                </a:solidFill>
                <a:latin typeface="Calibri"/>
                <a:ea typeface="Times New Roman"/>
              </a:rPr>
              <a:t> - оранжевая ягодка, состоит  из долек, в каждой дольке - косточ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1" descr="pic_47e5ee17c657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"/>
          <p:cNvSpPr/>
          <p:nvPr/>
        </p:nvSpPr>
        <p:spPr>
          <a:xfrm>
            <a:off x="1500120" y="4222440"/>
            <a:ext cx="6215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Белою метелью гуси налетели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 болото сели, всю морошку съел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Гуси на болото прилетели рано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Завтра за морошкой раньше солнца вста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(Ю. Аксенов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3" descr="5276.jpg"/>
          <p:cNvPicPr/>
          <p:nvPr/>
        </p:nvPicPr>
        <p:blipFill>
          <a:blip r:embed="rId2"/>
          <a:stretch/>
        </p:blipFill>
        <p:spPr>
          <a:xfrm>
            <a:off x="4143240" y="500040"/>
            <a:ext cx="4643640" cy="350064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2"/>
          <p:cNvSpPr/>
          <p:nvPr/>
        </p:nvSpPr>
        <p:spPr>
          <a:xfrm>
            <a:off x="214200" y="515160"/>
            <a:ext cx="3857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Ягода морошка попала мне в лукошко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Глазом жёлтым подмигнул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И тихонько мне шепнула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- Ты меня, морошку, бери понемножку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ставляй птицам, зверятам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Да малым ребята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(Н.Ермаков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pic_47e5ee17c657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2" descr="1240ba3305dc.jpg"/>
          <p:cNvPicPr/>
          <p:nvPr/>
        </p:nvPicPr>
        <p:blipFill>
          <a:blip r:embed="rId2"/>
          <a:stretch/>
        </p:blipFill>
        <p:spPr>
          <a:xfrm>
            <a:off x="428760" y="714240"/>
            <a:ext cx="4929120" cy="385776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1"/>
          <p:cNvSpPr/>
          <p:nvPr/>
        </p:nvSpPr>
        <p:spPr>
          <a:xfrm>
            <a:off x="5500800" y="377640"/>
            <a:ext cx="3429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Клюк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Что за бусинка вот ту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 стебле повисл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Глянешь - слюнки потеку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А раскусишь - кис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Я красна, я к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 болоте я росл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Дозревала под снеж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у-ка, кто со мной знак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928800" y="5075280"/>
            <a:ext cx="750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Calibri"/>
                <a:ea typeface="Times New Roman"/>
              </a:rPr>
              <a:t>Клюква</a:t>
            </a:r>
            <a:r>
              <a:rPr b="0" lang="ru-RU" sz="2800" spc="-1" strike="noStrike">
                <a:solidFill>
                  <a:srgbClr val="632523"/>
                </a:solidFill>
                <a:latin typeface="Calibri"/>
                <a:ea typeface="Times New Roman"/>
              </a:rPr>
              <a:t> - кислая, красная, крупная, растёт на болот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1" descr="pic_47e5ee17c657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"/>
          <p:cNvSpPr/>
          <p:nvPr/>
        </p:nvSpPr>
        <p:spPr>
          <a:xfrm>
            <a:off x="5500800" y="310680"/>
            <a:ext cx="3357360" cy="57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Как в сахарной пудре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 мелком снег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йти тебя в тундре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е сразу смогу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Любишь понежиться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ыждать свой ср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ыгай, подснежница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 мой туес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(Л. Татьяничев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3"/>
          <p:cNvSpPr/>
          <p:nvPr/>
        </p:nvSpPr>
        <p:spPr>
          <a:xfrm>
            <a:off x="500040" y="4500720"/>
            <a:ext cx="4786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т кислее ягод этих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лько все равно приветь их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итамин в них - лучший друг вам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мечательная клюква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4" descr="jagoda.jpg"/>
          <p:cNvPicPr/>
          <p:nvPr/>
        </p:nvPicPr>
        <p:blipFill>
          <a:blip r:embed="rId2"/>
          <a:stretch/>
        </p:blipFill>
        <p:spPr>
          <a:xfrm>
            <a:off x="357120" y="500040"/>
            <a:ext cx="500076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1" descr="pic_47e5ee17c657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2" descr="e5ea845f4fd4a8ef2ae49d94629257f4.jpg"/>
          <p:cNvPicPr/>
          <p:nvPr/>
        </p:nvPicPr>
        <p:blipFill>
          <a:blip r:embed="rId2"/>
          <a:stretch/>
        </p:blipFill>
        <p:spPr>
          <a:xfrm>
            <a:off x="500040" y="642960"/>
            <a:ext cx="5000760" cy="385776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4"/>
          <p:cNvSpPr/>
          <p:nvPr/>
        </p:nvSpPr>
        <p:spPr>
          <a:xfrm>
            <a:off x="5786280" y="357120"/>
            <a:ext cx="31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ер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5"/>
          <p:cNvSpPr/>
          <p:nvPr/>
        </p:nvSpPr>
        <p:spPr>
          <a:xfrm>
            <a:off x="5572080" y="785880"/>
            <a:ext cx="3429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 листом на каждой ветк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идят маленькие детк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т, кто деток соберет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уки вымажет и р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лесу и на боло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авку вы найдё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 на ней синеет гроздь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исло-сладких ягод горсть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"/>
          <p:cNvSpPr/>
          <p:nvPr/>
        </p:nvSpPr>
        <p:spPr>
          <a:xfrm>
            <a:off x="1143000" y="5218200"/>
            <a:ext cx="700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Calibri"/>
                <a:ea typeface="Times New Roman"/>
              </a:rPr>
              <a:t>Сок черники </a:t>
            </a:r>
            <a:r>
              <a:rPr b="0" lang="ru-RU" sz="2800" spc="-1" strike="noStrike">
                <a:solidFill>
                  <a:srgbClr val="632523"/>
                </a:solidFill>
                <a:latin typeface="Calibri"/>
                <a:ea typeface="Times New Roman"/>
              </a:rPr>
              <a:t>окрашивает рот и руки в синий цвет, и он очень полезен для гл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1" descr="pic_47e5ee17c657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2" descr="60603392_1277114731_0_ab90_f194c037_XL.jpg"/>
          <p:cNvPicPr/>
          <p:nvPr/>
        </p:nvPicPr>
        <p:blipFill>
          <a:blip r:embed="rId2"/>
          <a:stretch/>
        </p:blipFill>
        <p:spPr>
          <a:xfrm>
            <a:off x="3786120" y="2500200"/>
            <a:ext cx="5000760" cy="40006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1"/>
          <p:cNvSpPr/>
          <p:nvPr/>
        </p:nvSpPr>
        <p:spPr>
          <a:xfrm>
            <a:off x="285840" y="380880"/>
            <a:ext cx="3286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Черничный компо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Я спросил у Васи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– Чем ты губы красил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У тебя лиловый рот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И усы лиловые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И лиловый сок течет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 рубашку новую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И ответил Вася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– Губы я не красил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Я черничный пил компот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от и стал лиловым ро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4"/>
          <p:cNvSpPr/>
          <p:nvPr/>
        </p:nvSpPr>
        <p:spPr>
          <a:xfrm>
            <a:off x="4214880" y="214200"/>
            <a:ext cx="4357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рнику рвите осторожно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красит руки, как чернила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мыть их сразу невозможно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не поможет даже мыло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о радует черника нас —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на полезная для гла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Н. Меркушова)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има</cp:lastModifiedBy>
  <dcterms:modified xsi:type="dcterms:W3CDTF">2019-01-08T21:00:22Z</dcterms:modified>
  <cp:revision>29</cp:revision>
  <dc:subject/>
  <dc:title>Слайд 1</dc:title>
</cp:coreProperties>
</file>