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78B-54D3-4318-9277-3C41D390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13D-5181-4271-94A7-413B63F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5CF-7683-41A1-8E17-E695CC70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BDE-C848-4775-B237-4164A9B9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AFB-95BF-4717-952E-F0889CF4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92A-FB46-4B3A-B1A7-10B6B8D4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838-3211-4495-9075-9FF6E36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B9E-26F5-4267-A1E1-927F6364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EA3-D81A-446F-80F5-99D8902D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C08-1873-4CA8-A37B-B2ED063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006-1284-4C4A-9319-3975FDE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44F-C53A-4510-9353-A77648A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1EB-7106-48E3-8D14-F499514B9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ja.ru/" TargetMode="External"/><Relationship Id="rId2" Type="http://schemas.openxmlformats.org/officeDocument/2006/relationships/hyperlink" Target="http://www.loja.ru/" TargetMode="External"/><Relationship Id="rId3" Type="http://schemas.openxmlformats.org/officeDocument/2006/relationships/hyperlink" Target="http://www.loja.ru/" TargetMode="External"/><Relationship Id="rId4" Type="http://schemas.openxmlformats.org/officeDocument/2006/relationships/hyperlink" Target="http://www.loja.ru/" TargetMode="External"/><Relationship Id="rId5" Type="http://schemas.openxmlformats.org/officeDocument/2006/relationships/hyperlink" Target="http://www.loja.ru/" TargetMode="External"/><Relationship Id="rId6" Type="http://schemas.openxmlformats.org/officeDocument/2006/relationships/hyperlink" Target="http://www.geiha/" TargetMode="External"/><Relationship Id="rId7" Type="http://schemas.openxmlformats.org/officeDocument/2006/relationships/hyperlink" Target="http://www.geiha/" TargetMode="External"/><Relationship Id="rId8" Type="http://schemas.openxmlformats.org/officeDocument/2006/relationships/hyperlink" Target="http://www.geiha/" TargetMode="External"/><Relationship Id="rId9" Type="http://schemas.openxmlformats.org/officeDocument/2006/relationships/hyperlink" Target="http://www.neurolojist.ru/" TargetMode="External"/><Relationship Id="rId10" Type="http://schemas.openxmlformats.org/officeDocument/2006/relationships/hyperlink" Target="http://www.neurolojist.ru/" TargetMode="External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Строение и работа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68360" y="2421000"/>
            <a:ext cx="42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erd"/>
          <p:cNvPicPr/>
          <p:nvPr/>
        </p:nvPicPr>
        <p:blipFill>
          <a:blip r:embed="rId1"/>
          <a:stretch/>
        </p:blipFill>
        <p:spPr>
          <a:xfrm>
            <a:off x="0" y="1197000"/>
            <a:ext cx="2376360" cy="1944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2050920" y="2205000"/>
            <a:ext cx="61930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рд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403280" y="26028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 № 10» п.Березняки , Сергиево-Посад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2916360" y="5516640"/>
            <a:ext cx="4895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биологии Березина Г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U21_09_01"/>
          <p:cNvPicPr/>
          <p:nvPr/>
        </p:nvPicPr>
        <p:blipFill>
          <a:blip r:embed="rId1"/>
          <a:stretch/>
        </p:blipFill>
        <p:spPr>
          <a:xfrm>
            <a:off x="684360" y="907920"/>
            <a:ext cx="6624360" cy="554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2484360" y="3429000"/>
            <a:ext cx="49672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700360" y="378936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сил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окращ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дрена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оны Са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987640" y="1484280"/>
            <a:ext cx="4537080" cy="17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780000" y="1773360"/>
            <a:ext cx="230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яют сердечную мыш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илхо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ы К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1187280" y="333360"/>
            <a:ext cx="61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уморальная регуля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Неутомимость сердечной мыш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476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468360" y="1557360"/>
            <a:ext cx="7559640" cy="4680000"/>
          </a:xfrm>
          <a:custGeom>
            <a:avLst/>
            <a:gdLst>
              <a:gd name="textAreaLeft" fmla="*/ 1762920 w 7559640"/>
              <a:gd name="textAreaRight" fmla="*/ 5794920 w 7559640"/>
              <a:gd name="textAreaTop" fmla="*/ 493200 h 4680000"/>
              <a:gd name="textAreaBottom" fmla="*/ 2963520 h 4680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908000" y="2276640"/>
            <a:ext cx="47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70 лет – 2,5 млрд . сердечных сок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остановки на текущий и капитальный ре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Organization Chart 6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92" name="_s3076"/>
            <p:cNvCxnSpPr>
              <a:stCxn id="93" idx="0"/>
              <a:endCxn id="94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3077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3078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079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66"/>
                  </a:solidFill>
                  <a:latin typeface="Arial"/>
                </a:rPr>
                <a:t>Врожд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ороки разви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08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Приобретенны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Гиподинам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</a:rPr>
                <a:t>Кур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Алкого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00"/>
                  </a:solidFill>
                  <a:latin typeface="Arial"/>
                </a:rPr>
                <a:t>стре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WordArt 15"/>
          <p:cNvSpPr txBox="1"/>
          <p:nvPr/>
        </p:nvSpPr>
        <p:spPr>
          <a:xfrm>
            <a:off x="900000" y="260280"/>
            <a:ext cx="755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лезни серд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Профилактика заболеваний</a:t>
            </a:r>
            <a:br>
              <a:rPr sz="4000"/>
            </a:b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бы мы использовали свой ум и свои ноги больше, а будильник и свой желудок меньше, то мы меньше бы стра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болезней сердца»  (американский ученый Бол У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Меры профилак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(ограничение жи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Разумн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Борьба со стре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200"/>
                            </p:stCondLst>
                            <p:childTnLst>
                              <p:par>
                                <p:cTn id="3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200"/>
                            </p:stCondLst>
                            <p:childTnLst>
                              <p:par>
                                <p:cTn id="3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1200"/>
                            </p:stCondLst>
                            <p:childTnLst>
                              <p:par>
                                <p:cTn id="3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ja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eih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j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si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bl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love271"/>
          <p:cNvPicPr/>
          <p:nvPr/>
        </p:nvPicPr>
        <p:blipFill>
          <a:blip r:embed="rId11"/>
          <a:stretch/>
        </p:blipFill>
        <p:spPr>
          <a:xfrm>
            <a:off x="4067280" y="4797360"/>
            <a:ext cx="1152360" cy="97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ove70"/>
          <p:cNvPicPr/>
          <p:nvPr/>
        </p:nvPicPr>
        <p:blipFill>
          <a:blip r:embed="rId12"/>
          <a:stretch/>
        </p:blipFill>
        <p:spPr>
          <a:xfrm>
            <a:off x="6659640" y="4724280"/>
            <a:ext cx="1368360" cy="10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love70"/>
          <p:cNvPicPr/>
          <p:nvPr/>
        </p:nvPicPr>
        <p:blipFill>
          <a:blip r:embed="rId13"/>
          <a:stretch/>
        </p:blipFill>
        <p:spPr>
          <a:xfrm>
            <a:off x="1042920" y="4778280"/>
            <a:ext cx="14414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Цель работ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зать роль сердца в жизни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4390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Что такое сердце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Камень твердый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Яблоко с багрово-красной кожей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ожет быть меж ребер и аор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Бьется шар, на шар Земли похожий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Э. Межелай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местоположение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внешним и внутренним строением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роль автоматизма в работе сердца, роль нервной и гуморальной регу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причины болезней сердца и профилактики заболе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63640" y="115920"/>
            <a:ext cx="56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 тем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8186400" y="5721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о между правым и левым легким, слегка смещено влево. Удары сердца отчетливо прослушиваются с ле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1"/>
          <p:cNvPicPr/>
          <p:nvPr/>
        </p:nvPicPr>
        <p:blipFill>
          <a:blip r:embed="rId1"/>
          <a:stretch/>
        </p:blipFill>
        <p:spPr>
          <a:xfrm>
            <a:off x="3143160" y="3645000"/>
            <a:ext cx="2857680" cy="2663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619280" y="189000"/>
            <a:ext cx="6337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Сердце»- от слова «середина»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1619280" y="115920"/>
            <a:ext cx="63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Сердце»- от слова «середина»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99"/>
                </a:solidFill>
                <a:latin typeface="Arial"/>
              </a:rPr>
              <a:t>Внешнее 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дце покрыто снаружи околосердечной сум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3 обол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ая -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соединительнотк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яя -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ы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яя -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эпител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684"/>
          <p:cNvPicPr/>
          <p:nvPr/>
        </p:nvPicPr>
        <p:blipFill>
          <a:blip r:embed="rId1"/>
          <a:stretch/>
        </p:blipFill>
        <p:spPr>
          <a:xfrm>
            <a:off x="6324480" y="1268280"/>
            <a:ext cx="2554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дце человека полое, четырехкамерное 2предсердия,2желудоч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рчатые клапаны – между предсердиями и желудо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лунные клапаны – между желудочками и артер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ль клапанов –препятствовать обратному току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str_serdca"/>
          <p:cNvPicPr/>
          <p:nvPr/>
        </p:nvPicPr>
        <p:blipFill>
          <a:blip r:embed="rId1"/>
          <a:stretch/>
        </p:blipFill>
        <p:spPr>
          <a:xfrm>
            <a:off x="1835280" y="2060640"/>
            <a:ext cx="49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3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3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3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Organization Chart 6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63" name="_s1028"/>
            <p:cNvCxnSpPr>
              <a:stCxn id="64" idx="0"/>
              <a:endCxn id="6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29"/>
            <p:cNvCxnSpPr>
              <a:stCxn id="67" idx="0"/>
              <a:endCxn id="6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0"/>
            <p:cNvCxnSpPr>
              <a:stCxn id="69" idx="0"/>
              <a:endCxn id="6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ердечный цик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фаз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кращ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серд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,1 секун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фа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кращ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елудоч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,3 секун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фа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е расслаб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ердц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,4 секун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WordArt 14"/>
          <p:cNvSpPr txBox="1"/>
          <p:nvPr/>
        </p:nvSpPr>
        <p:spPr>
          <a:xfrm>
            <a:off x="611280" y="549360"/>
            <a:ext cx="806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а сердц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втоматиз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пособность сердца ритмически сокращаться под влиянием импульсов, возникающих в нем са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Электрокардиограмма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гистрируемые биоэлектрические сигналы от кожи рук, ног и поверхности грудной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кардиограмма"/>
          <p:cNvPicPr/>
          <p:nvPr/>
        </p:nvPicPr>
        <p:blipFill>
          <a:blip r:embed="rId1"/>
          <a:stretch/>
        </p:blipFill>
        <p:spPr>
          <a:xfrm>
            <a:off x="3564000" y="2637000"/>
            <a:ext cx="5164200" cy="2016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1332000" y="18900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prstDash val="dashDot"/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а сердца</a:t>
            </a:r>
            <a:endParaRPr b="0" i="1" lang="en-US" sz="1800" spc="1" strike="noStrike">
              <a:ln w="9360">
                <a:solidFill>
                  <a:srgbClr val="000000"/>
                </a:solidFill>
                <a:prstDash val="dashDot"/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регуляция работы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Organization Chart 15"/>
          <p:cNvGrpSpPr/>
          <p:nvPr/>
        </p:nvGrpSpPr>
        <p:grpSpPr>
          <a:xfrm>
            <a:off x="108000" y="1557360"/>
            <a:ext cx="8710920" cy="4865760"/>
            <a:chOff x="108000" y="1557360"/>
            <a:chExt cx="8710920" cy="48657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149080" y="2817000"/>
              <a:ext cx="973800" cy="23450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2804400" y="2816640"/>
              <a:ext cx="973800" cy="234648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4"/>
            <p:cNvSpPr/>
            <p:nvPr/>
          </p:nvSpPr>
          <p:spPr>
            <a:xfrm>
              <a:off x="2453760" y="1557360"/>
              <a:ext cx="4020480" cy="194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Вегетативная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Нервная систем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5"/>
            <p:cNvSpPr/>
            <p:nvPr/>
          </p:nvSpPr>
          <p:spPr>
            <a:xfrm>
              <a:off x="108000" y="4476960"/>
              <a:ext cx="4020480" cy="194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импатически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тдел 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скоряет работ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ерд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6"/>
            <p:cNvSpPr/>
            <p:nvPr/>
          </p:nvSpPr>
          <p:spPr>
            <a:xfrm>
              <a:off x="4798440" y="4476960"/>
              <a:ext cx="4020480" cy="194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арасимпатиче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тдел 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амедляет работ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ерд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5:14:48Z</dcterms:created>
  <dc:creator>user</dc:creator>
  <dc:description/>
  <dc:language>en-US</dc:language>
  <cp:lastModifiedBy>Пользователь Windows</cp:lastModifiedBy>
  <dcterms:modified xsi:type="dcterms:W3CDTF">2019-01-08T14:03:32Z</dcterms:modified>
  <cp:revision>73</cp:revision>
  <dc:subject/>
  <dc:title>Сердце</dc:title>
</cp:coreProperties>
</file>