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5EB-01B2-48C7-B8DE-81DDAFB4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61F-93A1-4416-AD9B-C973569C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1113-1529-445C-A5D6-EFA9030B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277B-DF79-4F58-92F5-1F04E812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7571-75AC-4C03-A4F4-4A728466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2DE-9EFD-48E1-A71A-2A1C10B3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493-F175-43BE-8F85-15C3EBB7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860-4996-4532-A8F2-97293397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6D9-2F0A-4A30-BB6B-CE0F69C7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8ABE-703E-4198-8AF8-15A5D110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C33-308F-4F69-9CDC-08831312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2FA6-CD69-48F6-8A14-D8B08A03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38A3-3DA0-4324-AFB3-33596ACF00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oja.ru/" TargetMode="External"/><Relationship Id="rId2" Type="http://schemas.openxmlformats.org/officeDocument/2006/relationships/hyperlink" Target="http://www.loja.ru/" TargetMode="External"/><Relationship Id="rId3" Type="http://schemas.openxmlformats.org/officeDocument/2006/relationships/hyperlink" Target="http://www.loja.ru/" TargetMode="External"/><Relationship Id="rId4" Type="http://schemas.openxmlformats.org/officeDocument/2006/relationships/hyperlink" Target="http://www.loja.ru/" TargetMode="External"/><Relationship Id="rId5" Type="http://schemas.openxmlformats.org/officeDocument/2006/relationships/hyperlink" Target="http://www.loja.ru/" TargetMode="External"/><Relationship Id="rId6" Type="http://schemas.openxmlformats.org/officeDocument/2006/relationships/hyperlink" Target="http://www.geiha/" TargetMode="External"/><Relationship Id="rId7" Type="http://schemas.openxmlformats.org/officeDocument/2006/relationships/hyperlink" Target="http://www.geiha/" TargetMode="External"/><Relationship Id="rId8" Type="http://schemas.openxmlformats.org/officeDocument/2006/relationships/hyperlink" Target="http://www.geiha/" TargetMode="External"/><Relationship Id="rId9" Type="http://schemas.openxmlformats.org/officeDocument/2006/relationships/hyperlink" Target="http://www.neurolojist.ru/" TargetMode="External"/><Relationship Id="rId10" Type="http://schemas.openxmlformats.org/officeDocument/2006/relationships/hyperlink" Target="http://www.neurolojist.ru/" TargetMode="External"/><Relationship Id="rId11" Type="http://schemas.openxmlformats.org/officeDocument/2006/relationships/image" Target="../media/image7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4076640"/>
            <a:ext cx="6400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Строение и работа серд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268360" y="2421000"/>
            <a:ext cx="42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cerd"/>
          <p:cNvPicPr/>
          <p:nvPr/>
        </p:nvPicPr>
        <p:blipFill>
          <a:blip r:embed="rId1"/>
          <a:stretch/>
        </p:blipFill>
        <p:spPr>
          <a:xfrm>
            <a:off x="0" y="1197000"/>
            <a:ext cx="2376360" cy="1944720"/>
          </a:xfrm>
          <a:prstGeom prst="rect">
            <a:avLst/>
          </a:prstGeom>
          <a:ln w="0">
            <a:noFill/>
          </a:ln>
        </p:spPr>
      </p:pic>
      <p:sp>
        <p:nvSpPr>
          <p:cNvPr id="44" name="WordArt 10"/>
          <p:cNvSpPr txBox="1"/>
          <p:nvPr/>
        </p:nvSpPr>
        <p:spPr>
          <a:xfrm>
            <a:off x="2050920" y="2205000"/>
            <a:ext cx="61930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ердц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403280" y="260280"/>
            <a:ext cx="67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Средняя общеобразовательная школа № 10» п.Березняки , Сергиево-Посадс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2916360" y="5516640"/>
            <a:ext cx="48956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биологии Березина Г.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U21_09_01"/>
          <p:cNvPicPr/>
          <p:nvPr/>
        </p:nvPicPr>
        <p:blipFill>
          <a:blip r:embed="rId1"/>
          <a:stretch/>
        </p:blipFill>
        <p:spPr>
          <a:xfrm>
            <a:off x="684360" y="907920"/>
            <a:ext cx="6624360" cy="5545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2484360" y="3429000"/>
            <a:ext cx="496728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700360" y="3789360"/>
            <a:ext cx="446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Усилив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окращ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Адрена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Ионы Са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987640" y="1484280"/>
            <a:ext cx="4537080" cy="17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3780000" y="1773360"/>
            <a:ext cx="2304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лабляют сердечную мышц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цетилхо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оны К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6"/>
          <p:cNvSpPr txBox="1"/>
          <p:nvPr/>
        </p:nvSpPr>
        <p:spPr>
          <a:xfrm>
            <a:off x="1187280" y="333360"/>
            <a:ext cx="6193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уморальная регуляц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Неутомимость сердечной мыш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68360" y="476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6"/>
          <p:cNvSpPr/>
          <p:nvPr/>
        </p:nvSpPr>
        <p:spPr>
          <a:xfrm>
            <a:off x="468360" y="1557360"/>
            <a:ext cx="7559640" cy="4680000"/>
          </a:xfrm>
          <a:custGeom>
            <a:avLst/>
            <a:gdLst>
              <a:gd name="textAreaLeft" fmla="*/ 1762920 w 7559640"/>
              <a:gd name="textAreaRight" fmla="*/ 5794920 w 7559640"/>
              <a:gd name="textAreaTop" fmla="*/ 493200 h 4680000"/>
              <a:gd name="textAreaBottom" fmla="*/ 2963520 h 4680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1908000" y="2276640"/>
            <a:ext cx="4751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70 лет – 2,5 млрд . сердечных сокра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остановки на текущий и капитальный ремо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Organization Chart 6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92" name="_s3076"/>
            <p:cNvCxnSpPr>
              <a:stCxn id="93" idx="0"/>
              <a:endCxn id="94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3077"/>
            <p:cNvCxnSpPr>
              <a:stCxn id="96" idx="0"/>
              <a:endCxn id="94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4" name="_s3078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Причины: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3079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66"/>
                  </a:solidFill>
                  <a:latin typeface="Arial"/>
                </a:rPr>
                <a:t>Врожден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ороки разви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080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6600"/>
                  </a:solidFill>
                  <a:latin typeface="Arial"/>
                </a:rPr>
                <a:t>Приобретенны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Гиподинам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Arial"/>
                </a:rPr>
                <a:t>Кур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Алкого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00"/>
                  </a:solidFill>
                  <a:latin typeface="Arial"/>
                </a:rPr>
                <a:t>стрес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WordArt 15"/>
          <p:cNvSpPr txBox="1"/>
          <p:nvPr/>
        </p:nvSpPr>
        <p:spPr>
          <a:xfrm>
            <a:off x="900000" y="260280"/>
            <a:ext cx="7559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лезни сердц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Профилактика заболеваний</a:t>
            </a:r>
            <a:br>
              <a:rPr sz="4000"/>
            </a:b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серд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Если бы мы использовали свой ум и свои ноги больше, а будильник и свой желудок меньше, то мы меньше бы страд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болезней сердца»  (американский ученый Бол Уай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Меры профилакт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Полноценное питание (ограничение жир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Разумная физическая нагру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Борьба со стрес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3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3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200"/>
                            </p:stCondLst>
                            <p:childTnLst>
                              <p:par>
                                <p:cTn id="3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4200"/>
                            </p:stCondLst>
                            <p:childTnLst>
                              <p:par>
                                <p:cTn id="3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1200"/>
                            </p:stCondLst>
                            <p:childTnLst>
                              <p:par>
                                <p:cTn id="3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oja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geih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loji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sit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bl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love271"/>
          <p:cNvPicPr/>
          <p:nvPr/>
        </p:nvPicPr>
        <p:blipFill>
          <a:blip r:embed="rId11"/>
          <a:stretch/>
        </p:blipFill>
        <p:spPr>
          <a:xfrm>
            <a:off x="4067280" y="4797360"/>
            <a:ext cx="1152360" cy="979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love70"/>
          <p:cNvPicPr/>
          <p:nvPr/>
        </p:nvPicPr>
        <p:blipFill>
          <a:blip r:embed="rId12"/>
          <a:stretch/>
        </p:blipFill>
        <p:spPr>
          <a:xfrm>
            <a:off x="6659640" y="4724280"/>
            <a:ext cx="1368360" cy="108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love70"/>
          <p:cNvPicPr/>
          <p:nvPr/>
        </p:nvPicPr>
        <p:blipFill>
          <a:blip r:embed="rId13"/>
          <a:stretch/>
        </p:blipFill>
        <p:spPr>
          <a:xfrm>
            <a:off x="1042920" y="4778280"/>
            <a:ext cx="144144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Цель работы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казать роль сердца в жизни челове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7280" y="2349360"/>
            <a:ext cx="743904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Что такое сердце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 Камень твердый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Яблоко с багрово-красной кожей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Может быть меж ребер и аорт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Бьется шар, на шар Земли похожий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(Э. Межелайти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местоположение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внешним и внутренним строением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 роль автоматизма в работе сердца, роль нервной и гуморальной регуля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причины болезней сердца и профилактики заболе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763640" y="115920"/>
            <a:ext cx="56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чи тем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8186400" y="5721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оложено между правым и левым легким, слегка смещено влево. Удары сердца отчетливо прослушиваются с левой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1"/>
          <p:cNvPicPr/>
          <p:nvPr/>
        </p:nvPicPr>
        <p:blipFill>
          <a:blip r:embed="rId1"/>
          <a:stretch/>
        </p:blipFill>
        <p:spPr>
          <a:xfrm>
            <a:off x="3143160" y="3645000"/>
            <a:ext cx="2857680" cy="2663640"/>
          </a:xfrm>
          <a:prstGeom prst="rect">
            <a:avLst/>
          </a:prstGeom>
          <a:ln w="0">
            <a:noFill/>
          </a:ln>
        </p:spPr>
      </p:pic>
      <p:sp>
        <p:nvSpPr>
          <p:cNvPr id="54" name="WordArt 5"/>
          <p:cNvSpPr txBox="1"/>
          <p:nvPr/>
        </p:nvSpPr>
        <p:spPr>
          <a:xfrm>
            <a:off x="1619280" y="189000"/>
            <a:ext cx="6337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Сердце»- от слова «середина»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7"/>
          <p:cNvSpPr txBox="1"/>
          <p:nvPr/>
        </p:nvSpPr>
        <p:spPr>
          <a:xfrm>
            <a:off x="1619280" y="115920"/>
            <a:ext cx="6337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Сердце»- от слова «середина»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990099"/>
                </a:solidFill>
                <a:latin typeface="Arial"/>
              </a:rPr>
              <a:t>Внешнее стро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56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рдце покрыто снаружи околосердечной сум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3 оболоч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жная -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соединительнотк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яя -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мыше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яя -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эпител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684"/>
          <p:cNvPicPr/>
          <p:nvPr/>
        </p:nvPicPr>
        <p:blipFill>
          <a:blip r:embed="rId1"/>
          <a:stretch/>
        </p:blipFill>
        <p:spPr>
          <a:xfrm>
            <a:off x="6324480" y="1268280"/>
            <a:ext cx="25545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нутреннее 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дце человека полое, четырехкамерное 2предсердия,2желудоч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ворчатые клапаны – между предсердиями и желудоч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лунные клапаны – между желудочками и артер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оль клапанов –препятствовать обратному току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6" descr="str_serdca"/>
          <p:cNvPicPr/>
          <p:nvPr/>
        </p:nvPicPr>
        <p:blipFill>
          <a:blip r:embed="rId1"/>
          <a:stretch/>
        </p:blipFill>
        <p:spPr>
          <a:xfrm>
            <a:off x="1835280" y="2060640"/>
            <a:ext cx="49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3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3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2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3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3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Organization Chart 6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63" name="_s1028"/>
            <p:cNvCxnSpPr>
              <a:stCxn id="64" idx="0"/>
              <a:endCxn id="65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29"/>
            <p:cNvCxnSpPr>
              <a:stCxn id="67" idx="0"/>
              <a:endCxn id="65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30"/>
            <p:cNvCxnSpPr>
              <a:stCxn id="69" idx="0"/>
              <a:endCxn id="65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5" name="_s1031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ердечный цикл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2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 фаз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кращ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едсерд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0,1 секун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3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 фа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краще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Желудочк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0,3 секун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4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3фа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щее расслабл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ердц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0,4 секун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WordArt 14"/>
          <p:cNvSpPr txBox="1"/>
          <p:nvPr/>
        </p:nvSpPr>
        <p:spPr>
          <a:xfrm>
            <a:off x="611280" y="549360"/>
            <a:ext cx="8064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а сердц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Автоматизм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пособность сердца ритмически сокращаться под влиянием импульсов, возникающих в нем сам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Электрокардиограмма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егистрируемые биоэлектрические сигналы от кожи рук, ног и поверхности грудной кле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кардиограмма"/>
          <p:cNvPicPr/>
          <p:nvPr/>
        </p:nvPicPr>
        <p:blipFill>
          <a:blip r:embed="rId1"/>
          <a:stretch/>
        </p:blipFill>
        <p:spPr>
          <a:xfrm>
            <a:off x="3564000" y="2637000"/>
            <a:ext cx="5164200" cy="2016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6"/>
          <p:cNvSpPr txBox="1"/>
          <p:nvPr/>
        </p:nvSpPr>
        <p:spPr>
          <a:xfrm>
            <a:off x="1332000" y="189000"/>
            <a:ext cx="640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prstDash val="dashDot"/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бота сердца</a:t>
            </a:r>
            <a:endParaRPr b="0" i="1" lang="en-US" sz="1800" spc="1" strike="noStrike">
              <a:ln w="9360">
                <a:solidFill>
                  <a:srgbClr val="000000"/>
                </a:solidFill>
                <a:prstDash val="dashDot"/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рвная регуляция работы серд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Organization Chart 15"/>
          <p:cNvGrpSpPr/>
          <p:nvPr/>
        </p:nvGrpSpPr>
        <p:grpSpPr>
          <a:xfrm>
            <a:off x="108000" y="1557360"/>
            <a:ext cx="8710920" cy="4865760"/>
            <a:chOff x="108000" y="1557360"/>
            <a:chExt cx="8710920" cy="4865760"/>
          </a:xfrm>
        </p:grpSpPr>
        <p:cxnSp>
          <p:nvCxnSpPr>
            <p:cNvPr id="76" name="_s2052"/>
            <p:cNvCxnSpPr>
              <a:stCxn id="77" idx="0"/>
              <a:endCxn id="78" idx="2"/>
            </p:cNvCxnSpPr>
            <p:nvPr/>
          </p:nvCxnSpPr>
          <p:spPr>
            <a:xfrm flipV="1" rot="16200000">
              <a:off x="5149080" y="2817000"/>
              <a:ext cx="973800" cy="2345040"/>
            </a:xfrm>
            <a:prstGeom prst="bentConnector3">
              <a:avLst>
                <a:gd name="adj1" fmla="val 127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2053"/>
            <p:cNvCxnSpPr>
              <a:stCxn id="80" idx="0"/>
              <a:endCxn id="78" idx="2"/>
            </p:cNvCxnSpPr>
            <p:nvPr/>
          </p:nvCxnSpPr>
          <p:spPr>
            <a:xfrm flipH="1" flipV="1" rot="5400000">
              <a:off x="2804400" y="2816640"/>
              <a:ext cx="973800" cy="2346480"/>
            </a:xfrm>
            <a:prstGeom prst="bentConnector3">
              <a:avLst>
                <a:gd name="adj1" fmla="val 127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" name="_s2054"/>
            <p:cNvSpPr/>
            <p:nvPr/>
          </p:nvSpPr>
          <p:spPr>
            <a:xfrm>
              <a:off x="2453760" y="1557360"/>
              <a:ext cx="4020480" cy="1946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Вегетативная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Нервная система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55"/>
            <p:cNvSpPr/>
            <p:nvPr/>
          </p:nvSpPr>
          <p:spPr>
            <a:xfrm>
              <a:off x="108000" y="4476960"/>
              <a:ext cx="4020480" cy="1946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импатический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Отдел 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Ускоряет работ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ерд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6"/>
            <p:cNvSpPr/>
            <p:nvPr/>
          </p:nvSpPr>
          <p:spPr>
            <a:xfrm>
              <a:off x="4798440" y="4476960"/>
              <a:ext cx="4020480" cy="1946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Парасимпатически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Отдел 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Замедляет работу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ерд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5:14:48Z</dcterms:created>
  <dc:creator>user</dc:creator>
  <dc:description/>
  <dc:language>en-US</dc:language>
  <cp:lastModifiedBy>Пользователь Windows</cp:lastModifiedBy>
  <dcterms:modified xsi:type="dcterms:W3CDTF">2019-01-08T14:03:32Z</dcterms:modified>
  <cp:revision>73</cp:revision>
  <dc:subject/>
  <dc:title>Сердце</dc:title>
</cp:coreProperties>
</file>