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FD6-AE55-4222-921F-699DDA52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69B-5C62-4109-AA10-4E7B5757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3B5-368F-4294-8670-51368397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A4C-1B9F-4AB5-8B3E-DB6D6D61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59F-9378-4D7F-84B7-73CDD785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CEB0-7493-4A8E-8286-D0D0E5A9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D7FC-75B7-4644-8948-85EA01F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4D3-CDCE-400E-99AC-68CC5B5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EA11-C794-4CEF-BDDD-F2BB9329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033F-DE58-47C5-837F-9909C340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202-9266-4B1A-BE81-591136F2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718-9DE5-40E4-BF91-6003CA6B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13E-5942-4258-A391-818B48F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6141-207A-4BCF-A637-BF92012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9D01-4276-4698-AD3A-C695B2C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5E8C-4D7D-41D4-A18C-9E6E78C8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D282-15FF-49FB-88DA-18481D76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42A-7811-4BBF-BFE5-4256354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7D3-6055-41EC-A1DD-05E36B2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04E-DCD5-4A76-B2AF-16F48C2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D24-513A-42CE-83C8-D92F325A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AE5-661C-4802-BDF8-F554BD1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4C0-37CD-4795-B751-1746464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D12-D18C-48F8-B33F-C8E39F7A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2132-7E75-4770-A0C7-08A72878F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7258-D380-45DA-A649-E18DF3B9F7F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d58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63640" y="1945800"/>
            <a:ext cx="6694560" cy="24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MV Boli"/>
              </a:rPr>
              <a:t>ТЕХНОЛОГИЯ КРИТИЧЕСКОГО МЫШЛЕНИЯ НА УРОКАХ ОКРУЖАЮЩЕГО МИРА В НАЧАЛЬНОЙ 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40000" y="566064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оставила учитель начальных классов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ажнова А.В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0120" y="-15732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00120" y="620640"/>
            <a:ext cx="7491600" cy="56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Rounded MT Bold"/>
              </a:rPr>
              <a:t>Пометки должны быть следующие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галочка»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в тексте информация, которая уже известна ученику. Он ранее с ней познакомился. При этом источник информации и степень достоверности ее не имеет значе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плюс»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новое знание, новая информация. Ученик ставит этот знак только в том случае, если он впервые встречается с прочитанным тексто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минус»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то, что идет вразрез с имеющимися у ученика представлениями, о чем он думал инач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аком «вопрос»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) отмечается то, что осталось непонятным ученику и требует дополнительных сведений, вызывает желание узнать подробне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6520" y="260280"/>
            <a:ext cx="628668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mist"/>
              </a:rPr>
              <a:t>Вопросы на установление причинно – следственных связей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стые вопросы – вопросы, отвечая на которые нужно назвать какие-то факты, вспомнить и воспроизвести определённую информацию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терпретационные (уточняющие) вопросы – обычно начинаются со слова «почему?». Они направлены на установление причинно - следственных связ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ценочные вопросы – эти вопросы на выяснение критериев оценки тех или иных событий, явлений, факт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ворческие вопросы – если в вопросе есть частица «бы», элементы условности, предположения, прогноз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042920" y="1844640"/>
          <a:ext cx="7056360" cy="2521080"/>
        </p:xfrm>
        <a:graphic>
          <a:graphicData uri="http://schemas.openxmlformats.org/drawingml/2006/table">
            <a:tbl>
              <a:tblPr/>
              <a:tblGrid>
                <a:gridCol w="2367000"/>
                <a:gridCol w="2214720"/>
                <a:gridCol w="247464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ba"/>
                    </a:solidFill>
                  </a:tcPr>
                </a:tc>
              </a:tr>
              <a:tr h="20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ервые люди жили стаей, затем общинами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Чтобы добыть себе питание люди кочевали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де появились первые люди?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ак люди заселили нашу Земля?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чему сейчас люди не кочуют?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999933"/>
                        </a:buClr>
                        <a:buFont typeface="Times New Roman"/>
                        <a:buChar char="•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Ответы на поставленные вопросы учащиеся находят в тексте учебника в течение урока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9933"/>
                        </a:buClr>
                        <a:buFont typeface="Times New Roman"/>
                        <a:buChar char="•"/>
                        <a:tabLst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Если нет ответа на поставленный вопрос – работа продолжается дома.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6769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Использование технологии развития критического мышления позволило достичь следующих результа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зменить отношение детей к уроку (после изучения какого-либо материала ученики идут в библиотеку и продолжают самостоятельно искать ответы на интересующие их вопросы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вить положительное отношение к заданиям творческого и проблемно-поискового характера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зменить у учащихся отношение к собственным ошибкам и затруднениям, возникающим в ходе работы (они стали восприниматься ими более спокойно, возросло умение преодолевать трудности, доводить начатую работу до конца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отивировать учащихся к дальнейшей деятельности (они учатся рефлексировать свою деятельность и развивают коммуникативную культуру)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здать атмосферу доверия, сотрудничества в системе «учитель-ученик - класс», выработать осознанное отношение к индивидуальной, групповой и коллективной деятельности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66"/>
                </a:solidFill>
                <a:latin typeface="MV Boli"/>
              </a:rPr>
              <a:t>ТЕХНОЛОГИЯ КРИТИЧЕСКОГО МЫШЛЕНИЯ В НАЧАЛЬНОЙ 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5442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00120" y="1550880"/>
            <a:ext cx="74916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Arial Rounded MT Bold"/>
              </a:rPr>
              <a:t>Благодарим за внимание.</a:t>
            </a:r>
            <a:endParaRPr b="1" lang="en-US" sz="6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0920" y="180000"/>
            <a:ext cx="7480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Bookman Old Style"/>
              </a:rPr>
              <a:t>Критическое мышл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66ff"/>
                </a:solidFill>
                <a:latin typeface="Anim5"/>
              </a:rPr>
              <a:t>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360" y="431280"/>
            <a:ext cx="7005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gency FB"/>
              </a:rPr>
              <a:t>Акценты целей технологии критического мыш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 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1. Формирование нового стиля мышления, для которого характерны открытость, гибкость, рефлексивность, осознание внутренней многозначности позиции и точек зрения, альтернативности принимаемых решений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 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2.  Развитие таких базовых качеств личности, как критическое мышление, рефлексивность, коммуникативность, креативность, мобильность, самостоятельность, толерантность, ответственность за собственный выбор и результаты своей деятельност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    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3.  Развитие аналитического, критического мышления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4. Формирование культуры чтения, включающей в себя умение ориентироваться в источниках информации, пользоваться разными стратегиями чтения, адекватно понимать прочитанное, сортировать информацию с точки зрения ее важности, «отсеивать» второстепенную, критически оценивать новые знания, делать выводы и обобщения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    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5. Стимулирование самостоятельной поисковой творческой деятельности, запуск механизмов самообразования и самоорганизации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66"/>
                </a:solidFill>
                <a:latin typeface="Times New Roman"/>
              </a:rPr>
              <a:t>Особенности концептуал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Не объем знаний или количество информации является целью образования, а то, как ученик умеет управлять этой информацией: искать, наилучшим способом присваивать, находить в ней смысл, применять в жизн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Не присвоение «готового» знания, а конструирование своего, которое рождается в процессе обучения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Коммуникативно-деятельный принцип обучения, предусматривающий диалоговый, интерактивный режим занятий, совместный поиск решения проблем, а также «партнерские» отношения между педагогом и обучаемым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Умение мыслить критически – это не выискивание недостатков, а объективная оценка положительных и отрицательных сторон в познаваемом объекте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- Простые и чрезмерные обобщения, стереотипные слова, клише, штампы, неподтверждённые предположения не всегда точны и могут вести к формированию стереотипов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9680" y="365760"/>
            <a:ext cx="606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Organization Chart 6"/>
          <p:cNvGrpSpPr/>
          <p:nvPr/>
        </p:nvGrpSpPr>
        <p:grpSpPr>
          <a:xfrm>
            <a:off x="395280" y="765000"/>
            <a:ext cx="8208360" cy="5112000"/>
            <a:chOff x="395280" y="765000"/>
            <a:chExt cx="8208360" cy="5112000"/>
          </a:xfrm>
        </p:grpSpPr>
        <p:cxnSp>
          <p:nvCxnSpPr>
            <p:cNvPr id="172" name="_s1028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424480" y="1883880"/>
              <a:ext cx="1023120" cy="2873520"/>
            </a:xfrm>
            <a:prstGeom prst="bentConnector3">
              <a:avLst>
                <a:gd name="adj1" fmla="val 12777"/>
              </a:avLst>
            </a:prstGeom>
            <a:ln w="28440">
              <a:solidFill>
                <a:srgbClr val="333300"/>
              </a:solidFill>
              <a:miter/>
            </a:ln>
          </p:spPr>
        </p:cxnSp>
        <p:cxnSp>
          <p:nvCxnSpPr>
            <p:cNvPr id="175" name="_s1029"/>
            <p:cNvCxnSpPr>
              <a:stCxn id="176" idx="0"/>
              <a:endCxn id="174" idx="2"/>
            </p:cNvCxnSpPr>
            <p:nvPr/>
          </p:nvCxnSpPr>
          <p:spPr>
            <a:xfrm flipV="1">
              <a:off x="4499640" y="2809440"/>
              <a:ext cx="3600" cy="1023120"/>
            </a:xfrm>
            <a:prstGeom prst="bentConnector2">
              <a:avLst/>
            </a:prstGeom>
            <a:ln w="28440">
              <a:solidFill>
                <a:srgbClr val="333300"/>
              </a:solidFill>
              <a:miter/>
            </a:ln>
          </p:spPr>
        </p:cxnSp>
        <p:cxnSp>
          <p:nvCxnSpPr>
            <p:cNvPr id="177" name="_s103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2551320" y="1884240"/>
              <a:ext cx="1023120" cy="2873520"/>
            </a:xfrm>
            <a:prstGeom prst="bentConnector3">
              <a:avLst>
                <a:gd name="adj1" fmla="val 12777"/>
              </a:avLst>
            </a:prstGeom>
            <a:ln w="28440">
              <a:solidFill>
                <a:srgbClr val="333300"/>
              </a:solidFill>
              <a:miter/>
            </a:ln>
          </p:spPr>
        </p:cxnSp>
        <p:sp>
          <p:nvSpPr>
            <p:cNvPr id="174" name="_s1031"/>
            <p:cNvSpPr/>
            <p:nvPr/>
          </p:nvSpPr>
          <p:spPr>
            <a:xfrm>
              <a:off x="3268080" y="7650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cc"/>
                  </a:solidFill>
                  <a:latin typeface="Arial Unicode MS"/>
                </a:rPr>
                <a:t>Технологические </a:t>
              </a:r>
              <a:endParaRPr b="0" lang="en-US" sz="21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33cc"/>
                  </a:solidFill>
                  <a:latin typeface="Arial Unicode MS"/>
                </a:rPr>
                <a:t>этапы</a:t>
              </a:r>
              <a:endParaRPr b="0" lang="en-US" sz="21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8" name="_s1032"/>
            <p:cNvSpPr/>
            <p:nvPr/>
          </p:nvSpPr>
          <p:spPr>
            <a:xfrm>
              <a:off x="395280" y="38322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1 фаз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Вызов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Задачи: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робуждение имеющихс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знаний и интереса к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олучению новой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нформации; помочь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учащимся самим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определить направление в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зучении темы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333300"/>
                  </a:solidFill>
                  <a:uFillTx/>
                  <a:latin typeface="Arial Unicode MS"/>
                </a:rPr>
                <a:t> </a:t>
              </a:r>
              <a:endParaRPr b="0" lang="en-US" sz="21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6" name="_s1033"/>
            <p:cNvSpPr/>
            <p:nvPr/>
          </p:nvSpPr>
          <p:spPr>
            <a:xfrm>
              <a:off x="3268080" y="38322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2 фаз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Реализация смысл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Задачи: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омочь активно 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воспринимать изучаемый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материал и соотнести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старые знания с новыми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3" name="_s1034"/>
            <p:cNvSpPr/>
            <p:nvPr/>
          </p:nvSpPr>
          <p:spPr>
            <a:xfrm>
              <a:off x="6141240" y="3832200"/>
              <a:ext cx="2462400" cy="2044800"/>
            </a:xfrm>
            <a:prstGeom prst="roundRect">
              <a:avLst>
                <a:gd name="adj" fmla="val 16667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3 фаз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Рефлекси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cc"/>
                  </a:solidFill>
                  <a:uFillTx/>
                  <a:latin typeface="Arial Unicode MS"/>
                </a:rPr>
                <a:t>Задачи: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Помочь учащимс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самостоятельно обобщить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зученный материал и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самостоятельно определить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направления в дальнейшем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 Unicode MS"/>
                </a:rPr>
                <a:t>изучении материала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cc00"/>
                </a:solidFill>
                <a:latin typeface="Times New Roman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1332000" y="1484280"/>
            <a:ext cx="6480000" cy="4105080"/>
            <a:chOff x="1332000" y="1484280"/>
            <a:chExt cx="6480000" cy="4105080"/>
          </a:xfrm>
        </p:grpSpPr>
        <p:sp>
          <p:nvSpPr>
            <p:cNvPr id="182" name="Oval 5"/>
            <p:cNvSpPr/>
            <p:nvPr/>
          </p:nvSpPr>
          <p:spPr>
            <a:xfrm>
              <a:off x="3664080" y="2808720"/>
              <a:ext cx="142524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00"/>
                  </a:solidFill>
                  <a:latin typeface="Arial Unicode MS"/>
                </a:rPr>
                <a:t>рыбы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1721160" y="4000320"/>
              <a:ext cx="1684080" cy="66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размножение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4" name="Oval 7"/>
            <p:cNvSpPr/>
            <p:nvPr/>
          </p:nvSpPr>
          <p:spPr>
            <a:xfrm>
              <a:off x="4960080" y="3470760"/>
              <a:ext cx="142524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Среда обитания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5089680" y="2278440"/>
              <a:ext cx="1425240" cy="66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питание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" name="Oval 9"/>
            <p:cNvSpPr/>
            <p:nvPr/>
          </p:nvSpPr>
          <p:spPr>
            <a:xfrm>
              <a:off x="1591560" y="1881360"/>
              <a:ext cx="14245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00"/>
                  </a:solidFill>
                  <a:latin typeface="Arial Unicode MS"/>
                </a:rPr>
                <a:t>строение</a:t>
              </a:r>
              <a:endParaRPr b="0" lang="en-US" sz="12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4053240" y="5059440"/>
              <a:ext cx="103716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моря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4572000" y="4397400"/>
              <a:ext cx="1036080" cy="53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океаны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5478840" y="5059440"/>
              <a:ext cx="103608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реки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6645240" y="4927320"/>
              <a:ext cx="103500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озёр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256440" y="4132080"/>
              <a:ext cx="103608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Пресн. вод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Oval 15"/>
            <p:cNvSpPr/>
            <p:nvPr/>
          </p:nvSpPr>
          <p:spPr>
            <a:xfrm>
              <a:off x="6385680" y="294084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Морские существ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6774840" y="2146320"/>
              <a:ext cx="103716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рыб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Oval 17"/>
            <p:cNvSpPr/>
            <p:nvPr/>
          </p:nvSpPr>
          <p:spPr>
            <a:xfrm>
              <a:off x="5737680" y="148428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Китовая акул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4441320" y="1617120"/>
              <a:ext cx="103788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планктон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Oval 19"/>
            <p:cNvSpPr/>
            <p:nvPr/>
          </p:nvSpPr>
          <p:spPr>
            <a:xfrm>
              <a:off x="2757240" y="4794480"/>
              <a:ext cx="116640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Живородящие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7" name="Oval 20"/>
            <p:cNvSpPr/>
            <p:nvPr/>
          </p:nvSpPr>
          <p:spPr>
            <a:xfrm>
              <a:off x="1461240" y="4794480"/>
              <a:ext cx="103788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икр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2498400" y="3205800"/>
              <a:ext cx="1037160" cy="52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чешуйки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Oval 22"/>
            <p:cNvSpPr/>
            <p:nvPr/>
          </p:nvSpPr>
          <p:spPr>
            <a:xfrm>
              <a:off x="1332000" y="3470760"/>
              <a:ext cx="1037160" cy="53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гладкая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0" name="Oval 23"/>
            <p:cNvSpPr/>
            <p:nvPr/>
          </p:nvSpPr>
          <p:spPr>
            <a:xfrm>
              <a:off x="1332000" y="2676600"/>
              <a:ext cx="1296000" cy="66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Узкая форм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" name="Oval 24"/>
            <p:cNvSpPr/>
            <p:nvPr/>
          </p:nvSpPr>
          <p:spPr>
            <a:xfrm>
              <a:off x="2886480" y="148428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Дыхание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жабры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" name="Oval 25"/>
            <p:cNvSpPr/>
            <p:nvPr/>
          </p:nvSpPr>
          <p:spPr>
            <a:xfrm>
              <a:off x="3664080" y="3868200"/>
              <a:ext cx="103716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Сол. вода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 flipH="1">
              <a:off x="4572000" y="3868200"/>
              <a:ext cx="388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385680" y="3868200"/>
              <a:ext cx="2595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>
              <a:off x="4182840" y="4530240"/>
              <a:ext cx="12924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4701240" y="4265280"/>
              <a:ext cx="129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" name="Line 30"/>
            <p:cNvSpPr/>
            <p:nvPr/>
          </p:nvSpPr>
          <p:spPr>
            <a:xfrm flipH="1">
              <a:off x="6126840" y="4662360"/>
              <a:ext cx="25848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7162920" y="466236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Line 32"/>
            <p:cNvSpPr/>
            <p:nvPr/>
          </p:nvSpPr>
          <p:spPr>
            <a:xfrm flipH="1" flipV="1">
              <a:off x="2886480" y="2411280"/>
              <a:ext cx="90792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Line 33"/>
            <p:cNvSpPr/>
            <p:nvPr/>
          </p:nvSpPr>
          <p:spPr>
            <a:xfrm flipV="1">
              <a:off x="4701240" y="2676600"/>
              <a:ext cx="388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Line 34"/>
            <p:cNvSpPr/>
            <p:nvPr/>
          </p:nvSpPr>
          <p:spPr>
            <a:xfrm flipH="1">
              <a:off x="3146400" y="3337920"/>
              <a:ext cx="64800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4960080" y="333792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Line 36"/>
            <p:cNvSpPr/>
            <p:nvPr/>
          </p:nvSpPr>
          <p:spPr>
            <a:xfrm flipH="1" flipV="1">
              <a:off x="5089320" y="2146320"/>
              <a:ext cx="1299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Line 37"/>
            <p:cNvSpPr/>
            <p:nvPr/>
          </p:nvSpPr>
          <p:spPr>
            <a:xfrm>
              <a:off x="5478840" y="17492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Line 38"/>
            <p:cNvSpPr/>
            <p:nvPr/>
          </p:nvSpPr>
          <p:spPr>
            <a:xfrm>
              <a:off x="6774840" y="1881360"/>
              <a:ext cx="2588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6" name="Line 39"/>
            <p:cNvSpPr/>
            <p:nvPr/>
          </p:nvSpPr>
          <p:spPr>
            <a:xfrm flipV="1">
              <a:off x="6514920" y="2411640"/>
              <a:ext cx="2595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7" name="Line 40"/>
            <p:cNvSpPr/>
            <p:nvPr/>
          </p:nvSpPr>
          <p:spPr>
            <a:xfrm>
              <a:off x="6385680" y="280872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8" name="Line 41"/>
            <p:cNvSpPr/>
            <p:nvPr/>
          </p:nvSpPr>
          <p:spPr>
            <a:xfrm>
              <a:off x="3017160" y="2279520"/>
              <a:ext cx="2072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Line 42"/>
            <p:cNvSpPr/>
            <p:nvPr/>
          </p:nvSpPr>
          <p:spPr>
            <a:xfrm>
              <a:off x="5868000" y="2940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0" name="Line 43"/>
            <p:cNvSpPr/>
            <p:nvPr/>
          </p:nvSpPr>
          <p:spPr>
            <a:xfrm flipV="1">
              <a:off x="2498400" y="1749240"/>
              <a:ext cx="388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1" name="Line 44"/>
            <p:cNvSpPr/>
            <p:nvPr/>
          </p:nvSpPr>
          <p:spPr>
            <a:xfrm flipH="1">
              <a:off x="2498040" y="2543400"/>
              <a:ext cx="1292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2" name="Line 45"/>
            <p:cNvSpPr/>
            <p:nvPr/>
          </p:nvSpPr>
          <p:spPr>
            <a:xfrm>
              <a:off x="1461240" y="3205800"/>
              <a:ext cx="1299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3" name="Line 46"/>
            <p:cNvSpPr/>
            <p:nvPr/>
          </p:nvSpPr>
          <p:spPr>
            <a:xfrm>
              <a:off x="2628000" y="3073680"/>
              <a:ext cx="129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4" name="Line 47"/>
            <p:cNvSpPr/>
            <p:nvPr/>
          </p:nvSpPr>
          <p:spPr>
            <a:xfrm flipV="1">
              <a:off x="2757240" y="3735720"/>
              <a:ext cx="220248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5" name="Line 48"/>
            <p:cNvSpPr/>
            <p:nvPr/>
          </p:nvSpPr>
          <p:spPr>
            <a:xfrm>
              <a:off x="1980000" y="45302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6" name="Line 49"/>
            <p:cNvSpPr/>
            <p:nvPr/>
          </p:nvSpPr>
          <p:spPr>
            <a:xfrm>
              <a:off x="3017160" y="4662360"/>
              <a:ext cx="1292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7" name="Line 50"/>
            <p:cNvSpPr/>
            <p:nvPr/>
          </p:nvSpPr>
          <p:spPr>
            <a:xfrm>
              <a:off x="3017160" y="2146320"/>
              <a:ext cx="2590920" cy="13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49680" y="676800"/>
            <a:ext cx="606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521000" y="1700280"/>
            <a:ext cx="5427000" cy="3241080"/>
            <a:chOff x="1521000" y="1700280"/>
            <a:chExt cx="5427000" cy="3241080"/>
          </a:xfrm>
        </p:grpSpPr>
        <p:sp>
          <p:nvSpPr>
            <p:cNvPr id="231" name="Oval 5"/>
            <p:cNvSpPr/>
            <p:nvPr/>
          </p:nvSpPr>
          <p:spPr>
            <a:xfrm>
              <a:off x="1521000" y="2531520"/>
              <a:ext cx="1058760" cy="59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3300"/>
                  </a:solidFill>
                  <a:latin typeface="Arial Unicode MS"/>
                </a:rPr>
                <a:t>горы</a:t>
              </a:r>
              <a:endParaRPr b="0" lang="en-US" sz="1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32" name="Group 6"/>
            <p:cNvGrpSpPr/>
            <p:nvPr/>
          </p:nvGrpSpPr>
          <p:grpSpPr>
            <a:xfrm>
              <a:off x="1653120" y="1700280"/>
              <a:ext cx="5294880" cy="3241080"/>
              <a:chOff x="1653120" y="1700280"/>
              <a:chExt cx="5294880" cy="3241080"/>
            </a:xfrm>
          </p:grpSpPr>
          <p:sp>
            <p:nvSpPr>
              <p:cNvPr id="233" name="Line 7"/>
              <p:cNvSpPr/>
              <p:nvPr/>
            </p:nvSpPr>
            <p:spPr>
              <a:xfrm flipH="1">
                <a:off x="3506760" y="1977480"/>
                <a:ext cx="26424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830840" y="1977480"/>
                <a:ext cx="26424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H="1">
                <a:off x="2447280" y="2531160"/>
                <a:ext cx="3974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H="1">
                <a:off x="2447280" y="2531160"/>
                <a:ext cx="397440" cy="83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 flipH="1">
                <a:off x="5095080" y="2669400"/>
                <a:ext cx="264240" cy="83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 flipH="1">
                <a:off x="4830840" y="4055760"/>
                <a:ext cx="720" cy="27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9" name="Line 13"/>
              <p:cNvSpPr/>
              <p:nvPr/>
            </p:nvSpPr>
            <p:spPr>
              <a:xfrm flipH="1">
                <a:off x="3771360" y="3224520"/>
                <a:ext cx="661680" cy="124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2580120" y="2946960"/>
                <a:ext cx="1323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 flipH="1">
                <a:off x="2712240" y="3086280"/>
                <a:ext cx="119052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 flipV="1">
                <a:off x="2712600" y="3777840"/>
                <a:ext cx="17197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3" name="Oval 17"/>
              <p:cNvSpPr/>
              <p:nvPr/>
            </p:nvSpPr>
            <p:spPr>
              <a:xfrm>
                <a:off x="4830840" y="2115720"/>
                <a:ext cx="105624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Значение рельефа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4" name="Line 18"/>
              <p:cNvSpPr/>
              <p:nvPr/>
            </p:nvSpPr>
            <p:spPr>
              <a:xfrm flipH="1">
                <a:off x="4565160" y="2531160"/>
                <a:ext cx="26532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 flipV="1">
                <a:off x="5095080" y="3501360"/>
                <a:ext cx="529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6" name="Line 20"/>
              <p:cNvSpPr/>
              <p:nvPr/>
            </p:nvSpPr>
            <p:spPr>
              <a:xfrm>
                <a:off x="5491800" y="3917520"/>
                <a:ext cx="26496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7" name="Oval 21"/>
              <p:cNvSpPr/>
              <p:nvPr/>
            </p:nvSpPr>
            <p:spPr>
              <a:xfrm>
                <a:off x="2580120" y="1977480"/>
                <a:ext cx="105768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Форма рельефа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8" name="Oval 22"/>
              <p:cNvSpPr/>
              <p:nvPr/>
            </p:nvSpPr>
            <p:spPr>
              <a:xfrm>
                <a:off x="3771360" y="1700280"/>
                <a:ext cx="1059480" cy="59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Рельеф Земли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9" name="Oval 23"/>
              <p:cNvSpPr/>
              <p:nvPr/>
            </p:nvSpPr>
            <p:spPr>
              <a:xfrm>
                <a:off x="3903120" y="2670480"/>
                <a:ext cx="105948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Для природы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0" name="Oval 24"/>
              <p:cNvSpPr/>
              <p:nvPr/>
            </p:nvSpPr>
            <p:spPr>
              <a:xfrm>
                <a:off x="1653120" y="3375360"/>
                <a:ext cx="1059480" cy="59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равнины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1" name="Oval 25"/>
              <p:cNvSpPr/>
              <p:nvPr/>
            </p:nvSpPr>
            <p:spPr>
              <a:xfrm>
                <a:off x="5625000" y="3224520"/>
                <a:ext cx="132300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Земледелие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2" name="Oval 26"/>
              <p:cNvSpPr/>
              <p:nvPr/>
            </p:nvSpPr>
            <p:spPr>
              <a:xfrm>
                <a:off x="4433040" y="3501720"/>
                <a:ext cx="1058400" cy="59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Для людей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3" name="Oval 27"/>
              <p:cNvSpPr/>
              <p:nvPr/>
            </p:nvSpPr>
            <p:spPr>
              <a:xfrm>
                <a:off x="2844720" y="4345920"/>
                <a:ext cx="105840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Течение рек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4" name="Oval 28"/>
              <p:cNvSpPr/>
              <p:nvPr/>
            </p:nvSpPr>
            <p:spPr>
              <a:xfrm>
                <a:off x="4168800" y="4345920"/>
                <a:ext cx="119088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Выпас животных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5" name="Oval 29"/>
              <p:cNvSpPr/>
              <p:nvPr/>
            </p:nvSpPr>
            <p:spPr>
              <a:xfrm>
                <a:off x="5625000" y="3917520"/>
                <a:ext cx="1323000" cy="59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3300"/>
                    </a:solidFill>
                    <a:latin typeface="Arial Unicode MS"/>
                  </a:rPr>
                  <a:t>Расселение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1258920" y="2060640"/>
            <a:ext cx="6626160" cy="3456000"/>
            <a:chOff x="1258920" y="2060640"/>
            <a:chExt cx="6626160" cy="3456000"/>
          </a:xfrm>
        </p:grpSpPr>
        <p:sp>
          <p:nvSpPr>
            <p:cNvPr id="259" name="AutoShape 5"/>
            <p:cNvSpPr/>
            <p:nvPr/>
          </p:nvSpPr>
          <p:spPr>
            <a:xfrm>
              <a:off x="1258920" y="2060640"/>
              <a:ext cx="662616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60" name="Group 6"/>
            <p:cNvGrpSpPr/>
            <p:nvPr/>
          </p:nvGrpSpPr>
          <p:grpSpPr>
            <a:xfrm>
              <a:off x="1388520" y="2171520"/>
              <a:ext cx="5846400" cy="3009960"/>
              <a:chOff x="1388520" y="2171520"/>
              <a:chExt cx="5846400" cy="3009960"/>
            </a:xfrm>
          </p:grpSpPr>
          <p:sp>
            <p:nvSpPr>
              <p:cNvPr id="261" name="Oval 7"/>
              <p:cNvSpPr/>
              <p:nvPr/>
            </p:nvSpPr>
            <p:spPr>
              <a:xfrm>
                <a:off x="4246920" y="3286440"/>
                <a:ext cx="1429200" cy="55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Группы растений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2" name="Oval 8"/>
              <p:cNvSpPr/>
              <p:nvPr/>
            </p:nvSpPr>
            <p:spPr>
              <a:xfrm>
                <a:off x="2167920" y="4178520"/>
                <a:ext cx="1558800" cy="44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нецвету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3" name="Oval 9"/>
              <p:cNvSpPr/>
              <p:nvPr/>
            </p:nvSpPr>
            <p:spPr>
              <a:xfrm>
                <a:off x="2167920" y="3063240"/>
                <a:ext cx="1299600" cy="44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цвету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4" name="Oval 10"/>
              <p:cNvSpPr/>
              <p:nvPr/>
            </p:nvSpPr>
            <p:spPr>
              <a:xfrm>
                <a:off x="3337560" y="3732120"/>
                <a:ext cx="1040760" cy="44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травы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5" name="Oval 11"/>
              <p:cNvSpPr/>
              <p:nvPr/>
            </p:nvSpPr>
            <p:spPr>
              <a:xfrm>
                <a:off x="1388520" y="3621240"/>
                <a:ext cx="1819440" cy="44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лекарственны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6" name="Oval 12"/>
              <p:cNvSpPr/>
              <p:nvPr/>
            </p:nvSpPr>
            <p:spPr>
              <a:xfrm>
                <a:off x="5676120" y="4736160"/>
                <a:ext cx="1558800" cy="44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лиственны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7" name="Oval 13"/>
              <p:cNvSpPr/>
              <p:nvPr/>
            </p:nvSpPr>
            <p:spPr>
              <a:xfrm>
                <a:off x="5935680" y="3397680"/>
                <a:ext cx="1170360" cy="445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хвойны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8" name="Oval 14"/>
              <p:cNvSpPr/>
              <p:nvPr/>
            </p:nvSpPr>
            <p:spPr>
              <a:xfrm>
                <a:off x="5156280" y="4066560"/>
                <a:ext cx="1169640" cy="447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деревья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9" name="Oval 15"/>
              <p:cNvSpPr/>
              <p:nvPr/>
            </p:nvSpPr>
            <p:spPr>
              <a:xfrm>
                <a:off x="2558160" y="2171520"/>
                <a:ext cx="1819440" cy="44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плодонося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0" name="Oval 16"/>
              <p:cNvSpPr/>
              <p:nvPr/>
            </p:nvSpPr>
            <p:spPr>
              <a:xfrm>
                <a:off x="5935680" y="2283480"/>
                <a:ext cx="1299240" cy="44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цветущие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1" name="Oval 17"/>
              <p:cNvSpPr/>
              <p:nvPr/>
            </p:nvSpPr>
            <p:spPr>
              <a:xfrm>
                <a:off x="4506480" y="2505960"/>
                <a:ext cx="1429200" cy="55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333300"/>
                    </a:solidFill>
                    <a:latin typeface="Arial Unicode MS"/>
                  </a:rPr>
                  <a:t>кустарники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2" name="Line 18"/>
              <p:cNvSpPr/>
              <p:nvPr/>
            </p:nvSpPr>
            <p:spPr>
              <a:xfrm flipV="1">
                <a:off x="5026680" y="30628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3" name="Line 19"/>
              <p:cNvSpPr/>
              <p:nvPr/>
            </p:nvSpPr>
            <p:spPr>
              <a:xfrm>
                <a:off x="5546520" y="3732120"/>
                <a:ext cx="129600" cy="33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4" name="Line 20"/>
              <p:cNvSpPr/>
              <p:nvPr/>
            </p:nvSpPr>
            <p:spPr>
              <a:xfrm flipH="1">
                <a:off x="3987000" y="3621240"/>
                <a:ext cx="2595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5" name="Line 21"/>
              <p:cNvSpPr/>
              <p:nvPr/>
            </p:nvSpPr>
            <p:spPr>
              <a:xfrm flipH="1" flipV="1">
                <a:off x="4246920" y="2505600"/>
                <a:ext cx="2592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6" name="Line 22"/>
              <p:cNvSpPr/>
              <p:nvPr/>
            </p:nvSpPr>
            <p:spPr>
              <a:xfrm flipV="1">
                <a:off x="5935680" y="2617920"/>
                <a:ext cx="13032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7" name="Line 23"/>
              <p:cNvSpPr/>
              <p:nvPr/>
            </p:nvSpPr>
            <p:spPr>
              <a:xfrm flipV="1">
                <a:off x="6066360" y="3843720"/>
                <a:ext cx="12960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8" name="Line 24"/>
              <p:cNvSpPr/>
              <p:nvPr/>
            </p:nvSpPr>
            <p:spPr>
              <a:xfrm>
                <a:off x="6066360" y="4512960"/>
                <a:ext cx="1296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9" name="Line 25"/>
              <p:cNvSpPr/>
              <p:nvPr/>
            </p:nvSpPr>
            <p:spPr>
              <a:xfrm flipH="1">
                <a:off x="3207960" y="4066560"/>
                <a:ext cx="129600" cy="11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0" name="Line 26"/>
              <p:cNvSpPr/>
              <p:nvPr/>
            </p:nvSpPr>
            <p:spPr>
              <a:xfrm flipH="1" flipV="1">
                <a:off x="3337200" y="3397320"/>
                <a:ext cx="25956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 flipH="1">
                <a:off x="2038320" y="3397680"/>
                <a:ext cx="12960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2" name="Line 28"/>
              <p:cNvSpPr/>
              <p:nvPr/>
            </p:nvSpPr>
            <p:spPr>
              <a:xfrm>
                <a:off x="2038320" y="4066560"/>
                <a:ext cx="2592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strips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33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784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 изучения темы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тение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лёное, большо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тёт, цветёт, пахне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стений очень много вокруг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асиво!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сле изучения темы –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астени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лёное, многообразно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ождается, дышит, питаетс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астения заселяют нашу планету Земл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Жизнь!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13240" y="1523520"/>
            <a:ext cx="36784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 изучения темы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мл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льшая, кругла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етает, радует, живё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мля наш общий до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р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сле изучения темы -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мл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расивая, голубая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Вращается, притягивает, живё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емля планета Солнечной систем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бщий до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72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64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216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88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412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2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35:57Z</dcterms:created>
  <dc:creator>*</dc:creator>
  <dc:description/>
  <dc:language>en-US</dc:language>
  <cp:lastModifiedBy>татьяна зубкова</cp:lastModifiedBy>
  <dcterms:modified xsi:type="dcterms:W3CDTF">2018-11-19T17:17:43Z</dcterms:modified>
  <cp:revision>10</cp:revision>
  <dc:subject/>
  <dc:title>Акценты целей технологии критического мышления</dc:title>
</cp:coreProperties>
</file>