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092-BE75-4A2D-BCA8-CA6F7C0C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A97-A57E-409E-9D0D-0F5FE3F6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EFC-3F88-422B-A45E-D5968040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662-C94E-40D2-B81D-18C4B024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BC9-1309-4ED2-A8CA-D3565712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A3A-ADB0-4B53-AF9C-D540FBCF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6E4-BAD1-42A5-BAC4-AC796031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E74-9364-43E5-9C08-4DAF619F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56F-4602-4E9E-8E44-0E6D66D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DE9-9E43-4A68-87AA-6A123A78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780-4722-4AB6-A294-ABF08DA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48B-08A1-44FE-87DB-BAD87AF9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1822-9769-455E-9718-EB450282FB2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945A-1EEE-42D3-B442-818D1E258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22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A99E-4FD8-4D2C-9E3C-C1F8F9CA2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242064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хнология проектирования рабочей программы                                                    в условиях в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ГОС О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руктура и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че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нительная записка, в которой конкретизируются общие цели соответствующего уровня общего образования с учетом специфики учебного предмета, ку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характеристика учебного предмета, ку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места учебного предмета, курса в учебном пл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ценностных ориенти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ые, метапредметные и предметные результаты освоения конкретного учебного предмета, ку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учебного предмета, ку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ое/календарно-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учебно-методического и материально-технического обеспечения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FAB5-0EA0-4BCC-ADFF-D3AD86A50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уктура и содержа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бочей программы</a:t>
            </a: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едметам обязательной части учебного плана, по учебным предметам и/или курсам части учебного плана, формируемой участниками образовательного процесса, и/или национально-регионального компонента и компонента образовательного учре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освоения конкретного учебного предмета, курса (требования к уровню подготовк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тематический п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тем учебного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ое/календарно-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учебно-методического и материально-технического обеспечения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ложения к программ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нтрольные измерительные материалы реализации программы в соответствии с требованиями к результатам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FB07-0D16-474F-BB30-E673CE76C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итульный лист рабоче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содерж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учреждения в соответствии с Уста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ифы рассмотрения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е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огласования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со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утверждения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данные прика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учебного предмета с указанием класса (параллели), на который рассчитана рабочая програм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О педагога, разработавшего рабочую програм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д составления рабоче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жна отражать информац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нормативных документах и материалах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на основе которых составлена рабочая программ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количестве учебных часов в год, неделю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на которое рассчитано преподавание предмета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(в соответствии с УП школы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целях и задачах образовательной деятельности по предмету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данном классе (параллели), на  которые направлена рабочая программ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б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изменениях,   внесенных   учителем   в   авторскую  рабочую программу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 предмету, курсу, дисциплине (модулю), если таковые имеются, и обосновании их целесообразности;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б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х формах, методах и средствах оценки образовательных результатов учащихс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в том числе метапредметных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формах, методах и средствах обучения, технологиях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которые будут использоваться учителем при организации учебного процесса   с   целью   реализации 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истемно-деятельностного подход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количестве часов для проведения лабораторных, практических работ, экскурсий, исследовательских проект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ланируемые образователь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анируемые образовательные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должен отражать перечень требований к личностным, метапредметным, предметным результатам изучения учебного предме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конец обучения в каждом класс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уровневого подхода («Обучающийся научится», «Обучающийся получит возможность научиться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предметные и личностные образовательные результаты должны быть конкретизированы в виде перечня соответствующих УУД (метапредметные - в виде коммуникативных УУД, познавательных УУД, регулятивных УУД; личностные - в виде личностных УУД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к образовательным результатам учащихся, прописанные в рабочей программе, не должны быть ниже сформулированных в стандар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троль и оценка планируемых образовательных результатов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компонент рабочей программы требует фикс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ичества контрольных меропри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промежуточной аттестаци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 текущего контроля, методов, средств контроля и оценки планируемых образовательных результатов при реализации программы, которые будут реализованы уч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е способы контроля и оценки образовательных результатов не должны противоречить Положению школы о промежуточной аттестации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оценки планируемых результатов учителя должна «вписываться» в систему оценки, реализуемую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900000" y="1341360"/>
          <a:ext cx="7848720" cy="2438640"/>
        </p:xfrm>
        <a:graphic>
          <a:graphicData uri="http://schemas.openxmlformats.org/drawingml/2006/table">
            <a:tbl>
              <a:tblPr/>
              <a:tblGrid>
                <a:gridCol w="863640"/>
                <a:gridCol w="1513080"/>
                <a:gridCol w="1726920"/>
                <a:gridCol w="1800360"/>
                <a:gridCol w="1944720"/>
              </a:tblGrid>
              <a:tr h="305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ы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жней части таблицы часы суммиру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899-1B16-4062-AACB-D213959E1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973160" y="487080"/>
            <a:ext cx="532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Учебно-тематически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прим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0000" y="4076640"/>
          <a:ext cx="7848720" cy="1846440"/>
        </p:xfrm>
        <a:graphic>
          <a:graphicData uri="http://schemas.openxmlformats.org/drawingml/2006/table">
            <a:tbl>
              <a:tblPr/>
              <a:tblGrid>
                <a:gridCol w="863640"/>
                <a:gridCol w="1513080"/>
                <a:gridCol w="2808000"/>
                <a:gridCol w="2664000"/>
              </a:tblGrid>
              <a:tr h="9306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ая програ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Объект 2" descr=""/>
          <p:cNvPicPr/>
          <p:nvPr/>
        </p:nvPicPr>
        <p:blipFill>
          <a:blip r:embed="rId1"/>
          <a:stretch/>
        </p:blipFill>
        <p:spPr>
          <a:xfrm>
            <a:off x="268200" y="1500120"/>
            <a:ext cx="8583840" cy="1719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6DAD-26AD-49D2-BE1F-1A2C71DB4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468360" y="1814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ный образец формы  КТП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ализующего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ебно-методическое обеспече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64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компонент рабочей программы должен отражать основную и дополнительную учебную литературу, другие информационные источники для учащихся и учителя, которые педагог будет использовать для реализации своей рабоче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можно классифицировать по группам: «Литература (основная, дополнительная)», «Дидактические материал», «Электронные образовательные ресурсы»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ниверсальные учебн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828440"/>
            <a:ext cx="4114800" cy="243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яя позиция школьника, самоуважение и самооц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, границы собственного знания и «незнани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я на выполнение моральных норм, способность к решению моральных проблем, оценка своих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472392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правление своей деятель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троль и корре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ициативность и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029200" y="1828800"/>
            <a:ext cx="3962520" cy="243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абота с информац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абота с учебными модел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использование знакосимвол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редств, общих схем ре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выполнение логически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равнения, анализа, обобщения, классификации, установления аналог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8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876920" y="4724280"/>
            <a:ext cx="4065480" cy="1189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ечевая дея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навыки сотрудни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рмативно-правов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 разработки, принятия и утверждения рабочих программ соглас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. 28 Федерального закона от 29.12.2012 № 273-ФЗ "Об образовании в Российской Федерации"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ся в компетенции образовательной организации, и на основа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. 30 Ф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Об образовании в Российской Федерации", регламентируется локальным нормативным актом образовательной организации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жением о рабочей программ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учебного предмета, курса, дисциплины (модуля) в образовательной организации обще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EBBE-B798-4CF7-AA18-4E6D7299F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Материально-техническое обеспечение образовательного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компонент должен  отражать  перечень  учебного оборудования и оборудования для лабораторных, практических работ, организации проектной и исследовательской деятель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хся, которые учитель будет использовать при реализации своей рабоче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дел «Содержание программ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е количество часов для ее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ированные требования к результатам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учебного материала (дидактические един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ы контрольных (практических и/или  лабораторных раб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760A-5182-4F30-9C54-1CEABBF8B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держание рабочей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беспечив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емствен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я ООП соответствующего уровня образования/образовательной программы образовательной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ответств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и (профилю) образования образовательной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м ФГОС О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м ФКГО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ю ООП образовательной организации соответствующего уровня образования/образовательной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ке и традициям образовательной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ам участников образовательных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A8C2-DCD1-489C-A86D-6B376F427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держание рабочей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стью соответствовать/дублировать содержание примерной программы учебного предмета, рекомендованной Минобрнауки России, и/или авторской программы курса/линии, учебно-методической систем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несущественные изменения, связанные с учетом особенностей предмета, учащихся конкретного класса, заключающиеся в новом порядке изучаемого материала; перераспределения/изменения количества часов, изменения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существенно изменено/модифицировано через внесение из-менений не более 25% в примерную программу и/или авторскую согласно Положению об авторских разработках/програм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052A-A991-4D05-9600-D4F273747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ядок разработки, утверждения и внесения изменений и/или дополнений в рабочую программ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ламентируется докумен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ение о рабочей программе учебного предмета, курса, дисциплины (модуля) в образовательной организации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«О разработке рабочих программ учебных предметов, курсов, дисциплин (модулей) и дополнительных образовательных програм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об утверждении рабочих программ учебных предметов, курсов, дисциплин (модулей) и дополнительных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о внесении изменений в рабочие программы учебных курсов, предметов, дисциплин (модулей) и дополнительных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0D0-A788-4C28-9112-39F93E49E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ая программа оформляется на листах формата А4 (или указать свое), в 2-х экземплярах: один экземпляр сдается заместителю руководителя образовательной организации, курирующему направление/структурное подразделение, или иному лицу, имеющему соответствующие полномочия, второй остается у педаг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ая(ие) программа(ы) размещается на официальном сайте образовательной организации в порядке, установленном Положением о сайте образовательной организации и обновлении информации об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ая программа является обязательной частью учебно-методической документации образовательной программы и хранится в ________________ (указать нужное) в течение _______________ (указать срок хран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85BD-0D69-43BA-9CE2-95522BDD2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рмативные акты и документы, обеспечивающие реализацию федерального компонента государственного стандарта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91592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образования России от 09.03.2004 г. № 13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утверждении федерального базисного учебного плана и примерных учебных планов для общеобразовательных учреждений РФ, реализующих программы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ные программы по учебным предметам федерального компон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Минобрнауки России от 07.07.2005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примерных программах по учебным предметам федерального базисного учебного план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 для государственной (итоговой) аттес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ускников на ступенях основного общего и среднего (полного) общего образования по учебным предметам федерального компонента государственного стандарта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1796-BFAD-4A3E-8394-1802851F2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рмативные акты и документы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еспечивающие реализацию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ГОС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191592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ОП ООО образовательной 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ные программы по учебным предметам федерального компон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 для государственной (итоговой) аттес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уск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C7AF-6BF6-4436-B516-CF9A2A3BA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лгоритм созда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рабочей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6299-2382-40D2-9E3A-1C450E8B7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ся с выбором примерной и авторской учебных программ и соответствующего УМ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ь цели изучения учебного предмета в выбранной авторской программе с целями, сформулированными в Примерной программе по учебному предмету, а также с целями и задачами основной образовательной программы основного общего образования школы. Убедиться, что выбранная авторская программа способствует реализации целей и задач основной образовательной программы основного общего образования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ить требования к уровню подготовки выпускников (личностные, метапредметные, предметные результаты) в выбранной программе с требованиями, прописанными в примерной программе по предмету. Определить требования, не включенные в авторскую программу или превышающие требования к уровню подготовки выпускников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означенные в основной образовательной программе основного общего образования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ить требования к уровню подготовки выпускников через операционально выраженные диагностичные цели-результаты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FEBB-A229-4A45-9133-01CAEF8A4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ение разрабатывается  в соответств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докумен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начального общего образования, утв. приказом Минобрнауки России от 06.10.2009 № 373 (п. 19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основного общего образования, утв. приказом Минобрнауки России от 17.12.2010 № 1897 (п. 18.2.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(полного) общего образования, утв. приказом Минобрнауки России от 17.05.2012 № 413 (п. 18.2.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образовательного стандарт а, утв. приказом Минобразования России от 05.03.2004 № 1089 (при реализац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, утв. приказом Минобразования России от 09.03.2004 № 1312 (при реализац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ок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, утв. Приказом Минобрнауки России от 30.08.2013 №  101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сьмо Рособрнадзора от 16.07.2012 № 05-2680 "О направлении методических рекомендаций о проведении федерального государственного контроля качества образования в образовательных учреждениях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сьмо Минобразования России от 18.06.2003 № 28-02-484/16 "О направлении требований к содержанию и оформлению образовательных программ дополнительного образования детей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ональный компонент государственного образовательного стандар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1FFE-185E-4C33-9064-FE4EDB014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333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ить и конкретизировать требования к уровню подготовки учащихся из перечня, прописанного в требованиях к уровню подготовки выпускников, согласно содержанию авторско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ить содержание выбранной авторской программы с содержанием Примерной программы по предмету. Выделить перечень тем и отдельных вопросов, содержащихся в Примерной программе по учебному курсу, но не включенных в авторскую программу. Определить разделы, темы, вопросы авторской программы, которые носят избыточный характер в рамках реализации ООП ООО и учебного плана образовательн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разделы, в которые будет включено содержание, учитывающее региональные (национально-региональные) и местные особенности образовательной организации (включить изучение произведений поэтов, писателей региона, произведений местных художников, художественных промыслов, национальных спортивных игр, географических особенностей и др.); содержание, не включенное в примерную и авторскую программы (в пределах резерва времени); распределить резервное время; добавить практические, лабораторные, демонстрационные работы, экскурсии, практики, контрольные и самостоятельные работы, уроки внеклассного чтения, развития речи, сочинения, изложен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EF2F-07B5-4456-B619-67ABE58E2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40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нструировать содержание учебного материала курса, определив последовательность разделов, тем и количество часов на изучение кажд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дополнительную справочную и учебную литературу, необходимые пособия, оборудование и при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контрольно-измерительные материалы: выделить перечень проверяемых умений (кодификатор) согласно этапу обучения и цели контроля; подобрать контролирующие задания, направленные на проверку планируем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рабочую программу: оформить 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554D-5AB3-4699-A9C6-15164C45C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чая программа учеб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о-управленческий документ образовательной организации, характеризующий систему/модель образовательной деятельности педагога и учащихся по достижению планируемых результатов освоения основной образовательной программы соответствующего уровня общего образования в условиях введения ФГОС ОО, требований к уровню подготовки обучающихся (выпускников) в условиях реализации ФКГ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6DDF-39DC-47ED-8AAE-7C4DCE1C2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программа является составной частью основной образовательной программы соответствующей ступени образования (далее – ООП), образовательной программы и призвана обеспечить целенаправленность, систематичность, последовательность в работе учителя по раскрытию ее содержания через урочную и внеурочную деятельность, дополнительно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22E-ABAE-477A-928C-AD3A87FA6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сто рабочих программ в ООП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48000" y="3129120"/>
            <a:ext cx="2762280" cy="939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757F-7A10-42D5-BB4C-6019057B6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941400" y="313524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евой раз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373800" y="3078000"/>
            <a:ext cx="237636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2700360" y="1542960"/>
            <a:ext cx="3782880" cy="93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2792520" y="4807080"/>
            <a:ext cx="384948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низ 5"/>
          <p:cNvSpPr/>
          <p:nvPr/>
        </p:nvSpPr>
        <p:spPr>
          <a:xfrm>
            <a:off x="4373640" y="2492280"/>
            <a:ext cx="484200" cy="720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4411800" y="4057560"/>
            <a:ext cx="542880" cy="74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 rot="2031000">
            <a:off x="2305080" y="2376000"/>
            <a:ext cx="542880" cy="74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 rot="19882200">
            <a:off x="6348240" y="2366640"/>
            <a:ext cx="543240" cy="749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8"/>
          <p:cNvSpPr/>
          <p:nvPr/>
        </p:nvSpPr>
        <p:spPr>
          <a:xfrm>
            <a:off x="3013560" y="17827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ООП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3569040" y="334008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держ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6628320" y="307800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3002400" y="4987800"/>
            <a:ext cx="366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отде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ых предметов (рабочие программ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чая программ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обязательном поряд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ется на учебный год/уровень образования (выбрать нужное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едметам обязательной части учебного пл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м курсам части учебного плана, формируемой участниками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м курсам национально-регионального компонента и компонента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м курсов внеурочной деятельности в соответствии с планом внеурочной деятельности, учебным планом основного и среднего (полного)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м образовательным программам внутришкольной системы дополните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18DA-9501-45BA-9A59-7853D1E02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и и задачи рабоче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ой целью рабочей программ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ализация содержания ООП соответствующего уровня образования, образовательной программы по определенному предмету, курсу, дисципли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модулю) в соответствии с установленным количеством часов учебного плана, плана внеурочной деятельности общего образования, часами дополнительн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ми задачами рабочей программ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е содержания, объема, порядка изучения учебного предмета, курса, дисциплины (модуля) с учетом целей, задач и особенностей (специфики, традиций, уровня реализации программ и т. п.) образовательной деятельности образовательной организации и контингента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е преемственности содержания между годами обучения и уровнями образования, при имеющейся возможности – обеспечение "сквозной" преемств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ажение индивидуальности педагогической деятельности с учетом конкретных условий образовательной организации, образовательных потребностей и особенностей развития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1AA1-18A1-44AA-848D-B30D48CF0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новные функции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абочей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тив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бочая программа должна быть в обязательном порядке выполнена в полном объем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полаг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пределяет ценности и цели, ради достижения которых она введена в образовательный процес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тель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иксирует состав элементов содержания, подлежащих усвоению учащимися и/или ознакомлению, а также степень их труд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уаль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пределяет логическую последовательность усвоения элементов со-держания, организационные формы и методы, средства и условия обуч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оч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являет уровни достижения предметных и метапредметных результатов освоения ООП соответствующего уровня образования в условиях реализации ФГОС ОО; вы-являет уровни усвоения элементов содержания, объекты контроля и критерии оценки уровня обученности учащихся в условиях реализации ФКГ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B08C-C330-4F30-A66F-CCC7A4288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8:54:52Z</dcterms:created>
  <dc:creator>Любовь Григорьевна</dc:creator>
  <dc:description/>
  <dc:language>en-US</dc:language>
  <cp:lastModifiedBy>Светлана Андреева</cp:lastModifiedBy>
  <dcterms:modified xsi:type="dcterms:W3CDTF">2019-01-09T19:15:52Z</dcterms:modified>
  <cp:revision>53</cp:revision>
  <dc:subject/>
  <dc:title>Программное обеспечение учебного процесса</dc:title>
</cp:coreProperties>
</file>