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C98-113D-4D7D-A9C6-E92338E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D78-C502-47CB-8E7F-556EE74F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A03-9068-436F-A9B0-A346D9B8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B94-222F-4D21-B0E5-7F2A08C8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26B4-DDFD-4FA2-8965-6B19E9D2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DBE-20D0-4414-9081-F3532316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F903-3080-41B6-9044-BC078CD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CC64-4814-493B-814F-F9ABF48D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CA92-28AD-441E-8EA5-0D53F23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BCD-BA2A-41F3-ACEB-A6068A1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44BC-BA65-46EF-BC69-363046E4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B1D-127D-406D-A691-B9D9355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CE8C-E7F7-4B72-AA9C-F2A784F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027F-F906-48E8-8775-54ADF41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C1C-55AE-4AD2-A578-2341032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ADF8-4A0E-4F8D-BB52-04CA111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FA8-C762-4619-A4EB-535CA490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2AD3E-979B-4A4C-B8DD-67D8BC3A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022D8-26EC-4271-89FB-1CDF090C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F2F0B-C354-4B58-A967-B1D81CE7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F420B-92F4-4D63-861D-73170BA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BE990-2A26-434F-8887-BBAAE95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E41-AD52-415B-9891-F38E343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F3A0B-CBF5-4637-BC71-D1328F3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DA9C2-9776-47A4-9D7E-903F815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F6EFD-4D7A-429C-8315-2007FF9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3C390-2558-4E6F-A562-03B9DDD6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A7CED-3617-45B2-8F13-FB51C11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F3CD4-03D9-46E0-94B8-7566EE33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31749-AF0F-4657-A59C-196C0630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6241-ACA6-417A-B06A-D8A7BE13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9F79-20D0-413A-8FF1-7E37BBE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1404-8D43-43AD-95B8-C605A67C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EF2-4679-44E5-9CD1-7E59E86F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33C9-40F3-4B1C-A972-36218B27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370D-842F-42B1-AD4F-46215B4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EBBF-83C6-4169-856A-EAC26D27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3A59-CEB8-4E87-983D-72A2574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EBA6-735A-4AF4-B81D-4625C62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8BC8-42E8-412C-8C0B-1047F35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CFF6-E898-4C5C-81D2-C7222A9F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07F1-02FF-4478-838D-4F9F45CF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C9BA0-8835-4067-A77D-D00E453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8FA-3395-4004-B9AB-AFBCECC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1C5-81BE-4561-8F3A-DDB4C55E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831-996C-467F-A38B-808FB52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5E5-B881-4785-ACD9-84728E8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A0A-F11E-4B7A-A0FF-D1F901E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57B5-BE48-4C71-A210-0EA4B77A3B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D554-EC33-43A6-8CB8-CDAEFB5EF3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B42-57B2-42A1-89E2-D789D273B6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F4F-7E6B-4E8A-B911-DB2915BF4A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Повторение темы «Тепловые явления»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07640" y="4266720"/>
            <a:ext cx="7083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ff"/>
                </a:solidFill>
                <a:latin typeface="Arial"/>
              </a:rPr>
              <a:t>Урок разработала Королева О.Н., учитель физики и астрономии МОУ Еманжелинская СО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Спасибо за работу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1 этап – «Знаешь ли ты формулы»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92360" y="1484280"/>
          <a:ext cx="6048360" cy="4573800"/>
        </p:xfrm>
        <a:graphic>
          <a:graphicData uri="http://schemas.openxmlformats.org/drawingml/2006/table">
            <a:tbl>
              <a:tblPr/>
              <a:tblGrid>
                <a:gridCol w="3025800"/>
                <a:gridCol w="302256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cm(t2-t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ообразо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λ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 cm(t1- t2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л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=L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лажде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изический диктант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для капитанов команд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1700280"/>
          <a:ext cx="8229600" cy="49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 Запиши формулу, по которой определяется удельная теплоемкость веще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=Q :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(t2-t1)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. Как можно определить удельную теплоту сгорания топлива, если известна масса сгоревшего топлива и количество теплоты, выделившееся при эт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 : 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. Как определить массу расплавившегося вещества, если известно, какое это вещество и сколько энергии затрачено на его плавл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Q </a:t>
                      </a:r>
                      <a:r>
                        <a:rPr b="0" lang="ru-RU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66"/>
                </a:solidFill>
                <a:latin typeface="Arial"/>
              </a:rPr>
              <a:t>2 этап – </a:t>
            </a:r>
            <a:br>
              <a:rPr sz="4000"/>
            </a:br>
            <a:r>
              <a:rPr b="1" i="1" lang="ru-RU" sz="4000" spc="-1" strike="noStrike">
                <a:solidFill>
                  <a:srgbClr val="330066"/>
                </a:solidFill>
                <a:latin typeface="Arial"/>
              </a:rPr>
              <a:t>«Конкурс смекалистых»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814400" y="1719360"/>
            <a:ext cx="55152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3 этап – «Соревнование любителей кроссвордов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719000"/>
            <a:ext cx="8713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Вопросы к кроссворд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1. Как называется хаотическое движение молекул в тел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2. Вид теплопередач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3. Единица измерения температу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4. Сосуд, хранящий пищу горяч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5. Вид теплопередачи, в котором энергия переносится струями газа или жидк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6 Прибор, состоящий из двух сосудов, разделенных воздушным промежут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7. Вид теплопередачи, осуществляемый и в вакуум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8. Энергия, определяемая движением и взаимодействием молекул в тел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9. Процесс, обратный плавл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Если вы ответили правильно на все вопросы, то в выделенном столбце по вертикали прочтете название прибора, с помощью которого измеряют температу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 к кроссворду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1. Теплов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2. Теплопровод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3.  Граду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4. Терм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5.  Конвек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6.  Калоримет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7.  Излу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8.  Внутрення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9.  Кристаллиз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 выделенном столбце – термомет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4 этап – «Понимаешь ли ты графики?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267160" cy="4753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40360" y="1586520"/>
            <a:ext cx="287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Какие процессы изображены на графи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Для какого веще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Твердому или жидкому состоянию соответствуют участки граф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2-3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1. Нагревание и плав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. Ле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. 1-2 – твердое состояни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-3 – твердое и жидко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-4 – жидк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5 этап – «Двигатель внутреннего сгорания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1 такт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2 так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3 так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4 такт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2-19T14:13:38Z</dcterms:modified>
  <cp:revision>4</cp:revision>
  <dc:subject/>
  <dc:title>PowerPoint Presentation</dc:title>
</cp:coreProperties>
</file>