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4AB-97F7-4ECC-A874-D2010AA0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5FA-DDDE-4188-9873-65CA95A1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DAF-8C8A-4E37-AC79-6DE03576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446-D862-4899-80AA-7CB89100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6095-6EF9-4055-87BF-F88DE64F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99E9-A952-478E-9520-06188FD9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28C9-9970-4A9F-9424-7FE1020D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8457-2F56-4C26-862E-5CBBC420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14C9-F211-401C-A0DE-585E1C7C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133B-8C1B-419D-98C7-AD18B0F4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74FD-CFCA-4F22-AB0E-4D2E0739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177-3D3E-4AAA-B49D-426A9B77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B286-BB1B-4EEF-93B3-836FAFA9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8623-B259-496E-A378-A51B13B7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C194-7902-4AF6-8D60-88F21857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8BE9-5B59-44A7-9352-397AB472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D7F0-8E8B-44B9-AF73-E61ABE17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083FA-2D99-4F58-A37F-24EEAE8C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23FEE-6859-4750-A4C7-20A3347D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00604-DD3B-4A25-BBCF-AB26A312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9A291-A34B-4A16-8164-B82C13B2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FE130-8485-44A8-8BB4-C0B29DEE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D3C-B54B-40A6-A801-3A516915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0A05A-15F7-4A2A-B79D-2A2B19AA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D2ACA-CE79-4F74-9892-4DAE9802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30086-FBFA-40BF-BD29-39BBCB24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F10E7-F1F8-4255-8A26-6A38EB92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54D30-B3E2-4BA4-923C-6AB359F9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A6525-A43A-4980-A061-2467C23E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5E41F-D10E-4701-9C74-41D3C6A6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E41DB-4F9E-4683-A1EB-FAE8EB2D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4211B-EEDD-4191-BDC2-E579C580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51AFD-FF77-42A9-ABEF-E3E632BD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DC8-8654-4C3B-A459-A2320781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42D27-B415-4687-BAF4-CFA74963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B7888-B7D1-453A-ADB4-FE3F0E68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61D9C-3AB4-4B38-9A4A-0E083FD3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61506-05B3-4BA3-A484-73D6F3DE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68EEC-3A96-4173-AB43-E5766D3C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52F7E-2FBA-42EB-8644-8E6D1EFD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157F7-19DD-4A01-99E0-EC1E3EF7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D0101-F3BD-4AD8-B656-3A79888B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B8CE5-A14C-4898-947B-F1608AC7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2BE-6F0A-4CB2-940E-055D0C66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7C5-D182-423B-809F-E5646CC0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284-A6C0-4BB4-BB9C-711F2361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C4D4-264D-4390-9FAB-13E46B93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1AD-156B-4C91-81C8-BB0E8398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E2E9-2B5A-46C2-AFFB-162F889766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E160-867A-4061-9351-473D138561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ADF2-C2A5-4BE7-9F50-E19AEC6C39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3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6BA4-8432-437C-BD94-271BFEF273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39640" y="1828800"/>
            <a:ext cx="6651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Arial"/>
              </a:rPr>
              <a:t>Повторение темы «Тепловые явления»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907640" y="4266720"/>
            <a:ext cx="7083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99ff"/>
                </a:solidFill>
                <a:latin typeface="Arial"/>
              </a:rPr>
              <a:t>Урок разработала Королева О.Н., учитель физики и астрономии МОУ Еманжелинская СОШ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Arial"/>
              </a:rPr>
              <a:t>Спасибо за работу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66"/>
                </a:solidFill>
                <a:latin typeface="Arial"/>
              </a:rPr>
              <a:t>1 этап – «Знаешь ли ты формулы»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92360" y="1484280"/>
          <a:ext cx="6048360" cy="4573800"/>
        </p:xfrm>
        <a:graphic>
          <a:graphicData uri="http://schemas.openxmlformats.org/drawingml/2006/table">
            <a:tbl>
              <a:tblPr/>
              <a:tblGrid>
                <a:gridCol w="3025800"/>
                <a:gridCol w="302256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=cm(t2-t1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ообразова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=λ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ева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= cm(t1- t2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вл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=L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лаждени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изический диктант 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(для капитанов команд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95280" y="1700280"/>
          <a:ext cx="8229600" cy="4981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7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 Запиши формулу, по которой определяется удельная теплоемкость веще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=Q :</a:t>
                      </a:r>
                      <a:r>
                        <a:rPr b="0" lang="ru-RU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(</a:t>
                      </a: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m(t2-t1)</a:t>
                      </a:r>
                      <a:r>
                        <a:rPr b="0" lang="ru-RU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. Как можно определить удельную теплоту сгорания топлива, если известна масса сгоревшего топлива и количество теплоты, выделившееся при эт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q</a:t>
                      </a:r>
                      <a:r>
                        <a:rPr b="0" lang="ru-RU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=</a:t>
                      </a: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Q : 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. Как определить массу расплавившегося вещества, если известно, какое это вещество и сколько энергии затрачено на его плавлени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=</a:t>
                      </a: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Q </a:t>
                      </a:r>
                      <a:r>
                        <a:rPr b="0" lang="ru-RU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: </a:t>
                      </a: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0066"/>
                </a:solidFill>
                <a:latin typeface="Arial"/>
              </a:rPr>
              <a:t>2 этап – </a:t>
            </a:r>
            <a:br>
              <a:rPr sz="4000"/>
            </a:br>
            <a:r>
              <a:rPr b="1" i="1" lang="ru-RU" sz="4000" spc="-1" strike="noStrike">
                <a:solidFill>
                  <a:srgbClr val="330066"/>
                </a:solidFill>
                <a:latin typeface="Arial"/>
              </a:rPr>
              <a:t>«Конкурс смекалистых»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814400" y="1719360"/>
            <a:ext cx="55152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3 этап – «Соревнование любителей кроссвордов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719000"/>
            <a:ext cx="87138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Вопросы к кроссворду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1. Как называется хаотическое движение молекул в теле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2. Вид теплопередач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3. Единица измерения температур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4. Сосуд, хранящий пищу горяч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5. Вид теплопередачи, в котором энергия переносится струями газа или жидк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6 Прибор, состоящий из двух сосудов, разделенных воздушным промежутк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7. Вид теплопередачи, осуществляемый и в вакуум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8. Энергия, определяемая движением и взаимодействием молекул в тел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9. Процесс, обратный плавлени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Если вы ответили правильно на все вопросы, то в выделенном столбце по вертикали прочтете название прибора, с помощью которого измеряют температу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веты к кроссворду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1. Теплов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2. Теплопроводн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3.  Градус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4. Термо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5.  Конвек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6.  Калоримет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7.  Излуч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8.  Внутрення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9.  Кристаллиза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В выделенном столбце – термомет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4 этап – «Понимаешь ли ты графики?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267160" cy="4753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940360" y="1586520"/>
            <a:ext cx="287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Какие процессы изображены на график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Для какого веще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Твердому или жидкому состоянию соответствуют участки граф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1-2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2-3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3-4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вет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1. Нагревание и плавл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2. Ле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3. 1-2 – твердое состояние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2-3 – твердое и жидкое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3-4 – жидко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5 этап – «Двигатель внутреннего сгорания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1 такт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2 такт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3 такт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4 такт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2-19T14:13:38Z</dcterms:modified>
  <cp:revision>4</cp:revision>
  <dc:subject/>
  <dc:title>PowerPoint Presentation</dc:title>
</cp:coreProperties>
</file>