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8CCB-CA51-4297-844B-947F93BC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11BB-49AA-4306-8856-26F460E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4EB2-9F49-4E4A-9F11-658889E9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5592-A2B3-4296-AAD5-76C9E816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FC55-B404-4208-81E0-DF2481BA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ADB-D094-46ED-A3C0-6184A9E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B656-3ED5-42D3-8EA9-6843E654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1761-C00D-447F-9488-CCA39E4C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FD5-0EDF-48B3-9356-BFF93B3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60E-9AFD-4900-AEC1-291C65E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4C0-ACD8-4E78-8C65-25B5FF1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5E6F-016B-4C97-B663-335E6B9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8B1-3F35-4612-8E24-B11DA921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C0E0-190F-4AA8-BF7A-39ADF83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6453-4A5B-4993-9057-0001675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657-7EC0-4D88-B120-A6BD606E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C99-E5AC-4922-80FF-CE25EAC3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2F7A-DD87-48E4-A753-D596F2D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6BFD-2C9F-40EF-836C-81934C7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484F-7782-43B2-B781-326A84D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BBB4-CA2B-498E-B923-989B9C24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2F3D-FE24-4672-B0A9-0196E5A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3EC0-71E0-4A2A-A050-526E479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798B-1F82-4A87-8AB1-67B677F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5294-3E60-481B-8A42-FDD8A71D28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0E8F-B43B-410C-A156-E7555EB7DE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АПОУ «Липецкий индустриально-строительный колледж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е на методическом объедин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инновационное учебное средство  оценки и самооценки учащихся в процессе изучения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ипецк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Языковая биография – «Бортжурнал путешествия по годам обучения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контрольные листы для самооценки основных коммуникативных умений/действий в ситуациях речевого общения (аудирования, говорения, чтения и письма), а так же стратегий общения и качества языка, выделенных на основании параметров-дескрипторов соответствующих уровней владения ИЯ и предложенных обучающемуся для самостоятельной оценки степени их сформированности по шкале – «Я могу это делать» - «Мне это легко удается» - «Это моя це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Дос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е обучающемуся предлагается включить практические примеры своих достижений в изучении языка, наиболее удачные работы, примеры участия в международных и региональных проектах, а также свидетельства об окончании курсов, дипломы, наград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место в структуре и содержании ЯП занимает система уровней владения языком, которая «соотнесена в рамках отечественного ЯП с отечественными национальными требованиями в области языковой подготовки учащихся разных типов образовательных учреждений» (Гальскова Н.Д., 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уровней (определение, предложенное в языковом паспорте, и содержательные параметры каждого уровня, представленные в языковой биографии) являются параметрами, по которым учащийся самостоятельно определяет свои достижения в овладении различными видами и умениями иноязычного речевого 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учащийся может отметить, что ему удается свободно, что он умеет делать в ограниченных условиях, и что он выделяет в качестве цели работы над язы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й раздел предполагается заполнять в течение определенного периода (учебного года) с т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роследить динамику качественного совершенствования речевых умений/действий по данным исходной — промежуточной — итоговой само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у с самооценкой, предусматривается также параллельная оценка выделенных параметров преподавателем, что позволяет ученику уточнить свою оценку, обсудить ее с преподавателем, сопоставить личное и экспертное представление о цели/результате овладения изучаемым язы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эта центральная часть данного вида языкового портфеля обеспечивает в процессе обучения/овладения ИЯ основу для развития рефлексивной самооценки, установления системы равно партнерского взаимодействия учителя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Языковой портфель особенно важен именно в начальной школе, так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первых, маленькому ученику важно осознание своего успеха, который можно «подержать» в ру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вторых, он стремится получить оценку себе и своей деятельности со стороны взрослых – так развивается его самооценка. ЯП предоставляет возможность взаимодействия ребенка со взрослыми в оценке свои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-третьих, ЯП помогает ученику увидеть смысл в том, что он делает, и развивает его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 для детей представляет собой иллюстрированный Дневник, котор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чно и ярко оформл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ясные и занимательные задания, понятные и интересные детям; при этом удовлетворяется потребность младших школьников в изобрази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формулирует каждое описание в рамках системы общеевропейских уровней в виде коммуникативной задачи (которая носит название дескриптора) с тем, чтобы дети могли самостоятельно с минимальной помощью учителя (родителей) оценить свой уровень умений в неродных языках: «я умею понимать простые просьбы» (аудирова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рассказать о своей семье» (говор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прочитать простой кулинарный рецепт» (чт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заполнить формуляр о себе (написать имя, возраст, адрес) (пись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ЕЯП как учебного средства полностью соответствует государственным и общеевропейским стандартам в области языкового образования, отражает и обеспечивает требования, предъявляемые к качеству обучения иностранному языку на всех ступенях общего школьного образо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одержание языкового порт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изучения иностранного языка и цель создания портфол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е работы, характеризующие процесс обучения: сочинения, стихи, рисунки, письма, открытки, письменные творческие работы, индивидуальные и групповые про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само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самоотчетов учеников по изучаемым темам, разде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листы само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ся, как правило, для определения общего уровня владения ИЯ, уровня владения видами иноязычного речевого общения, степени сформированности коммуникативных ум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й целью с учетом основных критериев оценки уровня владения ИЯ для самооценки предлагается список типичных коммуникативных умений для соответствующего уровня владения ИЯ и формулируются вопросы или утверждения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Я умею рассказать о своих интересах...», «Я слушаю радиопередачи о...», «Я просматриваю периодику с целью...», «Я записываю свои мысли в дневник...»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е вопросы/ утверждения сопровождаются определенной оценочной шкалой, например, «свободно — достаточно» «свободно — испытываю затруднения» или «регулярно — редко — время от времени»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одержание языкового портфеля может включаться дневник учащегося, фиксирующий динамику совершенствования определенных умений, качества речи и т.п., например, динамику совершенствования умений чтения. Задания для рефлексивной самооценки формулируются, как правило, в терминах «Я умею...», ♦ Мне необходимо...», «Мои трудности/проблемы в процессе общения связаны с...» и т.п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задания носят личностно ориентированный характер и направлены на самостоятельный анализ и оценку учащимся эффективности и трудностей практического использования изучаемого языка в соответствии с основными параметрами уровня владения ИЯ (коммуникативными умениями в видах иноязычного речевого общения, качеством речи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робация проект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Языковой портфель Росс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одится на территории России с апреля 2004 г. при участии экспертов Совета Европы по согласованию с Министерством образования РФ под эгидой Московского государственного лингвистического университета, научным руководителем и координатором которого является ректор МГЛУ, д.п.н., профессор И.И. Хале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лотном проекте участвуют 12 регио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е как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тайский край, Москва, Санкт-Петербург, Нижний Новгород, Владимир, Тула, Волгоград, Ставропольский край, Пермь, Челябинск, Сахта-Якутия и Орс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Критерии </a:t>
            </a:r>
            <a:br>
              <a:rPr sz="2400"/>
            </a:b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для отбора и включения работ в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думаю, мой проект крас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интерес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он нрави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и одноклассники считают, что он хорош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ногое узнал, выполняя это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было интересно делать это задани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проект показывает, что я умею… или зна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красиво написа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учитель посоветовал мн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оект показывает мои успехи в изучении английского языка (любого другого 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Алгоритм работы с технологией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начале учебного года учащиеся определяют свой языковой уровень. При этом учитель предлагает им таблицу самооценки, которая находится в первой части «Языковой паспорт». У кого-то он остался прежним, а кто-то его повысил. Самооценка у учащегося становится более объективной на основе опыта с портф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чащиеся определяют на каждую четверть тот дескриптор, над которым будут работать самостоятельно. В назначенный урок они должны представить результат своей групповой или индивидуальной работы в виде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ценивание портф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каждой четв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ителем и одноклассниками с помощью оценочных л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уп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нфе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нц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бног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щ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 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кзам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экзаме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щиеся получают свои портфели с рецензиями и заполненными оценочными ли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я итог, необходимо отметить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овой портф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гибким учебным средством, которое может быть адаптировано практически к любой учебной ситуации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расту обучаемых, этапу/уровню овладения ИЯ, условиям обучения, индивидуальным особенностям учащегося и индивидуальному стилю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Ведение учащимися индивидуальных портфолио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 учащихся умение учиться – ставить цели, организовывать собственную учеб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ь учащихся планировать свои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едить индивидуальный прогресс ученика, достигнутый им в процессе обучения, причем вне прямого сравнения с достижениями других уче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зить степень их активности при изучении различных тем, разделов или предме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же понять причины успехов и неудач в учебе, на основе анализа самоотчетов учеников по изучаемым темам, разделам или предме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ортфолио, по мнению учителей, позволяет формировать у учеников ответственность за результаты своего учебного труда и развивать сотрудничество учеников и учителей в процессе приобрет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фолио документирует все личные достижения школьников, обеспечивая тем самым их официальное признание, поощряет активность и самостоятельность учеников, расширяя возможности обучения и самообучения, выступает как инструмент самооценки и самопознания, развивая навыки рефлексивной и оценочной (самооценочной)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ьскова Н.Д., Никитенко З.Н. Теория и практика обучения иностранным языкам начальная: методическое пособие.-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М.: Айрис−пресс, 2004. − 24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ьскова Н. Д. Языковой портфель как инструмент оценки и самооценки учащихся в области изучения иностранных языков//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5. 2000. С. 6-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оссмейстер образовательных технологий//Коммуникативная методика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3. 2003. С. 58-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Language Portfolio: accredited model № 8.2001, awarded to Center for Information on language Teaching and Research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вропейский языковой портфель//Перевод. – М.: «Еврошкола»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ат Е. С. Портфель ученика// 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1. 2002. С. 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асова Е. Ю. Европейская языковая политика//Иностранные языки в школе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№ 1. 2004. С. 8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остранн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Teaching Forum (Vol. 40, number 4) October 2002 / “Teaching Portfolios as Assessment Tool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n Bouma. The challenge of project work in Russia//“English” № 17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Self-Assessment in the Classroom. Rationale and Suggested Techniques. by Christine Coombe / “English” № 10, 2003 (p.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nglish-zone.com/t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эксперимента учеными были разработаны и опробованы Языковые портфели для учащихся начальной и средней школы, для учащихся 14-18 лет, а так же для студ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разработаны следующие инструкции и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и по применению Языкового Портфеля для учащихся школ и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и для учителей/преподавателей иностранных яз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сные листы по Языковому портфелю как для учителей/преподавателей так и для учащихся/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вые задания для определения уровней владения 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же такое Языковой портфель или Языковой портфоли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ртфоли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итальянского означает «папка с документами», «папка специали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ртфоли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инструментов для документирования и оценивания языковых умений учащего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ипы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“папка 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, направленная на повышение собственной значимости ученика и отражающая его успех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хвальные грамоты за учебу, достижения в спорте, музыке, шахматах и т. 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благодарственные письма родителя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ели успеваемости, значки, медали и т. 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рефлексивное 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скрывающее динамику личностного развития ученика, помогающее отследить результативность его деятельности как в количественном, так и качественном пл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нтрольные и творческие работы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еокасс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езультаты медицинских и психологических обследований и т. 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ипы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-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проблемно-исследователь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вязанный с написанием реферата, научной работы, подготовкой в выступлению на конферен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темати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здаваемый в процессе изучения какой-либо большой темы, раздела, учебного кур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Arial"/>
              </a:rPr>
              <a:t>Цели создания и ведения языкового порт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мечать способности, умения, навыки и личный опыт учащегося на уровне самооценки, взаимооценки и оценки взрослым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ь собственное развитие в течение определённого времен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учащихся оценива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реальные учебные цели, достижение которых возможно в ближайшем будущ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у учащихся навык рефлексии по поводу проделан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письменные навык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ть преемственность в процессе обуч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знать что-то новое и улучшить свои профессиональн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использования языкового портфеля подтверждается международным опытом (Соединенные Штаты Америки, Канада, Великобритания, Германия, Франци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овой портфель впервые был введен в США в 197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«Общеевропейские компетенции владения иностранным языком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риняты Советом Европы в 1996 году в Страсбур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вропейский языковой порт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овой портфель включает 3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Языковой паспор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обучающийся фиксирует данные о языках общения в семье, изучаемых иностранных языках, месте и времени их изучения, фактах и опыте межкультурного общения, и самостоятельно дает оценку уровня владения ИЯ в данное время, а так же в процессе овладения ИЯ, определяемую на основе международно-признанных уровней владения языком («Общеевропейские компетенции»)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чащийся самостоятельно оценивает свои языковые умения и навыки, пользуясь дескрипторами для уровней А, В,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Цель данного разд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иксировать «паспортные данные» своего языков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ценивать самостоятельно на основе таблицы самооценки свой уровень владения языком в целом и по основным видам речевой деятельности (аудирование, чтение, диалог. и монолог. речь, пись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5-19T22:44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