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F1A2-8294-4A10-8EAF-3CE31D3C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690B7-A8F4-4A6B-A12D-66C48B55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7626-222F-44DF-9DDC-F7C0B2B4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7F87-61BE-44CD-A3CC-EC03EED4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E6DC-4644-466A-88AD-DAE87B95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EABD-2FD5-452A-AD3B-4632E8C9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96EC-7DB7-48D2-8306-41D6F23F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A6B4-FFF1-444C-A931-44C853CA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21AF-0CE0-46F7-B2C4-441ABE04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8562-7845-47DD-BC79-80F4ECC6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E166-454F-48C3-B31F-38CF17E5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94F7-AAFF-4639-9741-E5596B7E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E7C5-8DCF-462A-BAB8-0D104AC7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B655-C96D-4042-98D6-48F5A1FB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C593-841E-4708-A677-EA4F347E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B1F5-5943-4241-9E14-5C4E2EBE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0141-C5D8-4D15-9B43-4AA29661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1BC72-A39B-41F1-8137-2CB89B7A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1F80-CC7A-4888-B83B-80AD1C39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82C0-A79D-426D-8B56-D90A74A4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53FE-C62C-4068-8A7D-8CCF4867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1A4C-C2C6-4266-BC80-AECA4663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719F-8DE9-48EF-BEEF-186C0067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C114-B92C-4E6B-9ECA-B58C954D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75B0-ABEC-4B2E-A70C-3E79A488D3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137E-F52D-4C81-97E1-0DBFE00F19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АПОУ «Липецкий индустриально-строительный колледж»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упление на методическом объедин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 инновационное учебное средство  оценки и самооценки учащихся в процессе изучения иностр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ипецк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Языковая биография – «Бортжурнал путешествия по годам обучения»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ит контрольные листы для самооценки основных коммуникативных умений/действий в ситуациях речевого общения (аудирования, говорения, чтения и письма), а так же стратегий общения и качества языка, выделенных на основании параметров-дескрипторов соответствующих уровней владения ИЯ и предложенных обучающемуся для самостоятельной оценки степени их сформированности по шкале – «Я могу это делать» - «Мне это легко удается» - «Это моя цел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Дось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е обучающемуся предлагается включить практические примеры своих достижений в изучении языка, наиболее удачные работы, примеры участия в международных и региональных проектах, а также свидетельства об окончании курсов, дипломы, наград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место в структуре и содержании ЯП занимает система уровней владения языком, которая «соотнесена в рамках отечественного ЯП с отечественными национальными требованиями в области языковой подготовки учащихся разных типов образовательных учреждений» (Гальскова Н.Д., 199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уровней (определение, предложенное в языковом паспорте, и содержательные параметры каждого уровня, представленные в языковой биографии) являются параметрами, по которым учащийся самостоятельно определяет свои достижения в овладении различными видами и умениями иноязычного речевого общ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этом учащийся может отметить, что ему удается свободно, что он умеет делать в ограниченных условиях, и что он выделяет в качестве цели работы над язы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й раздел предполагается заполнять в течение определенного периода (учебного года) с т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проследить динамику качественного совершенствования речевых умений/действий по данным исходной — промежуточной — итоговой самооц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яду с самооценкой, предусматривается также параллельная оценка выделенных параметров преподавателем, что позволяет ученику уточнить свою оценку, обсудить ее с преподавателем, сопоставить личное и экспертное представление о цели/результате овладения изучаемым язы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эта центральная часть данного вида языкового портфеля обеспечивает в процессе обучения/овладения ИЯ основу для развития рефлексивной самооценки, установления системы равно партнерского взаимодействия учителя и учащего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Языковой портфель особенно важен именно в начальной школе, так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-первых, маленькому ученику важно осознание своего успеха, который можно «подержать» в ру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-вторых, он стремится получить оценку себе и своей деятельности со стороны взрослых – так развивается его самооценка. ЯП предоставляет возможность взаимодействия ребенка со взрослыми в оценке свои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-третьих, ЯП помогает ученику увидеть смысл в том, что он делает, и развивает его ответ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П для детей представляет собой иллюстрированный Дневник, которы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очно и ярко оформл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ит ясные и занимательные задания, понятные и интересные детям; при этом удовлетворяется потребность младших школьников в изобрази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формулирует каждое описание в рамках системы общеевропейских уровней в виде коммуникативной задачи (которая носит название дескриптора) с тем, чтобы дети могли самостоятельно с минимальной помощью учителя (родителей) оценить свой уровень умений в неродных языках: «я умею понимать простые просьбы» (аудирова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Я умею рассказать о своей семье» (говор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Я умею прочитать простой кулинарный рецепт» (чт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Я умею заполнить формуляр о себе (написать имя, возраст, адрес) (пись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ЕЯП как учебного средства полностью соответствует государственным и общеевропейским стандартам в области языкового образования, отражает и обеспечивает требования, предъявляемые к качеству обучения иностранному языку на всех ступенях общего школьного образова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Содержание языкового порт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изучения иностранного языка и цель создания портфол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енные работы, характеризующие процесс обучения: сочинения, стихи, рисунки, письма, открытки, письменные творческие работы, индивидуальные и групповые прое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ы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ы само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самоотчетов учеников по изучаемым темам, разде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ые листы самооцен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ются, как правило, для определения общего уровня владения ИЯ, уровня владения видами иноязычного речевого общения, степени сформированности коммуникативных ум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этой целью с учетом основных критериев оценки уровня владения ИЯ для самооценки предлагается список типичных коммуникативных умений для соответствующего уровня владения ИЯ и формулируются вопросы или утверждения ти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Я умею рассказать о своих интересах...», «Я слушаю радиопередачи о...», «Я просматриваю периодику с целью...», «Я записываю свои мысли в дневник...»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ые вопросы/ утверждения сопровождаются определенной оценочной шкалой, например, «свободно — достаточно» «свободно — испытываю затруднения» или «регулярно — редко — время от времени»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в содержание языкового портфеля может включаться дневник учащегося, фиксирующий динамику совершенствования определенных умений, качества речи и т.п., например, динамику совершенствования умений чтения. Задания для рефлексивной самооценки формулируются, как правило, в терминах «Я умею...», ♦ Мне необходимо...», «Мои трудности/проблемы в процессе общения связаны с...» и т.п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задания носят личностно ориентированный характер и направлены на самостоятельный анализ и оценку учащимся эффективности и трудностей практического использования изучаемого языка в соответствии с основными параметрами уровня владения ИЯ (коммуникативными умениями в видах иноязычного речевого общения, качеством речи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робация проект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Языковой портфель Росси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одится на территории России с апреля 2004 г. при участии экспертов Совета Европы по согласованию с Министерством образования РФ под эгидой Московского государственного лингвистического университета, научным руководителем и координатором которого является ректор МГЛУ, д.п.н., профессор И.И. Хале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лотном проекте участвуют 12 регио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ие как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тайский край, Москва, Санкт-Петербург, Нижний Новгород, Владимир, Тула, Волгоград, Ставропольский край, Пермь, Челябинск, Сахта-Якутия и Орск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Критерии </a:t>
            </a:r>
            <a:br>
              <a:rPr sz="2400"/>
            </a:b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для отбора и включения работ в 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думаю, мой проект краси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интерес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 он нравится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и одноклассники считают, что он хороши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многое узнал, выполняя это з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 было интересно делать это задани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проект показывает, что я умею… или знаю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красиво написал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учитель посоветовал мн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роект показывает мои успехи в изучении английского языка (любого другого 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Алгоритм работы с технологией 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 начале учебного года учащиеся определяют свой языковой уровень. При этом учитель предлагает им таблицу самооценки, которая находится в первой части «Языковой паспорт». У кого-то он остался прежним, а кто-то его повысил. Самооценка у учащегося становится более объективной на основе опыта с портф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Учащиеся определяют на каждую четверть тот дескриптор, над которым будут работать самостоятельно. В назначенный урок они должны представить результат своей групповой или индивидуальной работы в виде презен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ценивание портф</a:t>
            </a: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нце каждой четвер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учителем и одноклассниками с помощью оценочных ли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нце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туп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нферен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нц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ебног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щ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 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экзам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экзаме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учащиеся получают свои портфели с рецензиями и заполненными оценочными лис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одя итог, необходимо отметить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овой портф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гибким учебным средством, которое может быть адаптировано практически к любой учебной ситуации,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зрасту обучаемых, этапу/уровню овладения ИЯ, условиям обучения, индивидуальным особенностям учащегося и индивидуальному стилю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Ведение учащимися индивидуальных портфолио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у учащихся умение учиться – ставить цели, организовывать собственную учебн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ить учащихся планировать свои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ледить индивидуальный прогресс ученика, достигнутый им в процессе обучения, причем вне прямого сравнения с достижениями других уче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азить степень их активности при изучении различных тем, разделов или предме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же понять причины успехов и неудач в учебе, на основе анализа самоотчетов учеников по изучаемым темам, разделам или предме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ортфолио, по мнению учителей, позволяет формировать у учеников ответственность за результаты своего учебного труда и развивать сотрудничество учеников и учителей в процессе приобрете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фолио документирует все личные достижения школьников, обеспечивая тем самым их официальное признание, поощряет активность и самостоятельность учеников, расширяя возможности обучения и самообучения, выступает как инструмент самооценки и самопознания, развивая навыки рефлексивной и оценочной (самооценочной) деятельност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льскова Н.Д., Никитенко З.Н. Теория и практика обучения иностранным языкам начальная: методическое пособие.-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М.: Айрис−пресс, 2004. − 240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льскова Н. Д. Языковой портфель как инструмент оценки и самооценки учащихся в области изучения иностранных языков//Иностранные языки в школе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№ 5. 2000. С. 6-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оссмейстер образовательных технологий//Коммуникативная методика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№ 3. 2003. С. 58-5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an Language Portfolio: accredited model № 8.2001, awarded to Center for Information on language Teaching and Research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вропейский языковой портфель//Перевод. – М.: «Еврошкола»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ат Е. С. Портфель ученика// Иностранные языки в школе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№ 1. 2002. С. 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асова Е. Ю. Европейская языковая политика//Иностранные языки в школе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№ 1. 2004. С. 8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дарт основного общего образования по иностранн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 Teaching Forum (Vol. 40, number 4) October 2002 / “Teaching Portfolios as Assessment Tool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n Bouma. The challenge of project work in Russia//“English” № 17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Self-Assessment in the Classroom. Rationale and Suggested Techniques. by Christine Coombe / “English” № 10, 2003 (p.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nglish-zone.com/t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эксперимента учеными были разработаны и опробованы Языковые портфели для учащихся начальной и средней школы, для учащихся 14-18 лет, а так же для студ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и разработаны следующие инструкции и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и по применению Языкового Портфеля для учащихся школ и студ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и для учителей/преподавателей иностранных яз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осные листы по Языковому портфелю как для учителей/преподавателей так и для учащихся/студ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овые задания для определения уровней владения 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же такое Языковой портфель или Языковой портфоли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ртфоли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итальянского означает «папка с документами», «папка специалис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ртфолио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инструментов для документирования и оценивания языковых умений учащего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ипы портфо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ип -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“папка 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, направленная на повышение собственной значимости ученика и отражающая его успех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хвальные грамоты за учебу, достижения в спорте, музыке, шахматах и т. 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благодарственные письма родителя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ели успеваемости, значки, медали и т. 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ип -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рефлексивное 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раскрывающее динамику личностного развития ученика, помогающее отследить результативность его деятельности как в количественном, так и качественном пла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контрольные и творческие работы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еокассе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результаты медицинских и психологических обследований и т. 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ипы портфо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-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  <a:ea typeface="Times New Roman"/>
              </a:rPr>
              <a:t>проблемно-исследователь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вязанный с написанием реферата, научной работы, подготовкой в выступлению на конферен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-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темати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здаваемый в процессе изучения какой-либо большой темы, раздела, учебного кур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Arial"/>
              </a:rPr>
              <a:t>Цели создания и ведения языкового порт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мечать способности, умения, навыки и личный опыт учащегося на уровне самооценки, взаимооценки и оценки взрослым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следовать собственное развитие в течение определённого времен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ь учащихся оценивать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вить реальные учебные цели, достижение которых возможно в ближайшем будущ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ть у учащихся навык рефлексии по поводу проделан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ть письменные навык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ивать преемственность в процессе обучени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знать что-то новое и улучшить свои профессиональные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использования языкового портфеля подтверждается международным опытом (Соединенные Штаты Америки, Канада, Великобритания, Германия, Франция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овой портфель впервые был введен в США в 1972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«Общеевропейские компетенции владения иностранным языком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приняты Советом Европы в 1996 году в Страсбур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овой портфель включает 3 ч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Языковой паспор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тором обучающийся фиксирует данные о языках общения в семье, изучаемых иностранных языках, месте и времени их изучения, фактах и опыте межкультурного общения, и самостоятельно дает оценку уровня владения ИЯ в данное время, а так же в процессе овладения ИЯ, определяемую на основе международно-признанных уровней владения языком («Общеевропейские компетенции»)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Учащийся самостоятельно оценивает свои языковые умения и навыки, пользуясь дескрипторами для уровней А, В,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Цель данного разде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иксировать «паспортные данные» своего языково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ценивать самостоятельно на основе таблицы самооценки свой уровень владения языком в целом и по основным видам речевой деятельности (аудирование, чтение, диалог. и монолог. речь, пись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5-19T22:44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