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22321-B766-4B4A-BED8-E3D9692A0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C1DA2-4817-4950-B6AB-A7ED617EE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E7D12-5AC0-49A4-9B27-7A0A8FC3E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61E78-EFF0-46ED-BFF4-E08DD346C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FAFAA-3967-4DFB-86C1-FCDB9819D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3AF50-D5A2-47F9-B4D3-FDE310981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403DB-486A-422D-AF2F-771E81353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CA507-346B-4BA7-BD43-B02AD5770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6AC74-8B44-4B07-A88C-805FC4F7A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3B4AD-5B5A-45BC-9063-591BF8A7A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1AD92-0502-4FC0-B2E6-6DC8885A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5C6AB-3025-4C76-9EEC-6906F3487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B057D-E260-4974-82CF-BED44B28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A097C-1932-462A-8467-A9CD789A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D14F2-D209-4100-AEC9-664F825A4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6BB6D-D35E-4D4D-B12D-543AF4A47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188BC-FEA0-44F1-BFF6-0999DC0F1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0A4C5-85EE-40ED-99C8-26039BFF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2EC37-270F-4D1A-A158-1BAB57FB2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CC250-140C-47F1-87FC-09BD4241A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14D6D-9C15-45C9-946E-2F298138F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2E5C7-246E-42E4-A492-967624A9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58702-1164-41C1-918A-B2460C4C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CD967-71D0-49A3-8BC9-83438E15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A72F-D93C-43A4-8CC1-29B5913674B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19F62-4275-43F0-AEAF-DD7ABE08528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fdef6"/>
                </a:solidFill>
                <a:latin typeface="Arial"/>
              </a:rPr>
              <a:t>Азбука безопасности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7377120" cy="25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рдвинов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льга Александровна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начальных классов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БОУ ОШ 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539640" y="2491920"/>
            <a:ext cx="8229600" cy="16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СПАСИБО ЗА ВНИМАНИЕ 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fdef6"/>
                </a:solidFill>
                <a:latin typeface="Arial"/>
              </a:rPr>
              <a:t>«Дорожный язык»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рога встречает нас прямо у порога. А на ней такое творится! Все куда-то мчатся, автомобили друг другу фарами подмигивают, светофор цвет меняет! На каждом шагу разноцветные знаки: кружки, треугольники, квадраты. И асфальт весь белыми линиями расчерчен… Это дорожный язык! Язык – это не обязательно слова. Люди давно договорились, как объясняться на дорогах при помощи разных сигнал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8" name="Picture 6" descr="P3140332"/>
          <p:cNvPicPr/>
          <p:nvPr/>
        </p:nvPicPr>
        <p:blipFill>
          <a:blip r:embed="rId1"/>
          <a:stretch/>
        </p:blipFill>
        <p:spPr>
          <a:xfrm>
            <a:off x="3348000" y="3357720"/>
            <a:ext cx="54007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fdef6"/>
                </a:solidFill>
                <a:latin typeface="Arial"/>
              </a:rPr>
              <a:t>Пешеход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ждый, кто выходит на дорогу получает почётное звание –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ешеход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то есть тот, кто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ешком ходит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Если на проезжей части главный –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одитель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то на тротуаре, конечно,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ешеход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пешеходов на дороге устроены специальные пешеходные дорожки –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тротуары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А водителям отдана широкая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роезжая часть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Rectangle 6"/>
          <p:cNvSpPr/>
          <p:nvPr/>
        </p:nvSpPr>
        <p:spPr>
          <a:xfrm>
            <a:off x="324000" y="3933720"/>
            <a:ext cx="295272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городе нашем транспорта мног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очень опасной стала дорог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бы спокойно ходить гулять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ужно правила движения знать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2" name="Picture 8" descr="P3130302"/>
          <p:cNvPicPr/>
          <p:nvPr/>
        </p:nvPicPr>
        <p:blipFill>
          <a:blip r:embed="rId1"/>
          <a:stretch/>
        </p:blipFill>
        <p:spPr>
          <a:xfrm>
            <a:off x="3419640" y="3789360"/>
            <a:ext cx="525780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fdef6"/>
                </a:solidFill>
                <a:latin typeface="Arial"/>
              </a:rPr>
              <a:t>Автоинспектор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78920" y="4076280"/>
            <a:ext cx="87138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 порядком на дороге следит строгий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автоинспекто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н может остановить и пешехода, если пешеход наруши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авила дорожного движения. Такая у автоинспекто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бота: смотреть за тем, чтобы люди и автомобили 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роге не пострада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5" name="Picture 4" descr="P3140328"/>
          <p:cNvPicPr/>
          <p:nvPr/>
        </p:nvPicPr>
        <p:blipFill>
          <a:blip r:embed="rId1"/>
          <a:stretch/>
        </p:blipFill>
        <p:spPr>
          <a:xfrm>
            <a:off x="4211640" y="907920"/>
            <a:ext cx="4753080" cy="2951280"/>
          </a:xfrm>
          <a:prstGeom prst="rect">
            <a:avLst/>
          </a:prstGeom>
          <a:ln w="0">
            <a:noFill/>
          </a:ln>
        </p:spPr>
      </p:pic>
      <p:sp>
        <p:nvSpPr>
          <p:cNvPr id="526" name="Rectangle 5"/>
          <p:cNvSpPr/>
          <p:nvPr/>
        </p:nvSpPr>
        <p:spPr>
          <a:xfrm>
            <a:off x="250920" y="1125360"/>
            <a:ext cx="3671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путаешь сигналы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 гуляй один без мамы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важай водителей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колу и родителей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 инспектору ГА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исциплиной помоги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fdef6"/>
                </a:solidFill>
                <a:latin typeface="Arial"/>
              </a:rPr>
              <a:t>Пешеходный переход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39640" y="98100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 тротуару идти просто и приятно, 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т нужно пересечь проезжую час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до найти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ешеходный переход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Picture 4" descr="P3140329"/>
          <p:cNvPicPr/>
          <p:nvPr/>
        </p:nvPicPr>
        <p:blipFill>
          <a:blip r:embed="rId1"/>
          <a:stretch/>
        </p:blipFill>
        <p:spPr>
          <a:xfrm>
            <a:off x="4067280" y="2852640"/>
            <a:ext cx="4897440" cy="3816360"/>
          </a:xfrm>
          <a:prstGeom prst="rect">
            <a:avLst/>
          </a:prstGeom>
          <a:ln w="0">
            <a:noFill/>
          </a:ln>
        </p:spPr>
      </p:pic>
      <p:sp>
        <p:nvSpPr>
          <p:cNvPr id="530" name="Rectangle 5"/>
          <p:cNvSpPr/>
          <p:nvPr/>
        </p:nvSpPr>
        <p:spPr>
          <a:xfrm>
            <a:off x="612000" y="3285000"/>
            <a:ext cx="273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ы на улицу пошл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ветофора не нашл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 дорогу перейт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«зебра» на пути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ы гадали, мы решал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 же это за проход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 потом мы все узна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Зебра» - это переход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5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fdef6"/>
                </a:solidFill>
                <a:latin typeface="Arial"/>
              </a:rPr>
              <a:t>Перекрёсток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ли переход никак не обозначен, то ищи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ерекрёсток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то есть пересечение дорог. Но прежде чем переходить дорогу, нужно оценить обстановку. Посмотри хорошенько налево и направ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ереходи проезжую часть строго поперёк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Никогда не беги через дорогу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Ты же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ешеход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, а не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ешебе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3" name="Picture 4" descr="P3130313"/>
          <p:cNvPicPr/>
          <p:nvPr/>
        </p:nvPicPr>
        <p:blipFill>
          <a:blip r:embed="rId3"/>
          <a:stretch/>
        </p:blipFill>
        <p:spPr>
          <a:xfrm>
            <a:off x="4067280" y="3500280"/>
            <a:ext cx="4895640" cy="3141720"/>
          </a:xfrm>
          <a:prstGeom prst="rect">
            <a:avLst/>
          </a:prstGeom>
          <a:ln w="0">
            <a:noFill/>
          </a:ln>
        </p:spPr>
      </p:pic>
      <p:sp>
        <p:nvSpPr>
          <p:cNvPr id="534" name="Rectangle 5"/>
          <p:cNvSpPr/>
          <p:nvPr/>
        </p:nvSpPr>
        <p:spPr>
          <a:xfrm>
            <a:off x="539640" y="3759480"/>
            <a:ext cx="338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быструю речку дорога похож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ы бросишься в речку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у, нет! И я тож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учше останусь на берегу 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изнь и здоровье своё сберегу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fdef6"/>
                </a:solidFill>
                <a:latin typeface="Arial"/>
              </a:rPr>
              <a:t>Светофор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 вот и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ветофо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Высокий, виден издалека, а как же иначе? Он регулирует движени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Светофор» значит «носитель света». Он и несёт свет трёх разных цветов: красного, жёлтого и зелёного. Эти цвета выбраны не случайно. Они очень яркие и видны в любую погод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7" name="Picture 5" descr="P3130310"/>
          <p:cNvPicPr/>
          <p:nvPr/>
        </p:nvPicPr>
        <p:blipFill>
          <a:blip r:embed="rId1"/>
          <a:stretch/>
        </p:blipFill>
        <p:spPr>
          <a:xfrm>
            <a:off x="4500720" y="2997360"/>
            <a:ext cx="4392360" cy="3598560"/>
          </a:xfrm>
          <a:prstGeom prst="rect">
            <a:avLst/>
          </a:prstGeom>
          <a:ln w="0">
            <a:noFill/>
          </a:ln>
        </p:spPr>
      </p:pic>
      <p:sp>
        <p:nvSpPr>
          <p:cNvPr id="538" name="Rectangle 6"/>
          <p:cNvSpPr/>
          <p:nvPr/>
        </p:nvSpPr>
        <p:spPr>
          <a:xfrm>
            <a:off x="826920" y="3169440"/>
            <a:ext cx="2945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говаривает свет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ветофор зимой и лет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его велению 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ветопредставление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горелся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красны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начит, путь опасный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горелся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жёлтый –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ождать изволь т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зелёны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говорит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 стоишь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уть всем открыт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5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5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5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5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5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5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fdef6"/>
                </a:solidFill>
                <a:latin typeface="Arial"/>
              </a:rPr>
              <a:t>Опасные игры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езжая часть и тротуары – не место для игр. Ну, проезжая часть, это понятно. А почему нельзя играть на тротуаре? Во-первых, ты будешь мешать пешеходам. Кому-то из-за тебя придётся выйти на проезжую часть. Во-вторых, ты сам рискуешь – заиграешься и не заметишь, как выскочишь на мостовую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1" name="Picture 4" descr="P8260500"/>
          <p:cNvPicPr/>
          <p:nvPr/>
        </p:nvPicPr>
        <p:blipFill>
          <a:blip r:embed="rId1"/>
          <a:stretch/>
        </p:blipFill>
        <p:spPr>
          <a:xfrm>
            <a:off x="2843280" y="3068640"/>
            <a:ext cx="5832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61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род, в котором с тобой мы живём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жно по праву сравнить с букварё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збукой улиц, проспектов, доро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род даёт нам всё время уро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т она, азбука, - над головой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наки развешаны вдоль мостов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збуку города помни всегд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б не случилась с тобою бе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5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4T17:53:02Z</dcterms:created>
  <dc:creator>Admin</dc:creator>
  <dc:description/>
  <dc:language>en-US</dc:language>
  <cp:lastModifiedBy>Алексей</cp:lastModifiedBy>
  <dcterms:modified xsi:type="dcterms:W3CDTF">2019-01-10T16:10:13Z</dcterms:modified>
  <cp:revision>4</cp:revision>
  <dc:subject/>
  <dc:title>Слайд 1</dc:title>
</cp:coreProperties>
</file>