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4C38-9206-48D2-9B3C-ACE7431E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7C48-79BE-44DB-A853-168D32D7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0D18-0A79-4A1B-899B-E1050469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08CF-BDD2-493E-A88D-4E1AF92F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4C71-D4EC-4A9B-9F19-347CE970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26E9-9D84-4A1D-BF1B-0649597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51B7-A264-4BA8-83BB-512D340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D6C-4D85-4864-940F-BD6329C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1DB-EDF4-46D1-9B31-8647EF1D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BCF-6620-42AB-A33B-D4E00FAD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8F3-CD15-4F31-9C2B-99AD3C7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42D6-B90C-4224-BDC4-05270037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0A8-6DF5-4637-8CF5-6D95D32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A12-AC10-4006-A914-58A2D78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9856-8F9A-4794-80D1-908447C3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88BF-EC32-4129-B295-556BB366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83A4-F7D2-4488-922E-133F6C5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B6B5-A858-45A2-A0C9-CDB88FC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8A1D-6E58-4559-816C-DFAEB077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EBD-D9FE-442E-8E05-F10AF6B2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2F62-1AF6-4EF8-9F83-9C5D20AE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6EEA-F389-43D4-BE6A-5EEB313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76F5-F36F-48A1-BC78-2721DCE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F17C-A2A8-4E46-9CB4-99C4517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FCB0-263E-4C87-89BE-ABEC2D878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B8D6-3B45-4E7A-8079-B0EE5B6641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Азбука безопас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37712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двин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ьга Александровн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ОШ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9640" y="249192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«Дорожный язык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га встречает нас прямо у порога. А на ней такое творится! Все куда-то мчатся, автомобили друг другу фарами подмигивают, светофор цвет меняет! На каждом шагу разноцветные знаки: кружки, треугольники, квадраты. И асфальт весь белыми линиями расчерчен… Это дорожный язык! Язык – это не обязательно слова. Люди давно договорились, как объясняться на дорогах при помощи разных сигн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P3140332"/>
          <p:cNvPicPr/>
          <p:nvPr/>
        </p:nvPicPr>
        <p:blipFill>
          <a:blip r:embed="rId1"/>
          <a:stretch/>
        </p:blipFill>
        <p:spPr>
          <a:xfrm>
            <a:off x="3348000" y="335772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шех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, кто выходит на дорогу получает почётное звание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есть тот, кт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ком ходи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сли на проезжей части главный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на тротуаре, конечно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шеходов на дороге устроены специальные пешеходные дорожки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отуар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водителям отдана широка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езжая ча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324000" y="3933720"/>
            <a:ext cx="2952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ороде нашем транспорта м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чень опасной стала дор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спокойно ходить гуля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правила движения зн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8" descr="P3130302"/>
          <p:cNvPicPr/>
          <p:nvPr/>
        </p:nvPicPr>
        <p:blipFill>
          <a:blip r:embed="rId1"/>
          <a:stretch/>
        </p:blipFill>
        <p:spPr>
          <a:xfrm>
            <a:off x="3419640" y="3789360"/>
            <a:ext cx="5257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Автоинспектор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920" y="407628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порядком на дороге следит строги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инспек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может остановить и пешехода, если пешеход наруш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дорожного движения. Такая у автоинспе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: смотреть за тем, чтобы люди и автомобили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ге не пострад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P3140328"/>
          <p:cNvPicPr/>
          <p:nvPr/>
        </p:nvPicPr>
        <p:blipFill>
          <a:blip r:embed="rId1"/>
          <a:stretch/>
        </p:blipFill>
        <p:spPr>
          <a:xfrm>
            <a:off x="4211640" y="907920"/>
            <a:ext cx="4753080" cy="2951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5"/>
          <p:cNvSpPr/>
          <p:nvPr/>
        </p:nvSpPr>
        <p:spPr>
          <a:xfrm>
            <a:off x="250920" y="1125360"/>
            <a:ext cx="36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утаешь сигнал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гуляй один без мам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ажай в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у и родител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инспектору ГА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циплиной помог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шеходный перех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ротуару идти просто и приятно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нужно пересечь проезжую 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о найти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P3140329"/>
          <p:cNvPicPr/>
          <p:nvPr/>
        </p:nvPicPr>
        <p:blipFill>
          <a:blip r:embed="rId1"/>
          <a:stretch/>
        </p:blipFill>
        <p:spPr>
          <a:xfrm>
            <a:off x="4067280" y="2852640"/>
            <a:ext cx="4897440" cy="381636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5"/>
          <p:cNvSpPr/>
          <p:nvPr/>
        </p:nvSpPr>
        <p:spPr>
          <a:xfrm>
            <a:off x="612000" y="3285000"/>
            <a:ext cx="273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а улицу пош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а не наш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дорогу перей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«зебра» на пут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гадали, мы реш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е это за прохо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мы все узн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ебра» - это перехо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рекрёсток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ереход никак не обозначен, то ищ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рекрёсток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есть пересечение дорог. Но прежде чем переходить дорогу, нужно оценить обстановку. Посмотри хорошенько налево и напра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ходи проезжую часть строго поперё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икогда не беги через дорог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ы ж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а н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б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P3130313"/>
          <p:cNvPicPr/>
          <p:nvPr/>
        </p:nvPicPr>
        <p:blipFill>
          <a:blip r:embed="rId3"/>
          <a:stretch/>
        </p:blipFill>
        <p:spPr>
          <a:xfrm>
            <a:off x="4067280" y="3500280"/>
            <a:ext cx="4895640" cy="3141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539640" y="375948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быструю речку дорога похо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бросишься в реч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, нет! И я то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останусь на берег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знь и здоровье своё сберег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Светофор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ысокий, виден издалека, а как же иначе? Он регулирует дви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ветофор» значит «носитель света». Он и несёт свет трёх разных цветов: красного, жёлтого и зелёного. Эти цвета выбраны не случайно. Они очень яркие и видны в любую по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P3130310"/>
          <p:cNvPicPr/>
          <p:nvPr/>
        </p:nvPicPr>
        <p:blipFill>
          <a:blip r:embed="rId1"/>
          <a:stretch/>
        </p:blipFill>
        <p:spPr>
          <a:xfrm>
            <a:off x="4500720" y="2997360"/>
            <a:ext cx="4392360" cy="35985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6"/>
          <p:cNvSpPr/>
          <p:nvPr/>
        </p:nvSpPr>
        <p:spPr>
          <a:xfrm>
            <a:off x="826920" y="3169440"/>
            <a:ext cx="294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говаривает св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зимой и л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его велению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представлен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рел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с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, путь опасны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релс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жёлты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ождать изволь 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лё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овори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стоиш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ь всем откры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Опасные игр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зжая часть и тротуары – не место для игр. Ну, проезжая часть, это понятно. А почему нельзя играть на тротуаре? Во-первых, ты будешь мешать пешеходам. Кому-то из-за тебя придётся выйти на проезжую часть. Во-вторых, ты сам рискуешь – заиграешься и не заметишь, как выскочишь на мостовую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P8260500"/>
          <p:cNvPicPr/>
          <p:nvPr/>
        </p:nvPicPr>
        <p:blipFill>
          <a:blip r:embed="rId1"/>
          <a:stretch/>
        </p:blipFill>
        <p:spPr>
          <a:xfrm>
            <a:off x="2843280" y="3068640"/>
            <a:ext cx="58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, в котором с тобой мы живё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по праву сравнить с буквар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збукой улиц, проспектов, д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 даёт нам всё время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она, азбука, - над голов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и развешаны вдоль мостов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збуку города помни всег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 не случилась с тобою б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7:53:02Z</dcterms:created>
  <dc:creator>Admin</dc:creator>
  <dc:description/>
  <dc:language>en-US</dc:language>
  <cp:lastModifiedBy>Алексей</cp:lastModifiedBy>
  <dcterms:modified xsi:type="dcterms:W3CDTF">2019-01-10T16:10:13Z</dcterms:modified>
  <cp:revision>4</cp:revision>
  <dc:subject/>
  <dc:title>Слайд 1</dc:title>
</cp:coreProperties>
</file>