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5.gif" ContentType="image/gif"/>
  <Override PartName="/ppt/media/image35.gif" ContentType="image/gif"/>
  <Override PartName="/ppt/media/image38.jpeg" ContentType="image/jpeg"/>
  <Override PartName="/ppt/media/image27.jpeg" ContentType="image/jpeg"/>
  <Override PartName="/ppt/media/image17.gif" ContentType="image/gif"/>
  <Override PartName="/ppt/media/image26.jpeg" ContentType="image/jpeg"/>
  <Override PartName="/ppt/media/image25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16.gif" ContentType="image/gif"/>
  <Override PartName="/ppt/media/image30.jpeg" ContentType="image/jpeg"/>
  <Override PartName="/ppt/media/image12.gif" ContentType="image/gif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33.gif" ContentType="image/gif"/>
  <Override PartName="/ppt/media/image34.gif" ContentType="image/gif"/>
  <Override PartName="/ppt/media/image9.gif" ContentType="image/gif"/>
  <Override PartName="/ppt/media/image32.jpeg" ContentType="image/jpeg"/>
  <Override PartName="/ppt/media/image36.gif" ContentType="image/gif"/>
  <Override PartName="/ppt/media/image41.png" ContentType="image/png"/>
  <Override PartName="/ppt/media/image40.jpeg" ContentType="image/jpeg"/>
  <Override PartName="/ppt/media/image13.gif" ContentType="image/gif"/>
  <Override PartName="/ppt/media/image42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23.jpeg" ContentType="image/jpeg"/>
  <Override PartName="/ppt/media/image31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D79D-1966-4F2E-AA17-4E384D659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405-17D6-49C6-88B8-AC000041A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023-78D0-47A3-B325-616F126C4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380-A72E-4B38-8A4A-FEEC98C1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791-3473-43A9-B8B6-DBC2F96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3E3-AF02-4998-99F7-5F0EFDA1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317-4233-4771-BFBA-16246BF9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9A9-0681-4627-A03D-3973032E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012-A96C-4D55-B449-E073B0C5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D3A-7645-4C84-AF0C-F00D173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B12-9925-467C-9EB9-C736DED1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6D7-14DF-4060-AD01-AAB796B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A21-9CAE-405E-9A24-1A011D40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058-4DF9-4FED-9E37-2D807848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858-5B1F-4A72-82BB-01F6F85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A791-9316-41AB-A75E-D1BAB6519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1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20.png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6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16_793174388.jpg"/>
          <p:cNvPicPr/>
          <p:nvPr/>
        </p:nvPicPr>
        <p:blipFill>
          <a:blip r:embed="rId4"/>
          <a:stretch/>
        </p:blipFill>
        <p:spPr>
          <a:xfrm>
            <a:off x="214200" y="785880"/>
            <a:ext cx="4286520" cy="5815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2"/>
          <p:cNvSpPr/>
          <p:nvPr/>
        </p:nvSpPr>
        <p:spPr>
          <a:xfrm>
            <a:off x="4500720" y="1428840"/>
            <a:ext cx="5072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не слы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живого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 жизни с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третился сво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мертные тво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с каждым г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м всё силь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Иса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30718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214200" y="642960"/>
            <a:ext cx="8929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 каким писателем познакомились? Что узнали о его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аковы по жанру его главные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то первым начал писать басни ещё в Древней Гре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Что такое басня? Как она устрое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Назовите известные вам басни Кры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57168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Андреевич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top_im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2b03cbdf0dc09fed6834e2b5866644c3.gif"/>
          <p:cNvPicPr/>
          <p:nvPr/>
        </p:nvPicPr>
        <p:blipFill>
          <a:blip r:embed="rId2"/>
          <a:stretch/>
        </p:blipFill>
        <p:spPr>
          <a:xfrm>
            <a:off x="428616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2b03cbdf0dc09fed6834e2b5866644c3.gif"/>
          <p:cNvPicPr/>
          <p:nvPr/>
        </p:nvPicPr>
        <p:blipFill>
          <a:blip r:embed="rId3"/>
          <a:stretch/>
        </p:blipFill>
        <p:spPr>
          <a:xfrm>
            <a:off x="3000240" y="200016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2b03cbdf0dc09fed6834e2b5866644c3.gif"/>
          <p:cNvPicPr/>
          <p:nvPr/>
        </p:nvPicPr>
        <p:blipFill>
          <a:blip r:embed="rId4"/>
          <a:stretch/>
        </p:blipFill>
        <p:spPr>
          <a:xfrm>
            <a:off x="0" y="200016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Documents and Settings\Валера\Мои документы\олино\к уроку литературы\литература 5 класс\крылов басни\drama.JPG"/>
          <p:cNvPicPr/>
          <p:nvPr/>
        </p:nvPicPr>
        <p:blipFill>
          <a:blip r:embed="rId5"/>
          <a:stretch/>
        </p:blipFill>
        <p:spPr>
          <a:xfrm>
            <a:off x="5492880" y="920880"/>
            <a:ext cx="2011320" cy="1298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2b03cbdf0dc09fed6834e2b5866644c3.gif"/>
          <p:cNvPicPr/>
          <p:nvPr/>
        </p:nvPicPr>
        <p:blipFill>
          <a:blip r:embed="rId6"/>
          <a:stretch/>
        </p:blipFill>
        <p:spPr>
          <a:xfrm>
            <a:off x="5332320" y="192888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0"/>
          <p:cNvSpPr/>
          <p:nvPr/>
        </p:nvSpPr>
        <p:spPr>
          <a:xfrm>
            <a:off x="571680" y="2928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об  И.А.Крылове (тетрадь + стр.86 -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тельное чтение наизусть одной из басен (стр.88-92) - индивиду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спектакль по любимой басне  с костюмами, декорациями -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314316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эзоп картина 17 века.jpg"/>
          <p:cNvPicPr/>
          <p:nvPr/>
        </p:nvPicPr>
        <p:blipFill>
          <a:blip r:embed="rId4"/>
          <a:stretch/>
        </p:blipFill>
        <p:spPr>
          <a:xfrm>
            <a:off x="428760" y="600120"/>
            <a:ext cx="3000240" cy="5973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иллюстрация к басням эзопа 15 век франция манускрипт.jpg"/>
          <p:cNvPicPr/>
          <p:nvPr/>
        </p:nvPicPr>
        <p:blipFill>
          <a:blip r:embed="rId5"/>
          <a:stretch/>
        </p:blipFill>
        <p:spPr>
          <a:xfrm>
            <a:off x="4429080" y="2500200"/>
            <a:ext cx="4057560" cy="40006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"/>
          <p:cNvSpPr/>
          <p:nvPr/>
        </p:nvSpPr>
        <p:spPr>
          <a:xfrm>
            <a:off x="428760" y="62150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зоп.  Картина 17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00720" y="65199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унок 15 века к басням Эз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3643200" y="6429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Эзоп - древнегреческий баснопис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раб, жил в 6 веке до н.э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был очень остроумным и популярным человеком своего време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читается родоначальником  жанра бас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5" descr="9f3cc160d353b3503bbc08acbacc0c27.gif"/>
          <p:cNvPicPr/>
          <p:nvPr/>
        </p:nvPicPr>
        <p:blipFill>
          <a:blip r:embed="rId6"/>
          <a:stretch/>
        </p:blipFill>
        <p:spPr>
          <a:xfrm>
            <a:off x="3714840" y="6143760"/>
            <a:ext cx="4762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1" descr="16_793174388.jpg"/>
          <p:cNvPicPr/>
          <p:nvPr/>
        </p:nvPicPr>
        <p:blipFill>
          <a:blip r:embed="rId4"/>
          <a:stretch/>
        </p:blipFill>
        <p:spPr>
          <a:xfrm>
            <a:off x="214200" y="785880"/>
            <a:ext cx="337032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2"/>
          <p:cNvSpPr/>
          <p:nvPr/>
        </p:nvSpPr>
        <p:spPr>
          <a:xfrm>
            <a:off x="3571920" y="857160"/>
            <a:ext cx="5357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.  Коваленко. Крылатые строки русской поэзии.— Москва, Современник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.Яновский-Максимов. Сердцу дорогие приметы.— Москва, Просвещение,197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Русская литература  19-20 веков. Пособие для абитуриентов.— Москва, Русское слово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История русской литературы 19 века. 1800-1830-е годы.— Москва, Просвещение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1500120" y="5857920"/>
            <a:ext cx="55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Учитель — Сальникова П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7168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Андреевич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top_im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b03cbdf0dc09fed6834e2b5866644c3.gif"/>
          <p:cNvPicPr/>
          <p:nvPr/>
        </p:nvPicPr>
        <p:blipFill>
          <a:blip r:embed="rId2"/>
          <a:stretch/>
        </p:blipFill>
        <p:spPr>
          <a:xfrm>
            <a:off x="4286160" y="0"/>
            <a:ext cx="38116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2b03cbdf0dc09fed6834e2b5866644c3.gif"/>
          <p:cNvPicPr/>
          <p:nvPr/>
        </p:nvPicPr>
        <p:blipFill>
          <a:blip r:embed="rId3"/>
          <a:stretch/>
        </p:blipFill>
        <p:spPr>
          <a:xfrm>
            <a:off x="2928960" y="185724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2b03cbdf0dc09fed6834e2b5866644c3.gif"/>
          <p:cNvPicPr/>
          <p:nvPr/>
        </p:nvPicPr>
        <p:blipFill>
          <a:blip r:embed="rId4"/>
          <a:stretch/>
        </p:blipFill>
        <p:spPr>
          <a:xfrm>
            <a:off x="-214200" y="1857240"/>
            <a:ext cx="3811320" cy="642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285840" y="2500200"/>
            <a:ext cx="842940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лся 2 февраля в Москве, много читал и считался одним из самых просвещенных людей свое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-за бедности семьи   Крылову с десяти лет пришлось работать писцом в Тверском суде..  В 11 лет написал первую бас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1786 года пишет пьесы, издаёт сатирический журнал «Почта духов», но басни—главные произведения писателя. Девять книг  включают более 200 бас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812 стал библиотекарем только что открывшейся Публичной библиоте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 прослужил 30 лет, выйдя в отставку в 1841. Много работал по составлению библиографических указателей и славяно-русского слова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 ноября  1844 в возрасте 75 лет Крылов скончался. Похоронен в Петербур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:\Documents and Settings\Валера\Мои документы\олино\к уроку литературы\литература 5 класс\крылов басни\drama.JPG"/>
          <p:cNvPicPr/>
          <p:nvPr/>
        </p:nvPicPr>
        <p:blipFill>
          <a:blip r:embed="rId5"/>
          <a:stretch/>
        </p:blipFill>
        <p:spPr>
          <a:xfrm>
            <a:off x="5425920" y="853920"/>
            <a:ext cx="2011680" cy="1292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2b03cbdf0dc09fed6834e2b5866644c3.gif"/>
          <p:cNvPicPr/>
          <p:nvPr/>
        </p:nvPicPr>
        <p:blipFill>
          <a:blip r:embed="rId6"/>
          <a:stretch/>
        </p:blipFill>
        <p:spPr>
          <a:xfrm>
            <a:off x="5332320" y="185724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85840" y="2428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иографии пис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642960" y="714240"/>
            <a:ext cx="7572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сня — это небольшой стихотворный рассказ, состоящий из двух ч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сновное повеств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в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аллегор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иносказательной) форме показана жизнь. Герои—животные и люди. Присутствую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сати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лицетворени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эзопов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язык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Мора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учительный вывод из основного повествования,  который даётся в начале или в конце ба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0fc859584c08c38f7dff5e31628f1424.gif"/>
          <p:cNvPicPr/>
          <p:nvPr/>
        </p:nvPicPr>
        <p:blipFill>
          <a:blip r:embed="rId10"/>
          <a:stretch/>
        </p:blipFill>
        <p:spPr>
          <a:xfrm>
            <a:off x="285840" y="6286680"/>
            <a:ext cx="2426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0fc859584c08c38f7dff5e31628f1424.gif"/>
          <p:cNvPicPr/>
          <p:nvPr/>
        </p:nvPicPr>
        <p:blipFill>
          <a:blip r:embed="rId11"/>
          <a:stretch/>
        </p:blipFill>
        <p:spPr>
          <a:xfrm>
            <a:off x="8064360" y="6066000"/>
            <a:ext cx="774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428760" y="71424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лего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иносказание—изображение отвлечённого понятия  через конкретный об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 народной сказке хитрость  изображена через образ ли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28760" y="1857240"/>
            <a:ext cx="778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ти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злой смех, при помощи которого писатель  изображает пороки общества, чтобы их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И.А.Крылов  через историю Вороны и Лисицы говорит о том, что нельзя верить всему, что тебе говор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00040" y="3214800"/>
            <a:ext cx="6929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лицетво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наделение человеческими качествами животных, оживление предметов, явлений прир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 стихотворении Ф.И.Тютчева оживают  времена г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има недаром злится. Прошла её п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сна в окно стучится и гонит со двор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1" descr="4677931ddbb3b6e74d62e9389505b30a.gif"/>
          <p:cNvPicPr/>
          <p:nvPr/>
        </p:nvPicPr>
        <p:blipFill>
          <a:blip r:embed="rId4"/>
          <a:stretch/>
        </p:blipFill>
        <p:spPr>
          <a:xfrm>
            <a:off x="281160" y="5778360"/>
            <a:ext cx="779400" cy="592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642960" y="5072040"/>
            <a:ext cx="814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зопов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умение замаскировать  главную мыс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имени греческого баснописца Эзо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0" descr="9f3cc160d353b3503bbc08acbacc0c27.gif"/>
          <p:cNvPicPr/>
          <p:nvPr/>
        </p:nvPicPr>
        <p:blipFill>
          <a:blip r:embed="rId5"/>
          <a:stretch/>
        </p:blipFill>
        <p:spPr>
          <a:xfrm>
            <a:off x="5214960" y="5500800"/>
            <a:ext cx="4762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571680" y="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926400" y="3143160"/>
            <a:ext cx="2217600" cy="3357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571840" y="0"/>
            <a:ext cx="5786280" cy="70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ж сколько раз твердили ми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то лесть гнусна, вредна; но только всё не впр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в сердце льстец всегда отыщет уго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е где-то Бог послал кусочек сы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ель Ворона взгромоздясь, позавтракать было совсем уж собр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 призадумалась, а сыр во рту держ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у беду Лиса близёхонько беж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руг сырный дух Лису остан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ица видит сыр, Лисицу сыр пле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утовка к дереву на цыпочках подход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тит хвостом, с Вороны глаз не сво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говорит так сладко, чуть дыш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Голубушка, как хорош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 что за шейка, что за глаз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зывать, так, право, сказ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пёрышки!  Какой нос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, верно, ангельский быть должен голос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й, светик, не стыдись! Что, ежели, сестр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красоте такой и петь ты мастерица,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ты б у нас была царь-птица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уньина с похвал вскружилась голо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радости в зобу дыханье спёрло,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приветливы Лисицыны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а каркнула во всё воронье гор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р выпал—с ним была плутовка так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14200" y="0"/>
            <a:ext cx="285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А И ЛИС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4677931ddbb3b6e74d62e9389505b30a.gif"/>
          <p:cNvPicPr/>
          <p:nvPr/>
        </p:nvPicPr>
        <p:blipFill>
          <a:blip r:embed="rId3"/>
          <a:stretch/>
        </p:blipFill>
        <p:spPr>
          <a:xfrm>
            <a:off x="706320" y="5778360"/>
            <a:ext cx="70812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364320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6" descr="fe9dc6951702b5e6b224166e1c4bded0.gif"/>
          <p:cNvPicPr/>
          <p:nvPr/>
        </p:nvPicPr>
        <p:blipFill>
          <a:blip r:embed="rId4"/>
          <a:stretch/>
        </p:blipFill>
        <p:spPr>
          <a:xfrm>
            <a:off x="4786200" y="4214880"/>
            <a:ext cx="2132280" cy="2440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8" descr="3ddbcc0dd8ce46c5290c80251b000008.gif"/>
          <p:cNvPicPr/>
          <p:nvPr/>
        </p:nvPicPr>
        <p:blipFill>
          <a:blip r:embed="rId5"/>
          <a:stretch/>
        </p:blipFill>
        <p:spPr>
          <a:xfrm>
            <a:off x="1928880" y="1214280"/>
            <a:ext cx="1500120" cy="2670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8cb9c869e7a8180c01fb490a4e809d9f.gif"/>
          <p:cNvPicPr/>
          <p:nvPr/>
        </p:nvPicPr>
        <p:blipFill>
          <a:blip r:embed="rId6"/>
          <a:stretch/>
        </p:blipFill>
        <p:spPr>
          <a:xfrm>
            <a:off x="642960" y="714240"/>
            <a:ext cx="1252440" cy="1252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2" descr="30d0341fba49cd3f1c5a5b99c22bd247.gif"/>
          <p:cNvPicPr/>
          <p:nvPr/>
        </p:nvPicPr>
        <p:blipFill>
          <a:blip r:embed="rId7"/>
          <a:stretch/>
        </p:blipFill>
        <p:spPr>
          <a:xfrm>
            <a:off x="357120" y="2571840"/>
            <a:ext cx="1785960" cy="2582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4" descr="e08d5c04cd8ada891b19ca41e9d94453.gif"/>
          <p:cNvPicPr/>
          <p:nvPr/>
        </p:nvPicPr>
        <p:blipFill>
          <a:blip r:embed="rId8"/>
          <a:stretch/>
        </p:blipFill>
        <p:spPr>
          <a:xfrm>
            <a:off x="7072200" y="1643040"/>
            <a:ext cx="1689120" cy="2714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6" descr="ccdb4e357928918de4d01ae60b892233.gif"/>
          <p:cNvPicPr/>
          <p:nvPr/>
        </p:nvPicPr>
        <p:blipFill>
          <a:blip r:embed="rId9"/>
          <a:stretch/>
        </p:blipFill>
        <p:spPr>
          <a:xfrm>
            <a:off x="3857760" y="1571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7" descr="95ede55943addb3a7d3a4048e95a63f1.gif"/>
          <p:cNvPicPr/>
          <p:nvPr/>
        </p:nvPicPr>
        <p:blipFill>
          <a:blip r:embed="rId10"/>
          <a:stretch/>
        </p:blipFill>
        <p:spPr>
          <a:xfrm>
            <a:off x="6929280" y="4929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8" descr="626bc3773f20329cd538bae15b559b05.gif"/>
          <p:cNvPicPr/>
          <p:nvPr/>
        </p:nvPicPr>
        <p:blipFill>
          <a:blip r:embed="rId11"/>
          <a:stretch/>
        </p:blipFill>
        <p:spPr>
          <a:xfrm>
            <a:off x="5929200" y="571680"/>
            <a:ext cx="1990800" cy="92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9"/>
          <p:cNvSpPr/>
          <p:nvPr/>
        </p:nvSpPr>
        <p:spPr>
          <a:xfrm>
            <a:off x="2500200" y="50004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АНЦ-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8_TANEC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51b1eb9fc4fccb0f70d8c46cb668b026.gif"/>
          <p:cNvPicPr/>
          <p:nvPr/>
        </p:nvPicPr>
        <p:blipFill>
          <a:blip r:embed="rId13"/>
          <a:stretch/>
        </p:blipFill>
        <p:spPr>
          <a:xfrm>
            <a:off x="2585880" y="1643040"/>
            <a:ext cx="1903680" cy="2714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0" descr="9e3f41f0b53b93230f8c7e63b3d2d29f.gif"/>
          <p:cNvPicPr/>
          <p:nvPr/>
        </p:nvPicPr>
        <p:blipFill>
          <a:blip r:embed="rId14"/>
          <a:stretch/>
        </p:blipFill>
        <p:spPr>
          <a:xfrm>
            <a:off x="1714680" y="3929040"/>
            <a:ext cx="2286000" cy="2679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0fc859584c08c38f7dff5e31628f1424.gif"/>
          <p:cNvPicPr/>
          <p:nvPr/>
        </p:nvPicPr>
        <p:blipFill>
          <a:blip r:embed="rId15"/>
          <a:stretch/>
        </p:blipFill>
        <p:spPr>
          <a:xfrm>
            <a:off x="285840" y="6286680"/>
            <a:ext cx="242640" cy="30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5447cdb8a225.jpg"/>
          <p:cNvPicPr/>
          <p:nvPr/>
        </p:nvPicPr>
        <p:blipFill>
          <a:blip r:embed="rId1"/>
          <a:stretch/>
        </p:blipFill>
        <p:spPr>
          <a:xfrm>
            <a:off x="285840" y="1500120"/>
            <a:ext cx="5767200" cy="4357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2b03cbdf0dc09fed6834e2b5866644c3.gif"/>
          <p:cNvPicPr/>
          <p:nvPr/>
        </p:nvPicPr>
        <p:blipFill>
          <a:blip r:embed="rId2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2b03cbdf0dc09fed6834e2b5866644c3.gif"/>
          <p:cNvPicPr/>
          <p:nvPr/>
        </p:nvPicPr>
        <p:blipFill>
          <a:blip r:embed="rId3"/>
          <a:stretch/>
        </p:blipFill>
        <p:spPr>
          <a:xfrm>
            <a:off x="364320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2b03cbdf0dc09fed6834e2b5866644c3.gif"/>
          <p:cNvPicPr/>
          <p:nvPr/>
        </p:nvPicPr>
        <p:blipFill>
          <a:blip r:embed="rId4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357120" y="85716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это за бас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240" y="150012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вар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бедь, Щука и 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тышка и 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тышка и 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н и Мо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лк и Ягн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лк на пса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екоза и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8" descr="Lebed_chuka_rak03.jpg"/>
          <p:cNvPicPr/>
          <p:nvPr/>
        </p:nvPicPr>
        <p:blipFill>
          <a:blip r:embed="rId5"/>
          <a:stretch/>
        </p:blipFill>
        <p:spPr>
          <a:xfrm>
            <a:off x="285840" y="1285920"/>
            <a:ext cx="602136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Martishka_ochki5.jpg"/>
          <p:cNvPicPr/>
          <p:nvPr/>
        </p:nvPicPr>
        <p:blipFill>
          <a:blip r:embed="rId6"/>
          <a:stretch/>
        </p:blipFill>
        <p:spPr>
          <a:xfrm>
            <a:off x="285840" y="1285920"/>
            <a:ext cx="6072120" cy="461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Martishka_zerkalo01.jpg"/>
          <p:cNvPicPr/>
          <p:nvPr/>
        </p:nvPicPr>
        <p:blipFill>
          <a:blip r:embed="rId7"/>
          <a:stretch/>
        </p:blipFill>
        <p:spPr>
          <a:xfrm>
            <a:off x="285840" y="1214280"/>
            <a:ext cx="6072120" cy="4714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i_kalend3-fev2004_3.jpg"/>
          <p:cNvPicPr/>
          <p:nvPr/>
        </p:nvPicPr>
        <p:blipFill>
          <a:blip r:embed="rId8"/>
          <a:stretch/>
        </p:blipFill>
        <p:spPr>
          <a:xfrm>
            <a:off x="2357280" y="857160"/>
            <a:ext cx="4000680" cy="5600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krylov13.gif"/>
          <p:cNvPicPr/>
          <p:nvPr/>
        </p:nvPicPr>
        <p:blipFill>
          <a:blip r:embed="rId9"/>
          <a:stretch/>
        </p:blipFill>
        <p:spPr>
          <a:xfrm>
            <a:off x="2357280" y="85716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3" descr="волк на псарне.jpg"/>
          <p:cNvPicPr/>
          <p:nvPr/>
        </p:nvPicPr>
        <p:blipFill>
          <a:blip r:embed="rId10"/>
          <a:stretch/>
        </p:blipFill>
        <p:spPr>
          <a:xfrm>
            <a:off x="2357280" y="500040"/>
            <a:ext cx="4084920" cy="6143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4" descr="стрекоза и муравей.jpg"/>
          <p:cNvPicPr/>
          <p:nvPr/>
        </p:nvPicPr>
        <p:blipFill>
          <a:blip r:embed="rId11"/>
          <a:stretch/>
        </p:blipFill>
        <p:spPr>
          <a:xfrm>
            <a:off x="2357280" y="500040"/>
            <a:ext cx="4102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2b03cbdf0dc09fed6834e2b5866644c3.gif"/>
          <p:cNvPicPr/>
          <p:nvPr/>
        </p:nvPicPr>
        <p:blipFill>
          <a:blip r:embed="rId1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2b03cbdf0dc09fed6834e2b5866644c3.gif"/>
          <p:cNvPicPr/>
          <p:nvPr/>
        </p:nvPicPr>
        <p:blipFill>
          <a:blip r:embed="rId2"/>
          <a:stretch/>
        </p:blipFill>
        <p:spPr>
          <a:xfrm>
            <a:off x="2714760" y="0"/>
            <a:ext cx="3811320" cy="642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285840" y="857160"/>
            <a:ext cx="56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знаем героя по репли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14200" y="128592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всё пела? Это де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поди же попляш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он?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углу, припав за уксусным бочонком…трудится над курчон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шь были б жёлу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я от них жире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 ты, Кукушечка, мой с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янешь плавно и протя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ём лесу у нас такой певицы не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удавилась бы с то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б на неё хоть чуть была похож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муравей.jpg"/>
          <p:cNvPicPr/>
          <p:nvPr/>
        </p:nvPicPr>
        <p:blipFill>
          <a:blip r:embed="rId4"/>
          <a:stretch/>
        </p:blipFill>
        <p:spPr>
          <a:xfrm>
            <a:off x="4757760" y="1071720"/>
            <a:ext cx="3409920" cy="435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1188450825_collection_of_funny_photos005_givotnie_47.jpg"/>
          <p:cNvPicPr/>
          <p:nvPr/>
        </p:nvPicPr>
        <p:blipFill>
          <a:blip r:embed="rId5"/>
          <a:stretch/>
        </p:blipFill>
        <p:spPr>
          <a:xfrm>
            <a:off x="4714920" y="1143000"/>
            <a:ext cx="3865680" cy="3286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c4f04ad11c19b360293c3a6afc057fcc.gif"/>
          <p:cNvPicPr/>
          <p:nvPr/>
        </p:nvPicPr>
        <p:blipFill>
          <a:blip r:embed="rId6"/>
          <a:stretch/>
        </p:blipFill>
        <p:spPr>
          <a:xfrm>
            <a:off x="7286760" y="3143160"/>
            <a:ext cx="2286000" cy="31179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1" descr="55d8084dbe25961e93acadadbc3b116f.gif"/>
          <p:cNvPicPr/>
          <p:nvPr/>
        </p:nvPicPr>
        <p:blipFill>
          <a:blip r:embed="rId7"/>
          <a:stretch/>
        </p:blipFill>
        <p:spPr>
          <a:xfrm>
            <a:off x="4143240" y="1857240"/>
            <a:ext cx="2820960" cy="3286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2" descr="bbbfa59a91b5c16e3b44ead57c059f5b.gif"/>
          <p:cNvPicPr/>
          <p:nvPr/>
        </p:nvPicPr>
        <p:blipFill>
          <a:blip r:embed="rId8"/>
          <a:stretch/>
        </p:blipFill>
        <p:spPr>
          <a:xfrm>
            <a:off x="4143240" y="2428920"/>
            <a:ext cx="2554560" cy="2928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3" descr="802c9e3e842e5b4d1838bd4d9b08244e.gif"/>
          <p:cNvPicPr/>
          <p:nvPr/>
        </p:nvPicPr>
        <p:blipFill>
          <a:blip r:embed="rId9"/>
          <a:stretch/>
        </p:blipFill>
        <p:spPr>
          <a:xfrm>
            <a:off x="4857840" y="2071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34 0.13889 L 0.16337 -0.22592 E">
                                      <p:cBhvr>
                                        <p:cTn id="29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85 0.15417 L -0.03785 -0.17917 E">
                                      <p:cBhvr>
                                        <p:cTn id="31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10833 L -0.14619 -0.38519 E">
                                      <p:cBhvr>
                                        <p:cTn id="31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-0.14699 L -0.03646 -0.18889 E">
                                      <p:cBhvr>
                                        <p:cTn id="33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00799 0.14699 E">
                                      <p:cBhvr>
                                        <p:cTn id="35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214200" y="57168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чтём басн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1" descr="Slon_moska01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58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4" descr="Slon_moska02.jpg"/>
          <p:cNvPicPr/>
          <p:nvPr/>
        </p:nvPicPr>
        <p:blipFill>
          <a:blip r:embed="rId2"/>
          <a:stretch/>
        </p:blipFill>
        <p:spPr>
          <a:xfrm>
            <a:off x="4714920" y="1357200"/>
            <a:ext cx="4140000" cy="31435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5"/>
          <p:cNvSpPr/>
          <p:nvPr/>
        </p:nvSpPr>
        <p:spPr>
          <a:xfrm>
            <a:off x="214200" y="1000080"/>
            <a:ext cx="4429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лон и Мось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 улицам Слона вод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к видно, напок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звестно, что Слоны в диковинку у на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за Слоном толпы зевак ход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коле ни возьмись, навстречу Моська 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видевши Слона, ну на него мета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лаять, и визжать, и рва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у так и лезет в драку с ним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Соседка, перестань срамитьс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й Шавка говорит, - тебе ль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лоном вози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мотри, уж ты хрипишь, а он себе ид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пе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лаю твоего совсем не примеч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Эх, эх! - ей Моська отвечает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от то-то мне и духу прид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я, совсем без дра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гу попасть в большие забия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ускай же говорят соба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Ай, Моська! знать, она силь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лает на Слона!"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2b03cbdf0dc09fed6834e2b5866644c3.gif"/>
          <p:cNvPicPr/>
          <p:nvPr/>
        </p:nvPicPr>
        <p:blipFill>
          <a:blip r:embed="rId4"/>
          <a:stretch/>
        </p:blipFill>
        <p:spPr>
          <a:xfrm>
            <a:off x="278604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2b03cbdf0dc09fed6834e2b5866644c3.gif"/>
          <p:cNvPicPr/>
          <p:nvPr/>
        </p:nvPicPr>
        <p:blipFill>
          <a:blip r:embed="rId5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Slon_moska03.jpg"/>
          <p:cNvPicPr/>
          <p:nvPr/>
        </p:nvPicPr>
        <p:blipFill>
          <a:blip r:embed="rId6"/>
          <a:stretch/>
        </p:blipFill>
        <p:spPr>
          <a:xfrm>
            <a:off x="4714920" y="1357200"/>
            <a:ext cx="4143240" cy="3146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" descr="Slon_moska06.jpg"/>
          <p:cNvPicPr/>
          <p:nvPr/>
        </p:nvPicPr>
        <p:blipFill>
          <a:blip r:embed="rId7"/>
          <a:stretch/>
        </p:blipFill>
        <p:spPr>
          <a:xfrm>
            <a:off x="4714920" y="1357200"/>
            <a:ext cx="4119480" cy="31435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i_kalend3-fev2004_3.jpg"/>
          <p:cNvPicPr/>
          <p:nvPr/>
        </p:nvPicPr>
        <p:blipFill>
          <a:blip r:embed="rId8"/>
          <a:stretch/>
        </p:blipFill>
        <p:spPr>
          <a:xfrm>
            <a:off x="4214880" y="714240"/>
            <a:ext cx="46432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3000"/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2:11:40Z</dcterms:created>
  <dc:creator>Test</dc:creator>
  <dc:description/>
  <dc:language>en-US</dc:language>
  <cp:lastModifiedBy>Whiplash</cp:lastModifiedBy>
  <dcterms:modified xsi:type="dcterms:W3CDTF">2005-12-31T22:13:24Z</dcterms:modified>
  <cp:revision>63</cp:revision>
  <dc:subject/>
  <dc:title>Слайд 1</dc:title>
</cp:coreProperties>
</file>