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5E3-E1F4-4B8E-B0CB-966BB061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7B4-EE53-49C6-9228-B9AC34E8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A5345-536E-4565-9937-8B62A043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08C00-D4A5-4183-AC7F-1DD662F0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AD274-B345-4CD8-8E04-5D3D304D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23A45-BA06-4E12-8C85-B47D275E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DE8AA-5B39-4819-AAE3-921366C6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5B421-2110-48F7-BCE8-439726B5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4AB98-2713-4B50-AF1D-76E18843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41D1C-BA16-473F-B7BD-0BEEA560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11996-8D10-43B6-A9B9-1DF6DFCC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0767F-11E7-44C3-AFC8-1DE4B97A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957-361D-4ED9-A43A-B421DA31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05230-98FC-4F93-B628-3A2A5DEF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6592C-3A03-4CF4-B2C6-30F4371C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3AB54-F42B-4AE5-87D1-49D9EC15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44551-53E5-40A5-9B3F-A941B073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CDCC2-299B-41B2-9826-D4611EAC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853D8-A317-4D2F-806E-C89B3F16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42C57-7BD7-4F10-A4F1-8932143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4473D-1D62-480F-9738-6C7D3C35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4A133-A9EA-4764-BD72-079771A1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3F86B-F469-44F2-9F1E-B24DDDB6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A1E-BA5E-46C7-A0F6-ECACF00D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74E26-384D-4D44-982A-5EAEF692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9B909-FD7E-42A8-92D6-7655DA87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EC5FF-DBD8-4FB3-8592-6C6AA6F9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AE11F-B58A-4F56-AC63-4ACAB7F4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58C1B-E525-4992-8C01-9A775B0C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6548B-0E58-4C58-ADFF-B9142A11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38F8B-A65A-4CD9-9DFE-3428B499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6F8C1-8BA2-4F90-AC5F-1D9E042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515BB-1C0D-4AB1-83C7-4D6462B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6255D-0F15-426A-8E26-336320E8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895E-BD17-4204-8557-B98475C3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A49D2-02D4-4EC4-AED5-8C999C0E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35BF5-1B6D-464B-9B06-1070A7A8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DBB76-6E20-4A55-86C1-FFF19302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01D26-5FCD-456C-8775-A8F60AC7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4C0A4-E881-4CBE-9653-0F6C3164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F0C43-D3F5-4E94-96B7-CED96C46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5996D-8804-45FF-B715-87404B40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C86DD-42F8-4BB0-9E56-62BDFD6E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C571F-73A9-4DEF-93CB-C5608722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7C60D-7926-49D9-99CA-7D1F0C91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B435-CB1C-4CF2-847D-5E43EE53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5D0EA-6A65-4ACB-B911-8604AD95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6A58A-7326-4BB8-8115-9CFE0DDB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83DC2-437C-4560-A18F-BB5A9F8B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21111-6BF4-46A1-8612-CB676279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D40FA-968D-44F1-8633-27C56E0C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AAE5-9819-468D-83B5-AD2221DC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48EA-F901-414F-853C-E7E4059C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D5A5-9D7F-4D00-B3E6-C65A3DB5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DC6A-C458-4AC9-BEF2-E78404F9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0DF6-0B16-4804-88C7-7F60B049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2AA-31A6-4114-8D68-5B959AC9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D53B-1166-413F-AE7C-9AA82600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A42B-DAC1-4461-ADCF-F092D44E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6F3B-9C8E-4DC8-9222-F56987F0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3AAA-BF5D-44C6-9594-C8B04C51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6B67-4563-4902-B2B9-63885766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EC6E9-D717-4DF6-B1BD-18E5DD1B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6CF3-4352-44A9-A315-5794029D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1D4A-9D0A-4831-A32A-8F277B76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D110-15EB-4BB4-AD7B-774AE3E1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028E5-F7B9-4C6F-859A-61C74A2A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A4D-EC01-41C0-A1B9-B29E940C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055A-12FC-4F5C-86BD-44F9544E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EB9F-4FB1-415C-A03B-FAA5A3B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F86ED-6328-40E7-9F09-7986C98B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57B9A-763E-4766-8E33-5B44E049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7569-5A63-438A-AF0C-9649E299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2FBA-CA82-46BC-B02C-B7680FC2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4DA8-8053-45D7-A892-73ADE0AD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863B6-4E07-4687-A754-6B8CDA80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54831-1455-476C-926D-A9B3A843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8CC6-A370-44DB-B48B-D07B22DB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23D-69D6-46DF-BF2E-CF37585D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ABE02-CC77-4C31-A760-E74D9701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55BF-3B63-4767-AECA-81DD3A24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451D-A60C-4AC0-B279-510AA2F3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4AD99-1E00-45A9-A568-B19CF314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D7854-1821-49D9-B614-CA7BF235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D7F46-4ACC-4012-8782-5642A012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B950-A39C-4E84-B38E-8B18C956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FBDD-52CC-44CB-89E2-F64C55DA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A8EBF-A394-4E17-80B0-2CE32F4F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59D11-A38E-4454-9B13-9E503DA6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0A8-483A-4F14-ABA2-BAC20357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8E314-5AA0-4A3F-9F77-5BECA1F2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54AA8-2D83-4627-B251-E32D5FBF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5D88F-CCDF-4B21-8989-805BF3FA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03EBE-9082-4C4A-82F9-6C24F671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3F3E-0138-46F8-B157-F11AFD82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664B5-33B0-4435-AB41-F9ACA29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AC51-5997-4B24-8838-E45DA58C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B875F-5727-4902-BEA7-65295494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C960-F48D-47C2-A1DD-01FF0AC7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5A211-F260-4870-B974-1369F0D4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CFC9-154D-4886-A527-A907427F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D8A2-5982-4D1B-AD0F-C366E7DF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5F62-3CCC-4492-9E24-B9C3998E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4BBD5-061E-436F-BC3D-3AB656DA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DB282-4418-469E-8C55-C5013B3F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948A0-A50A-4B6D-BAAA-F52718CE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DF1A8-1A24-487D-BF5A-62846EA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F3A0F-96D7-46E6-9463-B66401BC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6379B-564E-4F25-AA4A-A1E59616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66E7-47D7-4E13-B50E-9EAC456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95D9C-C279-4DF6-816B-5397992B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C17-16C4-4E65-A52D-25587601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9B3B3-3580-407A-8B2F-586AF1AE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70976-B8AC-4164-946B-0D4C15B0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08366-58D4-4EFF-A3C6-74F38489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2AEED-EB53-4D80-9A42-8DFCCFBB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676DC-B10D-4325-8326-B47B3F71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6E6BF-82A7-486C-B158-47375A7A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D39B5-205A-4930-B539-8C52103E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08F9F-A7D8-43D3-88A3-DE8DB33D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2BD4F-6C34-4F35-8CD6-1FCF80ED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F7CA0-3023-4BE3-BEB6-FC849811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268-235D-4F08-B3E8-0910E40C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F39B5-427A-4016-8DCC-881FFB4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763F4-6984-4AA6-AECE-E28D7FF4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A24B0-1327-42C3-8846-36371FE9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38EE3-1A8D-46F6-894C-71F7B79A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AB552-8436-4FE0-BB13-42B0C7D7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6CFFB-584F-4685-91E6-7A10369D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DBD07-22CB-48F4-A8B0-E83546A6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891FD-0467-4E7F-BD5F-9D79718E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FDE2A-5662-477D-8524-9591141D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2267E-572B-4BC3-B9C9-6E1BD60D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ED6-D909-4BDC-81C9-8742C286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D0F5D-5BC8-4E7F-BCEE-BAE7E747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4F889-0E38-48D6-8917-19C2D80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0DB2C-D50D-4D63-9B2E-D6DD77A9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A32F8-C9E0-4583-8F99-0BE8855D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EC3DF-CC95-4166-9E4A-67B089AD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6ADAB-18B0-47DE-833D-90FB9533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BF745-6335-4E8B-AF8B-4B29037A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D5C2E-8F3D-48D0-BCF8-608234A5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AC8D5-3A73-4DB5-BACB-0D65076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BBF7B-DD34-45BD-A3AE-260C114E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F406-197F-4FC0-B897-B21B3B66D3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DE2E-0BC2-40C9-94E2-42C55DAE98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9780-FF9F-46F8-BDB8-4B2FCD1E47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89DA-CEE1-40E5-9F7E-2491D8E19E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5B84-0D02-428E-82A2-7F49082D61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C3E0-B380-4652-A961-A2F9002258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975F-872A-451C-8A7C-A3C67BB93A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3232-BEA1-4109-9A55-3A5BEC7BDA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E318-1FDE-4C9D-B558-55935F920A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3326-E1C7-47D5-8667-7616793E90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E459-7036-4B36-AD93-5DB8471FB3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826B-C885-484F-AB12-B0326D9568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1.foto.rambler.ru/public/marinych60/1/3/1-web.jp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ln-pskov.ru/pictures/0616124033.jp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7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laycast.ru/uploads/2007/01/16/162761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google.ru/url?sa=t&amp;rct=j&amp;q=&amp;esrc=s&amp;source=web&amp;cd=1&amp;sqi=2&amp;ved=0CCYQFjAA&amp;url=http%3A%2F%2Fwww.baby.ru%2Fblogs%2Fpost%2F2226511&amp;ei=7NVMU4W7HInJ4ASt-ICoAg&amp;usg=AFQjCNGNeSp0ICg7g78tBDp5atjucyubWg&amp;cad=rjt" TargetMode="External"/><Relationship Id="rId2" Type="http://schemas.openxmlformats.org/officeDocument/2006/relationships/hyperlink" Target="https://www.google.ru/url?sa=t&amp;rct=j&amp;q=&amp;esrc=s&amp;source=web&amp;cd=1&amp;sqi=2&amp;ved=0CCYQFjAA&amp;url=http%3A%2F%2Fwww.baby.ru%2Fblogs%2Fpost%2F2226511&amp;ei=7NVMU4W7HInJ4ASt-ICoAg&amp;usg=AFQjCNGNeSp0ICg7g78tBDp5atjucyubWg&amp;cad=rjt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31" name="Picture 2" descr="C:\Users\Вера\Desktop\открытки поздравления\mute.jpg"/>
          <p:cNvPicPr/>
          <p:nvPr/>
        </p:nvPicPr>
        <p:blipFill>
          <a:blip r:embed="rId1"/>
          <a:stretch/>
        </p:blipFill>
        <p:spPr>
          <a:xfrm>
            <a:off x="468360" y="549360"/>
            <a:ext cx="828828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eec94"/>
                </a:solidFill>
                <a:latin typeface="Times New Roman"/>
              </a:rPr>
              <a:t>Что значит быть мамой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33" name="Picture 2" descr="C:\Users\Вера\Desktop\мамы\3.jpeg"/>
          <p:cNvPicPr/>
          <p:nvPr/>
        </p:nvPicPr>
        <p:blipFill>
          <a:blip r:embed="rId1"/>
          <a:stretch/>
        </p:blipFill>
        <p:spPr>
          <a:xfrm>
            <a:off x="250920" y="189000"/>
            <a:ext cx="1449360" cy="2160360"/>
          </a:xfrm>
          <a:prstGeom prst="rect">
            <a:avLst/>
          </a:prstGeom>
          <a:ln w="0">
            <a:noFill/>
          </a:ln>
        </p:spPr>
      </p:pic>
      <p:pic>
        <p:nvPicPr>
          <p:cNvPr id="534" name="Содержимое 3" descr="1.jpeg"/>
          <p:cNvPicPr/>
          <p:nvPr/>
        </p:nvPicPr>
        <p:blipFill>
          <a:blip r:embed="rId2"/>
          <a:stretch/>
        </p:blipFill>
        <p:spPr>
          <a:xfrm>
            <a:off x="2484360" y="5084640"/>
            <a:ext cx="1714680" cy="1584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C:\Users\Вера\Desktop\мамы\13.jpeg"/>
          <p:cNvPicPr/>
          <p:nvPr/>
        </p:nvPicPr>
        <p:blipFill>
          <a:blip r:embed="rId3"/>
          <a:stretch/>
        </p:blipFill>
        <p:spPr>
          <a:xfrm>
            <a:off x="5508720" y="5045040"/>
            <a:ext cx="2376360" cy="1638360"/>
          </a:xfrm>
          <a:prstGeom prst="rect">
            <a:avLst/>
          </a:prstGeom>
          <a:ln w="0">
            <a:noFill/>
          </a:ln>
        </p:spPr>
      </p:pic>
      <p:pic>
        <p:nvPicPr>
          <p:cNvPr id="536" name="Содержимое 3" descr="15.jpeg"/>
          <p:cNvPicPr/>
          <p:nvPr/>
        </p:nvPicPr>
        <p:blipFill>
          <a:blip r:embed="rId4"/>
          <a:stretch/>
        </p:blipFill>
        <p:spPr>
          <a:xfrm>
            <a:off x="2843280" y="260280"/>
            <a:ext cx="1450800" cy="2165400"/>
          </a:xfrm>
          <a:prstGeom prst="rect">
            <a:avLst/>
          </a:prstGeom>
          <a:ln w="0">
            <a:noFill/>
          </a:ln>
        </p:spPr>
      </p:pic>
      <p:pic>
        <p:nvPicPr>
          <p:cNvPr id="537" name="Содержимое 3" descr="10.jpeg"/>
          <p:cNvPicPr/>
          <p:nvPr/>
        </p:nvPicPr>
        <p:blipFill>
          <a:blip r:embed="rId5"/>
          <a:stretch/>
        </p:blipFill>
        <p:spPr>
          <a:xfrm>
            <a:off x="468360" y="3213000"/>
            <a:ext cx="1582560" cy="3137040"/>
          </a:xfrm>
          <a:prstGeom prst="rect">
            <a:avLst/>
          </a:prstGeom>
          <a:ln w="0">
            <a:noFill/>
          </a:ln>
        </p:spPr>
      </p:pic>
      <p:pic>
        <p:nvPicPr>
          <p:cNvPr id="538" name="Содержимое 3" descr="6.jpeg"/>
          <p:cNvPicPr/>
          <p:nvPr/>
        </p:nvPicPr>
        <p:blipFill>
          <a:blip r:embed="rId6"/>
          <a:stretch/>
        </p:blipFill>
        <p:spPr>
          <a:xfrm>
            <a:off x="3492360" y="3284640"/>
            <a:ext cx="2105280" cy="1557360"/>
          </a:xfrm>
          <a:prstGeom prst="rect">
            <a:avLst/>
          </a:prstGeom>
          <a:ln w="0">
            <a:noFill/>
          </a:ln>
        </p:spPr>
      </p:pic>
      <p:pic>
        <p:nvPicPr>
          <p:cNvPr id="539" name="Содержимое 3" descr="11.jpeg"/>
          <p:cNvPicPr/>
          <p:nvPr/>
        </p:nvPicPr>
        <p:blipFill>
          <a:blip r:embed="rId7"/>
          <a:stretch/>
        </p:blipFill>
        <p:spPr>
          <a:xfrm>
            <a:off x="5219640" y="260280"/>
            <a:ext cx="1384200" cy="2205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C:\Users\Вера\Desktop\IMG_0566.jpg"/>
          <p:cNvPicPr/>
          <p:nvPr/>
        </p:nvPicPr>
        <p:blipFill>
          <a:blip r:embed="rId8"/>
          <a:stretch/>
        </p:blipFill>
        <p:spPr>
          <a:xfrm>
            <a:off x="7093080" y="189000"/>
            <a:ext cx="17269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C:\Users\Вера\Desktop\8 марта\1 - копия.jpeg"/>
          <p:cNvPicPr/>
          <p:nvPr/>
        </p:nvPicPr>
        <p:blipFill>
          <a:blip r:embed="rId9"/>
          <a:stretch/>
        </p:blipFill>
        <p:spPr>
          <a:xfrm>
            <a:off x="6443640" y="3213000"/>
            <a:ext cx="2232000" cy="17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050920" y="1052280"/>
            <a:ext cx="36007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ый человек, которого мы любим в жизни, конечно,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МАМА</a:t>
            </a: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МАМ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это основа всей жизни, начало понимания, любви, гармонии и красот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юбовь к маме  мы проносим через всю жизн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i-main-pic" descr="Картинка 22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7960" y="260280"/>
            <a:ext cx="2478240" cy="3078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C:\Users\Вера\Desktop\8 марта\1 - копия.jpeg"/>
          <p:cNvPicPr/>
          <p:nvPr/>
        </p:nvPicPr>
        <p:blipFill>
          <a:blip r:embed="rId3"/>
          <a:stretch/>
        </p:blipFill>
        <p:spPr>
          <a:xfrm>
            <a:off x="468360" y="4437000"/>
            <a:ext cx="2820960" cy="2163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" descr="G:\мои документы\картинки\P7200022.JPG"/>
          <p:cNvPicPr/>
          <p:nvPr/>
        </p:nvPicPr>
        <p:blipFill>
          <a:blip r:embed="rId4"/>
          <a:stretch/>
        </p:blipFill>
        <p:spPr>
          <a:xfrm>
            <a:off x="5651640" y="4292640"/>
            <a:ext cx="3074760" cy="2303280"/>
          </a:xfrm>
          <a:prstGeom prst="rect">
            <a:avLst/>
          </a:prstGeom>
          <a:ln w="0">
            <a:noFill/>
          </a:ln>
        </p:spPr>
      </p:pic>
      <p:pic>
        <p:nvPicPr>
          <p:cNvPr id="546" name="Содержимое 3" descr="1.jpeg"/>
          <p:cNvPicPr/>
          <p:nvPr/>
        </p:nvPicPr>
        <p:blipFill>
          <a:blip r:embed="rId5"/>
          <a:stretch/>
        </p:blipFill>
        <p:spPr>
          <a:xfrm>
            <a:off x="179280" y="549360"/>
            <a:ext cx="24163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i-main-pic" descr="Картинка 6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197000"/>
            <a:ext cx="2306520" cy="3240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ыть мамой - значит быть святой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987640" y="1125360"/>
            <a:ext cx="324000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ть в природе знак святой и вещий,                                           Ярко обозначенный в веках,                                         Самая прекрасная из женщин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щина с ребенком на руках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0" name="Содержимое 3" descr="6.jpeg"/>
          <p:cNvPicPr/>
          <p:nvPr/>
        </p:nvPicPr>
        <p:blipFill>
          <a:blip r:embed="rId3"/>
          <a:stretch/>
        </p:blipFill>
        <p:spPr>
          <a:xfrm>
            <a:off x="250920" y="4724280"/>
            <a:ext cx="2628720" cy="1944720"/>
          </a:xfrm>
          <a:prstGeom prst="rect">
            <a:avLst/>
          </a:prstGeom>
          <a:ln w="0">
            <a:noFill/>
          </a:ln>
        </p:spPr>
      </p:pic>
      <p:pic>
        <p:nvPicPr>
          <p:cNvPr id="551" name="Содержимое 3" descr="10.jpeg"/>
          <p:cNvPicPr/>
          <p:nvPr/>
        </p:nvPicPr>
        <p:blipFill>
          <a:blip r:embed="rId4"/>
          <a:stretch/>
        </p:blipFill>
        <p:spPr>
          <a:xfrm>
            <a:off x="4067280" y="4365720"/>
            <a:ext cx="1201680" cy="23781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C:\Users\Вера\Desktop\мамы\3.jpeg"/>
          <p:cNvPicPr/>
          <p:nvPr/>
        </p:nvPicPr>
        <p:blipFill>
          <a:blip r:embed="rId5"/>
          <a:stretch/>
        </p:blipFill>
        <p:spPr>
          <a:xfrm>
            <a:off x="6875640" y="4724280"/>
            <a:ext cx="1371600" cy="20448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" descr="http://www.xrest.ru/schemes/00/07/b3/21/%D0%A1%D0%B8%D0%BA%D1%81%D1%82%D0%B8%D0%BD%D1%81%D0%BA%D0%B0%D1%8F%20%D0%BC%D0%B0%D0%B4%D0%BE%D0%BD%D0%BD%D0%B0-2.jpg"/>
          <p:cNvPicPr/>
          <p:nvPr/>
        </p:nvPicPr>
        <p:blipFill>
          <a:blip r:embed="rId6"/>
          <a:stretch/>
        </p:blipFill>
        <p:spPr>
          <a:xfrm>
            <a:off x="6372360" y="1197000"/>
            <a:ext cx="243360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213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Мамой быть здорово. </a:t>
            </a:r>
            <a:br>
              <a:rPr sz="2000"/>
            </a:b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Но это и большая ответственность. Нужно иметь терпение, уметь посоветовать, поддержать в учёбе, вообще. в жизни, уметь быть другом своему ребёнку. Мама умеет помогать находить свои ошибки, исправлять их. </a:t>
            </a:r>
            <a:br>
              <a:rPr sz="2000"/>
            </a:b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Быть мамой – большое счастье!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eec94"/>
                </a:solidFill>
                <a:latin typeface="Times New Roman"/>
              </a:rPr>
              <a:t>Интервью у своей мамы взяла Алёна Молчанова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55" name="Picture 2" descr="C:\Users\Вера\Desktop\8 марта\1 - копия.jpeg"/>
          <p:cNvPicPr/>
          <p:nvPr/>
        </p:nvPicPr>
        <p:blipFill>
          <a:blip r:embed="rId1"/>
          <a:stretch/>
        </p:blipFill>
        <p:spPr>
          <a:xfrm>
            <a:off x="2700360" y="333360"/>
            <a:ext cx="37447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00720" y="620640"/>
            <a:ext cx="4319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ма дала нам жиз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елёгкий труд ложится на мамины плечи: работа, хлопоты по дому, а главное - воспитание детей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се препятствия в жизни мы преодолеваем вместе с мамой. Мама о нас заботится всю свою жизнь. Только с мамой мы поделимся своими секретами и тайнами, и, конечно же, она всегда нам помож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не кажется, что без мамы этот мир был бы неинтересным, скучным, потому что мама - это солнышко, которое светит нам каждый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Интервью у своей мамы взял Дима Кочнев)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7" name="Picture 2" descr="C:\Users\Вера\Desktop\IMG_0566.jpg"/>
          <p:cNvPicPr/>
          <p:nvPr/>
        </p:nvPicPr>
        <p:blipFill>
          <a:blip r:embed="rId1"/>
          <a:stretch/>
        </p:blipFill>
        <p:spPr>
          <a:xfrm>
            <a:off x="539640" y="692280"/>
            <a:ext cx="38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G:\мои документы\картинки\care.jpg"/>
          <p:cNvPicPr/>
          <p:nvPr/>
        </p:nvPicPr>
        <p:blipFill>
          <a:blip r:embed="rId1"/>
          <a:stretch/>
        </p:blipFill>
        <p:spPr>
          <a:xfrm>
            <a:off x="4932360" y="1484280"/>
            <a:ext cx="3798720" cy="5065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G:\мои документы\картинки\76e11dc3bf56.jpg"/>
          <p:cNvPicPr/>
          <p:nvPr/>
        </p:nvPicPr>
        <p:blipFill>
          <a:blip r:embed="rId2"/>
          <a:stretch/>
        </p:blipFill>
        <p:spPr>
          <a:xfrm>
            <a:off x="468360" y="404640"/>
            <a:ext cx="37623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i-main-pic" descr="Картинка 135 из 64000">
            <a:hlinkClick r:id="rId1"/>
          </p:cNvPr>
          <p:cNvPicPr/>
          <p:nvPr/>
        </p:nvPicPr>
        <p:blipFill>
          <a:blip r:embed="rId2"/>
          <a:srcRect l="426" t="0" r="426" b="0"/>
          <a:stretch/>
        </p:blipFill>
        <p:spPr>
          <a:xfrm>
            <a:off x="250920" y="1268280"/>
            <a:ext cx="4033800" cy="371952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«Не обижайте матерей»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492360" y="1844640"/>
            <a:ext cx="5437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обижайте матерей, на матерей не обижайтесь.                                                                                    Перед разлукой у дверей нежнее с ними попрощайтесь.                                                                                            И уходить за поворот вы не спешите,                       не спешите,                                                                                И ей, стоящей у ворот, как можно дольше помашите.                                                                    Пишите письма им скорей и слов высоких не стесняйтесь.                                                                                    Не обижайте матерей, на матерей не обижайте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нтернет ресурсы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Есть в природе знак святой и вещий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. - Ba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www.baby.ru/blogs/post/2226511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Не обижайте матерей. - Жемчужины мысл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www.inpearls.ru/comments/557483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Не обижайте матерей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 - Осенний фейервер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valentina-panina.ru/text/157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 обижайте матере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 - Самое интересное в блога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www.liveinternet.ru/tag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фаэль - 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икстинская мадон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centre.smr.ru/win/pics/pic0166/p0166.htm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отографии  из семейных альбомов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6:43:39Z</dcterms:created>
  <dc:creator>Manager</dc:creator>
  <dc:description/>
  <dc:language>en-US</dc:language>
  <cp:lastModifiedBy>Вера</cp:lastModifiedBy>
  <dcterms:modified xsi:type="dcterms:W3CDTF">2014-04-15T06:50:17Z</dcterms:modified>
  <cp:revision>58</cp:revision>
  <dc:subject/>
  <dc:title>Открытый урок</dc:title>
</cp:coreProperties>
</file>