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830-AA16-4EC3-9433-21AC3DB2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2A0-591C-4945-A4B9-88BAB59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360B0-634E-46CB-AF65-0FE9507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1157C-FA44-41DA-A18E-E9B1F31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6B411-D496-49A2-9D0A-207FB9D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BA19-BC64-4DAE-972A-01CDF8B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A7028-5605-4E6A-B57F-E9ABFEC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21C9-9240-40D7-B6C6-EB8E763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28A04-500C-4F6B-BF99-88B3588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ADA26-C552-420D-BC30-453DCE26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D122C-2AE6-410D-A5A8-E5279C59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B0F27-3D0A-450B-B713-6D1BB943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D17-EF3D-45C1-A3D7-EAC785E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AC43C-BEF4-4805-8370-9E506E6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9C30-CB50-4CF8-9E1B-A6FEE70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E027-1055-48A3-863E-18B6B915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47281-6785-43A0-BEFB-E1483476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E9214-65CC-429F-8696-C1266D7C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A3747-DFDF-4748-AD7A-1DDA7BA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32667-086F-4FBC-9502-1C88809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C197-7AA9-42E3-A6AD-68944E0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E6FAA-3021-4A33-9AB7-682C44EA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5EA70-91C6-460C-B870-523EFDCC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417-0AA9-45B9-8D8A-1497CD15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0A74C-7467-476A-B714-45E7BC5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0903-ABEC-48C3-B8D4-8E40FD15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717FD-0A5C-4395-9748-9EE0E0B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005E-5CBD-4D92-8EA3-3ABF48C0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0102-9C3B-49D7-B63E-4BDF812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0634-7071-4E07-8CC5-1CA80934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8860-E5F4-454A-9FA4-13B4B5A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8299-2E3B-42EF-B6E0-D06268E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89EBF-59FD-48C3-B968-4FB6D12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A9C0E-5EDF-4BF3-968B-FD4F81C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845-3E88-43F9-928C-7782D92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CBCDD-E78B-4E36-BAE1-0142BBD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F4A52-CF1E-4044-850F-1F775C27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78366-F765-48B2-B9CA-15EFD46D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A4E35-B7FC-428F-8FEE-5A910503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07BC9-9538-441B-8C32-809EC58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A9C8-F2AD-4B1D-86E6-68F0298B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EC5B9-270D-4F67-B289-FF3440A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C100E-E991-4D40-B8FF-263257C9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484A3-3AB6-45A8-9FEF-B5C282A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CDCBE-62BE-4852-BCDE-9F68756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D81-0A72-425D-8D15-32851FDB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3E22B-66A1-48A5-871F-BF49CA5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ADFB-2051-4128-9B8E-E792F21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109B1-0A01-4CEF-BB8A-78CA1FD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692B9-4CF9-4C4B-A600-2BEA4D67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2B2E-C8BD-4697-AF28-925B41C1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84C-FCF2-42EE-9F6E-90217289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434-5A65-4F51-AFA7-5B9AE17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86A2-5C77-48D8-B7FD-1F200DC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146-4FEE-4E86-B721-0A55059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07B4-89E1-430D-9374-3C64183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B5A-8C8D-45DD-A6C7-733B149F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028-BDDF-4AAC-A973-4A1F900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E052-C66A-4C5C-94B9-F1DB5B8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73C-9B32-41FE-A6E8-3FA15E30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C1A8-D3D1-4E08-964E-A42DA1C7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071-955B-4E98-AE28-1785407C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A161-7B76-4690-B589-EB6AB983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E8E9-FD95-42D1-B169-4F84C40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15D68-C470-4229-9567-13CD81A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12F4-2BD4-422C-87BC-64DCE7A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DAE8-4F77-416A-BDBF-CE8EF19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1F2-1D28-4086-9C44-7F4BF1DE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31E2-339B-476F-A942-0030602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3D19-6B57-4AC1-A482-8FA7E0B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AB1E-C118-4482-8F7C-B2A4C49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C1D3-FFE6-4224-A2D4-3B1427C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790C-4A3D-4AE2-959E-B7D4057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796A-8A6D-4025-AE01-0B1CF86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758A-E46F-49F2-A418-95C52DAD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D4BE-1A38-4789-94F6-A057346B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B157-0C59-46C0-BE4C-2841558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1201-5CF2-4265-869B-C1BA174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21B-2602-4E17-A54C-51AE1B77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E542-779A-4ED2-9C4B-FC87FFF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84773-D4EC-436F-8C9D-FD6FF37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EC20-A55D-41CA-B133-254E6D7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A95E-5179-43B3-9425-D7268B7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38708-71F8-4174-BFB3-A5919746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5E49-26DC-42B9-9BB0-FFABDD4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573B-2365-4089-B83B-2CB545F0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5298-76D8-4602-9D17-45A3B9E3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B3FC-DB60-4857-82FF-057846CF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06C0-CB03-4FE1-BAC9-1DBCDEE9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31E-AF61-45E2-B443-2C333B4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A5BB-619D-4E27-8CDD-A5C7FAD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C423-6B18-4604-96F4-5BDCD6D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CB55-B809-4233-897F-45AC21DC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4DF8-C7E1-4BEE-808F-04D66AC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414ED-2876-42A1-BE60-4B87A95D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3AF9-1F98-43FF-A8B2-70B0256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E8AC-14C8-4E5B-9EBF-758741F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6EA4A-A402-414B-8997-9DF875B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B6B5-E0E0-4B05-AD2B-2A56022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AD76-5C4F-4C3C-A4FC-8198B63E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CA6-3FF8-4338-96F2-217D2C4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413E-6A1B-4E69-9F41-14DC305E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162F-494A-4D71-93C6-A373EE90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12BE-BDBD-4044-978F-F3A2719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0F1F-93C4-4D8D-9D16-744A1A6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2F4F-69BE-4C91-9EF3-F276300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B3C83-5A3C-45B9-965E-C942BD3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74DB-DBB2-4615-8D63-3FD06B4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F441-840B-4803-B657-3E7E782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6A6C-2B2B-455A-A36D-8449C24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3A98-A45C-4066-9DCA-724379D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C41-D3D0-4DF8-9AC6-BE91682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1396-F17A-451B-AD3F-27A965EC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1A1E-280F-4EF1-BEEE-61AA922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B8F80-B3CE-4185-952A-92B903EA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92E59-1D72-4881-8EF3-41A39638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0320-1A93-4F82-8D65-7E693944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F1993-76BA-40E3-8773-AF420972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080C-8399-4C2D-A9A5-166CA1B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298D-F6F9-4EDF-8102-646F1E8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C258-6506-45F0-AEAB-27A19335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43555-25B5-4BFC-8D4A-F49BD3C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DF3-144C-43E6-A61C-3E8E874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E09F-1AE2-425D-BBBB-289CFF3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88EE-09C0-4CA4-9D2A-4D73F8E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900A-2A2F-483B-AACF-061EC973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A111-0E8D-4A1E-A06A-67976109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F01E-F6EF-4859-BA64-908015EA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3504F-C68E-4D00-8AB5-2EB7B1B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84DA-7FDF-4D0E-B7FC-6EC5EB1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B1C9-439A-4A35-BEDE-CDEC94A9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EB6E-CB78-4816-960D-B4076BD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950C-A6B7-4F0A-BE2C-202F2DA0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489-1B9D-48D3-A2E5-F0ABF64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55CE8-7E53-41F0-84CE-E5AD769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FC01-C5D7-4D01-ADEA-D3F586B7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A5F6A-F56E-45D7-B7C4-AC3AD46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ABABE-CCDF-4CFB-8705-0C8E19A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105A-3A0C-4401-865E-38A3684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7DEB6-5538-4214-9F18-1769A8E9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39BC-FC02-4995-877C-3E73F8D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2C124-F639-4BD5-8E1A-446BE0F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CE74-218D-4766-BC80-227B46A0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46DCC-B289-4520-A113-9F0A634C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AA7-1052-4013-9546-F5E2675DC5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1E28-F636-4CEF-B545-266E7E17E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DDF9-BC92-4B47-BCBA-2050C788C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5901-65CA-4467-ACA4-42E07783BE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A441-E133-4EE6-A85C-CB6CC2A9B4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933-C5D5-49DA-B781-2D1A74EED1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BD42-63B7-4A6C-A576-79C7C47FE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B97-9B7D-4170-9687-5B6F958A09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1A12-D1D8-479E-A899-D3236A675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7821-6BED-4145-AC2E-1AE06E2CF9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23E3-2222-4140-99CA-64127B044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102-12E2-4189-8A41-32063F9C6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marinych60/1/3/1-web.jp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n-pskov.ru/pictures/0616124033.jp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laycast.ru/uploads/2007/01/16/16276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google.ru/url?sa=t&amp;rct=j&amp;q=&amp;esrc=s&amp;source=web&amp;cd=1&amp;sqi=2&amp;ved=0CCYQFjAA&amp;url=http%3A%2F%2Fwww.baby.ru%2Fblogs%2Fpost%2F2226511&amp;ei=7NVMU4W7HInJ4ASt-ICoAg&amp;usg=AFQjCNGNeSp0ICg7g78tBDp5atjucyubWg&amp;cad=rjt" TargetMode="External"/><Relationship Id="rId2" Type="http://schemas.openxmlformats.org/officeDocument/2006/relationships/hyperlink" Target="https://www.google.ru/url?sa=t&amp;rct=j&amp;q=&amp;esrc=s&amp;source=web&amp;cd=1&amp;sqi=2&amp;ved=0CCYQFjAA&amp;url=http%3A%2F%2Fwww.baby.ru%2Fblogs%2Fpost%2F2226511&amp;ei=7NVMU4W7HInJ4ASt-ICoAg&amp;usg=AFQjCNGNeSp0ICg7g78tBDp5atjucyubWg&amp;cad=rjt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31" name="Picture 2" descr="C:\Users\Вера\Desktop\открытки поздравления\mute.jpg"/>
          <p:cNvPicPr/>
          <p:nvPr/>
        </p:nvPicPr>
        <p:blipFill>
          <a:blip r:embed="rId1"/>
          <a:stretch/>
        </p:blipFill>
        <p:spPr>
          <a:xfrm>
            <a:off x="468360" y="549360"/>
            <a:ext cx="828828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Что значит быть мамой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33" name="Picture 2" descr="C:\Users\Вера\Desktop\мамы\3.jpeg"/>
          <p:cNvPicPr/>
          <p:nvPr/>
        </p:nvPicPr>
        <p:blipFill>
          <a:blip r:embed="rId1"/>
          <a:stretch/>
        </p:blipFill>
        <p:spPr>
          <a:xfrm>
            <a:off x="250920" y="189000"/>
            <a:ext cx="1449360" cy="2160360"/>
          </a:xfrm>
          <a:prstGeom prst="rect">
            <a:avLst/>
          </a:prstGeom>
          <a:ln w="0">
            <a:noFill/>
          </a:ln>
        </p:spPr>
      </p:pic>
      <p:pic>
        <p:nvPicPr>
          <p:cNvPr id="534" name="Содержимое 3" descr="1.jpeg"/>
          <p:cNvPicPr/>
          <p:nvPr/>
        </p:nvPicPr>
        <p:blipFill>
          <a:blip r:embed="rId2"/>
          <a:stretch/>
        </p:blipFill>
        <p:spPr>
          <a:xfrm>
            <a:off x="2484360" y="5084640"/>
            <a:ext cx="171468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Users\Вера\Desktop\мамы\13.jpeg"/>
          <p:cNvPicPr/>
          <p:nvPr/>
        </p:nvPicPr>
        <p:blipFill>
          <a:blip r:embed="rId3"/>
          <a:stretch/>
        </p:blipFill>
        <p:spPr>
          <a:xfrm>
            <a:off x="5508720" y="5045040"/>
            <a:ext cx="2376360" cy="1638360"/>
          </a:xfrm>
          <a:prstGeom prst="rect">
            <a:avLst/>
          </a:prstGeom>
          <a:ln w="0">
            <a:noFill/>
          </a:ln>
        </p:spPr>
      </p:pic>
      <p:pic>
        <p:nvPicPr>
          <p:cNvPr id="536" name="Содержимое 3" descr="15.jpeg"/>
          <p:cNvPicPr/>
          <p:nvPr/>
        </p:nvPicPr>
        <p:blipFill>
          <a:blip r:embed="rId4"/>
          <a:stretch/>
        </p:blipFill>
        <p:spPr>
          <a:xfrm>
            <a:off x="2843280" y="260280"/>
            <a:ext cx="1450800" cy="2165400"/>
          </a:xfrm>
          <a:prstGeom prst="rect">
            <a:avLst/>
          </a:prstGeom>
          <a:ln w="0">
            <a:noFill/>
          </a:ln>
        </p:spPr>
      </p:pic>
      <p:pic>
        <p:nvPicPr>
          <p:cNvPr id="537" name="Содержимое 3" descr="10.jpeg"/>
          <p:cNvPicPr/>
          <p:nvPr/>
        </p:nvPicPr>
        <p:blipFill>
          <a:blip r:embed="rId5"/>
          <a:stretch/>
        </p:blipFill>
        <p:spPr>
          <a:xfrm>
            <a:off x="468360" y="3213000"/>
            <a:ext cx="1582560" cy="313704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3" descr="6.jpeg"/>
          <p:cNvPicPr/>
          <p:nvPr/>
        </p:nvPicPr>
        <p:blipFill>
          <a:blip r:embed="rId6"/>
          <a:stretch/>
        </p:blipFill>
        <p:spPr>
          <a:xfrm>
            <a:off x="3492360" y="3284640"/>
            <a:ext cx="2105280" cy="1557360"/>
          </a:xfrm>
          <a:prstGeom prst="rect">
            <a:avLst/>
          </a:prstGeom>
          <a:ln w="0">
            <a:noFill/>
          </a:ln>
        </p:spPr>
      </p:pic>
      <p:pic>
        <p:nvPicPr>
          <p:cNvPr id="539" name="Содержимое 3" descr="11.jpeg"/>
          <p:cNvPicPr/>
          <p:nvPr/>
        </p:nvPicPr>
        <p:blipFill>
          <a:blip r:embed="rId7"/>
          <a:stretch/>
        </p:blipFill>
        <p:spPr>
          <a:xfrm>
            <a:off x="5219640" y="260280"/>
            <a:ext cx="1384200" cy="2205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Users\Вера\Desktop\IMG_0566.jpg"/>
          <p:cNvPicPr/>
          <p:nvPr/>
        </p:nvPicPr>
        <p:blipFill>
          <a:blip r:embed="rId8"/>
          <a:stretch/>
        </p:blipFill>
        <p:spPr>
          <a:xfrm>
            <a:off x="7093080" y="189000"/>
            <a:ext cx="17269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C:\Users\Вера\Desktop\8 марта\1 - копия.jpeg"/>
          <p:cNvPicPr/>
          <p:nvPr/>
        </p:nvPicPr>
        <p:blipFill>
          <a:blip r:embed="rId9"/>
          <a:stretch/>
        </p:blipFill>
        <p:spPr>
          <a:xfrm>
            <a:off x="6443640" y="3213000"/>
            <a:ext cx="2232000" cy="17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050920" y="1052280"/>
            <a:ext cx="3600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ый человек, которого мы любим в жизни, конечно,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МА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М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снова всей жизни, начало понимания, любви, гармонии и красо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бовь к маме  мы проносим через всю жизн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i-main-pic" descr="Картинка 2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60280"/>
            <a:ext cx="2478240" cy="307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C:\Users\Вера\Desktop\8 марта\1 - копия.jpeg"/>
          <p:cNvPicPr/>
          <p:nvPr/>
        </p:nvPicPr>
        <p:blipFill>
          <a:blip r:embed="rId3"/>
          <a:stretch/>
        </p:blipFill>
        <p:spPr>
          <a:xfrm>
            <a:off x="468360" y="4437000"/>
            <a:ext cx="2820960" cy="2163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G:\мои документы\картинки\P7200022.JPG"/>
          <p:cNvPicPr/>
          <p:nvPr/>
        </p:nvPicPr>
        <p:blipFill>
          <a:blip r:embed="rId4"/>
          <a:stretch/>
        </p:blipFill>
        <p:spPr>
          <a:xfrm>
            <a:off x="5651640" y="4292640"/>
            <a:ext cx="3074760" cy="2303280"/>
          </a:xfrm>
          <a:prstGeom prst="rect">
            <a:avLst/>
          </a:prstGeom>
          <a:ln w="0">
            <a:noFill/>
          </a:ln>
        </p:spPr>
      </p:pic>
      <p:pic>
        <p:nvPicPr>
          <p:cNvPr id="546" name="Содержимое 3" descr="1.jpeg"/>
          <p:cNvPicPr/>
          <p:nvPr/>
        </p:nvPicPr>
        <p:blipFill>
          <a:blip r:embed="rId5"/>
          <a:stretch/>
        </p:blipFill>
        <p:spPr>
          <a:xfrm>
            <a:off x="179280" y="549360"/>
            <a:ext cx="24163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-main-pic" descr="Картинка 6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97000"/>
            <a:ext cx="2306520" cy="3240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ыть мамой - значит быть святой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987640" y="1125360"/>
            <a:ext cx="32400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в природе знак святой и вещий,                                           Ярко обозначенный в веках,                                         Самая прекрасная из женщин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щина с ребенком на руках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Содержимое 3" descr="6.jpeg"/>
          <p:cNvPicPr/>
          <p:nvPr/>
        </p:nvPicPr>
        <p:blipFill>
          <a:blip r:embed="rId3"/>
          <a:stretch/>
        </p:blipFill>
        <p:spPr>
          <a:xfrm>
            <a:off x="250920" y="4724280"/>
            <a:ext cx="2628720" cy="1944720"/>
          </a:xfrm>
          <a:prstGeom prst="rect">
            <a:avLst/>
          </a:prstGeom>
          <a:ln w="0">
            <a:noFill/>
          </a:ln>
        </p:spPr>
      </p:pic>
      <p:pic>
        <p:nvPicPr>
          <p:cNvPr id="551" name="Содержимое 3" descr="10.jpeg"/>
          <p:cNvPicPr/>
          <p:nvPr/>
        </p:nvPicPr>
        <p:blipFill>
          <a:blip r:embed="rId4"/>
          <a:stretch/>
        </p:blipFill>
        <p:spPr>
          <a:xfrm>
            <a:off x="4067280" y="4365720"/>
            <a:ext cx="1201680" cy="2378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C:\Users\Вера\Desktop\мамы\3.jpeg"/>
          <p:cNvPicPr/>
          <p:nvPr/>
        </p:nvPicPr>
        <p:blipFill>
          <a:blip r:embed="rId5"/>
          <a:stretch/>
        </p:blipFill>
        <p:spPr>
          <a:xfrm>
            <a:off x="6875640" y="4724280"/>
            <a:ext cx="1371600" cy="2044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http://www.xrest.ru/schemes/00/07/b3/21/%D0%A1%D0%B8%D0%BA%D1%81%D1%82%D0%B8%D0%BD%D1%81%D0%BA%D0%B0%D1%8F%20%D0%BC%D0%B0%D0%B4%D0%BE%D0%BD%D0%BD%D0%B0-2.jpg"/>
          <p:cNvPicPr/>
          <p:nvPr/>
        </p:nvPicPr>
        <p:blipFill>
          <a:blip r:embed="rId6"/>
          <a:stretch/>
        </p:blipFill>
        <p:spPr>
          <a:xfrm>
            <a:off x="6372360" y="1197000"/>
            <a:ext cx="24336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213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Мамой быть здорово. 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Но это и большая ответственность. Нужно иметь терпение, уметь посоветовать, поддержать в учёбе, вообще. в жизни, уметь быть другом своему ребёнку. Мама умеет помогать находить свои ошибки, исправлять их. 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Быть мамой – большое счастье!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Интервью у своей мамы взяла Алёна Молчанова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55" name="Picture 2" descr="C:\Users\Вера\Desktop\8 марта\1 - копия.jpeg"/>
          <p:cNvPicPr/>
          <p:nvPr/>
        </p:nvPicPr>
        <p:blipFill>
          <a:blip r:embed="rId1"/>
          <a:stretch/>
        </p:blipFill>
        <p:spPr>
          <a:xfrm>
            <a:off x="2700360" y="333360"/>
            <a:ext cx="3744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00720" y="620640"/>
            <a:ext cx="4319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ма дала нам жиз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лёгкий труд ложится на мамины плечи: работа, хлопоты по дому, а главное - воспитание детей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 препятствия в жизни мы преодолеваем вместе с мамой. Мама о нас заботится всю свою жизнь. Только с мамой мы поделимся своими секретами и тайнами, и, конечно же, она всегда нам помож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не кажется, что без мамы этот мир был бы неинтересным, скучным, потому что мама - это солнышко, которое светит нам каждый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Интервью у своей мамы взял Дима Кочнев)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2" descr="C:\Users\Вера\Desktop\IMG_0566.jpg"/>
          <p:cNvPicPr/>
          <p:nvPr/>
        </p:nvPicPr>
        <p:blipFill>
          <a:blip r:embed="rId1"/>
          <a:stretch/>
        </p:blipFill>
        <p:spPr>
          <a:xfrm>
            <a:off x="539640" y="692280"/>
            <a:ext cx="38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G:\мои документы\картинки\care.jpg"/>
          <p:cNvPicPr/>
          <p:nvPr/>
        </p:nvPicPr>
        <p:blipFill>
          <a:blip r:embed="rId1"/>
          <a:stretch/>
        </p:blipFill>
        <p:spPr>
          <a:xfrm>
            <a:off x="4932360" y="1484280"/>
            <a:ext cx="3798720" cy="5065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G:\мои документы\картинки\76e11dc3bf56.jpg"/>
          <p:cNvPicPr/>
          <p:nvPr/>
        </p:nvPicPr>
        <p:blipFill>
          <a:blip r:embed="rId2"/>
          <a:stretch/>
        </p:blipFill>
        <p:spPr>
          <a:xfrm>
            <a:off x="468360" y="404640"/>
            <a:ext cx="3762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i-main-pic" descr="Картинка 135 из 64000">
            <a:hlinkClick r:id="rId1"/>
          </p:cNvPr>
          <p:cNvPicPr/>
          <p:nvPr/>
        </p:nvPicPr>
        <p:blipFill>
          <a:blip r:embed="rId2"/>
          <a:srcRect l="426" t="0" r="426" b="0"/>
          <a:stretch/>
        </p:blipFill>
        <p:spPr>
          <a:xfrm>
            <a:off x="250920" y="1268280"/>
            <a:ext cx="4033800" cy="371952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«Не обижайте матерей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492360" y="1844640"/>
            <a:ext cx="5437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обижайте матерей, на матерей не обижайтесь.                                                                                    Перед разлукой у дверей нежнее с ними попрощайтесь.                                                                                            И уходить за поворот вы не спешите,                       не спешите,                                                                                И ей, стоящей у ворот, как можно дольше помашите.                                                                    Пишите письма им скорей и слов высоких не стесняйтесь.                                                                                    Не обижайте матерей, на матерей не обижайте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нтернет ресурс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Есть в природе знак святой и вещий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. - Ba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baby.ru/blogs/post/2226511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Не обижайте матерей. - Жемчужины мыс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inpearls.ru/comments/557483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Не обижайте матерей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 - Осенний фейервер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valentina-panina.ru/text/157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 обижайте матер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- Самое интересное в блога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liveinternet.ru/tag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фаэль -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икстинская мадон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centre.smr.ru/win/pics/pic0166/p0166.htm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тографии  из семейных альбомов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6:43:39Z</dcterms:created>
  <dc:creator>Manager</dc:creator>
  <dc:description/>
  <dc:language>en-US</dc:language>
  <cp:lastModifiedBy>Вера</cp:lastModifiedBy>
  <dcterms:modified xsi:type="dcterms:W3CDTF">2014-04-15T06:50:17Z</dcterms:modified>
  <cp:revision>58</cp:revision>
  <dc:subject/>
  <dc:title>Открытый урок</dc:title>
</cp:coreProperties>
</file>