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C92-4A2A-43D0-A543-53B0F729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480-11AE-468A-B511-E793F852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FFC-60E2-4006-80C8-427CD2F4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7BF-9772-4093-8F50-C0CF812F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5AD6-11E6-4BAB-B362-5769D306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6F60-C081-4652-9EAC-0106C1CA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1EB1-6896-4846-9DCC-33C620D6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7A7F-CB3F-4B7F-8670-AA93B307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6914-190F-4D20-983D-178BA64D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C467-115B-41E1-AD38-081D1087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FE98-1B4F-49FB-93C4-D90A0127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38C-3C0D-4BF9-B647-A2A3DB32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31CE-53E5-44C8-8417-AF0FB72B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C9EF-4CE1-4698-8C55-BA26FC7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D357-70BB-45A9-A9A2-3D3E47EC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44EB-E173-43B2-8C24-BC76E28A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9EF6-EC56-4F16-B277-D5028C22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1945-B9E6-4002-A97C-9E48C8C6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BA2A-40DD-4BAA-A053-E6D9F03A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D0C4A-2DD0-4A4D-A5B1-C2F3E3F4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547A-6200-48FA-9BE9-88D1D849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7F39-8D9F-4BC9-A327-2FB711C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678-C5FC-4D13-A623-AD1B22B8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5A15-5BDB-4B14-A8A4-1B5D1B04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7C06-BEDD-4FA0-A4D0-78E7710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E443-AE48-4AE7-928D-7C2A067B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C145-FDBC-4176-8003-C7CEEBBF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CF67-A95B-4E79-8EF0-11AC56EC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6F1F-6D02-4B08-8F90-51942395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C41D-B0C4-441D-9BB8-BC981186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12B3A-1507-4A75-8C39-E9C01BE6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B4241-300E-4FCD-8DE9-E5E2E89E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58E55-7981-4451-8D1F-F9955D39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F33-641D-4711-820B-82AB19D2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50964-1D13-4CEA-89F8-5DEDE083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7A4A0-64AA-4FD7-BB4C-95E3C311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88B4-B24C-47C8-B231-85EA903F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01A9D-6204-425B-8B9A-0C070F55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4981E-EA6A-4437-99B9-01D3DC4E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A1D8-B616-4502-A583-AD12B2C2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37AEC-B308-43D6-8E89-0A4AEBE2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B2F6-BADE-480F-8F0C-5FABB42D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6D28-6B7D-4955-B71D-89809510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4724-38CC-4E03-BD7C-5BD80A75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6E2-D284-4D44-A90B-50E04B8A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4F9C7-1809-42D5-8224-1077AA8D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03AD5-06B0-41A4-B18F-D4FAE4D6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3B3B6-31DE-45A3-8613-23459677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AAE98-B694-4D6F-9E66-115D4647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1C7BC-A83F-4615-B894-04B969A8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4F15A-3613-4FFF-8998-E098961A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3FE0-0C47-4E9E-BB7B-A69EB016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A0137-121E-452D-9218-52DB6A12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687C9-A6D5-4227-B788-3F35D1DF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E796D-7E9B-40F6-ABCF-2FA1D95C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9C2-4D72-4404-8303-8A0CCED4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70DFB-EE99-475E-9CF4-4DB45F55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A73-2AAA-4E16-9AE8-B03EBF0C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2D5-75F1-40E7-A85A-0DF173FB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CC4-72CB-4F93-B60A-AA57031E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2B8D-22B4-4A97-BECC-85B54B9994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3141720"/>
            <a:ext cx="9252000" cy="3881520"/>
          </a:xfrm>
          <a:prstGeom prst="rect">
            <a:avLst/>
          </a:prstGeom>
          <a:ln w="0">
            <a:noFill/>
          </a:ln>
        </p:spPr>
      </p:pic>
      <p:grpSp>
        <p:nvGrpSpPr>
          <p:cNvPr id="42" name="Рамка 7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3" name="Рамка 7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46160" y="146160"/>
              <a:ext cx="8851680" cy="65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8A03-DF3D-4155-914E-2F04F9B675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"/>
          <p:cNvPicPr/>
          <p:nvPr/>
        </p:nvPicPr>
        <p:blipFill>
          <a:blip r:embed="rId2"/>
          <a:stretch/>
        </p:blipFill>
        <p:spPr>
          <a:xfrm>
            <a:off x="108000" y="4367160"/>
            <a:ext cx="3095640" cy="2500200"/>
          </a:xfrm>
          <a:prstGeom prst="rect">
            <a:avLst/>
          </a:prstGeom>
          <a:ln w="0">
            <a:noFill/>
          </a:ln>
        </p:spPr>
      </p:pic>
      <p:grpSp>
        <p:nvGrpSpPr>
          <p:cNvPr id="87" name="Рамка 7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88" name="Рамка 7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46160" y="146160"/>
              <a:ext cx="8851680" cy="65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3BD-5B22-4B89-8BBE-875F54F5E2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6" descr=""/>
          <p:cNvPicPr/>
          <p:nvPr/>
        </p:nvPicPr>
        <p:blipFill>
          <a:blip r:embed="rId2"/>
          <a:stretch/>
        </p:blipFill>
        <p:spPr>
          <a:xfrm>
            <a:off x="7740720" y="6013440"/>
            <a:ext cx="1320840" cy="844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"/>
          <p:cNvPicPr/>
          <p:nvPr/>
        </p:nvPicPr>
        <p:blipFill>
          <a:blip r:embed="rId3"/>
          <a:stretch/>
        </p:blipFill>
        <p:spPr>
          <a:xfrm>
            <a:off x="22320" y="4292640"/>
            <a:ext cx="1954080" cy="2658960"/>
          </a:xfrm>
          <a:prstGeom prst="rect">
            <a:avLst/>
          </a:prstGeom>
          <a:ln w="0">
            <a:noFill/>
          </a:ln>
        </p:spPr>
      </p:pic>
      <p:grpSp>
        <p:nvGrpSpPr>
          <p:cNvPr id="133" name="Рамка 8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34" name="Рамка 8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46160" y="146160"/>
              <a:ext cx="8851680" cy="65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42D8-06BF-47BC-8A3E-B7156C89A5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6" descr=""/>
          <p:cNvPicPr/>
          <p:nvPr/>
        </p:nvPicPr>
        <p:blipFill>
          <a:blip r:embed="rId2"/>
          <a:stretch/>
        </p:blipFill>
        <p:spPr>
          <a:xfrm>
            <a:off x="0" y="4332240"/>
            <a:ext cx="4025880" cy="2525760"/>
          </a:xfrm>
          <a:prstGeom prst="rect">
            <a:avLst/>
          </a:prstGeom>
          <a:ln w="0">
            <a:noFill/>
          </a:ln>
        </p:spPr>
      </p:pic>
      <p:grpSp>
        <p:nvGrpSpPr>
          <p:cNvPr id="178" name="Рамка 7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79" name="Рамка 7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46160" y="146160"/>
              <a:ext cx="8851680" cy="65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A63C-72AD-44E1-9842-2B4595B62C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e1c11"/>
                </a:solidFill>
                <a:latin typeface="Segoe Print"/>
              </a:rPr>
              <a:t>ГОРОД МОЕГО ДЕТСТВ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357120" y="5286240"/>
            <a:ext cx="457200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ркина Дарь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3 Б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школа №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Шнырова О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дравствуйте, мои друзь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332000" y="1557360"/>
            <a:ext cx="424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друз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 эта - 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юблю свой го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о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, юны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мятеж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5" descr="G:\фото послед\IMG_20170315_104617.jpg"/>
          <p:cNvPicPr/>
          <p:nvPr/>
        </p:nvPicPr>
        <p:blipFill>
          <a:blip r:embed="rId1"/>
          <a:stretch/>
        </p:blipFill>
        <p:spPr>
          <a:xfrm>
            <a:off x="5643720" y="3286080"/>
            <a:ext cx="18381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"/>
          <p:cNvSpPr/>
          <p:nvPr/>
        </p:nvSpPr>
        <p:spPr>
          <a:xfrm>
            <a:off x="214200" y="285840"/>
            <a:ext cx="68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зержинск красивый очен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рош и днем, и ноч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: горят огн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добрые о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http://img-fotki.yandex.ru/get/6003/7688798.37/0_6ab4f_ed864c97_XL.jpg"/>
          <p:cNvPicPr/>
          <p:nvPr/>
        </p:nvPicPr>
        <p:blipFill>
          <a:blip r:embed="rId1"/>
          <a:stretch/>
        </p:blipFill>
        <p:spPr>
          <a:xfrm>
            <a:off x="5429160" y="857160"/>
            <a:ext cx="3319560" cy="1665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4857840" y="2857680"/>
            <a:ext cx="3816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 красавец-дом волнист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известен этот 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т здесь специ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ь, что мы в нем не жив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" descr="G:\Глаза А\iл.jpg"/>
          <p:cNvPicPr/>
          <p:nvPr/>
        </p:nvPicPr>
        <p:blipFill>
          <a:blip r:embed="rId2"/>
          <a:stretch/>
        </p:blipFill>
        <p:spPr>
          <a:xfrm>
            <a:off x="1000080" y="2857680"/>
            <a:ext cx="335772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5029200" y="2057400"/>
            <a:ext cx="3816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388800" y="206280"/>
            <a:ext cx="570996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итер город мой похож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ак красив, он так приго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 пройдем по улицам Дзержинс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емся  тополям и сосна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ядим, как падают снежин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зержинский брови хмурит гроз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5" descr="G:\Глаза А\i.jpg"/>
          <p:cNvPicPr/>
          <p:nvPr/>
        </p:nvPicPr>
        <p:blipFill>
          <a:blip r:embed="rId1"/>
          <a:stretch/>
        </p:blipFill>
        <p:spPr>
          <a:xfrm>
            <a:off x="5992920" y="420840"/>
            <a:ext cx="2657520" cy="15904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"/>
          <p:cNvSpPr/>
          <p:nvPr/>
        </p:nvSpPr>
        <p:spPr>
          <a:xfrm>
            <a:off x="857160" y="27860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Текст 3"/>
          <p:cNvSpPr/>
          <p:nvPr/>
        </p:nvSpPr>
        <p:spPr>
          <a:xfrm>
            <a:off x="4000680" y="3929040"/>
            <a:ext cx="489564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фоком церковь-чуд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ребятам нрав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видишь отовсюд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на-красавиц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одержимое 2"/>
          <p:cNvSpPr/>
          <p:nvPr/>
        </p:nvSpPr>
        <p:spPr>
          <a:xfrm>
            <a:off x="357120" y="714240"/>
            <a:ext cx="39276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ге  к бабуш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со шпилем виж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о солнца тянется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совсем не ниж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G:\Глаза А\т.jpg"/>
          <p:cNvPicPr/>
          <p:nvPr/>
        </p:nvPicPr>
        <p:blipFill>
          <a:blip r:embed="rId1"/>
          <a:stretch/>
        </p:blipFill>
        <p:spPr>
          <a:xfrm>
            <a:off x="4714920" y="500040"/>
            <a:ext cx="3514680" cy="22096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9"/>
          <p:cNvSpPr/>
          <p:nvPr/>
        </p:nvSpPr>
        <p:spPr>
          <a:xfrm>
            <a:off x="0" y="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ом со шпил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Текст 3"/>
          <p:cNvSpPr/>
          <p:nvPr/>
        </p:nvSpPr>
        <p:spPr>
          <a:xfrm>
            <a:off x="4143240" y="4214880"/>
            <a:ext cx="46818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кинотеатр «Ударник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танцуй у «Дарни».                  Имя новое поставишь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столб плясать заставиш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G:\Глаза А\л.jpg"/>
          <p:cNvPicPr/>
          <p:nvPr/>
        </p:nvPicPr>
        <p:blipFill>
          <a:blip r:embed="rId2"/>
          <a:stretch/>
        </p:blipFill>
        <p:spPr>
          <a:xfrm>
            <a:off x="1928880" y="4429080"/>
            <a:ext cx="2361960" cy="2048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G:\Глаза А\б.jpg"/>
          <p:cNvPicPr/>
          <p:nvPr/>
        </p:nvPicPr>
        <p:blipFill>
          <a:blip r:embed="rId3"/>
          <a:stretch/>
        </p:blipFill>
        <p:spPr>
          <a:xfrm>
            <a:off x="1714680" y="2571840"/>
            <a:ext cx="2500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ворец детского твор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Текст 3"/>
          <p:cNvSpPr/>
          <p:nvPr/>
        </p:nvSpPr>
        <p:spPr>
          <a:xfrm>
            <a:off x="3071880" y="1071720"/>
            <a:ext cx="3927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Т- любимый дом.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ж лежит у вх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тобой сюда ид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 непо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G:\Глаза А\45d50591ff023c81ead171451dfdf6f1_L.jpg"/>
          <p:cNvPicPr/>
          <p:nvPr/>
        </p:nvPicPr>
        <p:blipFill>
          <a:blip r:embed="rId1"/>
          <a:stretch/>
        </p:blipFill>
        <p:spPr>
          <a:xfrm>
            <a:off x="357120" y="1143000"/>
            <a:ext cx="2619360" cy="1962000"/>
          </a:xfrm>
          <a:prstGeom prst="rect">
            <a:avLst/>
          </a:prstGeom>
          <a:ln w="0">
            <a:noFill/>
          </a:ln>
        </p:spPr>
      </p:pic>
      <p:sp>
        <p:nvSpPr>
          <p:cNvPr id="245" name="Заголовок 3"/>
          <p:cNvSpPr/>
          <p:nvPr/>
        </p:nvSpPr>
        <p:spPr>
          <a:xfrm>
            <a:off x="0" y="3071880"/>
            <a:ext cx="628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емориал Пам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Текст 3"/>
          <p:cNvSpPr/>
          <p:nvPr/>
        </p:nvSpPr>
        <p:spPr>
          <a:xfrm>
            <a:off x="2071800" y="4286160"/>
            <a:ext cx="6335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спекте Мира сердце замир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сто в городе очень уваж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солдату всех времен и вой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гню на площади нужен час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G:\Глаза А\iб.jpg"/>
          <p:cNvPicPr/>
          <p:nvPr/>
        </p:nvPicPr>
        <p:blipFill>
          <a:blip r:embed="rId2"/>
          <a:stretch/>
        </p:blipFill>
        <p:spPr>
          <a:xfrm>
            <a:off x="5786280" y="2428920"/>
            <a:ext cx="30038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Школа №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одержимое 2"/>
          <p:cNvSpPr/>
          <p:nvPr/>
        </p:nvSpPr>
        <p:spPr>
          <a:xfrm>
            <a:off x="468360" y="1052640"/>
            <a:ext cx="39276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ша шк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кнами на ю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мой класс любим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читель-дру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Рисунок 4" descr="https://img-fotki.yandex.ru/get/126937/407789202.711e/0_2cf9a5_9fd50eca_XXXL"/>
          <p:cNvPicPr/>
          <p:nvPr/>
        </p:nvPicPr>
        <p:blipFill>
          <a:blip r:embed="rId1"/>
          <a:stretch/>
        </p:blipFill>
        <p:spPr>
          <a:xfrm>
            <a:off x="5143680" y="1214280"/>
            <a:ext cx="2500200" cy="15987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5029200" y="2057400"/>
            <a:ext cx="3816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Текст 3"/>
          <p:cNvSpPr/>
          <p:nvPr/>
        </p:nvSpPr>
        <p:spPr>
          <a:xfrm>
            <a:off x="1042920" y="4508640"/>
            <a:ext cx="3745080" cy="1873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площадью стои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нами очень много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трого говор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6" descr="G:\Глаза А\д.jpg"/>
          <p:cNvPicPr/>
          <p:nvPr/>
        </p:nvPicPr>
        <p:blipFill>
          <a:blip r:embed="rId2"/>
          <a:stretch/>
        </p:blipFill>
        <p:spPr>
          <a:xfrm>
            <a:off x="5857920" y="4286160"/>
            <a:ext cx="2139840" cy="16034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8"/>
          <p:cNvSpPr/>
          <p:nvPr/>
        </p:nvSpPr>
        <p:spPr>
          <a:xfrm>
            <a:off x="468360" y="3500280"/>
            <a:ext cx="78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амятник Владимиру Маяковск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еа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одержимое 2"/>
          <p:cNvSpPr/>
          <p:nvPr/>
        </p:nvSpPr>
        <p:spPr>
          <a:xfrm>
            <a:off x="357120" y="857160"/>
            <a:ext cx="61819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любимейших театра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льный и дра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так любят дедуш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так любят бабуш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так любят па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мам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Рисунок 4" descr="загруженное"/>
          <p:cNvPicPr/>
          <p:nvPr/>
        </p:nvPicPr>
        <p:blipFill>
          <a:blip r:embed="rId1"/>
          <a:stretch/>
        </p:blipFill>
        <p:spPr>
          <a:xfrm>
            <a:off x="4214880" y="1000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G:\Глаза А\kuk.jpg"/>
          <p:cNvPicPr/>
          <p:nvPr/>
        </p:nvPicPr>
        <p:blipFill>
          <a:blip r:embed="rId2"/>
          <a:stretch/>
        </p:blipFill>
        <p:spPr>
          <a:xfrm>
            <a:off x="6215040" y="2000160"/>
            <a:ext cx="2428920" cy="1817640"/>
          </a:xfrm>
          <a:prstGeom prst="rect">
            <a:avLst/>
          </a:prstGeom>
          <a:ln w="0">
            <a:noFill/>
          </a:ln>
        </p:spPr>
      </p:pic>
      <p:sp>
        <p:nvSpPr>
          <p:cNvPr id="259" name="Заголовок 1"/>
          <p:cNvSpPr/>
          <p:nvPr/>
        </p:nvSpPr>
        <p:spPr>
          <a:xfrm>
            <a:off x="285840" y="35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иблиотека им. З. Космодемьянс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Содержимое 2"/>
          <p:cNvSpPr/>
          <p:nvPr/>
        </p:nvSpPr>
        <p:spPr>
          <a:xfrm>
            <a:off x="2000160" y="4429080"/>
            <a:ext cx="3311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отив окон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жкин 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дыха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е 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4500720" y="4500720"/>
            <a:ext cx="43192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ках приклю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и, Элли, 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зв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ждут с книжкой дома!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ДКХ"/>
          <p:cNvPicPr/>
          <p:nvPr/>
        </p:nvPicPr>
        <p:blipFill>
          <a:blip r:embed="rId1"/>
          <a:stretch/>
        </p:blipFill>
        <p:spPr>
          <a:xfrm>
            <a:off x="285840" y="3929040"/>
            <a:ext cx="4303800" cy="27147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3"/>
          <p:cNvSpPr/>
          <p:nvPr/>
        </p:nvSpPr>
        <p:spPr>
          <a:xfrm>
            <a:off x="3857760" y="2714760"/>
            <a:ext cx="4572000" cy="1785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расив весно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расив зим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прост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мой род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Содержимое 5" descr="Картинки по запросу краеведческий музей в дзержинске фото"/>
          <p:cNvPicPr/>
          <p:nvPr/>
        </p:nvPicPr>
        <p:blipFill>
          <a:blip r:embed="rId2"/>
          <a:stretch/>
        </p:blipFill>
        <p:spPr>
          <a:xfrm>
            <a:off x="4071960" y="1000080"/>
            <a:ext cx="4500720" cy="1351080"/>
          </a:xfrm>
          <a:prstGeom prst="rect">
            <a:avLst/>
          </a:prstGeom>
          <a:ln w="0">
            <a:noFill/>
          </a:ln>
        </p:spPr>
      </p:pic>
      <p:sp>
        <p:nvSpPr>
          <p:cNvPr id="265" name="Заголовок 5"/>
          <p:cNvSpPr/>
          <p:nvPr/>
        </p:nvSpPr>
        <p:spPr>
          <a:xfrm>
            <a:off x="571680" y="357120"/>
            <a:ext cx="511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уз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285840" y="1149480"/>
            <a:ext cx="43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й любим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музе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е так известен, как римский  колиз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1T18:47:41Z</dcterms:created>
  <dc:creator>Ольга</dc:creator>
  <dc:description/>
  <dc:language>en-US</dc:language>
  <cp:lastModifiedBy>Ольга</cp:lastModifiedBy>
  <dcterms:modified xsi:type="dcterms:W3CDTF">2019-01-10T19:52:57Z</dcterms:modified>
  <cp:revision>32</cp:revision>
  <dc:subject/>
  <dc:title>Шаблон «Город 2»</dc:title>
</cp:coreProperties>
</file>