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83E-46A5-4CD4-96C4-D76FBC89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4F5-5D55-40D0-9787-646E762C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606-1815-4576-9225-1D6ABCB2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AEE-55C3-4611-84C5-89280480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F470-208B-4941-8A67-983C540D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E4AF-34FB-42FD-867E-1905EE4E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A56-A787-4112-AF70-3B8576E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59B0-4389-4B98-9F0E-F94740D8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3F34-9A1B-4839-A61B-42258DFE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56D-F8CD-4146-90D3-F711E53F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04FD-B008-44FE-A2A5-EB851CF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4A2-F35C-43A0-B812-78DCEE5F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077-8431-4933-8FA5-273B359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A52-C87D-4637-8F0E-7500EEC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7668-64B0-4DF8-BFBB-BA69E91E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B077-DB02-46C7-8335-E655CF97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F81-0B47-407E-A2CF-9458EF35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DB8C-2096-4C80-91EF-C99A6138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B4B7-DC67-4D6F-8544-8BE0D7B7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6D02-276E-4AAA-983B-5153E752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5039-E723-47C7-AFCA-4B878EFE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7F9D-C796-4A2B-B88A-F234F651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240-0BEF-4900-B2E1-BB13A4CB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BB70-8FEE-4A0C-AF1C-0700C03C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492F-E63F-4E57-9335-3B4F3D9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67C6-B492-42C4-8520-9E787AD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2A01-DC4E-4155-BDD2-D367F83C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AB8E-6630-4082-A44F-6427046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E3BD-4E79-412D-9E60-EA9A74C4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DE5B-3679-4556-8028-E8F2BA38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278B-B465-4A08-B5EE-8A19D23F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6419-AE3D-4A6F-AC23-5059D07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5724-BD3E-42DE-BE2C-DE6CA478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DED-33D9-4C3F-A162-30FE8E9C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9527-C762-4895-84D8-DF15A624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895D-1EAE-4F59-ADA7-9ACB5E28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6089-2EAB-4A52-AA13-B73082AB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5055-A0F2-4306-B733-F583EFE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9205-52F7-45BC-B816-5F93E3C2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6CF1-BB77-4307-B695-A3E1AC24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FF57-663F-4859-82B1-03FA9B8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2C13-9F60-4FAA-BAC5-823D3B69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70E0-092B-4A42-B33B-32ACB45C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6C27-EA19-44C3-A664-25DD6A5D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E45-BF38-4BF4-9887-259E162C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8D63-1C70-44E8-8CEE-7D12229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08C1D-3178-44FE-8B8F-0150D172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7F7A-E141-4F89-AB15-B7C7E70D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5E79-549B-4938-BD70-5F4C2BF3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E24D-C70B-4DD9-90BF-1214DB34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6B19-3F81-4351-AAEE-64F9DE51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4078-E5B9-4682-A0B8-B527508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D3CA-A2E9-4C56-8C73-643291FB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F8E02-D204-47CE-B25F-FCE0027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A41A-829D-491A-847D-84DFD24E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A8D-E5D1-4E30-90E9-C24B803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7240E-84AB-4D15-9DA6-4433AF7A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E60-5B62-4127-AF0C-2C3F44DA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C42-BE6F-4FF9-8AC5-2D5697A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3C0-F3FD-4CD3-8FE4-E7AEADD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1FA4-6CD2-4A69-A17E-89C6FBCE5F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3141720"/>
            <a:ext cx="9252000" cy="3881520"/>
          </a:xfrm>
          <a:prstGeom prst="rect">
            <a:avLst/>
          </a:prstGeom>
          <a:ln w="0">
            <a:noFill/>
          </a:ln>
        </p:spPr>
      </p:pic>
      <p:grpSp>
        <p:nvGrpSpPr>
          <p:cNvPr id="42" name="Рамка 7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3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E688-3B80-4CAD-AA33-132F93A118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108000" y="4367160"/>
            <a:ext cx="3095640" cy="2500200"/>
          </a:xfrm>
          <a:prstGeom prst="rect">
            <a:avLst/>
          </a:prstGeom>
          <a:ln w="0">
            <a:noFill/>
          </a:ln>
        </p:spPr>
      </p:pic>
      <p:grpSp>
        <p:nvGrpSpPr>
          <p:cNvPr id="87" name="Рамка 7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88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A8F-7086-4B83-A2A3-710ABD33B8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"/>
          <p:cNvPicPr/>
          <p:nvPr/>
        </p:nvPicPr>
        <p:blipFill>
          <a:blip r:embed="rId2"/>
          <a:stretch/>
        </p:blipFill>
        <p:spPr>
          <a:xfrm>
            <a:off x="7740720" y="6013440"/>
            <a:ext cx="1320840" cy="844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"/>
          <p:cNvPicPr/>
          <p:nvPr/>
        </p:nvPicPr>
        <p:blipFill>
          <a:blip r:embed="rId3"/>
          <a:stretch/>
        </p:blipFill>
        <p:spPr>
          <a:xfrm>
            <a:off x="22320" y="4292640"/>
            <a:ext cx="195408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33" name="Рамка 8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34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861A-02EF-4746-809B-67EF9E2C43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6" descr=""/>
          <p:cNvPicPr/>
          <p:nvPr/>
        </p:nvPicPr>
        <p:blipFill>
          <a:blip r:embed="rId2"/>
          <a:stretch/>
        </p:blipFill>
        <p:spPr>
          <a:xfrm>
            <a:off x="0" y="4332240"/>
            <a:ext cx="4025880" cy="2525760"/>
          </a:xfrm>
          <a:prstGeom prst="rect">
            <a:avLst/>
          </a:prstGeom>
          <a:ln w="0">
            <a:noFill/>
          </a:ln>
        </p:spPr>
      </p:pic>
      <p:grpSp>
        <p:nvGrpSpPr>
          <p:cNvPr id="178" name="Рамка 7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79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EBCB-AB9F-44C4-918F-86DE3A6F91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e1c11"/>
                </a:solidFill>
                <a:latin typeface="Segoe Print"/>
              </a:rPr>
              <a:t>ГОРОД МОЕГО ДЕТСТ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357120" y="5286240"/>
            <a:ext cx="457200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ркина Дарь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3 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школа №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Шнырова О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дравствуйте, мои друзь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332000" y="1557360"/>
            <a:ext cx="424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 эта - 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юблю свой го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о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, юны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мятеж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5" descr="G:\фото послед\IMG_20170315_104617.jpg"/>
          <p:cNvPicPr/>
          <p:nvPr/>
        </p:nvPicPr>
        <p:blipFill>
          <a:blip r:embed="rId1"/>
          <a:stretch/>
        </p:blipFill>
        <p:spPr>
          <a:xfrm>
            <a:off x="5643720" y="3286080"/>
            <a:ext cx="18381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214200" y="285840"/>
            <a:ext cx="68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зержинск красивый очен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рош и днем, и ноч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: горят огн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обрые о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http://img-fotki.yandex.ru/get/6003/7688798.37/0_6ab4f_ed864c97_XL.jpg"/>
          <p:cNvPicPr/>
          <p:nvPr/>
        </p:nvPicPr>
        <p:blipFill>
          <a:blip r:embed="rId1"/>
          <a:stretch/>
        </p:blipFill>
        <p:spPr>
          <a:xfrm>
            <a:off x="5429160" y="857160"/>
            <a:ext cx="3319560" cy="1665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4857840" y="2857680"/>
            <a:ext cx="3816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 красавец-дом волнист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известен этот 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 здесь специ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ь, что мы в нем не жив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" descr="G:\Глаза А\iл.jpg"/>
          <p:cNvPicPr/>
          <p:nvPr/>
        </p:nvPicPr>
        <p:blipFill>
          <a:blip r:embed="rId2"/>
          <a:stretch/>
        </p:blipFill>
        <p:spPr>
          <a:xfrm>
            <a:off x="1000080" y="2857680"/>
            <a:ext cx="3357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029200" y="2057400"/>
            <a:ext cx="3816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88800" y="206280"/>
            <a:ext cx="57099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тер город мой похож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ак красив, он так приго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пройдем по улицам Дзержинс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емся  тополям и сосна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дим, как падают снежин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зержинский брови хмурит гроз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5" descr="G:\Глаза А\i.jpg"/>
          <p:cNvPicPr/>
          <p:nvPr/>
        </p:nvPicPr>
        <p:blipFill>
          <a:blip r:embed="rId1"/>
          <a:stretch/>
        </p:blipFill>
        <p:spPr>
          <a:xfrm>
            <a:off x="5992920" y="420840"/>
            <a:ext cx="2657520" cy="15904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"/>
          <p:cNvSpPr/>
          <p:nvPr/>
        </p:nvSpPr>
        <p:spPr>
          <a:xfrm>
            <a:off x="857160" y="27860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Текст 3"/>
          <p:cNvSpPr/>
          <p:nvPr/>
        </p:nvSpPr>
        <p:spPr>
          <a:xfrm>
            <a:off x="4000680" y="3929040"/>
            <a:ext cx="489564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фоком церковь-чуд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 нрав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видишь отовсюд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на-красавиц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одержимое 2"/>
          <p:cNvSpPr/>
          <p:nvPr/>
        </p:nvSpPr>
        <p:spPr>
          <a:xfrm>
            <a:off x="357120" y="714240"/>
            <a:ext cx="39276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ге  к бабуш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со шпилем виж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 солнца тянется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совсем не ниж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G:\Глаза А\т.jpg"/>
          <p:cNvPicPr/>
          <p:nvPr/>
        </p:nvPicPr>
        <p:blipFill>
          <a:blip r:embed="rId1"/>
          <a:stretch/>
        </p:blipFill>
        <p:spPr>
          <a:xfrm>
            <a:off x="4714920" y="500040"/>
            <a:ext cx="3514680" cy="22096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9"/>
          <p:cNvSpPr/>
          <p:nvPr/>
        </p:nvSpPr>
        <p:spPr>
          <a:xfrm>
            <a:off x="0" y="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ом со шпи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Текст 3"/>
          <p:cNvSpPr/>
          <p:nvPr/>
        </p:nvSpPr>
        <p:spPr>
          <a:xfrm>
            <a:off x="4143240" y="4214880"/>
            <a:ext cx="46818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кинотеатр «Ударник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танцуй у «Дарни».                  Имя новое поставишь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столб плясать застави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G:\Глаза А\л.jpg"/>
          <p:cNvPicPr/>
          <p:nvPr/>
        </p:nvPicPr>
        <p:blipFill>
          <a:blip r:embed="rId2"/>
          <a:stretch/>
        </p:blipFill>
        <p:spPr>
          <a:xfrm>
            <a:off x="1928880" y="4429080"/>
            <a:ext cx="2361960" cy="2048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G:\Глаза А\б.jpg"/>
          <p:cNvPicPr/>
          <p:nvPr/>
        </p:nvPicPr>
        <p:blipFill>
          <a:blip r:embed="rId3"/>
          <a:stretch/>
        </p:blipFill>
        <p:spPr>
          <a:xfrm>
            <a:off x="1714680" y="2571840"/>
            <a:ext cx="2500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ворец детского твор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Текст 3"/>
          <p:cNvSpPr/>
          <p:nvPr/>
        </p:nvSpPr>
        <p:spPr>
          <a:xfrm>
            <a:off x="3071880" y="1071720"/>
            <a:ext cx="3927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Т- любимый дом.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ж лежит у вх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тобой сюда ид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 непо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G:\Глаза А\45d50591ff023c81ead171451dfdf6f1_L.jpg"/>
          <p:cNvPicPr/>
          <p:nvPr/>
        </p:nvPicPr>
        <p:blipFill>
          <a:blip r:embed="rId1"/>
          <a:stretch/>
        </p:blipFill>
        <p:spPr>
          <a:xfrm>
            <a:off x="357120" y="1143000"/>
            <a:ext cx="2619360" cy="1962000"/>
          </a:xfrm>
          <a:prstGeom prst="rect">
            <a:avLst/>
          </a:prstGeom>
          <a:ln w="0">
            <a:noFill/>
          </a:ln>
        </p:spPr>
      </p:pic>
      <p:sp>
        <p:nvSpPr>
          <p:cNvPr id="245" name="Заголовок 3"/>
          <p:cNvSpPr/>
          <p:nvPr/>
        </p:nvSpPr>
        <p:spPr>
          <a:xfrm>
            <a:off x="0" y="3071880"/>
            <a:ext cx="62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мориал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Текст 3"/>
          <p:cNvSpPr/>
          <p:nvPr/>
        </p:nvSpPr>
        <p:spPr>
          <a:xfrm>
            <a:off x="2071800" y="4286160"/>
            <a:ext cx="6335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спекте Мира сердце замир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сто в городе очень уваж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солдату всех времен и вой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гню на площади нужен час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G:\Глаза А\iб.jpg"/>
          <p:cNvPicPr/>
          <p:nvPr/>
        </p:nvPicPr>
        <p:blipFill>
          <a:blip r:embed="rId2"/>
          <a:stretch/>
        </p:blipFill>
        <p:spPr>
          <a:xfrm>
            <a:off x="5786280" y="2428920"/>
            <a:ext cx="30038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Школа №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одержимое 2"/>
          <p:cNvSpPr/>
          <p:nvPr/>
        </p:nvSpPr>
        <p:spPr>
          <a:xfrm>
            <a:off x="468360" y="1052640"/>
            <a:ext cx="39276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ша шк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кнами на ю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мой класс любим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читель-дру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Рисунок 4" descr="https://img-fotki.yandex.ru/get/126937/407789202.711e/0_2cf9a5_9fd50eca_XXXL"/>
          <p:cNvPicPr/>
          <p:nvPr/>
        </p:nvPicPr>
        <p:blipFill>
          <a:blip r:embed="rId1"/>
          <a:stretch/>
        </p:blipFill>
        <p:spPr>
          <a:xfrm>
            <a:off x="5143680" y="1214280"/>
            <a:ext cx="2500200" cy="15987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5029200" y="2057400"/>
            <a:ext cx="3816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Текст 3"/>
          <p:cNvSpPr/>
          <p:nvPr/>
        </p:nvSpPr>
        <p:spPr>
          <a:xfrm>
            <a:off x="1042920" y="4508640"/>
            <a:ext cx="3745080" cy="1873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лощадью стои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нами очень много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трого говор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6" descr="G:\Глаза А\д.jpg"/>
          <p:cNvPicPr/>
          <p:nvPr/>
        </p:nvPicPr>
        <p:blipFill>
          <a:blip r:embed="rId2"/>
          <a:stretch/>
        </p:blipFill>
        <p:spPr>
          <a:xfrm>
            <a:off x="5857920" y="4286160"/>
            <a:ext cx="2139840" cy="16034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8"/>
          <p:cNvSpPr/>
          <p:nvPr/>
        </p:nvSpPr>
        <p:spPr>
          <a:xfrm>
            <a:off x="468360" y="3500280"/>
            <a:ext cx="78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амятник Владимиру Маяковск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еа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одержимое 2"/>
          <p:cNvSpPr/>
          <p:nvPr/>
        </p:nvSpPr>
        <p:spPr>
          <a:xfrm>
            <a:off x="357120" y="857160"/>
            <a:ext cx="61819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любимейших театра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ьный и дра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так любят деду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так любят бабу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так любят па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мам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Рисунок 4" descr="загруженное"/>
          <p:cNvPicPr/>
          <p:nvPr/>
        </p:nvPicPr>
        <p:blipFill>
          <a:blip r:embed="rId1"/>
          <a:stretch/>
        </p:blipFill>
        <p:spPr>
          <a:xfrm>
            <a:off x="4214880" y="1000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G:\Глаза А\kuk.jpg"/>
          <p:cNvPicPr/>
          <p:nvPr/>
        </p:nvPicPr>
        <p:blipFill>
          <a:blip r:embed="rId2"/>
          <a:stretch/>
        </p:blipFill>
        <p:spPr>
          <a:xfrm>
            <a:off x="6215040" y="2000160"/>
            <a:ext cx="2428920" cy="1817640"/>
          </a:xfrm>
          <a:prstGeom prst="rect">
            <a:avLst/>
          </a:prstGeom>
          <a:ln w="0">
            <a:noFill/>
          </a:ln>
        </p:spPr>
      </p:pic>
      <p:sp>
        <p:nvSpPr>
          <p:cNvPr id="259" name="Заголовок 1"/>
          <p:cNvSpPr/>
          <p:nvPr/>
        </p:nvSpPr>
        <p:spPr>
          <a:xfrm>
            <a:off x="285840" y="35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иблиотека им. З. Космодемьянс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2000160" y="4429080"/>
            <a:ext cx="3311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отив окон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жкин 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дыха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е 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500720" y="4500720"/>
            <a:ext cx="43192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ках приклю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и, Элли, 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зв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ждут с книжкой дома!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ДКХ"/>
          <p:cNvPicPr/>
          <p:nvPr/>
        </p:nvPicPr>
        <p:blipFill>
          <a:blip r:embed="rId1"/>
          <a:stretch/>
        </p:blipFill>
        <p:spPr>
          <a:xfrm>
            <a:off x="285840" y="3929040"/>
            <a:ext cx="4303800" cy="27147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3857760" y="2714760"/>
            <a:ext cx="4572000" cy="1785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расив весно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расив зим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прост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ой род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Содержимое 5" descr="Картинки по запросу краеведческий музей в дзержинске фото"/>
          <p:cNvPicPr/>
          <p:nvPr/>
        </p:nvPicPr>
        <p:blipFill>
          <a:blip r:embed="rId2"/>
          <a:stretch/>
        </p:blipFill>
        <p:spPr>
          <a:xfrm>
            <a:off x="4071960" y="1000080"/>
            <a:ext cx="4500720" cy="1351080"/>
          </a:xfrm>
          <a:prstGeom prst="rect">
            <a:avLst/>
          </a:prstGeom>
          <a:ln w="0">
            <a:noFill/>
          </a:ln>
        </p:spPr>
      </p:pic>
      <p:sp>
        <p:nvSpPr>
          <p:cNvPr id="265" name="Заголовок 5"/>
          <p:cNvSpPr/>
          <p:nvPr/>
        </p:nvSpPr>
        <p:spPr>
          <a:xfrm>
            <a:off x="571680" y="357120"/>
            <a:ext cx="511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уз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285840" y="114948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й любим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муз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так известен, как римский  колиз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18:47:41Z</dcterms:created>
  <dc:creator>Ольга</dc:creator>
  <dc:description/>
  <dc:language>en-US</dc:language>
  <cp:lastModifiedBy>Ольга</cp:lastModifiedBy>
  <dcterms:modified xsi:type="dcterms:W3CDTF">2019-01-10T19:52:57Z</dcterms:modified>
  <cp:revision>32</cp:revision>
  <dc:subject/>
  <dc:title>Шаблон «Город 2»</dc:title>
</cp:coreProperties>
</file>