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A54-F842-4DA6-BBF9-C098426B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9D3-9E2E-444D-B1CF-BF9DF505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AA8-3160-43AB-B055-CF4F4C8A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9DC-1881-4D48-83F8-5F686B02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747-1F94-4DDE-B5F2-AFB89A58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51B-02B0-4250-BB0A-D51453AA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8FC-2C8C-458D-817D-4016E5F9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DD4-9A5A-4B61-94E9-EDF325D0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EBC-6EA7-443D-AB09-DBE6BF9B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AC9-83CB-464D-8DB0-1E59B095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12B9-940C-4E9E-B271-2EE6BDF5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51C-BE5B-4710-B6C9-47997E07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CF86-27E5-4514-A7D9-2EF5E0CB3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tolkslovar.ru/m810.html" TargetMode="External"/><Relationship Id="rId2" Type="http://schemas.openxmlformats.org/officeDocument/2006/relationships/hyperlink" Target="http://tolkslovar.ru/g5875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Демографическая ситуация в России и проблема неполной сем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4" descr="Файл:Federal subjects of Russia by population dencity 31.01.2010.svg"/>
          <p:cNvPicPr/>
          <p:nvPr/>
        </p:nvPicPr>
        <p:blipFill>
          <a:blip r:embed="rId1"/>
          <a:stretch/>
        </p:blipFill>
        <p:spPr>
          <a:xfrm>
            <a:off x="179280" y="2565360"/>
            <a:ext cx="7272360" cy="310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" name="" descr="C:\Documents and Settings\&amp;Pcy;&amp;ocy;&amp;lcy;&amp;softcy;&amp;zcy;&amp;ocy;&amp;vcy;&amp;acy;&amp;tcy;&amp;iecy;&amp;lcy;&amp;softcy;\&amp;Mcy;&amp;ocy;&amp;icy; &amp;dcy;&amp;ocy;&amp;kcy;&amp;ucy;&amp;mcy;&amp;iecy;&amp;ncy;&amp;tcy;&amp;ycy;\0a1594c5e939c2e40b981bf04ee10209.gif"/>
          <p:cNvPicPr/>
          <p:nvPr/>
        </p:nvPicPr>
        <p:blipFill>
          <a:blip r:embed="rId2"/>
          <a:stretch/>
        </p:blipFill>
        <p:spPr>
          <a:xfrm>
            <a:off x="6114960" y="4133880"/>
            <a:ext cx="3029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630440"/>
            <a:ext cx="88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052640"/>
          <a:ext cx="8702640" cy="5524200"/>
        </p:xfrm>
        <a:graphic>
          <a:graphicData uri="http://schemas.openxmlformats.org/drawingml/2006/table">
            <a:tbl>
              <a:tblPr/>
              <a:tblGrid>
                <a:gridCol w="2836800"/>
                <a:gridCol w="3063960"/>
                <a:gridCol w="2801880"/>
              </a:tblGrid>
              <a:tr h="8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ченская Республ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ченская Республ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ченская Республ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Ингуше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Ингуше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Ингуше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Ты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Ты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Ты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Дагест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Дагест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Дагест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Алт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Саха (Якут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Алт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Саха (Якут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Алт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Саха (Якут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ецкий автономный о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рдино-Балкарская республ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ецкий автономный о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чаево-Черкесская республ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ецкий автономный о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Бур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рдино-Балкарская республ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Северная Осетия -Ал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котский автономный о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Калмык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Калмык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чаево-Черкесская республ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268360" y="54936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бэби-бум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210600"/>
            <a:ext cx="849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2009 г. в России впервые за 17 лет, начиная с 1993 г., перестала сокращаться численность населения, остановившись на отметке в 141,9 млн чел (таблица 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мографические показатели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8360" y="1557360"/>
          <a:ext cx="8280000" cy="4535280"/>
        </p:xfrm>
        <a:graphic>
          <a:graphicData uri="http://schemas.openxmlformats.org/drawingml/2006/table">
            <a:tbl>
              <a:tblPr/>
              <a:tblGrid>
                <a:gridCol w="2144520"/>
                <a:gridCol w="599760"/>
                <a:gridCol w="646560"/>
                <a:gridCol w="646200"/>
                <a:gridCol w="646920"/>
                <a:gridCol w="646560"/>
                <a:gridCol w="1435320"/>
                <a:gridCol w="151416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, средний вариант прогноз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, средний вариант прогноз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населения, млн чел. (на конец год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,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,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7 (139,6-142,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.7 (132.6-145,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й прирост/убыль населения. млн че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9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48 (-0,688-0.211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39 (-1,181-0.217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даемость, на 1000 че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 (10,9-12,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4 (8,1-10,7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ность, на 1000 че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 (15,8-14,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9 (17,0-13,2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http://900igr.net/datas/ekologija/Predmet-ekologii/0079-079-Demograficheskaja-situatsija-v-Rossii.jpg"/>
          <p:cNvPicPr/>
          <p:nvPr/>
        </p:nvPicPr>
        <p:blipFill>
          <a:blip r:embed="rId1"/>
          <a:stretch/>
        </p:blipFill>
        <p:spPr>
          <a:xfrm>
            <a:off x="0" y="-171360"/>
            <a:ext cx="88200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demografiya-sovremennoy-rossii-04 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demografiya-sovremennoy-rossii-04 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9325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овится частью жизненной философии, но значительная часть общества их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айлдфр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добровольная бездетность. Идеи распространяются в Интернете. Сознательный отказ когда-либо иметь детей. Причин много: отсутствие тяги к родительству, желание посвятить жизнь друг другу, неприязнь к детям, несчастное детство, перенаселенность планеты и т.д. Для некоторых людей «чайлдфри осужд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565360"/>
            <a:ext cx="3816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илил все коменты. Спасибо, поржал. Сам являюсь ЧФ и что можно тут сказать по количеству откликов - РАЗУМНЫХ людей тут 1-2%, остальные - животные, руководствующиеся инстинктами. Хотите, жить в нищите, плодить олигофренов (вон, ЕГЭ 70% детей сдать не могут даже на 3 балла) - ваше право. Так же как и наше этого не 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ник обсуждения проблемы в Ру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Файл:CF logo.jpg"/>
          <p:cNvPicPr/>
          <p:nvPr/>
        </p:nvPicPr>
        <p:blipFill>
          <a:blip r:embed="rId1"/>
          <a:stretch/>
        </p:blipFill>
        <p:spPr>
          <a:xfrm>
            <a:off x="6480000" y="3287880"/>
            <a:ext cx="2664000" cy="357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181440" y="188640"/>
            <a:ext cx="9145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статистического исследования были выяснены наиболее распространенные причины быть чайлдфри: нежелание жертвовать личным пространством ради ребенка, отсутствие убедительной причины иметь детей, нежелание терять время, активное отвращение к детям, удовлетворенность домашними животными и наблюдением за детьми родственников или друзе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19572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иртуальном сообществе кипят страсти: особенно ярые «чайлдфри» называют детей, чуть - ли не вселенским злом - потомки, дескать, мешают нормальной жизни, опустошают кошельки, а в результате вырастают неблагодарными. Дети - это «спиногрызы», «террор добра и диктатура счастья», «карлики, которые постоянно ноют», - такие «эпитеты» используют члены свободного от детей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украинской прес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img.goroskop.ru/images/publish/articles/27565/72291_27565-paragraf-photo-text-left-img-dir.jpg"/>
          <p:cNvPicPr/>
          <p:nvPr/>
        </p:nvPicPr>
        <p:blipFill>
          <a:blip r:embed="rId1"/>
          <a:stretch/>
        </p:blipFill>
        <p:spPr>
          <a:xfrm>
            <a:off x="5508720" y="2421000"/>
            <a:ext cx="3300480" cy="39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&amp;Gcy;&amp;acy;&amp;zcy;&amp;iecy;&amp;tcy;&amp;ycy; &amp;pcy;&amp;icy;&amp;shcy;&amp;ucy;&amp;tcy;: &amp;Dcy;&amp;iecy;&amp;pcy;&amp;ocy;&amp;pcy;&amp;ucy;&amp;lcy;&amp;yacy;&amp;tscy;&amp;icy;&amp;ocy;&amp;ncy;&amp;ncy;&amp;ycy;&amp;jcy; «&amp;vcy;&amp;zcy;&amp;rcy;&amp;ycy;&amp;vcy;» &amp;vcy; &amp;Rcy;&amp;ocy;&amp;scy;&amp;scy;&amp;icy;&amp;icy;» «&amp;Vcy; &amp;scy;&amp;iecy;&amp;mcy;&amp;softcy;&amp;iecy; &amp;kcy;&amp;rcy;&amp;icy;&amp;zcy;&amp;icy;&amp;scy;!» «&amp;Vcy;&amp;ycy;&amp;mcy;&amp;icy;&amp;rcy;&amp;acy;&amp;iecy;&amp;mcy;!» «&amp;Pcy;&amp;ocy;&amp;vcy;&amp;ycy;&amp;shcy;&amp;iecy;&amp;ncy;&amp;icy;&amp;iecy; &amp;rcy;&amp;ocy;&amp;zhcy;&amp;dcy;&amp;acy;&amp;iecy;&amp;mcy;&amp;ocy;&amp;scy;&amp;tcy;&amp;icy; &amp;vcy; &amp;Rcy;&amp;ocy;&amp;scy;&amp;scy;&amp;icy;&amp;icy; – &amp;vcy;&amp;ocy;&amp;pcy;&amp;rcy;&amp;ocy;&amp;scy; &amp;gcy;&amp;ocy;&amp;scy;&amp;ucy;&amp;dcy;&amp;acy;&amp;rcy;&amp;scy;&amp;tcy;&amp;vcy;&amp;iecy;&amp;ncy;&amp;ncy;&amp;ocy;&amp;jcy; &amp;bcy;&amp;iecy;&amp;zcy;&amp;ocy;&amp;pcy;&amp;acy;&amp;scy;&amp;ncy;&amp;ocy;&amp;scy;&amp;tcy;&amp;icy;»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77264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мья - основанная на браке или кровном родстве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лая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группа,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члены которой связаны общностью быта, взаимной помощью, моральной и правовой ответственность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«&amp;IEcy;&amp;scy;&amp;lcy;&amp;icy; &amp;vcy;&amp;ycy; &amp;ncy;&amp;iecy; &amp;dcy;&amp;ucy;&amp;mcy;&amp;acy;&amp;iecy;&amp;tcy;&amp;iecy; &amp;ocy; &amp;bcy;&amp;ucy;&amp;dcy;&amp;ucy;&amp;shchcy;&amp;iecy;&amp;mcy;, &amp;iecy;&amp;gcy;&amp;ocy; &amp;ucy; &amp;vcy;&amp;acy;&amp;scy; &amp;ncy;&amp;iecy; &amp;bcy;&amp;ucy;&amp;dcy;&amp;iecy;&amp;tcy;» &amp;Dcy;&amp;zhcy;&amp;ocy;&amp;ncy; &amp;Gcy;&amp;ocy;&amp;lcy;&amp;scy;&amp;ucy;&amp;ocy;&amp;rcy;&amp;scy;&amp;icy;(1867 – 1933), &amp;acy;&amp;ncy;&amp;gcy;&amp;lcy;&amp;icy;&amp;jcy;&amp;scy;&amp;kcy;&amp;icy;&amp;jcy; &amp;pcy;&amp;icy;&amp;scy;&amp;acy;&amp;tcy;&amp;iecy;&amp;lcy;&amp;softcy;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пределение по возрасту вступления в брак для мужчин и женщин (доля от общей численности вступивших в брак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5105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9280" y="53794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аспределение по возрасту вступления в брак для мужчин и женщин (доля от общей численности вступивших в брак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рреляционная связь между количеством вступивших в детородный возраст и уровнем рождаемости и распределение родившихся по возрасту матери, в чел. (по данным 2012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640720" cy="5411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5589360"/>
            <a:ext cx="893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орреляционная связь между количеством вступивших в детородный возраст и уровнем рождаемости и распределение родившихся по возрасту матери, в чел. (по данным 2012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Тенденции сем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возраста, вступающих в бр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числа разв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возраста родителей на момент рождения первого ребёнка в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нсформация    экономической функции (снижение экон. Функции мужчины в семь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268280"/>
            <a:ext cx="22860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&amp;Ncy;&amp;iecy;&amp;pcy;&amp;ocy;&amp;lcy;&amp;ncy;&amp;acy;&amp;yacy; &amp;scy;&amp;iecy;&amp;mcy;&amp;softcy;&amp;yacy; &amp;Ncy;&amp;IEcy;&amp;Pcy;&amp;Ocy;&amp;Lcy;&amp;Ncy;&amp;Acy;&amp;YAcy; &amp;Scy;&amp;IEcy;&amp;Mcy;&amp;SOFTcy;&amp;YAcy; - &amp;gcy;&amp;rcy;&amp;ucy;&amp;pcy;&amp;pcy;&amp;acy; &amp;bcy;&amp;lcy;&amp;icy;&amp;zhcy;&amp;acy;&amp;jcy;&amp;shcy;&amp;icy;&amp;khcy; &amp;rcy;&amp;ocy;&amp;dcy;&amp;scy;&amp;tcy;&amp;vcy;&amp;iecy;&amp;ncy;&amp;ncy;&amp;icy;&amp;kcy;&amp;ocy;&amp;vcy;, &amp;scy;&amp;ocy;&amp;scy;&amp;tcy;&amp;ocy;&amp;yacy;&amp;shchcy;&amp;acy;&amp;yacy; &amp;icy;&amp;zcy; &amp;ocy;&amp;dcy;&amp;ncy;&amp;ocy;&amp;gcy;&amp;ocy; &amp;rcy;&amp;ocy;&amp;dcy;&amp;icy;&amp;tcy;&amp;iecy;&amp;lcy;&amp;yacy; &amp;scy; &amp;ocy;&amp;dcy;&amp;ncy;&amp;icy;&amp;mcy; &amp;icy;&amp;lcy;&amp;icy; &amp;ncy;&amp;iecy;&amp;scy;&amp;kcy;&amp;ocy;&amp;lcy;&amp;softcy;&amp;kcy;&amp;icy;&amp;mcy;&amp;icy; &amp;ncy;&amp;iecy;&amp;scy;&amp;ocy;&amp;vcy;&amp;iecy;&amp;rcy;&amp;shcy;&amp;iecy;&amp;ncy;&amp;ncy;&amp;ocy;&amp;lcy;&amp;iecy;&amp;tcy;&amp;ncy;&amp;icy;&amp;mcy;&amp;icy; &amp;dcy;&amp;iecy;&amp;tcy;&amp;softcy;&amp;mcy;&amp;icy;.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&amp;Ucy;&amp;scy;&amp;icy;&amp;lcy;&amp;iecy;&amp;ncy;&amp;icy;&amp;iecy; &amp;pcy;&amp;rcy;&amp;ocy;&amp;bcy;&amp;lcy;&amp;iecy;&amp;mcy;, &amp;pcy;&amp;rcy;&amp;iecy;&amp;pcy;&amp;yacy;&amp;tcy;&amp;scy;&amp;tcy;&amp;vcy;&amp;ucy;&amp;yucy;&amp;shchcy;&amp;icy;&amp;khcy; &amp;bcy;&amp;rcy;&amp;acy;&amp;kcy;&amp;ucy;: &amp;ocy;&amp;tcy;&amp;scy;&amp;ucy;&amp;tcy;&amp;scy;&amp;tcy;&amp;vcy;&amp;icy;&amp;iecy; &amp;zhcy;&amp;icy;&amp;lcy;&amp;softcy;&amp;yacy;, &amp;dcy;&amp;ocy;&amp;scy;&amp;tcy;&amp;ocy;&amp;jcy;&amp;ncy;&amp;ocy;&amp;gcy;&amp;ocy; &amp;zcy;&amp;acy;&amp;rcy;&amp;acy;&amp;bcy;&amp;ocy;&amp;tcy;&amp;kcy;&amp;acy;; &amp;ncy;&amp;iecy;&amp;dcy;&amp;ocy;&amp;scy;&amp;tcy;&amp;acy;&amp;tcy;&amp;ocy;&amp;chcy;&amp;ncy;&amp;acy;&amp;yacy; &amp;scy;&amp;ocy;&amp;tscy;&amp;icy;&amp;acy;&amp;lcy;&amp;softcy;&amp;ncy;&amp;ocy;- &amp;pcy;&amp;scy;&amp;icy;&amp;khcy;&amp;ocy;&amp;lcy;&amp;ocy;&amp;gcy;&amp;icy;&amp;chcy;&amp;iecy;&amp;scy;&amp;kcy;&amp;acy;&amp;yacy; &amp;gcy;&amp;ocy;&amp;tcy;&amp;ocy;&amp;vcy;&amp;ncy;&amp;ocy;&amp;scy;&amp;tcy;&amp;softcy; &amp;kcy; &amp;bcy;&amp;rcy;&amp;acy;&amp;kcy;&amp;ucy;, &amp;pcy;&amp;scy;&amp;icy;&amp;khcy;&amp;ocy;&amp;lcy;&amp;ocy;&amp;gcy;&amp;icy;&amp;chcy;&amp;iecy;&amp;scy;&amp;kcy;&amp;icy;&amp;iecy; &amp;pcy;&amp;iecy;&amp;rcy;&amp;iecy;&amp;gcy;&amp;rcy;&amp;ucy;&amp;zcy;&amp;kcy;&amp;icy; &amp;pcy;&amp;acy;&amp;rcy;&amp;tcy;&amp;ncy;&amp;iecy;&amp;rcy;&amp;ocy;&amp;vcy;. &amp;Scy;&amp;ncy;&amp;icy;&amp;zhcy;&amp;iecy;&amp;ncy;&amp;icy;&amp;iecy; &amp;ecy;&amp;kcy;&amp;ocy;&amp;ncy;&amp;ocy;&amp;mcy;&amp;icy;&amp;chcy;&amp;iecy;&amp;scy;&amp;kcy;&amp;ocy;&amp;jcy; &amp;rcy;&amp;ocy;&amp;lcy;&amp;icy; &amp;mcy;&amp;ucy;&amp;zhcy;&amp;chcy;&amp;icy;&amp;ncy;&amp;ycy; &amp;vcy; &amp;scy;&amp;iecy;&amp;mcy;&amp;softcy;&amp;iecy;. &amp;Scy;&amp;ncy;&amp;icy;&amp;zhcy;&amp;iecy;&amp;ncy;&amp;icy;&amp;iecy; &amp;ecy;&amp;fcy;&amp;fcy;&amp;iecy;&amp;kcy;&amp;tcy;&amp;icy;&amp;vcy;&amp;ncy;&amp;ocy;&amp;scy;&amp;tcy;&amp;icy; &amp;vcy;&amp;zcy;…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demografiya-sovremennoy-rossii-04 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demografiya-sovremennoy-rossii-04 1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demografiya-sovremennoy-rossii-04 3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«&amp;IEcy;&amp;scy;&amp;lcy;&amp;icy; &amp;vcy;&amp;ycy; &amp;ncy;&amp;iecy; &amp;dcy;&amp;ucy;&amp;mcy;&amp;acy;&amp;iecy;&amp;tcy;&amp;iecy; &amp;ocy; &amp;bcy;&amp;ucy;&amp;dcy;&amp;ucy;&amp;shchcy;&amp;iecy;&amp;mcy;, &amp;iecy;&amp;gcy;&amp;ocy; &amp;ucy; &amp;vcy;&amp;acy;&amp;scy; &amp;ncy;&amp;iecy; &amp;bcy;&amp;ucy;&amp;dcy;&amp;iecy;&amp;tcy;» &amp;Dcy;&amp;zhcy;&amp;ocy;&amp;ncy; &amp;Gcy;&amp;ocy;&amp;lcy;&amp;scy;&amp;ucy;&amp;ocy;&amp;rcy;&amp;scy;&amp;icy;(1867 – 1933), &amp;acy;&amp;ncy;&amp;gcy;&amp;lcy;&amp;icy;&amp;jcy;&amp;scy;&amp;kcy;&amp;icy;&amp;jcy; &amp;pcy;&amp;icy;&amp;scy;&amp;acy;&amp;tcy;&amp;iecy;&amp;lcy;&amp;softcy;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могра́фия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(греч. δέμος — народ, γράφω — пишу) — наука о закономерностях воспроизводства населения, о зависимости его характера от социально-экономических, природных условий, миграции, изучающая численность, территориальное размещение и состав населения, их изменения, причины и следствия этих изменений и дающая рекомендации по их улучш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139680"/>
            <a:ext cx="87854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мографическая проблема в России обсуждается давно. С середины 90-ых в стране наблюдалась убыль населения. В 2010 г. был остановлен процесс сокращения численности населения. По данным Росстата в 2012 году численность населения России впервые увеличилась и на первое полугодие 2013 г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л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143,3 млн. человек. (Рис.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131216103412_image001" descr=""/>
          <p:cNvPicPr/>
          <p:nvPr/>
        </p:nvPicPr>
        <p:blipFill>
          <a:blip r:embed="rId1"/>
          <a:stretch/>
        </p:blipFill>
        <p:spPr>
          <a:xfrm>
            <a:off x="0" y="1197000"/>
            <a:ext cx="8764560" cy="4448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7640" y="6005880"/>
            <a:ext cx="54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.1. Численность населения России 1990-2013 гг., в млн. 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http://900igr.net/datas/ekologija/Predmet-ekologii/0079-079-Demograficheskaja-situatsija-v-Rossii.jpg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2720" y="142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131216103432_image003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893080" cy="5616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6262200"/>
            <a:ext cx="744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.2. Динамика естественного прироста населения по Федеральным округам, в чел. (по данным Росстат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588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3. Отношение уровня рождаемости и смертности 2012 г. к уровню рождаемости и смертности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5950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720" y="6236640"/>
            <a:ext cx="67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Сальдо естественного прироста в 9 субъектах РФ, в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88640" y="359640"/>
            <a:ext cx="92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1. Прогноз естественного прироста населения по федеральным округ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836640"/>
          <a:ext cx="8928000" cy="6014880"/>
        </p:xfrm>
        <a:graphic>
          <a:graphicData uri="http://schemas.openxmlformats.org/drawingml/2006/table">
            <a:tbl>
              <a:tblPr/>
              <a:tblGrid>
                <a:gridCol w="1312920"/>
                <a:gridCol w="1001520"/>
                <a:gridCol w="1336680"/>
                <a:gridCol w="696960"/>
                <a:gridCol w="576360"/>
                <a:gridCol w="1060560"/>
                <a:gridCol w="576000"/>
                <a:gridCol w="1274760"/>
                <a:gridCol w="109224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о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о-Кавказ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олж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ль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ир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-вост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дости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ия естест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ного прироста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- 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-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-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да прир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-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ы, которые обеспечат положи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ое сальдо федераль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у окру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, Моск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ка Коми, Санкт-Петербург, Калинин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дская и Архан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льская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мыкия и Астра-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н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рес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тан, Марий Эл, Башкор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стан и Удмур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нты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ансийс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й и Ямало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ецкий авто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ные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Алтай, Бурятия, Тыва, Хакасия, Забай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ьский и Красно-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 (Якут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17:46:02Z</dcterms:created>
  <dc:creator>Ира</dc:creator>
  <dc:description/>
  <dc:language>en-US</dc:language>
  <cp:lastModifiedBy>Ира</cp:lastModifiedBy>
  <dcterms:modified xsi:type="dcterms:W3CDTF">2015-12-21T20:38:09Z</dcterms:modified>
  <cp:revision>12</cp:revision>
  <dc:subject/>
  <dc:title>Демографическая ситуация в России</dc:title>
</cp:coreProperties>
</file>