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F36-283C-4B1F-A6E8-90F5CB18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183-315C-44DF-A9E4-D9BB0FF2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0EC-E778-4A5B-99BD-BC652A1E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D5F-9EB8-453C-9A7F-97ADB882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A67-E861-4138-8B03-DE598189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DA6-FCBD-47E6-ADD3-78B3F21E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87A-BBFF-4738-8D04-3938447E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741-BA78-43A4-B0BD-F9ED7214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C33-B136-4FD3-8033-7D9D26C8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A54-D047-4106-8167-DA9F8CD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A35-E1B8-4E4B-B8FE-4A00EA1A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365-8525-49E9-93C2-2F1A33E1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8E4D-ADE6-4E46-B6E1-AE76627F9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hyperlink" Target="http://nashzeleniymir.ru/&#1082;&#1072;&#1088;&#1072;&#1089;&#1100;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833445-1b251f693f6541d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533520" y="990720"/>
            <a:ext cx="8153280" cy="4190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и домашние питом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971800" y="5334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971800" y="3962520"/>
            <a:ext cx="5867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Старцева Кр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аяся 1 «Г»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ОШ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Мордвинова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676520" y="289548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ажды на мой день рождения родители подарили мне аквариум с рыбк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aquarium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457200" y="30481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ажды на день рождения родители подарили мне аквариум с ры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ost-318-1248678782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533520" y="12193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в моем аквариуме 2 обитателя: золотая рыбка по имени «Голди» и сом по имени «Леопар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5719b5be23bbeb39801e7f4d"/>
          <p:cNvPicPr/>
          <p:nvPr/>
        </p:nvPicPr>
        <p:blipFill>
          <a:blip r:embed="rId2"/>
          <a:stretch/>
        </p:blipFill>
        <p:spPr>
          <a:xfrm>
            <a:off x="0" y="4038480"/>
            <a:ext cx="5486400" cy="2657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94999fe18e683629ea87604bddee7f73"/>
          <p:cNvPicPr/>
          <p:nvPr/>
        </p:nvPicPr>
        <p:blipFill>
          <a:blip r:embed="rId3"/>
          <a:stretch/>
        </p:blipFill>
        <p:spPr>
          <a:xfrm>
            <a:off x="4191120" y="380880"/>
            <a:ext cx="4714920" cy="353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5719b5be23bbeb39801e7f4d"/>
          <p:cNvPicPr/>
          <p:nvPr/>
        </p:nvPicPr>
        <p:blipFill>
          <a:blip r:embed="rId4"/>
          <a:stretch/>
        </p:blipFill>
        <p:spPr>
          <a:xfrm>
            <a:off x="0" y="4038480"/>
            <a:ext cx="54864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ost-318-1248678782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94999fe18e683629ea87604bddee7f73"/>
          <p:cNvPicPr/>
          <p:nvPr/>
        </p:nvPicPr>
        <p:blipFill>
          <a:blip r:embed="rId2"/>
          <a:stretch/>
        </p:blipFill>
        <p:spPr>
          <a:xfrm>
            <a:off x="4191120" y="380880"/>
            <a:ext cx="4714920" cy="3533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914400"/>
            <a:ext cx="32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лотая рыбка (лат. Carassius auratus) представляет собой искусственно выведенный вид пресноводных рыб из рода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арас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ost-318-1248678782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533520" y="914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5719b5be23bbeb39801e7f4d"/>
          <p:cNvPicPr/>
          <p:nvPr/>
        </p:nvPicPr>
        <p:blipFill>
          <a:blip r:embed="rId2"/>
          <a:stretch/>
        </p:blipFill>
        <p:spPr>
          <a:xfrm>
            <a:off x="0" y="3200400"/>
            <a:ext cx="6324480" cy="3495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990720" y="53352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мики считаются санитарами аквариума. Это мирные, дружелюбные рыбки. Большую часть времени они проводят на д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i?id=b4346b39e98d55b13059b6828d4769d4&amp;n=33&amp;h=215&amp;w=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143000" y="380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мы ухаживаем за аквариу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wpid-voda-dla-akvariuma"/>
          <p:cNvPicPr/>
          <p:nvPr/>
        </p:nvPicPr>
        <p:blipFill>
          <a:blip r:embed="rId2"/>
          <a:stretch/>
        </p:blipFill>
        <p:spPr>
          <a:xfrm>
            <a:off x="5410080" y="1066680"/>
            <a:ext cx="3448080" cy="258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soderzh_rybok"/>
          <p:cNvPicPr/>
          <p:nvPr/>
        </p:nvPicPr>
        <p:blipFill>
          <a:blip r:embed="rId3"/>
          <a:stretch/>
        </p:blipFill>
        <p:spPr>
          <a:xfrm>
            <a:off x="533520" y="114300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4850117"/>
          <p:cNvPicPr/>
          <p:nvPr/>
        </p:nvPicPr>
        <p:blipFill>
          <a:blip r:embed="rId4"/>
          <a:stretch/>
        </p:blipFill>
        <p:spPr>
          <a:xfrm>
            <a:off x="419112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33720" y="228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ыбок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juwel-aquarium-background-poster-2-extra-large-120-x-60-to-150-x-60cm-%5b3%5d-5121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1447920" y="457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рыбок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4805371"/>
          <p:cNvPicPr/>
          <p:nvPr/>
        </p:nvPicPr>
        <p:blipFill>
          <a:blip r:embed="rId2"/>
          <a:stretch/>
        </p:blipFill>
        <p:spPr>
          <a:xfrm>
            <a:off x="0" y="10666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2016-New-Arrival-Hot-font-b-Sale-b-font-New-Pro-Air-Bubble-Stone-Aerator-font"/>
          <p:cNvPicPr/>
          <p:nvPr/>
        </p:nvPicPr>
        <p:blipFill>
          <a:blip r:embed="rId3"/>
          <a:stretch/>
        </p:blipFill>
        <p:spPr>
          <a:xfrm>
            <a:off x="1828800" y="3295800"/>
            <a:ext cx="3562200" cy="356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%D0%BA%D0%BE%D1%80%D0%BC%D0%BB%D0%B5%D0%BD%D0%B8%D0%B5-%D1%80%D1%8B%D0%B1"/>
          <p:cNvPicPr/>
          <p:nvPr/>
        </p:nvPicPr>
        <p:blipFill>
          <a:blip r:embed="rId4"/>
          <a:stretch/>
        </p:blipFill>
        <p:spPr>
          <a:xfrm rot="1024800">
            <a:off x="4723920" y="1523520"/>
            <a:ext cx="3981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Vector-Deskt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80880" y="380880"/>
            <a:ext cx="86108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аквариумом ухаживать довольно сложно, но очень интересно наблюдать за жизнью его обит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с удовольствием каждый день кормлю своих любимч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16:11:17Z</dcterms:created>
  <dc:creator>Администратор</dc:creator>
  <dc:description/>
  <dc:language>en-US</dc:language>
  <cp:lastModifiedBy>Алексей</cp:lastModifiedBy>
  <dcterms:modified xsi:type="dcterms:W3CDTF">2019-01-10T14:50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