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gif" ContentType="image/gif"/>
  <Override PartName="/ppt/media/image13.png" ContentType="image/png"/>
  <Override PartName="/ppt/media/image11.png" ContentType="image/png"/>
  <Override PartName="/ppt/media/image9.png" ContentType="image/png"/>
  <Override PartName="/ppt/media/image8.gif" ContentType="image/gif"/>
  <Override PartName="/ppt/media/image7.png" ContentType="image/png"/>
  <Override PartName="/ppt/media/image6.jpeg" ContentType="image/jpeg"/>
  <Override PartName="/ppt/media/image5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gif" ContentType="image/gif"/>
  <Override PartName="/ppt/media/image3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2.gif" ContentType="image/gi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C3C1-06FB-46DB-83F0-A310E84B7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FB7E-645A-40CF-98B1-ABB68BB2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08DE-36A4-4B76-8FD3-FBD8A7273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ED94-8226-4A59-8DA3-BF4DEDCB7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52FDA-2487-4F1D-9DEB-25C0E45C1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F1A3D-0385-4998-8E8F-E72B184A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53F0-B6F4-4D7F-93CE-A53A0B77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C5F0-0E7E-494A-B8A0-55D6410B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2684-7882-446F-BDF6-BB76D1B5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F96A-0845-473A-AD07-039D354C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6778-BD1A-4107-9AEA-283E6266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F497-FBC0-4375-ABAE-449DEFB4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EA6E-5170-44C1-BF20-A8037830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3B3C-6EAE-4377-BDA9-3C807EF7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F10B-1FD7-4DB7-B7C3-52EE6536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54CA-EF30-44B3-AEBC-8FCBC2EAF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C030-FEB9-4708-A9C1-6C4A9AD92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034F-99A6-41E8-AECC-DBBD0BB0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C85B-E69D-40BF-9574-04F7961C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3385-CB1A-4A65-B9B9-66D53F54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28B6-37FA-4B2B-B8F6-3F019F94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5D1B-8023-43AC-9CEA-DFD7FEC9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4A61-45B2-444B-8865-897A9972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AE60-D77C-4FBA-87F3-DCD1BA96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7b28c"/>
                </a:gs>
                <a:gs pos="50000">
                  <a:srgbClr val="ebd2a5"/>
                </a:gs>
                <a:gs pos="100000">
                  <a:srgbClr val="c7b2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732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472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476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4c5d4e"/>
                </a:gs>
                <a:gs pos="50000">
                  <a:srgbClr val="a5c9a8"/>
                </a:gs>
                <a:gs pos="100000">
                  <a:srgbClr val="4c5d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CA97-A905-4C89-AFE2-9CEB769D61D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432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4320"/>
              <a:ext cx="1203120" cy="6853320"/>
            </a:xfrm>
            <a:prstGeom prst="rect">
              <a:avLst/>
            </a:prstGeom>
            <a:gradFill rotWithShape="0">
              <a:gsLst>
                <a:gs pos="0">
                  <a:srgbClr val="c7b28c"/>
                </a:gs>
                <a:gs pos="50000">
                  <a:srgbClr val="ebd2a5"/>
                </a:gs>
                <a:gs pos="100000">
                  <a:srgbClr val="c7b2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720"/>
              <a:chOff x="7848720" y="360"/>
              <a:chExt cx="1295280" cy="630972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3760"/>
                <a:chOff x="8381880" y="360"/>
                <a:chExt cx="762120" cy="22737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10560" y="360"/>
                  <a:ext cx="279360" cy="275400"/>
                  <a:chOff x="871056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10560" y="360"/>
                    <a:ext cx="279360" cy="275400"/>
                    <a:chOff x="871056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9440" y="-3852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880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30080" y="13392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3840" y="7200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476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424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30080" y="19620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8600" y="17136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2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2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74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80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2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2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3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39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3440"/>
                <a:ext cx="828720" cy="4706640"/>
                <a:chOff x="7848720" y="1603440"/>
                <a:chExt cx="828720" cy="47066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34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80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71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53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7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22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85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5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71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76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62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22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4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76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85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4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9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9680"/>
              <a:ext cx="1190520" cy="193860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920"/>
              <a:ext cx="1219320" cy="1998720"/>
            </a:xfrm>
            <a:prstGeom prst="pie">
              <a:avLst/>
            </a:pr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20240"/>
              <a:ext cx="1231920" cy="4034160"/>
            </a:xfrm>
            <a:prstGeom prst="pie">
              <a:avLst/>
            </a:prstGeom>
            <a:gradFill rotWithShape="0">
              <a:gsLst>
                <a:gs pos="0">
                  <a:srgbClr val="4c5d4e"/>
                </a:gs>
                <a:gs pos="50000">
                  <a:srgbClr val="a5c9a8"/>
                </a:gs>
                <a:gs pos="100000">
                  <a:srgbClr val="4c5d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40600"/>
              <a:ext cx="979560" cy="21826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31280"/>
              <a:ext cx="914400" cy="50446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6400"/>
              <a:ext cx="909720" cy="306936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4320"/>
              <a:ext cx="576360" cy="33501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5760"/>
              <a:ext cx="300240" cy="3350520"/>
            </a:xfrm>
            <a:prstGeom prst="pie">
              <a:avLst/>
            </a:pr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5760"/>
              <a:ext cx="88920" cy="6853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800"/>
              <a:ext cx="1165320" cy="61848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6480" y="3318120"/>
              <a:ext cx="6853320" cy="22536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E1D5-0520-4D6F-81BB-A2E7F4BBEBC9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4200" y="142848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Урок по культуре общения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«ДОРОГОЮ ДОБРА»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7120" y="4500360"/>
            <a:ext cx="4786560" cy="18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66"/>
                </a:solidFill>
                <a:latin typeface="Arial"/>
              </a:rPr>
              <a:t>ГБОУ СОШ №117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66"/>
                </a:solidFill>
                <a:latin typeface="Arial"/>
              </a:rPr>
              <a:t>Учитель начальных классов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66"/>
                </a:solidFill>
                <a:latin typeface="Arial"/>
              </a:rPr>
              <a:t>Хохлова Инна Валентиновн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Рисунок 1" descr="C:\Documents and Settings\User\Рабочий стол\Хохлова.jpg"/>
          <p:cNvPicPr/>
          <p:nvPr/>
        </p:nvPicPr>
        <p:blipFill>
          <a:blip r:embed="rId1"/>
          <a:srcRect l="2875" t="2692" r="3487" b="12307"/>
          <a:stretch/>
        </p:blipFill>
        <p:spPr>
          <a:xfrm>
            <a:off x="5357880" y="3000240"/>
            <a:ext cx="18572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http://img0.liveinternet.ru/images/attach/c/2//68/796/68796009_1294230220_03.png"/>
          <p:cNvPicPr/>
          <p:nvPr/>
        </p:nvPicPr>
        <p:blipFill>
          <a:blip r:embed="rId1"/>
          <a:stretch/>
        </p:blipFill>
        <p:spPr>
          <a:xfrm>
            <a:off x="2786040" y="1500120"/>
            <a:ext cx="3143160" cy="4457880"/>
          </a:xfrm>
          <a:prstGeom prst="rect">
            <a:avLst/>
          </a:prstGeom>
          <a:ln w="0">
            <a:noFill/>
          </a:ln>
        </p:spPr>
      </p:pic>
      <p:pic>
        <p:nvPicPr>
          <p:cNvPr id="221" name="Прямоугольник 5" descr=""/>
          <p:cNvPicPr/>
          <p:nvPr/>
        </p:nvPicPr>
        <p:blipFill>
          <a:blip r:embed="rId2"/>
          <a:stretch/>
        </p:blipFill>
        <p:spPr>
          <a:xfrm>
            <a:off x="1994040" y="480960"/>
            <a:ext cx="511956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Прямоугольник 5" descr=""/>
          <p:cNvPicPr/>
          <p:nvPr/>
        </p:nvPicPr>
        <p:blipFill>
          <a:blip r:embed="rId1"/>
          <a:stretch/>
        </p:blipFill>
        <p:spPr>
          <a:xfrm>
            <a:off x="317520" y="554040"/>
            <a:ext cx="8582040" cy="1238400"/>
          </a:xfrm>
          <a:prstGeom prst="rect">
            <a:avLst/>
          </a:prstGeom>
          <a:ln w="0">
            <a:noFill/>
          </a:ln>
        </p:spPr>
      </p:pic>
      <p:sp>
        <p:nvSpPr>
          <p:cNvPr id="223" name="Прямоугольник 3"/>
          <p:cNvSpPr/>
          <p:nvPr/>
        </p:nvSpPr>
        <p:spPr>
          <a:xfrm>
            <a:off x="428760" y="1214280"/>
            <a:ext cx="871524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Здоровайтесь со всеми.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 Обращайтесь к человеку по имени.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 Будьте доброжелательными.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 С уважением относитесь к мнению вашего   собеседника.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 Спокойно высказывайте своё мнение.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 Умейте выслушать собеседника.         Стремитесь к взаимопониманию в общении.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Прямоугольник 5" descr=""/>
          <p:cNvPicPr/>
          <p:nvPr/>
        </p:nvPicPr>
        <p:blipFill>
          <a:blip r:embed="rId1"/>
          <a:stretch/>
        </p:blipFill>
        <p:spPr>
          <a:xfrm>
            <a:off x="1359000" y="1000080"/>
            <a:ext cx="6237360" cy="135900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3" descr="001.gif"/>
          <p:cNvPicPr/>
          <p:nvPr/>
        </p:nvPicPr>
        <p:blipFill>
          <a:blip r:embed="rId2"/>
          <a:stretch/>
        </p:blipFill>
        <p:spPr>
          <a:xfrm>
            <a:off x="1928880" y="2143080"/>
            <a:ext cx="5000400" cy="36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Прямоугольник 6" descr=""/>
          <p:cNvPicPr/>
          <p:nvPr/>
        </p:nvPicPr>
        <p:blipFill>
          <a:blip r:embed="rId1"/>
          <a:stretch/>
        </p:blipFill>
        <p:spPr>
          <a:xfrm>
            <a:off x="311040" y="1322280"/>
            <a:ext cx="7126560" cy="113508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8" descr="93818587_Smaylik_animaciya_Solnuyshko.gif"/>
          <p:cNvPicPr/>
          <p:nvPr/>
        </p:nvPicPr>
        <p:blipFill>
          <a:blip r:embed="rId2"/>
          <a:stretch/>
        </p:blipFill>
        <p:spPr>
          <a:xfrm>
            <a:off x="2428920" y="2557440"/>
            <a:ext cx="3143160" cy="3236760"/>
          </a:xfrm>
          <a:prstGeom prst="rect">
            <a:avLst/>
          </a:prstGeom>
          <a:ln w="0">
            <a:noFill/>
          </a:ln>
        </p:spPr>
      </p:pic>
      <p:pic>
        <p:nvPicPr>
          <p:cNvPr id="197" name="Deti-Online.com - Если добрый ты (минусовка).mp3" descr=""/>
          <p:cNvPicPr/>
          <p:nvPr/>
        </p:nvPicPr>
        <p:blipFill>
          <a:blip r:embed="rId3"/>
          <a:stretch/>
        </p:blipFill>
        <p:spPr>
          <a:xfrm>
            <a:off x="6357960" y="5541840"/>
            <a:ext cx="71424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http://mirgif.com/predmety/animaciya30.gif"/>
          <p:cNvPicPr/>
          <p:nvPr/>
        </p:nvPicPr>
        <p:blipFill>
          <a:blip r:embed="rId1"/>
          <a:stretch/>
        </p:blipFill>
        <p:spPr>
          <a:xfrm>
            <a:off x="285840" y="857160"/>
            <a:ext cx="746280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3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63520" y="1598760"/>
            <a:ext cx="7386480" cy="44971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http://edelvaice.com/myimages/papka/skazka-vk2.jpg"/>
          <p:cNvPicPr/>
          <p:nvPr/>
        </p:nvPicPr>
        <p:blipFill>
          <a:blip r:embed="rId2"/>
          <a:stretch/>
        </p:blipFill>
        <p:spPr>
          <a:xfrm>
            <a:off x="0" y="0"/>
            <a:ext cx="9150480" cy="7072200"/>
          </a:xfrm>
          <a:prstGeom prst="rect">
            <a:avLst/>
          </a:prstGeom>
          <a:ln w="0">
            <a:noFill/>
          </a:ln>
        </p:spPr>
      </p:pic>
      <p:pic>
        <p:nvPicPr>
          <p:cNvPr id="202" name="Прямоугольник 5" descr=""/>
          <p:cNvPicPr/>
          <p:nvPr/>
        </p:nvPicPr>
        <p:blipFill>
          <a:blip r:embed="rId3"/>
          <a:stretch/>
        </p:blipFill>
        <p:spPr>
          <a:xfrm>
            <a:off x="146160" y="841320"/>
            <a:ext cx="9004320" cy="981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http://img1.liveinternet.ru/images/attach/c/2//68/796/68796007_1294230198_02.png"/>
          <p:cNvPicPr/>
          <p:nvPr/>
        </p:nvPicPr>
        <p:blipFill>
          <a:blip r:embed="rId4"/>
          <a:stretch/>
        </p:blipFill>
        <p:spPr>
          <a:xfrm>
            <a:off x="428760" y="2004840"/>
            <a:ext cx="257148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utoShape 2"/>
          <p:cNvSpPr/>
          <p:nvPr/>
        </p:nvSpPr>
        <p:spPr>
          <a:xfrm>
            <a:off x="155520" y="-1790640"/>
            <a:ext cx="198108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AutoShape 4"/>
          <p:cNvSpPr/>
          <p:nvPr/>
        </p:nvSpPr>
        <p:spPr>
          <a:xfrm>
            <a:off x="155520" y="-1790640"/>
            <a:ext cx="198108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155520" y="-1790640"/>
            <a:ext cx="198108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Picture 8" descr="http://img1.liveinternet.ru/images/attach/c/2//68/796/68796007_1294230198_02.png"/>
          <p:cNvPicPr/>
          <p:nvPr/>
        </p:nvPicPr>
        <p:blipFill>
          <a:blip r:embed="rId1"/>
          <a:stretch/>
        </p:blipFill>
        <p:spPr>
          <a:xfrm>
            <a:off x="857160" y="1214280"/>
            <a:ext cx="2362320" cy="445788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9"/>
          <p:cNvSpPr/>
          <p:nvPr/>
        </p:nvSpPr>
        <p:spPr>
          <a:xfrm>
            <a:off x="3571920" y="1071720"/>
            <a:ext cx="40719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Пока!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Здорово!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Привет!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Здравствуйте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Доброе утро!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До свидания!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Добрый день!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9"/>
          <p:cNvSpPr/>
          <p:nvPr/>
        </p:nvSpPr>
        <p:spPr>
          <a:xfrm>
            <a:off x="0" y="1714680"/>
            <a:ext cx="7929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2f1311"/>
                </a:solidFill>
                <a:latin typeface="Arial"/>
              </a:rPr>
              <a:t>Здравствуйте, позовите,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2f1311"/>
                </a:solidFill>
                <a:latin typeface="Arial"/>
              </a:rPr>
              <a:t>пожалуйста, Сашу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2f1311"/>
                </a:solidFill>
                <a:latin typeface="Arial"/>
              </a:rPr>
              <a:t>Здравствуйте, позовите Сашу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2f1311"/>
                </a:solidFill>
                <a:latin typeface="Arial"/>
              </a:rPr>
              <a:t>Здравствуйте, извините,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2f1311"/>
                </a:solidFill>
                <a:latin typeface="Arial"/>
              </a:rPr>
              <a:t>Позовите Сашу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2f1311"/>
                </a:solidFill>
                <a:latin typeface="Arial"/>
              </a:rPr>
              <a:t>Саша дома?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TextBox 10"/>
          <p:cNvSpPr/>
          <p:nvPr/>
        </p:nvSpPr>
        <p:spPr>
          <a:xfrm>
            <a:off x="1298520" y="928800"/>
            <a:ext cx="45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УЛИЦА ПРИВЕТСВИ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5"/>
          <p:cNvSpPr/>
          <p:nvPr/>
        </p:nvSpPr>
        <p:spPr>
          <a:xfrm>
            <a:off x="275400" y="1071720"/>
            <a:ext cx="447696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Извините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Будьте добры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Простите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Благодарю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Будьте любезны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Picture 8" descr="http://img1.liveinternet.ru/images/attach/c/2//68/796/68796007_1294230198_02.png"/>
          <p:cNvPicPr/>
          <p:nvPr/>
        </p:nvPicPr>
        <p:blipFill>
          <a:blip r:embed="rId1"/>
          <a:stretch/>
        </p:blipFill>
        <p:spPr>
          <a:xfrm>
            <a:off x="4357800" y="571680"/>
            <a:ext cx="2928960" cy="55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4200" y="1500120"/>
            <a:ext cx="7338960" cy="13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Arial"/>
              </a:rPr>
              <a:t>Вы опоздали на урок и хотите войти в класс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13880" y="3142800"/>
            <a:ext cx="64357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Можно войти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Извините, можно войти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Я войду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1388520" y="714240"/>
            <a:ext cx="44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ПРОСПЕКТ ИЗВИНЕНИЙ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Прямоугольник 7" descr=""/>
          <p:cNvPicPr/>
          <p:nvPr/>
        </p:nvPicPr>
        <p:blipFill>
          <a:blip r:embed="rId1"/>
          <a:stretch/>
        </p:blipFill>
        <p:spPr>
          <a:xfrm>
            <a:off x="353880" y="487440"/>
            <a:ext cx="7278840" cy="1170000"/>
          </a:xfrm>
          <a:prstGeom prst="rect">
            <a:avLst/>
          </a:prstGeom>
          <a:ln w="0">
            <a:noFill/>
          </a:ln>
        </p:spPr>
      </p:pic>
      <p:sp>
        <p:nvSpPr>
          <p:cNvPr id="217" name="TextBox 11"/>
          <p:cNvSpPr/>
          <p:nvPr/>
        </p:nvSpPr>
        <p:spPr>
          <a:xfrm>
            <a:off x="368640" y="2143080"/>
            <a:ext cx="29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7030a0"/>
                </a:solidFill>
                <a:uFillTx/>
                <a:latin typeface="Arial"/>
              </a:rPr>
              <a:t>Желаю вам</a:t>
            </a:r>
            <a:r>
              <a:rPr b="0" lang="ru-RU" sz="3600" spc="-1" strike="noStrike">
                <a:solidFill>
                  <a:srgbClr val="7030a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TextBox 12"/>
          <p:cNvSpPr/>
          <p:nvPr/>
        </p:nvSpPr>
        <p:spPr>
          <a:xfrm>
            <a:off x="500040" y="2857680"/>
            <a:ext cx="6072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здоровья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счасть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удач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успехов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хорошего настроени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исполнения желаний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хорошего дн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9" name="Рисунок 13" descr="question-mark27.gif"/>
          <p:cNvPicPr/>
          <p:nvPr/>
        </p:nvPicPr>
        <p:blipFill>
          <a:blip r:embed="rId2"/>
          <a:stretch/>
        </p:blipFill>
        <p:spPr>
          <a:xfrm>
            <a:off x="4357800" y="1428840"/>
            <a:ext cx="300024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04:40:59Z</dcterms:created>
  <dc:creator>Admin</dc:creator>
  <dc:description/>
  <dc:language>en-US</dc:language>
  <cp:lastModifiedBy>инна</cp:lastModifiedBy>
  <dcterms:modified xsi:type="dcterms:W3CDTF">2015-11-03T16:08:23Z</dcterms:modified>
  <cp:revision>29</cp:revision>
  <dc:subject/>
  <dc:title>Урок – игра №147 по рус. языка 3 кл.(4четв.) тема: «Культура поведения и общения».</dc:title>
</cp:coreProperties>
</file>