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3.png" ContentType="image/png"/>
  <Override PartName="/ppt/media/image11.png" ContentType="image/png"/>
  <Override PartName="/ppt/media/image9.png" ContentType="image/png"/>
  <Override PartName="/ppt/media/image8.gif" ContentType="image/gif"/>
  <Override PartName="/ppt/media/image7.png" ContentType="image/png"/>
  <Override PartName="/ppt/media/image6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gif" ContentType="image/gif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2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B48-AF22-49C2-982A-E7C54DE8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BCA-2AD6-44F0-9764-38ED461A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E34E-804F-4DAB-8475-12AD0232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E22-2C06-4327-9F8A-C81ED9AF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5FDF-9AAC-41CF-9FCD-4BE0F282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D8F2-9193-4723-AA7C-E9EB43A1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E43D-431F-40D9-AA1C-CB054149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AAA9-0B81-4019-9F9B-C800EF8D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B6AE-3622-4D43-8507-D4C9451A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693F-3E86-48CE-AFBF-A04FC4BD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3C3A-B183-41F4-8640-D903C503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7D5-55CF-48BC-A51B-409CCAA7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E8A3-2165-4FD8-BA63-C30BC62C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5482-9EAC-467A-8076-CD4AF982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3D12-69F0-4A05-B822-8DE5F90B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ECB6-D650-42FF-BF13-7661CE7E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3879-08F6-4125-AD0F-4A1F2991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B8D-0A97-4A94-A007-6AA7A542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0C1-BBCA-401C-9B07-17687253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13C-2084-4DBC-81A7-203D8173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D33-A90F-4992-AB71-A8C226AF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E82-06A6-4F18-B1AE-43DF6496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8E9-FA87-455C-89C2-FA996DEC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192-D0B3-4E2A-BA47-65DEACF9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9A66-E192-42A4-AC0F-8816016E09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43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4320"/>
              <a:ext cx="1203120" cy="685332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3760"/>
                <a:chOff x="8381880" y="360"/>
                <a:chExt cx="762120" cy="22737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3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62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713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2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7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2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3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3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3440"/>
                <a:ext cx="828720" cy="4706640"/>
                <a:chOff x="7848720" y="1603440"/>
                <a:chExt cx="828720" cy="47066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3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5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8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5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2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4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680"/>
              <a:ext cx="1190520" cy="19386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920"/>
              <a:ext cx="1219320" cy="199872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0240"/>
              <a:ext cx="1231920" cy="403416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0600"/>
              <a:ext cx="979560" cy="21826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1280"/>
              <a:ext cx="914400" cy="50446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6400"/>
              <a:ext cx="909720" cy="3069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4320"/>
              <a:ext cx="576360" cy="33501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5760"/>
              <a:ext cx="300240" cy="335052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5760"/>
              <a:ext cx="88920" cy="6853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6480" y="3318120"/>
              <a:ext cx="685332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1697-EB99-4EEF-A51A-B2381B7391C3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4200" y="14284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Урок по культуре общения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«ДОРОГОЮ ДОБРА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7120" y="4500360"/>
            <a:ext cx="478656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ГБОУ СОШ №11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Учитель начальных классов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Хохлова Инна Валентинов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Рисунок 1" descr="C:\Documents and Settings\User\Рабочий стол\Хохлова.jpg"/>
          <p:cNvPicPr/>
          <p:nvPr/>
        </p:nvPicPr>
        <p:blipFill>
          <a:blip r:embed="rId1"/>
          <a:srcRect l="2875" t="2692" r="3487" b="12307"/>
          <a:stretch/>
        </p:blipFill>
        <p:spPr>
          <a:xfrm>
            <a:off x="5357880" y="3000240"/>
            <a:ext cx="18572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img0.liveinternet.ru/images/attach/c/2//68/796/68796009_1294230220_03.png"/>
          <p:cNvPicPr/>
          <p:nvPr/>
        </p:nvPicPr>
        <p:blipFill>
          <a:blip r:embed="rId1"/>
          <a:stretch/>
        </p:blipFill>
        <p:spPr>
          <a:xfrm>
            <a:off x="2786040" y="1500120"/>
            <a:ext cx="3143160" cy="445788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5" descr=""/>
          <p:cNvPicPr/>
          <p:nvPr/>
        </p:nvPicPr>
        <p:blipFill>
          <a:blip r:embed="rId2"/>
          <a:stretch/>
        </p:blipFill>
        <p:spPr>
          <a:xfrm>
            <a:off x="1994040" y="480960"/>
            <a:ext cx="51195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Прямоугольник 5" descr=""/>
          <p:cNvPicPr/>
          <p:nvPr/>
        </p:nvPicPr>
        <p:blipFill>
          <a:blip r:embed="rId1"/>
          <a:stretch/>
        </p:blipFill>
        <p:spPr>
          <a:xfrm>
            <a:off x="317520" y="554040"/>
            <a:ext cx="8582040" cy="123840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3"/>
          <p:cNvSpPr/>
          <p:nvPr/>
        </p:nvSpPr>
        <p:spPr>
          <a:xfrm>
            <a:off x="428760" y="1214280"/>
            <a:ext cx="87152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Здоровайтесь со всеми.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Обращайтесь к человеку по имени.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Будьте доброжелательными.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С уважением относитесь к мнению вашего   собеседника.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Спокойно высказывайте своё мнение.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Умейте выслушать собеседника.         Стремитесь к взаимопониманию в общении.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Прямоугольник 5" descr=""/>
          <p:cNvPicPr/>
          <p:nvPr/>
        </p:nvPicPr>
        <p:blipFill>
          <a:blip r:embed="rId1"/>
          <a:stretch/>
        </p:blipFill>
        <p:spPr>
          <a:xfrm>
            <a:off x="1359000" y="1000080"/>
            <a:ext cx="6237360" cy="13590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" descr="001.gif"/>
          <p:cNvPicPr/>
          <p:nvPr/>
        </p:nvPicPr>
        <p:blipFill>
          <a:blip r:embed="rId2"/>
          <a:stretch/>
        </p:blipFill>
        <p:spPr>
          <a:xfrm>
            <a:off x="1928880" y="2143080"/>
            <a:ext cx="500040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6" descr=""/>
          <p:cNvPicPr/>
          <p:nvPr/>
        </p:nvPicPr>
        <p:blipFill>
          <a:blip r:embed="rId1"/>
          <a:stretch/>
        </p:blipFill>
        <p:spPr>
          <a:xfrm>
            <a:off x="311040" y="1322280"/>
            <a:ext cx="7126560" cy="1135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8" descr="93818587_Smaylik_animaciya_Solnuyshko.gif"/>
          <p:cNvPicPr/>
          <p:nvPr/>
        </p:nvPicPr>
        <p:blipFill>
          <a:blip r:embed="rId2"/>
          <a:stretch/>
        </p:blipFill>
        <p:spPr>
          <a:xfrm>
            <a:off x="2428920" y="2557440"/>
            <a:ext cx="3143160" cy="3236760"/>
          </a:xfrm>
          <a:prstGeom prst="rect">
            <a:avLst/>
          </a:prstGeom>
          <a:ln w="0">
            <a:noFill/>
          </a:ln>
        </p:spPr>
      </p:pic>
      <p:pic>
        <p:nvPicPr>
          <p:cNvPr id="197" name="Deti-Online.com - Если добрый ты (минусовка).mp3" descr=""/>
          <p:cNvPicPr/>
          <p:nvPr/>
        </p:nvPicPr>
        <p:blipFill>
          <a:blip r:embed="rId3"/>
          <a:stretch/>
        </p:blipFill>
        <p:spPr>
          <a:xfrm>
            <a:off x="6357960" y="5541840"/>
            <a:ext cx="714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http://mirgif.com/predmety/animaciya30.gif"/>
          <p:cNvPicPr/>
          <p:nvPr/>
        </p:nvPicPr>
        <p:blipFill>
          <a:blip r:embed="rId1"/>
          <a:stretch/>
        </p:blipFill>
        <p:spPr>
          <a:xfrm>
            <a:off x="285840" y="857160"/>
            <a:ext cx="746280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://edelvaice.com/myimages/papka/skazka-vk2.jpg"/>
          <p:cNvPicPr/>
          <p:nvPr/>
        </p:nvPicPr>
        <p:blipFill>
          <a:blip r:embed="rId2"/>
          <a:stretch/>
        </p:blipFill>
        <p:spPr>
          <a:xfrm>
            <a:off x="0" y="0"/>
            <a:ext cx="9150480" cy="707220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5" descr=""/>
          <p:cNvPicPr/>
          <p:nvPr/>
        </p:nvPicPr>
        <p:blipFill>
          <a:blip r:embed="rId3"/>
          <a:stretch/>
        </p:blipFill>
        <p:spPr>
          <a:xfrm>
            <a:off x="146160" y="841320"/>
            <a:ext cx="9004320" cy="981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http://img1.liveinternet.ru/images/attach/c/2//68/796/68796007_1294230198_02.png"/>
          <p:cNvPicPr/>
          <p:nvPr/>
        </p:nvPicPr>
        <p:blipFill>
          <a:blip r:embed="rId4"/>
          <a:stretch/>
        </p:blipFill>
        <p:spPr>
          <a:xfrm>
            <a:off x="428760" y="2004840"/>
            <a:ext cx="25714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155520" y="-1790640"/>
            <a:ext cx="19810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155520" y="-1790640"/>
            <a:ext cx="19810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155520" y="-1790640"/>
            <a:ext cx="19810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8" descr="http://img1.liveinternet.ru/images/attach/c/2//68/796/68796007_1294230198_02.png"/>
          <p:cNvPicPr/>
          <p:nvPr/>
        </p:nvPicPr>
        <p:blipFill>
          <a:blip r:embed="rId1"/>
          <a:stretch/>
        </p:blipFill>
        <p:spPr>
          <a:xfrm>
            <a:off x="857160" y="1214280"/>
            <a:ext cx="2362320" cy="44578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9"/>
          <p:cNvSpPr/>
          <p:nvPr/>
        </p:nvSpPr>
        <p:spPr>
          <a:xfrm>
            <a:off x="3571920" y="1071720"/>
            <a:ext cx="4071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Пока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Здорово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Привет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Здравствуйте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Доброе утро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До свидания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Добрый день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9"/>
          <p:cNvSpPr/>
          <p:nvPr/>
        </p:nvSpPr>
        <p:spPr>
          <a:xfrm>
            <a:off x="0" y="171468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Здравствуйте, позовите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пожалуйста, Сашу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Здравствуйте, позовите Сашу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Здравствуйте, извините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Позовите Сашу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Саша дома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1298520" y="92880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УЛИЦА ПРИВЕТСВ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5"/>
          <p:cNvSpPr/>
          <p:nvPr/>
        </p:nvSpPr>
        <p:spPr>
          <a:xfrm>
            <a:off x="275400" y="1071720"/>
            <a:ext cx="447696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Извинит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Будьте добры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Простит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Благодарю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Будьте любезны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Picture 8" descr="http://img1.liveinternet.ru/images/attach/c/2//68/796/68796007_1294230198_02.png"/>
          <p:cNvPicPr/>
          <p:nvPr/>
        </p:nvPicPr>
        <p:blipFill>
          <a:blip r:embed="rId1"/>
          <a:stretch/>
        </p:blipFill>
        <p:spPr>
          <a:xfrm>
            <a:off x="4357800" y="571680"/>
            <a:ext cx="292896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4200" y="1500120"/>
            <a:ext cx="733896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Вы опоздали на урок и хотите войти в класс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13880" y="3142800"/>
            <a:ext cx="64357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Можно войт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Извините, можно войт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Я войду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1388520" y="714240"/>
            <a:ext cx="44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ПРОСПЕКТ ИЗВИНЕ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7" descr=""/>
          <p:cNvPicPr/>
          <p:nvPr/>
        </p:nvPicPr>
        <p:blipFill>
          <a:blip r:embed="rId1"/>
          <a:stretch/>
        </p:blipFill>
        <p:spPr>
          <a:xfrm>
            <a:off x="353880" y="487440"/>
            <a:ext cx="7278840" cy="11700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1"/>
          <p:cNvSpPr/>
          <p:nvPr/>
        </p:nvSpPr>
        <p:spPr>
          <a:xfrm>
            <a:off x="368640" y="2143080"/>
            <a:ext cx="29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Желаю вам</a:t>
            </a: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500040" y="2857680"/>
            <a:ext cx="6072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здоровь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счасть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удач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успех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хорошего настро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исполнения жела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хорошего дн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Рисунок 13" descr="question-mark27.gif"/>
          <p:cNvPicPr/>
          <p:nvPr/>
        </p:nvPicPr>
        <p:blipFill>
          <a:blip r:embed="rId2"/>
          <a:stretch/>
        </p:blipFill>
        <p:spPr>
          <a:xfrm>
            <a:off x="4357800" y="1428840"/>
            <a:ext cx="30002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4:40:59Z</dcterms:created>
  <dc:creator>Admin</dc:creator>
  <dc:description/>
  <dc:language>en-US</dc:language>
  <cp:lastModifiedBy>инна</cp:lastModifiedBy>
  <dcterms:modified xsi:type="dcterms:W3CDTF">2015-11-03T16:08:23Z</dcterms:modified>
  <cp:revision>29</cp:revision>
  <dc:subject/>
  <dc:title>Урок – игра №147 по рус. языка 3 кл.(4четв.) тема: «Культура поведения и общения».</dc:title>
</cp:coreProperties>
</file>