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E8F-D142-4D4D-9873-F1AB4DB8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2A2-7EBC-49D9-8D7D-9952FEC6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060-4DE6-4DDE-B2A1-0ADFDF14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1FE-1A62-4607-8C29-63CB5A2D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A70-57CF-4D54-9052-1234230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0E9-59E1-43E6-82A0-281F33A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116-8591-4472-8048-DCC5F6E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B0F-471B-4E24-BF7D-2B5B994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489-DA0C-460B-95A7-697EBF9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2A5-6C61-4457-AB7F-D9C5D79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055-D8F1-4109-9BBC-9D56D13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966-C7D0-4D87-878F-EB3E2C45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B7D-F489-4DB6-A110-8B59B0C70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ler-russia.ru/document/governors/080610/ekaterina2/03_big.jp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26028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катерина Вторая Великая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rik5"/>
          <p:cNvPicPr/>
          <p:nvPr/>
        </p:nvPicPr>
        <p:blipFill>
          <a:blip r:embed="rId1"/>
          <a:stretch/>
        </p:blipFill>
        <p:spPr>
          <a:xfrm>
            <a:off x="2990880" y="1916280"/>
            <a:ext cx="3162240" cy="4105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39640" y="1197000"/>
            <a:ext cx="80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зд в Россию и приход к вл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носов Ю. Б. – учитель истор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User\Desktop\692892_go-022-1 (1).jpg"/>
          <p:cNvPicPr/>
          <p:nvPr/>
        </p:nvPicPr>
        <p:blipFill>
          <a:blip r:embed="rId2"/>
          <a:stretch/>
        </p:blipFill>
        <p:spPr>
          <a:xfrm>
            <a:off x="1314360" y="1928880"/>
            <a:ext cx="1668600" cy="407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User\Desktop\692892_go-022-1 (1).jpg"/>
          <p:cNvPicPr/>
          <p:nvPr/>
        </p:nvPicPr>
        <p:blipFill>
          <a:blip r:embed="rId3"/>
          <a:stretch/>
        </p:blipFill>
        <p:spPr>
          <a:xfrm>
            <a:off x="6143760" y="1928880"/>
            <a:ext cx="1670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95280" y="644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c3c"/>
                </a:solidFill>
                <a:latin typeface="Arial"/>
                <a:ea typeface="Times New Roman"/>
              </a:rPr>
              <a:t>Смерть Елизаветы Петровны в 1761 г. и восшествие на престол Петра Фёдоровича под именем Петра III ещё больше отдалили супруг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zd12b"/>
          <p:cNvPicPr/>
          <p:nvPr/>
        </p:nvPicPr>
        <p:blipFill>
          <a:blip r:embed="rId1"/>
          <a:stretch/>
        </p:blipFill>
        <p:spPr>
          <a:xfrm>
            <a:off x="1116000" y="1965240"/>
            <a:ext cx="6912000" cy="4610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1116000" y="6093000"/>
            <a:ext cx="6912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332000" y="6165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ний Дворец в С. - Петербург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95280" y="62892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ив на трон, Пётр III осуществил ряд действий, вызвавших отрицательное отношение к нему офицерского корпуса. Так, он заключил невыгодный для России договор с Пруссией, в то время как Россия одержала ряд побед над ней в ходе Семилетней войны и вернул ей захваченные русскими земли. Одновременно он намерился в союзе с Пруссией выступить против Дании (союзницы России), с целью вернуть отнятый ею у Гольштейна Шлезвиг, причём сам намеревался выступить в поход во главе гвард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f10"/>
          <p:cNvPicPr/>
          <p:nvPr/>
        </p:nvPicPr>
        <p:blipFill>
          <a:blip r:embed="rId1"/>
          <a:stretch/>
        </p:blipFill>
        <p:spPr>
          <a:xfrm>
            <a:off x="2195640" y="0"/>
            <a:ext cx="4662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User\Desktop\2362g.jpg"/>
          <p:cNvPicPr/>
          <p:nvPr/>
        </p:nvPicPr>
        <p:blipFill>
          <a:blip r:embed="rId2"/>
          <a:stretch/>
        </p:blipFill>
        <p:spPr>
          <a:xfrm>
            <a:off x="817560" y="0"/>
            <a:ext cx="13716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Desktop\2362g.jpg"/>
          <p:cNvPicPr/>
          <p:nvPr/>
        </p:nvPicPr>
        <p:blipFill>
          <a:blip r:embed="rId3"/>
          <a:stretch/>
        </p:blipFill>
        <p:spPr>
          <a:xfrm>
            <a:off x="685800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24000" y="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ётр объявил о секвестре имущества Русской церкви, отмене монастырского землевладения и делился с окружающими планами о реформе церковных обрядов. Сторонники переворота обвиняли Петра III также в невежестве, слабоумии, нелюбви к России, полной неспособности к правлению. На его фоне выгодно смотрелась Екатерина — умная, начитанная, благочестивая и доброжелательная супруга, подвергающаяся преследованиям мужа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того, как отношения с мужем окончательно испортились, и усилилось недовольство императором со стороны гвардии, Екатерина решилась участвовать в переворот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539640" y="40464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ё соратники, основными из которых были братья Орловы, Потёмкин и Хитрово, занялись агитацией в гвардейских частях и склонили их на свою сторону. Непосредственной причиной начала переворота стали слухи об аресте Екатерины и арест одного из участников заговора — поручика Пассек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19221"/>
          <p:cNvPicPr/>
          <p:nvPr/>
        </p:nvPicPr>
        <p:blipFill>
          <a:blip r:embed="rId1"/>
          <a:stretch/>
        </p:blipFill>
        <p:spPr>
          <a:xfrm>
            <a:off x="2195640" y="4191120"/>
            <a:ext cx="474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539640" y="1159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де и когда родилась Екатерина Вторая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то были ее родители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акое воспитание и образование он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ила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Когда и по какой причине Екатери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ая переехала в Россию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айте характеристику Петра Третьег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акие его действия вызвали неприязнь к    нему со стороны дворянства и офицерства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Что такое дворцовый переворот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то помог Екатерине Второй прийти 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сти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ак Екатерина Великая относилась 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и и русскому народу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7_no_12_imperatrica_ekaterina_2"/>
          <p:cNvPicPr/>
          <p:nvPr/>
        </p:nvPicPr>
        <p:blipFill>
          <a:blip r:embed="rId1"/>
          <a:stretch/>
        </p:blipFill>
        <p:spPr>
          <a:xfrm>
            <a:off x="2732040" y="808200"/>
            <a:ext cx="3679920" cy="524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esktop\typographic_ornament 23.jpg"/>
          <p:cNvPicPr/>
          <p:nvPr/>
        </p:nvPicPr>
        <p:blipFill>
          <a:blip r:embed="rId2"/>
          <a:stretch/>
        </p:blipFill>
        <p:spPr>
          <a:xfrm>
            <a:off x="142920" y="785880"/>
            <a:ext cx="2643120" cy="522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Desktop\typographic_ornament 23.jpg"/>
          <p:cNvPicPr/>
          <p:nvPr/>
        </p:nvPicPr>
        <p:blipFill>
          <a:blip r:embed="rId3"/>
          <a:stretch/>
        </p:blipFill>
        <p:spPr>
          <a:xfrm>
            <a:off x="6357960" y="785880"/>
            <a:ext cx="2638440" cy="52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User\Desktop\s1200.gif"/>
          <p:cNvPicPr/>
          <p:nvPr/>
        </p:nvPicPr>
        <p:blipFill>
          <a:blip r:embed="rId4"/>
          <a:stretch/>
        </p:blipFill>
        <p:spPr>
          <a:xfrm>
            <a:off x="5286240" y="0"/>
            <a:ext cx="371484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User\Desktop\s1200.gif"/>
          <p:cNvPicPr/>
          <p:nvPr/>
        </p:nvPicPr>
        <p:blipFill>
          <a:blip r:embed="rId5"/>
          <a:stretch/>
        </p:blipFill>
        <p:spPr>
          <a:xfrm>
            <a:off x="5089680" y="6000840"/>
            <a:ext cx="391140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User\Desktop\s1200.gif"/>
          <p:cNvPicPr/>
          <p:nvPr/>
        </p:nvPicPr>
        <p:blipFill>
          <a:blip r:embed="rId6"/>
          <a:stretch/>
        </p:blipFill>
        <p:spPr>
          <a:xfrm>
            <a:off x="142920" y="0"/>
            <a:ext cx="364320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User\Desktop\s1200.gif"/>
          <p:cNvPicPr/>
          <p:nvPr/>
        </p:nvPicPr>
        <p:blipFill>
          <a:blip r:embed="rId7"/>
          <a:stretch/>
        </p:blipFill>
        <p:spPr>
          <a:xfrm>
            <a:off x="142920" y="6000840"/>
            <a:ext cx="3911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4000" y="638280"/>
            <a:ext cx="849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лась София Фредерика Августа Ангальт-Цербстская в 1729 г. в немецком городе Штеттин. Отец состоял на службе у прусского короля, был полковым командиром, комендантом, затем губернатором города Штеттина, где будущая императрица и появилась на свет, баллотировался в курляндские герцоги, но неудачно, службу закончил прусским фельдмаршалом. Мать приходилась двоюродной тёткой будущему Петру III.  Семья герцога Цербстского была небогатой, Екатерина получила домашнее образовани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14240" y="189000"/>
            <a:ext cx="810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лась немецкому и французскому языкам, танцам, музыке, основам истории, географии, богословия. Воспитывалась в строгост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96554"/>
          <p:cNvPicPr/>
          <p:nvPr/>
        </p:nvPicPr>
        <p:blipFill>
          <a:blip r:embed="rId1"/>
          <a:stretch/>
        </p:blipFill>
        <p:spPr>
          <a:xfrm>
            <a:off x="1547640" y="2236680"/>
            <a:ext cx="6201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324000" y="66924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1744 году российской императрицей Елизаветой Петровной вместе с матерью была приглашена в Россию для последующего сочетания браком с наследником престола великим князем Петром Фёдоровичем, будущим императором Петром III и её троюродным братом. Сразу после приезда в Россию стала изучать русский язык, историю, православие, русские традиции, так как стремилась наиболее полно ознакомиться с Россией, которую воспринимала как новую родину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/>
          </p:cNvPr>
          <p:cNvSpPr/>
          <p:nvPr/>
        </p:nvSpPr>
        <p:spPr>
          <a:xfrm>
            <a:off x="714240" y="2000160"/>
            <a:ext cx="285768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-0"/>
          <p:cNvPicPr/>
          <p:nvPr/>
        </p:nvPicPr>
        <p:blipFill>
          <a:blip r:embed="rId1"/>
          <a:stretch/>
        </p:blipFill>
        <p:spPr>
          <a:xfrm>
            <a:off x="1908000" y="0"/>
            <a:ext cx="53420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40140.jpg"/>
          <p:cNvPicPr/>
          <p:nvPr/>
        </p:nvPicPr>
        <p:blipFill>
          <a:blip r:embed="rId2"/>
          <a:stretch/>
        </p:blipFill>
        <p:spPr>
          <a:xfrm>
            <a:off x="561960" y="0"/>
            <a:ext cx="1371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User\Desktop\40140.jpg"/>
          <p:cNvPicPr/>
          <p:nvPr/>
        </p:nvPicPr>
        <p:blipFill>
          <a:blip r:embed="rId3"/>
          <a:stretch/>
        </p:blipFill>
        <p:spPr>
          <a:xfrm>
            <a:off x="721512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25164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атерина продолжает заниматься самообразованием. Читает книги по истории, философии, юриспруденции, большое количество другой литературы. Основным развлечением для неё стала охота, верховая езда, танцы и маскарады. В 1754 году Екатерина родила сына, которого у неё сразу забрали по воле царствовавшей императрицы Елизаветы Петровн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User\Desktop\692892_go-022-1.jpg"/>
          <p:cNvPicPr/>
          <p:nvPr/>
        </p:nvPicPr>
        <p:blipFill>
          <a:blip r:embed="rId1"/>
          <a:stretch/>
        </p:blipFill>
        <p:spPr>
          <a:xfrm>
            <a:off x="1928880" y="4500720"/>
            <a:ext cx="5333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44c22683e7d44bcdd197331a41245cee"/>
          <p:cNvPicPr/>
          <p:nvPr/>
        </p:nvPicPr>
        <p:blipFill>
          <a:blip r:embed="rId1"/>
          <a:stretch/>
        </p:blipFill>
        <p:spPr>
          <a:xfrm>
            <a:off x="762120" y="790560"/>
            <a:ext cx="76197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50920" y="260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ника называют Павлом (будущий император Павел I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pb-zimnij-dvorec-14"/>
          <p:cNvPicPr/>
          <p:nvPr/>
        </p:nvPicPr>
        <p:blipFill>
          <a:blip r:embed="rId1"/>
          <a:stretch/>
        </p:blipFill>
        <p:spPr>
          <a:xfrm>
            <a:off x="684360" y="1413000"/>
            <a:ext cx="7777080" cy="51879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684360" y="6093000"/>
            <a:ext cx="777708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71640" y="6093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ний Дворец в С. - Петербург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4T05:10:26Z</dcterms:created>
  <dc:creator>Admin</dc:creator>
  <dc:description/>
  <dc:language>en-US</dc:language>
  <cp:lastModifiedBy>User</cp:lastModifiedBy>
  <dcterms:modified xsi:type="dcterms:W3CDTF">2019-01-10T04:29:01Z</dcterms:modified>
  <cp:revision>34</cp:revision>
  <dc:subject/>
  <dc:title>Слайд 1</dc:title>
</cp:coreProperties>
</file>