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D16-4450-440D-8F75-1E888662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2B0-3EC5-41EF-A7DA-B2A14D63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CABE1-0BA3-4726-8D72-60A2CA38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56250-D161-447C-932A-BEF0F74E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36111-DE91-4C35-9789-6D540BAF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9636B-608A-4668-AF8E-BFAB08B6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BBFA2-2C72-4A58-A680-574BA055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22A99-0C9C-4E48-9C46-5656B093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A8F57-B755-4BF4-9B2D-7B8369DF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4F814-E2A7-496F-ADA6-2341BD52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C83FC-7428-4825-8AEF-7CA74EA2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C7C7D-A619-4A48-B9D2-30E964D0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167A-1411-46CE-8382-84B3D3F9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DF2A6-496D-49EA-84FE-07A8B514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F3345-791D-4C14-8CF1-E0B10CB7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B9CE9-FC9C-4008-A820-FBF14B96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4322A-BC43-447C-B855-D1469B0B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E409F-241A-4A1B-B0D6-70F936D7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FFA77-769A-45E2-8BFB-E7C6E85F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BC251-0223-4DEB-AFF3-B8B75612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744A3-316E-46BA-8258-EBE101FF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78D8E-4FBF-4782-9000-3B3E5452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CFDBA-D95F-48E1-83B6-10DA0399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BE2-BEEB-438B-912D-8D492A4B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0FC6B-12BB-4618-8992-9FE2027E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7D752-678E-4F70-9D8D-98CD20D7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E8BDF-B49D-4EAA-BE59-CA924CE0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FF6F1-8FA7-40B5-9E97-D6E69E7F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1E8C7-F3AD-4282-B3E3-AD406F33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A05A3-A9A8-49B1-B8B1-CD4AA56F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0AE95-7641-45FC-812F-DFF60F26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F59AE-F07E-44E7-B6BB-B15AB289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6A14A-5D8D-4FEA-8648-C31ECDA6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86EC7-0A19-4AE2-A04D-172CC969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4054-CDDA-409C-893A-8F4504C3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16612-4EA9-46B7-B26C-D7B7A199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9E26A-99EA-464A-9E28-1A320CEE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98BD0-4A9C-4D25-8406-A1077DEE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2D298-958C-4998-AE19-205D221F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EB3F9-AE3E-4F1D-B64A-51D91960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EBCF0-E1DE-479A-AFD5-50AD6189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3F291-7350-4B8A-B062-41C012E8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0B9C2-99ED-4CED-8E60-84B97EB5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19BAB-FAB1-41F1-9933-636748D6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56C34-EACF-4B5F-B348-FEF74798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0A58-4035-4B24-9935-F4C8403D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98551-1687-4CA0-A45A-DFA5B15C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8FFE3-F168-491D-BC12-3DD2C6D4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4FA5D-EA2C-4CDA-A33C-218B0461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4B2A2-ED5F-4F6C-8E92-1D80C73C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876C2-B845-4BBC-AADE-8705F192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79094-E99C-4395-89F5-F21981F5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E5024-F76E-46B0-BFFD-36671F93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9A453-DB1B-4F9C-B89B-B5DB69A1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12023-5246-4FFC-B27D-3BF4AA0F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00070-0071-4341-814A-945A17B2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EF66-00AB-498A-99D5-ABD80594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37F034-0556-41A5-B066-FA2C9B41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E894B-47A0-4FAE-B6F2-97A83A58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79E56-8DE8-4338-86B5-D9B03D6D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7CF0C-5376-42EC-A472-D13F903D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894A9D-90DB-4553-B1E9-E8263029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C23DB-1BC5-4F21-A183-665CC4E0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E339CF-35E5-4885-B186-0442A7B4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2F53-7DF5-4050-A04B-35D93EAF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D083-6E4C-4EE6-9878-F02F2282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5900-E545-4669-962C-5BA36E7D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F739-91B3-4253-816D-B6CF028B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137-23A0-4BC1-9950-ACE72269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8918-F70C-4781-A4A0-07E9564E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8457-F97A-4FE1-9B07-1B081308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5E8D-8399-49B6-ACF2-A97969B4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63A3-AF34-4328-B4F1-3871AA88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FA7B-182F-4EDC-B3C8-DBCCEA13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CBBEB-46A0-4701-91E9-5625537B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43D21-1395-4B80-A03F-C5C38526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C2853-FA25-4342-91B9-74E3A7BB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5D8F5-1E59-4206-883D-6DA93618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1A06F-C817-48F2-88DF-73AB31E7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13F-83AF-4D40-9C82-BE5DFDA9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242F0-CD9E-4028-9E66-0F0C3C71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34D22-A940-4506-A1B2-11373392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83B6F-6326-44D2-A797-D8F5BD59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E961C-73F4-43B0-9718-902A7492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EF082-C982-4E61-BF15-B2E84A6F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38496-0468-4131-8A51-9B2366E6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6F632-F5BA-4A4E-AC48-8A710D63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C5B97-562C-441D-BBD5-6C9532E5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65814-553B-4A50-BAE7-7FE19B7D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8A6B5-B2AE-4825-99B8-2D9C55BF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A21-A85A-4EC0-907A-EBC5C4D5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954D1-7738-478B-ACB1-22462013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8DBB1-2356-4689-932D-0E390E1F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358B0-2D53-418B-8CAB-9C5F7A88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7DAB4-53DD-49E8-A23F-07715EE6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82EFF-588E-4734-9AF3-9B79AD58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99F6C-B4B5-46EA-A71B-58D7F5B0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33D43-16E3-41C6-85BC-E9D0F571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925B4-C59D-49D5-A26C-24A4E1E5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D2A8D-782D-4B17-90F4-4E5FD4FA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E65A7-6402-4EE6-A238-03F99810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CCB9-32D0-4CE1-9843-FEF5E3E9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15B48-7A1B-44F3-B11E-C46C2A86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EAAAE-07B6-4297-BAD9-76714CD7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BCA34-AB48-44AF-8958-9937422B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5BF40-08F7-466A-86A4-7712EB29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FDC23-E0DB-4596-A657-046D72FB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393F5-A4B1-447D-9B77-4D08FF2B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812FC-F2E1-4287-AD3F-F42454EF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4AC1E-C845-444F-8A16-F2358F78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97F9D-B872-447C-B2AB-DBE7B5A3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1ED64-8C37-4474-AF47-A9D3AD9D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C0A9-5A8D-4078-BA94-4B428F7A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B9E2A-5BB7-4B8F-9F47-63CCE6A3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62ADA-91D2-4FC7-A393-0EB78C42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8C1FF-7756-4437-BFED-C98AD0FC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BF177-00D8-4C1F-984C-A7BBF957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ADCC2-8CEB-4941-AF7B-D96A963F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FB631-F7B8-4A27-9298-C6753CE2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195CC-16D2-45B5-9F69-41C84974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38AB9-FB0B-4911-8A71-D14B9A8D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7402C-3C88-452D-BAA2-477B999B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3EA27-36EE-4D13-B75F-EAC7E32F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8AC-647D-4993-88D6-06C52358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3D455-3F57-47CE-80DA-0F544A02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A7EF5-74B2-4CFA-BC2E-002BF2E4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7ED94-FD70-471E-8F72-44740F69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2A848-6DFB-4609-8481-93A03A0F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DF81B-CB32-482B-8D8C-3ECF031D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6D11A-44A8-4569-A60A-95CB4E78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3E479-B51F-4A96-8637-F7B5A87C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3F8AD-9C1C-4787-8D54-540F9F0B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93A5E-ADBC-4BEB-AF93-C448CB33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1ACB2-2C8C-4914-9E03-7FFADD74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B0F1-CECA-4855-8153-BEC26830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A511A-4BDF-4FC2-BB94-C6A68B3C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0504E-4BD4-458A-A54D-70D90889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458A0-E8FF-4EBE-A4EB-7305B26A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EBAA2-3E54-4F42-9E7C-FE6AE0CD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2E08B-B23C-44DD-9EBE-607256D3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F090E-CB3E-4E22-A0F0-8B6B78CD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1A6A5-7E11-4954-9225-498220E3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757A4-1FA1-4994-B19C-0333EC79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A4142-9322-41ED-92DA-553D2F4D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38680-AFD7-4F8B-BBC3-553EAED3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449-6B8A-4CCE-B568-6029067E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45CDA-C814-47C3-9A87-9646C0FD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19F0B-3187-4B8C-9BE0-87177DB2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BDE99-9E10-4B4C-A824-0BD35D19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A09FB-EF9D-410A-B6B1-C8FA5C36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383B7-326D-49D3-9B1E-C7C2043A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B68F4-371C-408C-A6E1-155551B1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2D79A-CD18-4AD2-B4D8-991067E0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223D5-2AE0-42F6-9406-05917B37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F4651-9032-406F-B3CC-EFE8D5E1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19034-2804-44DE-972D-370D9562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7357-C45C-432B-8BF6-2B81316EB44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C034-2E07-4E62-A0EA-3A9894CDED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6D62-9412-4F6B-A9D5-392E620C7D5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D7BD-C3E7-48AB-B5BA-B930FC15A0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A00D-5DA5-4377-B9C3-04417FB5A48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AA36-9496-4EAF-B6E0-546C910C41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4ACE-9526-4ADE-8907-001F2381FE1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E5DB-F48A-45B9-9268-329F7B0D1A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1552-6FE9-466D-8BAB-6FCF4CA0116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8380-F4FD-4734-ABD0-126A0D25EC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178F-7299-46C8-8D7A-BE2A3EF9CD2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A934-E469-4456-8D3A-49CFC7B293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35C0-2B92-4618-98C4-967C73190D8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F30A-E8B2-48F6-B515-C8669D9CDE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E79A-003F-4B12-ABF7-39D2EE0349F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1C9F-B64A-44E3-9A57-741A9237B2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2EB0-F777-4C5F-BC83-B9F96FD2560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83BA-0E0E-421A-885B-426398A725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8791-E6E1-4721-8322-FB396691DC1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6B2A-25E1-43D3-8D2E-7EC730CA33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526D-AF3D-445E-9AA9-FB4D81191B0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A363-26B7-4084-95B2-2732F15FCE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51C4-5B30-40E4-9551-CC4D9DFB81F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C548-2A5B-4D3C-912C-675E9146A9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81F7-C358-4BB3-9FA3-BA2E2369AEE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BE2A-8F1E-4E98-9263-84F0FA55EA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3.xml"/><Relationship Id="rId3" Type="http://schemas.openxmlformats.org/officeDocument/2006/relationships/slide" Target="slide22.xml"/><Relationship Id="rId4" Type="http://schemas.openxmlformats.org/officeDocument/2006/relationships/slide" Target="slide3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1143000" y="1285920"/>
            <a:ext cx="75009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imes New Roman"/>
              </a:rPr>
              <a:t>Интерактивн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«Самое великое чудо на свете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imes New Roman"/>
              </a:rPr>
              <a:t>Литературное чтение, 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imes New Roman"/>
              </a:rPr>
              <a:t>УМК «Школа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"/>
          <p:cNvSpPr/>
          <p:nvPr/>
        </p:nvSpPr>
        <p:spPr>
          <a:xfrm>
            <a:off x="1785960" y="5572080"/>
            <a:ext cx="5643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4"/>
          <p:cNvSpPr/>
          <p:nvPr/>
        </p:nvSpPr>
        <p:spPr>
          <a:xfrm>
            <a:off x="2571840" y="57168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Угадай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Дне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В школьной сумке я леж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Как ты учишься, ска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6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Угадай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Лентя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Скажи: кто дела так бои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Как палки – пё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Как камня – пти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Скругленный прямоугольник 4"/>
          <p:cNvSpPr/>
          <p:nvPr/>
        </p:nvSpPr>
        <p:spPr>
          <a:xfrm>
            <a:off x="2000160" y="192888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8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Угадай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Скругленный прямоугольник 2"/>
          <p:cNvSpPr/>
          <p:nvPr/>
        </p:nvSpPr>
        <p:spPr>
          <a:xfrm>
            <a:off x="2000160" y="1643040"/>
            <a:ext cx="5715000" cy="278604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исать на бума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Скругленный прямоугольник 3"/>
          <p:cNvSpPr/>
          <p:nvPr/>
        </p:nvSpPr>
        <p:spPr>
          <a:xfrm>
            <a:off x="2000160" y="1643040"/>
            <a:ext cx="5715000" cy="278604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Семя плос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Поле гладк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Кто ум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Тот и с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Семя не всход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А плод принос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Скругленный прямоугольник 4"/>
          <p:cNvSpPr/>
          <p:nvPr/>
        </p:nvSpPr>
        <p:spPr>
          <a:xfrm>
            <a:off x="2000160" y="1643040"/>
            <a:ext cx="5715000" cy="2786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Стрелка вправо 5">
            <a:hlinkClick r:id="rId1" action="ppaction://hlinksldjump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0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частливый случ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Букв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Самая первая книга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2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частливый случ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У Кощея Бессмер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У кого смерть на конце иг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4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частливый случ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Д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Кто первый тянул реп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Скругленный прямоугольник 4"/>
          <p:cNvSpPr/>
          <p:nvPr/>
        </p:nvSpPr>
        <p:spPr>
          <a:xfrm>
            <a:off x="2000160" y="192888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7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частливый случ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Баб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Кто любил Красную Шапочку, кроме мам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В слове-отгадке 3 сл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9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частливый случ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Комар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Кто жених Мухи-цокотух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31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частливый случ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Столица нашей Род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Скругленный прямоугольник 4"/>
          <p:cNvSpPr/>
          <p:nvPr/>
        </p:nvSpPr>
        <p:spPr>
          <a:xfrm>
            <a:off x="2000160" y="192888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33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частливый случ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Аппарат, на котором Баба-яга совершает пол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35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Прямоугольник 1"/>
          <p:cNvSpPr/>
          <p:nvPr/>
        </p:nvSpPr>
        <p:spPr>
          <a:xfrm>
            <a:off x="2428920" y="714240"/>
            <a:ext cx="6072120" cy="60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Инстру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игре участвует три команды. Команды выбирают конкурс и по очереди отвечают на вопросы. Проверить себя можно, нажав на карточку с вопросом. Если ответ верный, то команда получает 1 балл. Кто наберёт наибольшее количество баллов, тот будет победите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йти к следующему вопросу  можно при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ершить игру можно при помощи кноп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Стрелка вправо 2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Управляющая кнопка: сведения 3">
            <a:hlinkClick r:id="" action="ppaction://hlinkshowjump?jump=lastslide"/>
          </p:cNvPr>
          <p:cNvSpPr/>
          <p:nvPr/>
        </p:nvSpPr>
        <p:spPr>
          <a:xfrm>
            <a:off x="1285920" y="64296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10800" y="533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4677">
                <a:moveTo>
                  <a:pt x="10800" y="570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4677">
                <a:moveTo>
                  <a:pt x="8224" y="9762"/>
                </a:moveTo>
                <a:lnTo>
                  <a:pt x="12088" y="9762"/>
                </a:lnTo>
                <a:lnTo>
                  <a:pt x="12088" y="16760"/>
                </a:lnTo>
                <a:lnTo>
                  <a:pt x="13376" y="16760"/>
                </a:lnTo>
                <a:lnTo>
                  <a:pt x="13376" y="17682"/>
                </a:lnTo>
                <a:lnTo>
                  <a:pt x="8224" y="17682"/>
                </a:lnTo>
                <a:lnTo>
                  <a:pt x="8224" y="16760"/>
                </a:lnTo>
                <a:lnTo>
                  <a:pt x="9512" y="16760"/>
                </a:lnTo>
                <a:lnTo>
                  <a:pt x="9512" y="10667"/>
                </a:lnTo>
                <a:lnTo>
                  <a:pt x="8224" y="10667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Стрелка вправо 4"/>
          <p:cNvSpPr/>
          <p:nvPr/>
        </p:nvSpPr>
        <p:spPr>
          <a:xfrm>
            <a:off x="3643200" y="4429080"/>
            <a:ext cx="85752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Стрелка вправо 5"/>
          <p:cNvSpPr/>
          <p:nvPr/>
        </p:nvSpPr>
        <p:spPr>
          <a:xfrm>
            <a:off x="3000240" y="5357880"/>
            <a:ext cx="857520" cy="4284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частливый случ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Дурем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Продавец лечебных пияв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38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частливый случ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Чебур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Верный друг Г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Стрелка вправо 5">
            <a:hlinkClick r:id="rId1" action="ppaction://hlinksldjump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40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Изб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Жилище Бабы-я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648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2" dur="indefinite" restart="never" nodeType="tmRoot">
          <p:childTnLst>
            <p:seq>
              <p:cTn id="423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42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Самобра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Сказочная скатер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656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44" dur="indefinite" restart="never" nodeType="tmRoot">
          <p:childTnLst>
            <p:seq>
              <p:cTn id="445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44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На конце иг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Где хранится смерть страшного долгожителя, героя русских народных сказ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664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6" dur="indefinite" restart="never" nodeType="tmRoot">
          <p:childTnLst>
            <p:seq>
              <p:cTn id="46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46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Ляг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Кто из обитателей болота стал женой царевич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672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8" dur="indefinite" restart="never" nodeType="tmRoot">
          <p:childTnLst>
            <p:seq>
              <p:cTn id="489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49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Кар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Папа Бурат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680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0" dur="indefinite" restart="never" nodeType="tmRoot">
          <p:childTnLst>
            <p:seq>
              <p:cTn id="511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51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К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Девичья краса – длинная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688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2" dur="indefinite" restart="never" nodeType="tmRoot">
          <p:childTnLst>
            <p:seq>
              <p:cTn id="533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53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Иван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Имя мальчика, который стал козлёноч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696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4" dur="indefinite" restart="never" nodeType="tmRoot">
          <p:childTnLst>
            <p:seq>
              <p:cTn id="555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55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Алён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Сестрица Иван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704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6" dur="indefinite" restart="never" nodeType="tmRoot">
          <p:childTnLst>
            <p:seq>
              <p:cTn id="57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57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Скругленный прямоугольник 1">
            <a:hlinkClick r:id="rId1" action="ppaction://hlinksldjump"/>
          </p:cNvPr>
          <p:cNvSpPr/>
          <p:nvPr/>
        </p:nvSpPr>
        <p:spPr>
          <a:xfrm>
            <a:off x="3071880" y="1071720"/>
            <a:ext cx="5143320" cy="78552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Угадай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Скругленный прямоугольник 2">
            <a:hlinkClick r:id="rId2" action="ppaction://hlinksldjump"/>
          </p:cNvPr>
          <p:cNvSpPr/>
          <p:nvPr/>
        </p:nvSpPr>
        <p:spPr>
          <a:xfrm>
            <a:off x="3071880" y="2214720"/>
            <a:ext cx="5143320" cy="78552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частливый случ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Скругленный прямоугольник 3">
            <a:hlinkClick r:id="rId3" action="ppaction://hlinksldjump"/>
          </p:cNvPr>
          <p:cNvSpPr/>
          <p:nvPr/>
        </p:nvSpPr>
        <p:spPr>
          <a:xfrm>
            <a:off x="3071880" y="3357720"/>
            <a:ext cx="5143320" cy="78552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Скругленный прямоугольник 4">
            <a:hlinkClick r:id="rId4" action="ppaction://hlinksldjump"/>
          </p:cNvPr>
          <p:cNvSpPr/>
          <p:nvPr/>
        </p:nvSpPr>
        <p:spPr>
          <a:xfrm>
            <a:off x="3071880" y="4572000"/>
            <a:ext cx="5143320" cy="78588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иту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Стрелка вправо 5">
            <a:hlinkClick r:id="" action="ppaction://hlinkshowjump?jump=endshow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"/>
          <p:cNvSpPr/>
          <p:nvPr/>
        </p:nvSpPr>
        <p:spPr>
          <a:xfrm>
            <a:off x="2286000" y="1071720"/>
            <a:ext cx="647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КОНК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Скругленный прямоугольник 16"/>
          <p:cNvSpPr/>
          <p:nvPr/>
        </p:nvSpPr>
        <p:spPr>
          <a:xfrm>
            <a:off x="3071880" y="4572000"/>
            <a:ext cx="5143320" cy="785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Скругленный прямоугольник 17">
            <a:hlinkClick r:id="rId5" action="ppaction://hlinksldjump"/>
          </p:cNvPr>
          <p:cNvSpPr/>
          <p:nvPr/>
        </p:nvSpPr>
        <p:spPr>
          <a:xfrm>
            <a:off x="3071880" y="1071720"/>
            <a:ext cx="5143320" cy="7855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Скругленный прямоугольник 18">
            <a:hlinkClick r:id="rId6" action="ppaction://hlinksldjump"/>
          </p:cNvPr>
          <p:cNvSpPr/>
          <p:nvPr/>
        </p:nvSpPr>
        <p:spPr>
          <a:xfrm>
            <a:off x="3071880" y="2214720"/>
            <a:ext cx="5143320" cy="7855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Скругленный прямоугольник 19"/>
          <p:cNvSpPr/>
          <p:nvPr/>
        </p:nvSpPr>
        <p:spPr>
          <a:xfrm>
            <a:off x="3071880" y="3357720"/>
            <a:ext cx="5143320" cy="7855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3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9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5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1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Бурат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Деревянный маль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712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8" dur="indefinite" restart="never" nodeType="tmRoot">
          <p:childTnLst>
            <p:seq>
              <p:cTn id="599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60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ечка Ем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Необычный вид транспорта, на котором герой русской народной сказки попал к царю во двор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720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0" dur="indefinite" restart="never" nodeType="tmRoot">
          <p:childTnLst>
            <p:seq>
              <p:cTn id="621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62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Горо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Что мешало спать принце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728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2" dur="indefinite" restart="never" nodeType="tmRoot">
          <p:childTnLst>
            <p:seq>
              <p:cTn id="643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64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7" dur="5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«Двенадцать месяце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В какой сказке зимой собрали цве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Стрелка вправо 5">
            <a:hlinkClick r:id="rId1" action="ppaction://hlinksldjump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736" name="Picture 2" descr="http://eslovnik.com/img/bochonok-s-medom.jpg"/>
            <p:cNvPicPr/>
            <p:nvPr/>
          </p:nvPicPr>
          <p:blipFill>
            <a:blip r:embed="rId2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4" dur="indefinite" restart="never" nodeType="tmRoot">
          <p:childTnLst>
            <p:seq>
              <p:cTn id="665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66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иту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Скругленный прямоугольник 2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Скругленный прямоугольник 3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«У нас все до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Скругленный прямоугольник 4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Скругленный прямоугольник 6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В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Скругленный прямоугольник 7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«Кто там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Скругленный прямоугольник 8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Скругленный прямоугольник 9"/>
          <p:cNvSpPr/>
          <p:nvPr/>
        </p:nvSpPr>
        <p:spPr>
          <a:xfrm>
            <a:off x="3143160" y="2357280"/>
            <a:ext cx="4714920" cy="85752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Скругленный прямоугольник 10"/>
          <p:cNvSpPr/>
          <p:nvPr/>
        </p:nvSpPr>
        <p:spPr>
          <a:xfrm>
            <a:off x="3143160" y="2357280"/>
            <a:ext cx="4714920" cy="85752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«Дёрни за верёвочк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дверь и откроетс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Скругленный прямоугольник 11"/>
          <p:cNvSpPr/>
          <p:nvPr/>
        </p:nvSpPr>
        <p:spPr>
          <a:xfrm>
            <a:off x="3143160" y="2357280"/>
            <a:ext cx="4714920" cy="857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12"/>
          <p:cNvSpPr/>
          <p:nvPr/>
        </p:nvSpPr>
        <p:spPr>
          <a:xfrm>
            <a:off x="1428840" y="1357200"/>
            <a:ext cx="686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гда почтальон Печкин постучал в дверь, что ему ответ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6" dur="indefinite" restart="never" nodeType="tmRoot">
          <p:childTnLst>
            <p:seq>
              <p:cTn id="68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68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709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2" dur="5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73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3" dur="5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иту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Скругленный прямоугольник 2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Скругленный прямоугольник 3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Двое из лар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Скругленный прямоугольник 4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Скругленный прямоугольник 6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В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Скругленный прямоугольник 7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Три соб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Скругленный прямоугольник 8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Скругленный прямоугольник 9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Скругленный прямоугольник 10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Джин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Скругленный прямоугольник 11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2"/>
          <p:cNvSpPr/>
          <p:nvPr/>
        </p:nvSpPr>
        <p:spPr>
          <a:xfrm>
            <a:off x="1214280" y="1357200"/>
            <a:ext cx="735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появлялся перед солдатом, когда он начинал высекать огонь с помощью огни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75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773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79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7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иту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Скругленный прямоугольник 2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Скругленный прямоугольник 3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Обручальное коль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Скругленный прямоугольник 4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Скругленный прямоугольник 6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В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Скругленный прямоугольник 7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Крылы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Скругленный прямоугольник 8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Скругленный прямоугольник 9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Скругленный прямоугольник 10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Пропел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Скругленный прямоугольник 11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12"/>
          <p:cNvSpPr/>
          <p:nvPr/>
        </p:nvSpPr>
        <p:spPr>
          <a:xfrm>
            <a:off x="1428840" y="1500120"/>
            <a:ext cx="68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подарили эльфы Дюймовоч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81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837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0" dur="5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0" dur="500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85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1" dur="5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иту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Скругленный прямоугольник 2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Скругленный прямоугольник 3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Ив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Скругленный прямоугольник 4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Скругленный прямоугольник 6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Скругленный прямоугольник 7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Ем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Скругленный прямоугольник 8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Скругленный прямоугольник 9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В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Скругленный прямоугольник 10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Степ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Скругленный прямоугольник 11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12"/>
          <p:cNvSpPr/>
          <p:nvPr/>
        </p:nvSpPr>
        <p:spPr>
          <a:xfrm>
            <a:off x="1428840" y="1357200"/>
            <a:ext cx="686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ргей Михалков рассказывал о человеке огромного роста. Как его зв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8" dur="indefinite" restart="never" nodeType="tmRoot">
          <p:childTnLst>
            <p:seq>
              <p:cTn id="879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88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3" dur="50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901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4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92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5" dur="5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5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иту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Скругленный прямоугольник 2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В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Скругленный прямоугольник 3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Дар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Скругленный прямоугольник 4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Скругленный прямоугольник 6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Скругленный прямоугольник 7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Настен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Скругленный прямоугольник 8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Скругленный прямоугольник 9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Скругленный прямоугольник 10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Машен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Скругленный прямоугольник 11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12"/>
          <p:cNvSpPr/>
          <p:nvPr/>
        </p:nvSpPr>
        <p:spPr>
          <a:xfrm>
            <a:off x="1428840" y="1357200"/>
            <a:ext cx="686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звали девочку из сказ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еребряное копытц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94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7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4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965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8" dur="5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98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9" dur="5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9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иту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Скругленный прямоугольник 2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Скругленный прямоугольник 3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«Курочка в серёжк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Скругленный прямоугольник 4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Стрелка вправо 5"/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Скругленный прямоугольник 6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Скругленный прямоугольник 7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«Кошка в сапог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Скругленный прямоугольник 8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Скругленный прямоугольник 9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В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Скругленный прямоугольник 10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«Кот в сапог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Скругленный прямоугольник 11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12"/>
          <p:cNvSpPr/>
          <p:nvPr/>
        </p:nvSpPr>
        <p:spPr>
          <a:xfrm>
            <a:off x="1428840" y="1500120"/>
            <a:ext cx="68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одна из сказок Ш. Перр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6" dur="indefinite" restart="never" nodeType="tmRoot">
          <p:childTnLst>
            <p:seq>
              <p:cTn id="100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00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1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029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2" dur="5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9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05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3" dur="5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Угадай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Бук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Сели птицы на страниц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Знают быль и небыл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Используемые источ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1285560" y="1143000"/>
            <a:ext cx="73580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утявина С. В. Поурочные разработки по литературному чтению. 2 класс. М.: ВАКО, 2013 (В помощь школьному учителю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выполнить приём сорбонка?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didaktor.ru/kak-vypolnit-priyom-sorbonka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н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english-study-cafe.ru/images/notebook4.jp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ятач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img-fotki.yandex.ru/get/9496/16969765.1a2/0_7eaa1_cf4e7db7_M.p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чк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eslovnik.com/img/bochonok-s-medom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н медали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etc.usf.edu/presentations/backgrounds/abstract/abstract_31/33086s.jp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вёздочк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img843.imageshack.us/img843/381/024059555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Стрелка вправо 3">
            <a:hlinkClick r:id="" action="ppaction://hlinkshowjump?jump=previous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Угадай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Чт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Еду по гряд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Рву без счёт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А всё ц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5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Угадай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Скругленный прямоугольник 2"/>
          <p:cNvSpPr/>
          <p:nvPr/>
        </p:nvSpPr>
        <p:spPr>
          <a:xfrm>
            <a:off x="2000160" y="1785960"/>
            <a:ext cx="5715000" cy="22860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Дво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Скругленный прямоугольник 3"/>
          <p:cNvSpPr/>
          <p:nvPr/>
        </p:nvSpPr>
        <p:spPr>
          <a:xfrm>
            <a:off x="2000160" y="1785960"/>
            <a:ext cx="5715000" cy="22860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Шея длинная так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Хвост крюч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И не секр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Любит всех она лентяе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А её лентяи – н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Скругленный прямоугольник 4"/>
          <p:cNvSpPr/>
          <p:nvPr/>
        </p:nvSpPr>
        <p:spPr>
          <a:xfrm>
            <a:off x="2000160" y="1785960"/>
            <a:ext cx="5715000" cy="228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7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Угадай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Мел и до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Белый зайчик прыг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по чёрному по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9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Угадай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Кни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Хоть не шляпа, а с поля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Не цветок, а с кореш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Разговаривает с 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Всем понятным язы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1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Угадай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А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На странице буква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Тридцать три богаты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Мудрецов-богаты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Знает каждый грамо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3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9:00Z</dcterms:created>
  <dc:creator>User</dc:creator>
  <dc:description/>
  <dc:language>en-US</dc:language>
  <cp:lastModifiedBy>Ирина</cp:lastModifiedBy>
  <dcterms:modified xsi:type="dcterms:W3CDTF">2019-01-10T08:39:17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5113</vt:lpwstr>
  </property>
</Properties>
</file>