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E6E-4ACA-44AB-B143-1F6762B6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0F7-FB84-40C3-98D3-393BF610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BEE6C-123F-4133-AAAF-145B1C21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13261-91D0-4513-889D-F6316A1F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1F9A4-E9B7-41FF-8D4B-864C656D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1623B-4546-4A7F-8383-B33C45AB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10A43-7B86-443D-A162-C05AF3DA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D0A8F-E6BF-45C6-A330-4D2F2F7A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8FC0C-2BE1-488F-BA63-9BAAA26F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62378-5376-4587-9AF7-33E34774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68970-2E37-4CAE-A022-D48D9A17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FDD42-7A38-4F7B-9A18-2B3F200E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FE9-0AF6-459D-A97A-AE4DADB4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AB9AF-21BA-4F28-9133-F38EB54F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9EA91-0AAC-4D73-9243-72323BDF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C1E0F-65FE-417C-99A4-6FB21BB3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5C625-8966-4DE1-A894-2E3EAAE8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47D09-196A-4653-8294-FA28CC6B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85422-598D-427F-985D-D8F5429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6D34A-A976-4341-8E31-9D9C4262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238C7-7B82-4623-B224-170ED31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0B8D3-0FB1-457F-B1C1-345DE0CF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53A26-5725-4953-A5B6-08BD87E6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2FB-76B6-48DA-B610-24ADAA62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9E564-73C9-4475-933D-51D278B6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6779E-C8DC-4568-AE58-438A89BF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93EB5-BFCD-4B31-A834-EC215499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695CE-8C05-412C-95A5-6A2D2B14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96C3A-B349-459D-ADA1-75EFC6CC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CA2F5-0B8A-426D-BAA6-28DD3664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07B14-328C-4DE8-92F8-6B84A2DE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7EA04-BC06-4343-8FCB-8DE01881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9313D-1998-41E6-8DE9-10AFBDBC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48376-726D-4E90-B3F7-832E6C4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7662-3580-4F09-80F2-6F38D7DB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A112A-8967-4F37-9FCA-1004215E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2F68E-8994-4C3A-AC93-FB01518B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43036-5FD6-4A03-9B7B-65A6AE76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F0DE4-9B8A-45B6-93F9-FC0C075A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5C9B6-4CBE-4C60-A840-F886E912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B5201-F2F2-463C-933F-E82F6B3F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D7E1B-D6C9-4C0B-9039-3A97B168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BF7FA-2176-4E9C-9FF3-BAD7F7E2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86F89-CA9D-4A55-BFC9-135EA4A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BD6E5-A029-4E2E-BE0F-89656963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CD56-A770-4066-8E68-221B82AA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F88D0-00B0-426C-9DE1-F7F9A8C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F6039-3940-4AA9-93DD-9A6AE82E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C11B1-527D-4507-8E86-0C342470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61A55-B464-4341-BFF3-E013569E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CF807-2803-49BF-80EF-14DD17E1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978A8-E58B-4848-9438-13BE3A8A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1DE35-8AF4-4028-A304-896E77C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4F84B-ED0C-436C-A00D-610ED43D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CF504-B094-4A4C-9791-D4797316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F07B7-0049-40BE-93D0-2088D6D7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8C56-534C-4773-827B-C3916FE4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8E034-9C6B-4B21-BCFC-36CFDC4D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F54D2-D4ED-4CC3-9D1E-DCBD3602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E006B-0C97-40B2-82E9-BC425245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03E94-2281-42A4-91B3-B660FE30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D5630-C677-4F96-AB88-CF663338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E946D-957A-4AF6-8787-061F5AA3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FEBAD-9CD5-4042-AE5B-57E58BE9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86C3-B5B3-4BE7-9155-E07073F5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2693-95AF-4E21-8134-BA20CF8E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E167-1C1F-451C-8DE8-713A5B05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F30A-3655-4A4F-A520-10675D30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10B-A079-496F-954B-85F0548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6F5B-32EF-4584-89B9-6F57CCB2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52FA-8642-44FC-BFD1-1318C45D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F90C-35F8-4360-9358-0119402F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5013-240A-4B3A-8482-E3C3D838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8095-4FA6-43B1-93EB-28336F89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714B-8E92-4B8D-A1B8-F0B54E66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E9FA-056D-4CCD-BF68-21E2EFA2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911FD-1750-4E57-968A-BED0B789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5096-004F-4A7B-B525-FFB5650D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225B-EF7C-40DD-A074-099B56A6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02D-0404-46CF-9FDE-28D05D5F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61DD-AB3D-437A-B71E-B36814EA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CB87-94F0-4267-A941-0D63A2B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F55A-945B-4205-B5E3-BEE38481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B71B-3341-44D4-BB7C-69441F1C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024D-DA3B-45E9-B2D8-36DEEA3A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D3B0-D101-43CD-AF36-2154CFC8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44C2-AF36-474C-953E-BF0C5AC6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DDCE-2891-4A65-B180-97CAFCC0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05584-82FB-4BB2-85AC-F08BEEEE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A302-385B-4B26-8860-CE805E64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3FE-DFB0-41EA-8A8C-C6CE7805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A123-7D40-4DE7-B7FA-D86431E1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4570D-C55B-42D5-869D-4BF93860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ADCF-4631-4175-9CAD-D1F46BDD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59A43-A9A5-4A28-8B80-BF580CA6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AD894-3262-4DB1-A23B-E7DFDE4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B7C7-A942-4498-A969-7709F579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5738-9EEA-4D85-ABFB-3C0E7135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94BA-1199-4741-9113-92BCE874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C7210-11DF-4417-80B2-9CCB146C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63B5E-C220-46B1-91F0-C8FE33BB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736-6D65-4F84-91B0-F54AED3D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4138C-E865-4E07-8FA9-A32AB424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8D1D7-D3A3-4C06-B5E5-1ED848F6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D06DD-4FCB-4BC8-908B-06B7B9B0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032B-92A5-45D1-8553-6F980159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62117-99B6-4197-96F8-0B4FCFEA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7A50C-A16C-41FC-AD39-0235B497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B7D9-FECF-4485-944B-6BE2782C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3131B-A890-4CC3-8D5E-308FBFE6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3D00-0763-4D22-B0BD-73E272EB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D3E24-B2CF-41BA-837D-F1346A35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FF0-E651-4E75-92B6-D5BF9792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BA5DA-E0B7-4CDF-BABE-6F1B1DF4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C6AA2-E88A-4957-A243-C5CB7A2E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AD7E9-3593-4EFD-9204-9B5B66E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4D78E-D6C2-4446-AB91-0AB743A6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F648F-5277-4652-B098-C1FE00EA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287E2-FE6D-4FE8-B8C2-F247B4F1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DED69-F114-4B59-9AE6-5A6D1C6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DA6B5-E5FD-4BA8-8F45-72A2B9DD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A0E47-8D5E-425B-95B4-5512371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57980-7A3C-4D50-A641-957B3BBC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C4D-2966-4597-B7DB-D99C843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C0FAD-8B47-499F-B42E-0B3F9857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A712C-A7D8-4A85-A06C-8D0B6CC1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990D-B627-4C46-A4F2-60D6DA46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01705-41E9-4D62-B9EF-D3AC248E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820D6-01A3-43E4-ADB2-C1A3961A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D4608-7F24-42ED-9B4C-8323B5A0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8D49E-EB0E-47D2-B85B-D1976BBF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1E57F-6495-47C0-9CA1-0AD65C0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3A94-8398-4B4E-A958-D1C870A8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9197E-E9C1-4E99-9AB8-CD437B7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5A3-40BB-4E32-AA5C-94028B04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815C8-1D4E-496E-8049-7CA8E3C1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6E589-2396-474F-9EFF-FC8A9980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96C21-5EAA-46F3-8978-036BB065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E956C-8726-4FFC-9C04-384E575A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F1DF6-34FC-4207-AD49-B47DC78E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2661F-FC5F-4BE5-A89D-45A67019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43971-5CF4-4BAB-BB20-1577C765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EF6DF-5B64-4B41-9387-0FAA423E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B5962-246F-420A-AFC4-869AC836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60813-ED91-425B-9E60-B5C39B86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D93-9AC0-41B5-9081-ECF1AEF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784FA-3505-4ED2-BE05-C3A2DB61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8EF13-63F5-4464-869C-661A4009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209C3-0BA5-4AF4-A969-B3E5995C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5FF95-4B9A-4F2A-921E-4792A65A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995E5-078C-470A-A780-D7B924F2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2545B-327E-4B00-B6FB-3D8367C6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9315C-2FBC-433E-8201-CB5B6780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D9D2C-6BD3-411D-BE28-3D22209F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668B5-3BC4-419B-91C5-04DB38A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3DC0C-7CAF-4264-8F42-7662BDE4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046F-9E1A-4031-8961-CBC5E7215A5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7A93-9779-4E3D-BD3A-FCAE01F95B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D8F0-57EF-4558-834A-1DE7B0E1BF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2654-BB91-465F-8980-BADB3C964A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56A9-7793-473F-A01A-E6CA7B3A8F6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1B22-7504-4CC0-835A-0A8E618E71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9E66-FB99-4886-824C-BA1ABCF8141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2F47-B3B6-4200-BFF3-EAC991A667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6F77-0AF8-40AF-B794-4A91CF34C3B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C4DF-3C0C-48BC-813E-D3C5256726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45CA-AC67-45BD-8D01-3A652B0E87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1331-7C33-4B4C-ACCF-28A44330CA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6572-A6A0-4995-BC7A-8C2D4D34EC0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B7B2-91A7-49C9-9BBF-BAF6C29E68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88FA-C2BC-4044-83FD-D2DDEF4440C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7C4E-161C-4E55-A8BD-E70491E168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F15C-15E6-49C0-9704-2DFFAF2D1AC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2776-74E2-4AEC-9ED0-2395676144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D6C7-9F43-4E09-9A6C-5FF23331BD7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691A-B832-4D20-B05D-A57AE0727A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0489-59F2-4F0B-AB9C-2F4258BCDE2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03D8-B7A3-4D7B-94D8-64F5FCD082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3BF2-525B-4895-94CE-07DE910B73A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ED2C-57C7-4260-A65B-A3341BFFD2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C510-644D-47BD-BA18-02011E9AFB0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6024-5FF8-44BC-83B7-0C12B3A854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22.xml"/><Relationship Id="rId4" Type="http://schemas.openxmlformats.org/officeDocument/2006/relationships/slide" Target="slide3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1143000" y="1285920"/>
            <a:ext cx="75009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</a:rPr>
              <a:t>Интерактив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</a:rPr>
              <a:t>«Самое великое чудо на свете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</a:rPr>
              <a:t>Литературное чтение, 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</a:rPr>
              <a:t>УМК «Школа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1785960" y="5572080"/>
            <a:ext cx="5643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4"/>
          <p:cNvSpPr/>
          <p:nvPr/>
        </p:nvSpPr>
        <p:spPr>
          <a:xfrm>
            <a:off x="2571840" y="57168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не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 школьной сумке я леж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ак ты учишься, ск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6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Лент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кажи: кто дела так бо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ак палки – пё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ак камня – пти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Скругленный прямоугольник 4"/>
          <p:cNvSpPr/>
          <p:nvPr/>
        </p:nvSpPr>
        <p:spPr>
          <a:xfrm>
            <a:off x="2000160" y="192888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8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Скругленный прямоугольник 2"/>
          <p:cNvSpPr/>
          <p:nvPr/>
        </p:nvSpPr>
        <p:spPr>
          <a:xfrm>
            <a:off x="2000160" y="1643040"/>
            <a:ext cx="5715000" cy="278604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исать на бума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Скругленный прямоугольник 3"/>
          <p:cNvSpPr/>
          <p:nvPr/>
        </p:nvSpPr>
        <p:spPr>
          <a:xfrm>
            <a:off x="2000160" y="1643040"/>
            <a:ext cx="5715000" cy="278604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емя плос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оле гладк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то ум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Тот и с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емя не всход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А плод прин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Скругленный прямоугольник 4"/>
          <p:cNvSpPr/>
          <p:nvPr/>
        </p:nvSpPr>
        <p:spPr>
          <a:xfrm>
            <a:off x="2000160" y="1643040"/>
            <a:ext cx="5715000" cy="2786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Стрелка вправо 5">
            <a:hlinkClick r:id="rId1" action="ppaction://hlinksldjump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0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Бук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амая первая книга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2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У Кощея Бессмер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У кого смерть на конце иг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4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то первый тянул реп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ый прямоугольник 4"/>
          <p:cNvSpPr/>
          <p:nvPr/>
        </p:nvSpPr>
        <p:spPr>
          <a:xfrm>
            <a:off x="2000160" y="192888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7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Баб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то любил Красную Шапочку, кроме мам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 слове-отгадке 3 с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9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ома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то жених Мухи-цокотух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1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толица нашей Ро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Скругленный прямоугольник 4"/>
          <p:cNvSpPr/>
          <p:nvPr/>
        </p:nvSpPr>
        <p:spPr>
          <a:xfrm>
            <a:off x="2000160" y="192888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3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Аппарат, на котором Баба-яга совершает пол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5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Прямоугольник 1"/>
          <p:cNvSpPr/>
          <p:nvPr/>
        </p:nvSpPr>
        <p:spPr>
          <a:xfrm>
            <a:off x="2428920" y="714240"/>
            <a:ext cx="607212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нстру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гре участвует три команды. Команды выбирают конкурс и по очереди отвечают на вопросы. Проверить себя можно, нажав на карточку с вопросом. Если ответ верный, то команда получает 1 балл. Кто наберёт наибольшее количество баллов, тот будет победите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йти к следующему вопросу  можно при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ершить игру можно при помощи кно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Стрелка вправо 2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Управляющая кнопка: сведения 3">
            <a:hlinkClick r:id="" action="ppaction://hlinkshowjump?jump=lastslide"/>
          </p:cNvPr>
          <p:cNvSpPr/>
          <p:nvPr/>
        </p:nvSpPr>
        <p:spPr>
          <a:xfrm>
            <a:off x="1285920" y="64296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10800" y="53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677">
                <a:moveTo>
                  <a:pt x="10800" y="57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677">
                <a:moveTo>
                  <a:pt x="8224" y="9762"/>
                </a:moveTo>
                <a:lnTo>
                  <a:pt x="12088" y="9762"/>
                </a:lnTo>
                <a:lnTo>
                  <a:pt x="12088" y="16760"/>
                </a:lnTo>
                <a:lnTo>
                  <a:pt x="13376" y="16760"/>
                </a:lnTo>
                <a:lnTo>
                  <a:pt x="13376" y="17682"/>
                </a:lnTo>
                <a:lnTo>
                  <a:pt x="8224" y="17682"/>
                </a:lnTo>
                <a:lnTo>
                  <a:pt x="8224" y="16760"/>
                </a:lnTo>
                <a:lnTo>
                  <a:pt x="9512" y="16760"/>
                </a:lnTo>
                <a:lnTo>
                  <a:pt x="9512" y="10667"/>
                </a:lnTo>
                <a:lnTo>
                  <a:pt x="8224" y="1066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Стрелка вправо 4"/>
          <p:cNvSpPr/>
          <p:nvPr/>
        </p:nvSpPr>
        <p:spPr>
          <a:xfrm>
            <a:off x="3643200" y="4429080"/>
            <a:ext cx="8575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Стрелка вправо 5"/>
          <p:cNvSpPr/>
          <p:nvPr/>
        </p:nvSpPr>
        <p:spPr>
          <a:xfrm>
            <a:off x="3000240" y="5357880"/>
            <a:ext cx="857520" cy="4284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урем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родавец лечебных пия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8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Чебур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ерный друг Г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Стрелка вправо 5">
            <a:hlinkClick r:id="rId1" action="ppaction://hlinksldjump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40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Изб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Жилище Бабы-я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48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2" dur="indefinite" restart="never" nodeType="tmRoot">
          <p:childTnLst>
            <p:seq>
              <p:cTn id="42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42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амобр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казочная скат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56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4" dur="indefinite" restart="never" nodeType="tmRoot">
          <p:childTnLst>
            <p:seq>
              <p:cTn id="44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44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На конце и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Где хранится смерть страшного долгожителя, героя русских народных сказ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64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6" dur="indefinite" restart="never" nodeType="tmRoot">
          <p:childTnLst>
            <p:seq>
              <p:cTn id="46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46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Ляг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то из обитателей болота стал женой цареви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72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49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ар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апа Бурат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80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1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евичья краса – длинна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88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2" dur="indefinite" restart="never" nodeType="tmRoot">
          <p:childTnLst>
            <p:seq>
              <p:cTn id="53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3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Иван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Имя мальчика, который стал козлёноч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696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4" dur="indefinite" restart="never" nodeType="tmRoot">
          <p:childTnLst>
            <p:seq>
              <p:cTn id="55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5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Алён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естрица Иван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704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7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Скругленный прямоугольник 1">
            <a:hlinkClick r:id="rId1" action="ppaction://hlinksldjump"/>
          </p:cNvPr>
          <p:cNvSpPr/>
          <p:nvPr/>
        </p:nvSpPr>
        <p:spPr>
          <a:xfrm>
            <a:off x="3071880" y="1071720"/>
            <a:ext cx="5143320" cy="78552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Скругленный прямоугольник 2">
            <a:hlinkClick r:id="rId2" action="ppaction://hlinksldjump"/>
          </p:cNvPr>
          <p:cNvSpPr/>
          <p:nvPr/>
        </p:nvSpPr>
        <p:spPr>
          <a:xfrm>
            <a:off x="3071880" y="2214720"/>
            <a:ext cx="5143320" cy="78552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частливый случ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кругленный прямоугольник 3">
            <a:hlinkClick r:id="rId3" action="ppaction://hlinksldjump"/>
          </p:cNvPr>
          <p:cNvSpPr/>
          <p:nvPr/>
        </p:nvSpPr>
        <p:spPr>
          <a:xfrm>
            <a:off x="3071880" y="3357720"/>
            <a:ext cx="5143320" cy="78552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кругленный прямоугольник 4">
            <a:hlinkClick r:id="rId4" action="ppaction://hlinksldjump"/>
          </p:cNvPr>
          <p:cNvSpPr/>
          <p:nvPr/>
        </p:nvSpPr>
        <p:spPr>
          <a:xfrm>
            <a:off x="3071880" y="4572000"/>
            <a:ext cx="5143320" cy="78588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Стрелка вправо 5">
            <a:hlinkClick r:id="" action="ppaction://hlinkshowjump?jump=endshow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2286000" y="1071720"/>
            <a:ext cx="647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ОНК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кругленный прямоугольник 16"/>
          <p:cNvSpPr/>
          <p:nvPr/>
        </p:nvSpPr>
        <p:spPr>
          <a:xfrm>
            <a:off x="3071880" y="4572000"/>
            <a:ext cx="5143320" cy="785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Скругленный прямоугольник 17">
            <a:hlinkClick r:id="rId5" action="ppaction://hlinksldjump"/>
          </p:cNvPr>
          <p:cNvSpPr/>
          <p:nvPr/>
        </p:nvSpPr>
        <p:spPr>
          <a:xfrm>
            <a:off x="3071880" y="1071720"/>
            <a:ext cx="5143320" cy="785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Скругленный прямоугольник 18">
            <a:hlinkClick r:id="rId6" action="ppaction://hlinksldjump"/>
          </p:cNvPr>
          <p:cNvSpPr/>
          <p:nvPr/>
        </p:nvSpPr>
        <p:spPr>
          <a:xfrm>
            <a:off x="3071880" y="2214720"/>
            <a:ext cx="5143320" cy="785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кругленный прямоугольник 19"/>
          <p:cNvSpPr/>
          <p:nvPr/>
        </p:nvSpPr>
        <p:spPr>
          <a:xfrm>
            <a:off x="3071880" y="3357720"/>
            <a:ext cx="5143320" cy="785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5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1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Бурат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еревянный ма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712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8" dur="indefinite" restart="never" nodeType="tmRoot">
          <p:childTnLst>
            <p:seq>
              <p:cTn id="59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0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ечка Е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Необычный вид транспорта, на котором герой русской народной сказки попал к царю во дво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720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0" dur="indefinite" restart="never" nodeType="tmRoot">
          <p:childTnLst>
            <p:seq>
              <p:cTn id="62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2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Горо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Что мешало спать принце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728" name="Picture 2" descr="http://eslovnik.com/img/bochonok-s-medom.jpg"/>
            <p:cNvPicPr/>
            <p:nvPr/>
          </p:nvPicPr>
          <p:blipFill>
            <a:blip r:embed="rId1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2" dur="indefinite" restart="never" nodeType="tmRoot">
          <p:childTnLst>
            <p:seq>
              <p:cTn id="64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4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Заморочки из б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«Двенадцать месяц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 какой сказке зимой собрали цве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Стрелка вправо 5">
            <a:hlinkClick r:id="rId1" action="ppaction://hlinksldjump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Группа 8"/>
          <p:cNvGrpSpPr/>
          <p:nvPr/>
        </p:nvGrpSpPr>
        <p:grpSpPr>
          <a:xfrm>
            <a:off x="1143000" y="571680"/>
            <a:ext cx="1000080" cy="1130040"/>
            <a:chOff x="1143000" y="571680"/>
            <a:chExt cx="1000080" cy="1130040"/>
          </a:xfrm>
        </p:grpSpPr>
        <p:pic>
          <p:nvPicPr>
            <p:cNvPr id="736" name="Picture 2" descr="http://eslovnik.com/img/bochonok-s-medom.jpg"/>
            <p:cNvPicPr/>
            <p:nvPr/>
          </p:nvPicPr>
          <p:blipFill>
            <a:blip r:embed="rId2"/>
            <a:stretch/>
          </p:blipFill>
          <p:spPr>
            <a:xfrm>
              <a:off x="1143000" y="571680"/>
              <a:ext cx="10000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Овал 7"/>
            <p:cNvSpPr/>
            <p:nvPr/>
          </p:nvSpPr>
          <p:spPr>
            <a:xfrm>
              <a:off x="1357200" y="1000080"/>
              <a:ext cx="571320" cy="356760"/>
            </a:xfrm>
            <a:prstGeom prst="ellipse">
              <a:avLst/>
            </a:prstGeom>
            <a:solidFill>
              <a:srgbClr val="494429"/>
            </a:solidFill>
            <a:ln w="25560">
              <a:solidFill>
                <a:srgbClr val="9389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4" dur="indefinite" restart="never" nodeType="tmRoot">
          <p:childTnLst>
            <p:seq>
              <p:cTn id="66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6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У нас все до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Кто там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Скругленный прямоугольник 9"/>
          <p:cNvSpPr/>
          <p:nvPr/>
        </p:nvSpPr>
        <p:spPr>
          <a:xfrm>
            <a:off x="3143160" y="2357280"/>
            <a:ext cx="4714920" cy="85752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Скругленный прямоугольник 10"/>
          <p:cNvSpPr/>
          <p:nvPr/>
        </p:nvSpPr>
        <p:spPr>
          <a:xfrm>
            <a:off x="3143160" y="2357280"/>
            <a:ext cx="4714920" cy="85752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Дёрни за верёвоч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верь и откроетс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Скругленный прямоугольник 11"/>
          <p:cNvSpPr/>
          <p:nvPr/>
        </p:nvSpPr>
        <p:spPr>
          <a:xfrm>
            <a:off x="3143160" y="2357280"/>
            <a:ext cx="471492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2"/>
          <p:cNvSpPr/>
          <p:nvPr/>
        </p:nvSpPr>
        <p:spPr>
          <a:xfrm>
            <a:off x="1428840" y="1357200"/>
            <a:ext cx="686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гда почтальон Печкин постучал в дверь, что ему ответ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8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09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3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3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вое из ла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Три соб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Скругленный прямоугольник 9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Скругленный прямоугольник 10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жи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Скругленный прямоугольник 11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2"/>
          <p:cNvSpPr/>
          <p:nvPr/>
        </p:nvSpPr>
        <p:spPr>
          <a:xfrm>
            <a:off x="1214280" y="1357200"/>
            <a:ext cx="735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появлялся перед солдатом, когда он начинал высекать огонь с помощью огни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5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73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9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Обручальное коль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Крылы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Скругленный прямоугольник 9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Скругленный прямоугольник 10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ропел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Скругленный прямоугольник 11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2"/>
          <p:cNvSpPr/>
          <p:nvPr/>
        </p:nvSpPr>
        <p:spPr>
          <a:xfrm>
            <a:off x="1428840" y="1500120"/>
            <a:ext cx="68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подарили эльфы Дюймовоч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81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837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0" dur="50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85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1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Ем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Скругленный прямоугольник 9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Скругленный прямоугольник 10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те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Скругленный прямоугольник 11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12"/>
          <p:cNvSpPr/>
          <p:nvPr/>
        </p:nvSpPr>
        <p:spPr>
          <a:xfrm>
            <a:off x="1428840" y="1357200"/>
            <a:ext cx="686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ргей Михалков рассказывал о человеке огромного роста. Как его зв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88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01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2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Дар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Насте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Скругленный прямоугольник 9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Скругленный прямоугольник 10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Маше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Скругленный прямоугольник 11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"/>
          <p:cNvSpPr/>
          <p:nvPr/>
        </p:nvSpPr>
        <p:spPr>
          <a:xfrm>
            <a:off x="1428840" y="1357200"/>
            <a:ext cx="686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вали девочку из сказ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еребряное копытц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4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4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65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8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9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9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Ситу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Скругленный прямоугольник 2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Скругленный прямоугольник 3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Курочка в серёжк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Скругленный прямоугольник 4"/>
          <p:cNvSpPr/>
          <p:nvPr/>
        </p:nvSpPr>
        <p:spPr>
          <a:xfrm>
            <a:off x="3143160" y="428616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Стрелка вправо 5"/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Скругленный прямоугольник 6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Скругленный прямоугольник 7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Кошка в сапог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Скругленный прямоугольник 8"/>
          <p:cNvSpPr/>
          <p:nvPr/>
        </p:nvSpPr>
        <p:spPr>
          <a:xfrm>
            <a:off x="3143160" y="342900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Скругленный прямоугольник 9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Скругленный прямоугольник 10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«Кот в сапог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Скругленный прямоугольник 11"/>
          <p:cNvSpPr/>
          <p:nvPr/>
        </p:nvSpPr>
        <p:spPr>
          <a:xfrm>
            <a:off x="3143160" y="2571840"/>
            <a:ext cx="47149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1428840" y="1500120"/>
            <a:ext cx="68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одна из сказок Ш. Перр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00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029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05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Бу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Сели птицы на страниц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Знают быль и небы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Используемые 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1285560" y="1143000"/>
            <a:ext cx="7358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тявина С. В. Поурочные разработки по литературному чтению. 2 класс. М.: ВАКО, 2013 (В помощь школьному учителю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выполнить приём сорбонка?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didaktor.ru/kak-vypolnit-priyom-sorbonka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н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nglish-study-cafe.ru/images/notebook4.jp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ятач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img-fotki.yandex.ru/get/9496/16969765.1a2/0_7eaa1_cf4e7db7_M.p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чк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slovnik.com/img/bochonok-s-medom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н медали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etc.usf.edu/presentations/backgrounds/abstract/abstract_31/33086s.jp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вёздочк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img843.imageshack.us/img843/381/024059555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Стрелка вправо 3">
            <a:hlinkClick r:id="" action="ppaction://hlinkshowjump?jump=previous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Еду по гряд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Рву без счё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А всё ц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Скругленный прямоугольник 2"/>
          <p:cNvSpPr/>
          <p:nvPr/>
        </p:nvSpPr>
        <p:spPr>
          <a:xfrm>
            <a:off x="2000160" y="1785960"/>
            <a:ext cx="5715000" cy="22860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Дво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Скругленный прямоугольник 3"/>
          <p:cNvSpPr/>
          <p:nvPr/>
        </p:nvSpPr>
        <p:spPr>
          <a:xfrm>
            <a:off x="2000160" y="1785960"/>
            <a:ext cx="5715000" cy="22860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Шея длинная та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Хвост крюч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И не секр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Любит всех она лентяе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А её лентяи –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Скругленный прямоугольник 4"/>
          <p:cNvSpPr/>
          <p:nvPr/>
        </p:nvSpPr>
        <p:spPr>
          <a:xfrm>
            <a:off x="2000160" y="1785960"/>
            <a:ext cx="5715000" cy="228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Мел и до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Белый зайчик прыг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о чёрному по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Хоть не шляпа, а с поля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Не цветок, а с кор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Разговаривает с 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сем понятным язы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1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Скругленный прямоугольник 1"/>
          <p:cNvSpPr/>
          <p:nvPr/>
        </p:nvSpPr>
        <p:spPr>
          <a:xfrm>
            <a:off x="2286000" y="714240"/>
            <a:ext cx="5143680" cy="500040"/>
          </a:xfrm>
          <a:prstGeom prst="roundRect">
            <a:avLst>
              <a:gd name="adj" fmla="val 16667"/>
            </a:avLst>
          </a:prstGeom>
          <a:solidFill>
            <a:srgbClr val="dae5f1"/>
          </a:solidFill>
          <a:ln w="255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Угадай-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Скругленный прямоугольник 2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Скругленный прямоугольник 3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На странице бук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Тридцать три богаты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Мудрецов-богаты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Знает каждый грамо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кругленный прямоугольник 4"/>
          <p:cNvSpPr/>
          <p:nvPr/>
        </p:nvSpPr>
        <p:spPr>
          <a:xfrm>
            <a:off x="2000160" y="2000160"/>
            <a:ext cx="5715000" cy="20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трелка вправо 5">
            <a:hlinkClick r:id="" action="ppaction://hlinkshowjump?jump=nextslide"/>
          </p:cNvPr>
          <p:cNvSpPr/>
          <p:nvPr/>
        </p:nvSpPr>
        <p:spPr>
          <a:xfrm>
            <a:off x="6929280" y="5715000"/>
            <a:ext cx="121464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3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9:00Z</dcterms:created>
  <dc:creator>User</dc:creator>
  <dc:description/>
  <dc:language>en-US</dc:language>
  <cp:lastModifiedBy>Ирина</cp:lastModifiedBy>
  <dcterms:modified xsi:type="dcterms:W3CDTF">2019-01-10T08:39:17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113</vt:lpwstr>
  </property>
</Properties>
</file>