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3C7F-4A3A-464B-B087-C9D87294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2853-5FAB-4E52-B183-891273AD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F7B-D5EB-439C-930E-89E46C080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3CA-CBD0-4310-9BF5-F8B380342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839A-B8E1-45CC-B720-85EB19E3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1EAD-5957-4E9E-9A6F-21E35BFF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D58-FEEE-4DDC-B7F0-8B330D02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E831-CC6E-41D0-9853-7CCC6E4C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F462-B5C1-4C90-8657-E9954056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E1B1-ACB6-4488-A5D5-B0445D8C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FF1-5050-47A0-B5DA-4E93B2BC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03BE-080C-41DB-A151-155B9ECC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67FE-EA67-47FF-89B2-29A9B4B3F435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1"/>
          <p:cNvSpPr/>
          <p:nvPr/>
        </p:nvSpPr>
        <p:spPr>
          <a:xfrm>
            <a:off x="647640" y="3897360"/>
            <a:ext cx="7885080" cy="255600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50920" y="907920"/>
            <a:ext cx="8712000" cy="269892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 заключается не только в знани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в умении прилага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на деле» (Аристотель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"/>
          <p:cNvPicPr/>
          <p:nvPr/>
        </p:nvPicPr>
        <p:blipFill>
          <a:blip r:embed="rId1"/>
          <a:stretch/>
        </p:blipFill>
        <p:spPr>
          <a:xfrm>
            <a:off x="2771640" y="3933720"/>
            <a:ext cx="36147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" name="Picture 2" descr="https://ds04.infourok.ru/uploads/ex/0b1f/001135a6-70c7ea4f/img7.jpg"/>
          <p:cNvPicPr/>
          <p:nvPr/>
        </p:nvPicPr>
        <p:blipFill>
          <a:blip r:embed="rId1"/>
          <a:stretch/>
        </p:blipFill>
        <p:spPr>
          <a:xfrm>
            <a:off x="0" y="-30240"/>
            <a:ext cx="9317160" cy="698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000" y="1827360"/>
            <a:ext cx="8496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Молекулярное уравн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Cl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NaOH →Fe(OH)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 + 3NaC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олное ионное уравнение (ПИУ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С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N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Fe(OH)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+ 3N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С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окращенное ионное уравнение (СИУ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0" lang="ru-RU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OH</a:t>
            </a:r>
            <a:r>
              <a:rPr b="0" lang="en-US" sz="2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en-US" sz="2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Fe(OH)</a:t>
            </a:r>
            <a:r>
              <a:rPr b="1" lang="en-US" sz="2900" spc="-1" strike="noStrike" baseline="-25000">
                <a:solidFill>
                  <a:srgbClr val="993300"/>
                </a:solidFill>
                <a:latin typeface="Times New Roman"/>
                <a:ea typeface="Times New Roman"/>
              </a:rPr>
              <a:t>3</a:t>
            </a:r>
            <a:r>
              <a:rPr b="1" lang="en-US" sz="29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↓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еакции, идущие с образованием малодиссоциирующего веществ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ние для группы №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в результате реакции выделяется малодиссоциирующее вещество – вод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делайте реакцию между гидроксидом натрия (добавьте фенолфталеин) и соляной кислотой до исчезновения окраски, признак реакции(вспомните – эта реакция обмена называется реакцией нейтрализации)- образование малодиссоциирующего вещества- воды. Запишите молекулярное, полное и сокращённое ионное уравнени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301320"/>
            <a:ext cx="7927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еакции, идущие с образованием осадк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69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ние для группы № 2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сли в результате реакции выделяется нерастворимое в воде вещество </a:t>
            </a:r>
            <a:r>
              <a:rPr b="1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– осад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елайте реакцию между сульфатом меди (II) и гидроксидом натрия. Какой признак этой реакции? Запишите молекулярное, полное и сокращённое ионное уравне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</a:rPr>
              <a:t>Реакции, идущие с образованием газообразного веществ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0920" y="1827360"/>
            <a:ext cx="8072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Задание для группы № 3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Если в результате реакции выделяется газообразное вещество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елайте реакцию между карбонатом натрия и серной кислотой. Какой признак этой реакции? Запишите молекулярное, полное и сокращённое ионное уравнение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val 2"/>
          <p:cNvSpPr/>
          <p:nvPr/>
        </p:nvSpPr>
        <p:spPr>
          <a:xfrm rot="502800">
            <a:off x="5363640" y="3500280"/>
            <a:ext cx="3168720" cy="4302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48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3"/>
          <p:cNvSpPr/>
          <p:nvPr/>
        </p:nvSpPr>
        <p:spPr>
          <a:xfrm rot="16574400">
            <a:off x="2938320" y="5062320"/>
            <a:ext cx="2548080" cy="576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104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"/>
          <p:cNvSpPr/>
          <p:nvPr/>
        </p:nvSpPr>
        <p:spPr>
          <a:xfrm>
            <a:off x="3780000" y="2637000"/>
            <a:ext cx="1441440" cy="12236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5"/>
          <p:cNvSpPr/>
          <p:nvPr/>
        </p:nvSpPr>
        <p:spPr>
          <a:xfrm rot="354000">
            <a:off x="684360" y="2852280"/>
            <a:ext cx="3024000" cy="43200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50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6"/>
          <p:cNvSpPr/>
          <p:nvPr/>
        </p:nvSpPr>
        <p:spPr>
          <a:xfrm rot="2395200">
            <a:off x="1476360" y="1341360"/>
            <a:ext cx="3024360" cy="54288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30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7"/>
          <p:cNvSpPr/>
          <p:nvPr/>
        </p:nvSpPr>
        <p:spPr>
          <a:xfrm rot="6358800">
            <a:off x="3674880" y="996840"/>
            <a:ext cx="2636640" cy="6494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06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8"/>
          <p:cNvSpPr/>
          <p:nvPr/>
        </p:nvSpPr>
        <p:spPr>
          <a:xfrm rot="20103600">
            <a:off x="5148360" y="1915920"/>
            <a:ext cx="3024000" cy="56664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33"/>
              </a:gs>
            </a:gsLst>
            <a:lin ang="68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9"/>
          <p:cNvSpPr/>
          <p:nvPr/>
        </p:nvSpPr>
        <p:spPr>
          <a:xfrm rot="2710800">
            <a:off x="4456800" y="4694760"/>
            <a:ext cx="3024360" cy="63504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26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10"/>
          <p:cNvSpPr/>
          <p:nvPr/>
        </p:nvSpPr>
        <p:spPr>
          <a:xfrm rot="19658400">
            <a:off x="1186920" y="4220640"/>
            <a:ext cx="3024360" cy="6447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66"/>
              </a:gs>
            </a:gsLst>
            <a:lin ang="7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1"/>
          <p:cNvSpPr/>
          <p:nvPr/>
        </p:nvSpPr>
        <p:spPr>
          <a:xfrm rot="4524000">
            <a:off x="2735640" y="972360"/>
            <a:ext cx="2519280" cy="5745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12"/>
          <p:cNvSpPr/>
          <p:nvPr/>
        </p:nvSpPr>
        <p:spPr>
          <a:xfrm rot="892200">
            <a:off x="738000" y="2138400"/>
            <a:ext cx="324000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45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13"/>
          <p:cNvSpPr/>
          <p:nvPr/>
        </p:nvSpPr>
        <p:spPr>
          <a:xfrm rot="21069000">
            <a:off x="684360" y="3500280"/>
            <a:ext cx="3095640" cy="506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93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4"/>
          <p:cNvSpPr/>
          <p:nvPr/>
        </p:nvSpPr>
        <p:spPr>
          <a:xfrm rot="18663000">
            <a:off x="4538880" y="1185120"/>
            <a:ext cx="2946240" cy="576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3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15"/>
          <p:cNvSpPr/>
          <p:nvPr/>
        </p:nvSpPr>
        <p:spPr>
          <a:xfrm rot="21374400">
            <a:off x="5364000" y="2781360"/>
            <a:ext cx="324036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56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6"/>
          <p:cNvSpPr/>
          <p:nvPr/>
        </p:nvSpPr>
        <p:spPr>
          <a:xfrm flipV="1" rot="1524000">
            <a:off x="5076360" y="4221000"/>
            <a:ext cx="3382920" cy="50328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69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7"/>
          <p:cNvSpPr/>
          <p:nvPr/>
        </p:nvSpPr>
        <p:spPr>
          <a:xfrm flipH="1" rot="4128000">
            <a:off x="3747960" y="5159520"/>
            <a:ext cx="2808360" cy="587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95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18"/>
          <p:cNvSpPr/>
          <p:nvPr/>
        </p:nvSpPr>
        <p:spPr>
          <a:xfrm rot="18853200">
            <a:off x="1680840" y="4879800"/>
            <a:ext cx="2808360" cy="6271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ff9933"/>
              </a:gs>
            </a:gsLst>
            <a:lin ang="81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000"/>
                            </p:stCondLst>
                            <p:childTnLst>
                              <p:par>
                                <p:cTn id="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8000"/>
                            </p:stCondLst>
                            <p:childTnLst>
                              <p:par>
                                <p:cTn id="29" nodeType="afterEffect" fill="hold" presetClass="entr" presetID="53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35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4000"/>
                            </p:stCondLst>
                            <p:childTnLst>
                              <p:par>
                                <p:cTn id="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4500"/>
                            </p:stCondLst>
                            <p:childTnLst>
                              <p:par>
                                <p:cTn id="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0"/>
                            </p:stCondLst>
                            <p:childTnLst>
                              <p:par>
                                <p:cTn id="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1" nodeType="after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Одно из взятых исходных веществ практически нерастворимо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1827360"/>
            <a:ext cx="8353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O, Fe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u(OH)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n(OH)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aCO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Fe(OH)</a:t>
            </a:r>
            <a:r>
              <a:rPr b="1" lang="ru-RU" sz="29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др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группа – действие серной кислоты на гидроксид меди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2 группа – действие соляной кислоты на оксид меди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группа –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ействие соляной кислоты на карбонат кальц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66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Составьте молекулярные и полные ионные уравнения – по сокращенным ионным уравнениям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S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O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Fe(OH)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груп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H</a:t>
            </a:r>
            <a:r>
              <a:rPr b="1" lang="ru-RU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 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+ CO</a:t>
            </a:r>
            <a:r>
              <a:rPr b="1" lang="ru-RU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O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N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 + 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P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Ba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→Ba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O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3OH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Al(OH)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7280" y="260280"/>
            <a:ext cx="730728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Значение реакции ионного обме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2" descr="http://water2you.ru/upload/medialibrary/02d/02d46ee38c32f15643b66b0f1941c86d.jpg"/>
          <p:cNvPicPr/>
          <p:nvPr/>
        </p:nvPicPr>
        <p:blipFill>
          <a:blip r:embed="rId1"/>
          <a:stretch/>
        </p:blipFill>
        <p:spPr>
          <a:xfrm>
            <a:off x="324000" y="2276640"/>
            <a:ext cx="4012920" cy="3849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http://aquagroup.ru/sites/main/public/data/imgs/articles/ochistka_vody_ot_zhestkosti.jpg"/>
          <p:cNvPicPr/>
          <p:nvPr/>
        </p:nvPicPr>
        <p:blipFill>
          <a:blip r:embed="rId2"/>
          <a:stretch/>
        </p:blipFill>
        <p:spPr>
          <a:xfrm>
            <a:off x="4572000" y="2492280"/>
            <a:ext cx="4248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чите предлож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е больше всего удалось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я узнал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сложно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интересно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я могу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пробовал…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ст. Диссоциация кислот, оснований, солей. Сильные и слабые электролиты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7880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1. К электролитам не относится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gCl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(OH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К электролитам относится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O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лабая кислота – э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N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l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Сильная кислота – э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i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Вещество, которое при растворении в воде диссоциирует с образованием карбонат – ионов,  - э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ru-RU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gCO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.Слабое основание – это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2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Ba(OH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KOH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4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Упр.1,2,3,4,5 стр. 39 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: №2-21, 2-25,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26 стр. 21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9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ворческое задание.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Составьте кроссворд по теме «Электролитическая диссоциация»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827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Ионы металла и гидроксид-ионы при электролитической диссоциации образу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гидроксид меди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 3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зотная кисло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гидроксид калия       4) нитрат кальц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Ионы водорода и кислотного остатка при электролитической диссоциации образует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ерная кислот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3)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ммиа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хлорид аммон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сульфат кал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360" y="1557360"/>
            <a:ext cx="79992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Ответ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1.(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2.(3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3.(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.(4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5.(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6.(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7.(2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Times New Roman"/>
              </a:rPr>
              <a:t>8.(1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7313400" cy="1039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324000" y="4149720"/>
            <a:ext cx="87120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1. Слить растворы хлорида магния и сульфата натр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 Слить растворы хлорида железа (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I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 и гидроксида натр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" descr="http://chemistry-chemists.com/N3_2012/U3/img/Sulphur_oxygen.jpg"/>
          <p:cNvPicPr/>
          <p:nvPr/>
        </p:nvPicPr>
        <p:blipFill>
          <a:blip r:embed="rId1"/>
          <a:stretch/>
        </p:blipFill>
        <p:spPr>
          <a:xfrm>
            <a:off x="4211640" y="1442880"/>
            <a:ext cx="1152360" cy="26337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http://forum.xumuk.ru/uploads/monthly_12_2009/post-26145-1261853971.jpg"/>
          <p:cNvPicPr/>
          <p:nvPr/>
        </p:nvPicPr>
        <p:blipFill>
          <a:blip r:embed="rId2"/>
          <a:stretch/>
        </p:blipFill>
        <p:spPr>
          <a:xfrm>
            <a:off x="611280" y="1484280"/>
            <a:ext cx="3489120" cy="2617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http://pimg.mycdn.me/getImage?disableStub=true&amp;type=VIDEO_S_720&amp;url=http%3A%2F%2Fi.ytimg.com%2Fvi%2Fuz0ho0g8_sI%2F0.jpg&amp;signatureToken=-uD1hcpsc3Nn5qolG3SVkg"/>
          <p:cNvPicPr/>
          <p:nvPr/>
        </p:nvPicPr>
        <p:blipFill>
          <a:blip r:embed="rId3"/>
          <a:stretch/>
        </p:blipFill>
        <p:spPr>
          <a:xfrm>
            <a:off x="5435640" y="1420920"/>
            <a:ext cx="349236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ионного обмена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3" descr="C:\Documents and Settings\Dima\Рабочий стол\ира\клепарты\ппь.jpg"/>
          <p:cNvPicPr/>
          <p:nvPr/>
        </p:nvPicPr>
        <p:blipFill>
          <a:blip r:embed="rId1"/>
          <a:stretch/>
        </p:blipFill>
        <p:spPr>
          <a:xfrm>
            <a:off x="642960" y="285840"/>
            <a:ext cx="16430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ные понятия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е и сокращённое ионные уравнения, реакции ионного обмен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урока: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реакции ионного обмена, продолжить формирование умения записывать уравнения и предвидеть продукты реакции ионного обмена. Дать первоначальное понятие об условиях течения реакций между растворами до конца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3" descr="C:\Documents and Settings\Dima\Рабочий стол\ира\клепарты\ппь.jpg"/>
          <p:cNvPicPr/>
          <p:nvPr/>
        </p:nvPicPr>
        <p:blipFill>
          <a:blip r:embed="rId1"/>
          <a:stretch/>
        </p:blipFill>
        <p:spPr>
          <a:xfrm>
            <a:off x="3714840" y="214200"/>
            <a:ext cx="1714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301680"/>
            <a:ext cx="807228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Times New Roman"/>
              </a:rPr>
              <a:t>Реакции ионного обмен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2882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между ионами называют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онными реакциями,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уравнения таких реакций - </a:t>
            </a:r>
            <a:r>
              <a:rPr b="1" i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ионными уравнениями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Правила составления ионных уравнен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ещества, выпадающие в осадок, малодиссоциирующие вещества, газообразные записываются в молекулярном виде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↓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- осадок, ↑- газ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электролиты записывают в виде ион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15200" cy="47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Реакции обмена протекают до конц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если образуется осадок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ыделяется газ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диссоциирующие вещества -  (слабые электролиты, наприме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)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авило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ли в растворе нет таких ионов, которые могут связываться между собой, реакция обмена не протекает до конца, т.е. является обратимой. При этом ставится знак обратим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0:07:57Z</dcterms:created>
  <dc:creator>Admin</dc:creator>
  <dc:description/>
  <dc:language>en-US</dc:language>
  <cp:lastModifiedBy>Дмитрий</cp:lastModifiedBy>
  <dcterms:modified xsi:type="dcterms:W3CDTF">2018-12-16T11:26:20Z</dcterms:modified>
  <cp:revision>64</cp:revision>
  <dc:subject/>
  <dc:title>Слайд 1</dc:title>
</cp:coreProperties>
</file>