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9A7C-6A77-460C-A267-876D97BD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FB7D-DABD-4400-9D2F-8B5264B0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3A0-67C7-420F-BF78-816E7624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EC49-D546-45E4-A8D1-D2BAD14AE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C3E-484C-4565-BB3E-F4FF0864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795-EB80-4A4A-8897-2B3306C0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8BB4-BB34-48C1-BC31-DD2181A2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47BA-C642-4EB1-8509-32CEF1F7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9EF-FBB0-4DC6-B5CC-060518EB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1BE-D0FE-4C6C-BC25-EAD352A5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CF82-087E-4329-B759-61B0DA4F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382-5AAA-4BF0-9220-03AE8F66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0731-E2C9-4270-9DDD-2F570EE62A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647640" y="3897360"/>
            <a:ext cx="7885080" cy="255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50920" y="907920"/>
            <a:ext cx="8712000" cy="269892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 заключается не только в знани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в умении прилаг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на деле» (Аристотел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2771640" y="3933720"/>
            <a:ext cx="36147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https://ds04.infourok.ru/uploads/ex/0b1f/001135a6-70c7ea4f/img7.jpg"/>
          <p:cNvPicPr/>
          <p:nvPr/>
        </p:nvPicPr>
        <p:blipFill>
          <a:blip r:embed="rId1"/>
          <a:stretch/>
        </p:blipFill>
        <p:spPr>
          <a:xfrm>
            <a:off x="0" y="-30240"/>
            <a:ext cx="931716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8273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олекулярное уравн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NaOH →Fe(OH)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+ 3NaC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лное ионное уравнение (ПИУ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С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N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Fe(OH)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 3N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С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окращенное ионное уравнение (СИУ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Fe(OH)</a:t>
            </a:r>
            <a:r>
              <a:rPr b="1" lang="en-US" sz="29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3</a:t>
            </a:r>
            <a:r>
              <a:rPr b="1" lang="en-US" sz="2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↓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еакции, идущие с образованием малодиссоциирующего веществ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для группы №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 результате реакции выделяется малодиссоциирующее вещество – в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елайте реакцию между гидроксидом натрия (добавьте фенолфталеин) и соляной кислотой до исчезновения окраски, признак реакции(вспомните – эта реакция обмена называется реакцией нейтрализации)- образование малодиссоциирующего вещества- воды. Запишите молекулярное, полное и сокращённое ионное уравн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еакции, идущие с образованием осад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для группы № 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в результате реакции выделяется нерастворимое в воде вещество 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– осад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елайте реакцию между сульфатом меди (II) и гидроксидом натрия. Какой признак этой реакции? Запишите молекулярное, полное и сокращённое ионное уравне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еакции, идущие с образованием газообразного веществ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Задание для группы № 3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Если в результате реакции выделяется газообразное вещество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елайте реакцию между карбонатом натрия и серной кислотой. Какой признак этой реакции? Запишите молекулярное, полное и сокращённое ионное уравне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"/>
          <p:cNvSpPr/>
          <p:nvPr/>
        </p:nvSpPr>
        <p:spPr>
          <a:xfrm>
            <a:off x="378000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5"/>
          <p:cNvSpPr/>
          <p:nvPr/>
        </p:nvSpPr>
        <p:spPr>
          <a:xfrm rot="354000">
            <a:off x="684360" y="2852280"/>
            <a:ext cx="302400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6"/>
          <p:cNvSpPr/>
          <p:nvPr/>
        </p:nvSpPr>
        <p:spPr>
          <a:xfrm rot="2395200">
            <a:off x="1476360" y="134136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7"/>
          <p:cNvSpPr/>
          <p:nvPr/>
        </p:nvSpPr>
        <p:spPr>
          <a:xfrm rot="6358800">
            <a:off x="3674880" y="996840"/>
            <a:ext cx="263664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1"/>
          <p:cNvSpPr/>
          <p:nvPr/>
        </p:nvSpPr>
        <p:spPr>
          <a:xfrm rot="4524000">
            <a:off x="273564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7"/>
          <p:cNvSpPr/>
          <p:nvPr/>
        </p:nvSpPr>
        <p:spPr>
          <a:xfrm flipH="1" rot="4128000">
            <a:off x="3747960" y="5159520"/>
            <a:ext cx="2808360" cy="587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дно из взятых исходных веществ практически нерастворимо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, Fe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(OH)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n(OH)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CO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(OH)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группа – действие серной кислоты на гидроксид меди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группа – действие соляной кислоты на оксид меди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группа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ействие соляной кислоты на карбонат каль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Составьте молекулярные и полные ионные уравнения – по сокращенным ионным уравнениям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H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S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OH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Fe(OH)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H</a:t>
            </a:r>
            <a:r>
              <a:rPr b="1" lang="ru-RU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CO</a:t>
            </a:r>
            <a:r>
              <a:rPr b="1" lang="ru-RU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OH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N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+ 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Ba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Ba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OH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Al(OH)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7280" y="260280"/>
            <a:ext cx="7307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начение 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2" descr="http://water2you.ru/upload/medialibrary/02d/02d46ee38c32f15643b66b0f1941c86d.jpg"/>
          <p:cNvPicPr/>
          <p:nvPr/>
        </p:nvPicPr>
        <p:blipFill>
          <a:blip r:embed="rId1"/>
          <a:stretch/>
        </p:blipFill>
        <p:spPr>
          <a:xfrm>
            <a:off x="324000" y="2276640"/>
            <a:ext cx="4012920" cy="384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aquagroup.ru/sites/main/public/data/imgs/articles/ochistka_vody_ot_zhestkosti.jpg"/>
          <p:cNvPicPr/>
          <p:nvPr/>
        </p:nvPicPr>
        <p:blipFill>
          <a:blip r:embed="rId2"/>
          <a:stretch/>
        </p:blipFill>
        <p:spPr>
          <a:xfrm>
            <a:off x="4572000" y="2492280"/>
            <a:ext cx="4248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предлож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ольше всего удалось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узнал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сложно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могу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пробовал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ст. Диссоциация кислот, оснований, солей. Сильные и слабые электролиты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78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1. К электролитам не относится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gCl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(OH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 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К электролитам относится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O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лабая кислота – э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ильная кислота – э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Вещество, которое при растворении в воде диссоциирует с образованием карбонат – ионов,  - э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g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Слабое основание – э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(OH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OH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пр.1,2,3,4,5 стр. 39 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: №2-21, 2-25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26 стр. 2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орческое задание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ставьте кроссворд по теме «Электролитическая диссоциация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827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Ионы металла и гидроксид-ионы при электролитической диссоциации образу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гидроксид мед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 3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отная кисл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гидроксид калия       4) нитрат кальц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Ионы водорода и кислотного остатка при электролитической диссоциации образу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ер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3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ми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хлорид аммо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ульфат кал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1557360"/>
            <a:ext cx="79992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1.(4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(3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3.(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.(4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5.(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6.(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7.(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8.(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324000" y="4149720"/>
            <a:ext cx="8712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 Слить растворы хлорида магния и сульфата натр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Слить растворы хлорида железа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и гидроксида натр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http://chemistry-chemists.com/N3_2012/U3/img/Sulphur_oxygen.jpg"/>
          <p:cNvPicPr/>
          <p:nvPr/>
        </p:nvPicPr>
        <p:blipFill>
          <a:blip r:embed="rId1"/>
          <a:stretch/>
        </p:blipFill>
        <p:spPr>
          <a:xfrm>
            <a:off x="4211640" y="1442880"/>
            <a:ext cx="1152360" cy="263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forum.xumuk.ru/uploads/monthly_12_2009/post-26145-1261853971.jpg"/>
          <p:cNvPicPr/>
          <p:nvPr/>
        </p:nvPicPr>
        <p:blipFill>
          <a:blip r:embed="rId2"/>
          <a:stretch/>
        </p:blipFill>
        <p:spPr>
          <a:xfrm>
            <a:off x="611280" y="1484280"/>
            <a:ext cx="3489120" cy="261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http://pimg.mycdn.me/getImage?disableStub=true&amp;type=VIDEO_S_720&amp;url=http%3A%2F%2Fi.ytimg.com%2Fvi%2Fuz0ho0g8_sI%2F0.jpg&amp;signatureToken=-uD1hcpsc3Nn5qolG3SVkg"/>
          <p:cNvPicPr/>
          <p:nvPr/>
        </p:nvPicPr>
        <p:blipFill>
          <a:blip r:embed="rId3"/>
          <a:stretch/>
        </p:blipFill>
        <p:spPr>
          <a:xfrm>
            <a:off x="5435640" y="1420920"/>
            <a:ext cx="34923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ионного обмен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Picture 3" descr="C:\Documents and Settings\Dima\Рабочий стол\ира\клепарты\ппь.jpg"/>
          <p:cNvPicPr/>
          <p:nvPr/>
        </p:nvPicPr>
        <p:blipFill>
          <a:blip r:embed="rId1"/>
          <a:stretch/>
        </p:blipFill>
        <p:spPr>
          <a:xfrm>
            <a:off x="642960" y="285840"/>
            <a:ext cx="1643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понятия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и сокращённое ионные уравнения, реакции ионного обме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урока: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реакции ионного обмена, продолжить формирование умения записывать уравнения и предвидеть продукты реакции ионного обмена. Дать первоначальное понятие об условиях течения реакций между растворами до конц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3" descr="C:\Documents and Settings\Dima\Рабочий стол\ира\клепарты\ппь.jpg"/>
          <p:cNvPicPr/>
          <p:nvPr/>
        </p:nvPicPr>
        <p:blipFill>
          <a:blip r:embed="rId1"/>
          <a:stretch/>
        </p:blipFill>
        <p:spPr>
          <a:xfrm>
            <a:off x="3714840" y="21420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722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Реакции ионного обмен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88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между ионами называют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онными реакциями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уравнения таких реакций -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онными уравнениями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Правила составления ионных уравнен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щества, выпадающие в осадок, малодиссоциирующие вещества, газообразные записываются в молекулярном вид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↓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осадок, ↑- газ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электролиты записывают в виде ион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152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Реакции обмена протекают до конц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если образуется осад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ыделяется газ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диссоциирующие вещества -  (слабые электролиты, наприме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ило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в растворе нет таких ионов, которые могут связываться между собой, реакция обмена не протекает до конца, т.е. является обратимой. При этом ставится знак обратим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0:07:57Z</dcterms:created>
  <dc:creator>Admin</dc:creator>
  <dc:description/>
  <dc:language>en-US</dc:language>
  <cp:lastModifiedBy>Дмитрий</cp:lastModifiedBy>
  <dcterms:modified xsi:type="dcterms:W3CDTF">2018-12-16T11:26:20Z</dcterms:modified>
  <cp:revision>64</cp:revision>
  <dc:subject/>
  <dc:title>Слайд 1</dc:title>
</cp:coreProperties>
</file>