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9A4-EA11-4C91-A39E-26D8B909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C89-72CA-4BAE-8A2A-79CDFA0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64C-6029-4515-A8B4-43ACB0BF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0E3-B50E-4074-9852-13AE3895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8A4-5B1D-4396-A0EF-82A7A27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6D4-D1B6-4969-BEF7-90C945AC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E30A-AF71-4FB4-B370-080DDFB8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7D0C-775A-4312-83BB-BF77237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D0FF-D65F-454C-BAB2-73E9A92D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A21B-6BD8-43DE-8FD4-00CBF56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22C-A302-43B0-88B8-50528F4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8FF-EB35-4F10-AA72-6E1890C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C49E-C09A-422C-BC9B-61D9517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925-6C0E-42EB-9E25-E4326B2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483-CF94-4B0D-BA9B-6D35633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B719-97BC-4184-BEC0-CD888C64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C015-DF86-494A-A42C-D80F08E0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7F02-441E-4BA6-ABA5-FB4005FC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FBAE-1315-484F-9F5A-1BF1C0BA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E065-6D19-44E0-ADDD-638C5B7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6AB7-5945-40A9-ADC5-46F11F7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BD9E-75FA-4E28-861C-3A6301E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DC5-8EF5-4B2D-93DA-75712C8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5082-6C41-4EF3-8166-692F8F79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DA7A-061F-496F-AF06-2B66704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A66C-E2AA-4F9A-BD5E-6D5253A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ECE7-0B90-4372-9187-2823F23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7519-4EE3-4566-A443-7AADEF6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7713-EFDF-4DFC-889E-F629095E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56F9-163D-4F68-99AB-679E9A1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AB11-A314-4ECA-A2BF-B4E7B678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2622-4459-4062-AEAE-116FF94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BFF8-DCD1-41BA-919D-AA7F2E9A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D53-43E3-4F62-B98E-0146544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C8CF-641F-4522-8EB7-4C4BF10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C1A9-C8E8-478C-B88A-4ADD9C70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78B5-1E39-428D-AA20-0D2E0055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2AEC-3A9D-4605-8C04-182A4FC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B8E4-C318-4B69-9FD3-E0316EC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CCA2-3222-49DA-A393-254CA53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FD10-DE82-4410-82DD-85036AD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0154-AFFD-454F-BF5A-70391112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5E16-070F-4DB6-A037-8810CF02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FF2-F462-4D47-97AB-39A667C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080-4EA8-4131-BC78-53A8A880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68A-ED1E-42E6-AE49-74610CB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F67-E28B-4ADE-927B-6359CF2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A30-4D52-4FF7-BD32-8377059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8947-14EE-4B07-AE11-B9283D1670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E60-9457-4DA7-BF80-022BCB19EE1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9DE4-321F-4C1F-A95C-782E32B2918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9EE-E8C2-4049-8D3F-B8856C4A5C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00760" y="4357440"/>
            <a:ext cx="3828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Обучающейся 5а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Атаман Наталь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Мартынюк Я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458000" y="164304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9f9fb"/>
                </a:solidFill>
                <a:latin typeface="Times New Roman"/>
                <a:ea typeface="Times New Roman"/>
              </a:rPr>
              <a:t>Русско -хантыйско - английский сло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b8d"/>
                </a:solidFill>
                <a:latin typeface="Georgia"/>
              </a:rPr>
              <a:t>Актуаль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4280" y="1428480"/>
            <a:ext cx="7498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сем известно, что наш гостеприимный ЯМАЛ очень интересен зарубежным туристам, у нас уже побывали туристы из Голландии, Финляндии, Франции, Словении, Болгарии, Китая, а так же он известен аудитории стран ЕС, Канады и С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всего этого, мы задумались, а почему бы не составить свой маленький хантыйско-английский словарик, и включить в него самые часто-употребляемые слова народа ханты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Вертикальный свиток 3"/>
          <p:cNvSpPr/>
          <p:nvPr/>
        </p:nvSpPr>
        <p:spPr>
          <a:xfrm>
            <a:off x="1071720" y="571680"/>
            <a:ext cx="7500960" cy="5572080"/>
          </a:xfrm>
          <a:prstGeom prst="verticalScroll">
            <a:avLst>
              <a:gd name="adj" fmla="val 14208"/>
            </a:avLst>
          </a:prstGeom>
          <a:solidFill>
            <a:srgbClr val="fff6e1"/>
          </a:solidFill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5791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b8d"/>
                </a:solidFill>
                <a:latin typeface="Georgia"/>
              </a:rPr>
              <a:t>Цель исследовательской  работ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28520" y="1714320"/>
            <a:ext cx="57862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оставить словарь наиболее часто употребляемых слов народа ханты, для дальнейшего перевода их на английский  язы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8640" y="214200"/>
            <a:ext cx="270828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b8d"/>
                </a:solidFill>
                <a:latin typeface="Georgia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5400" cy="7873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1357200" y="164304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опрос среди обучающихся школы из числа проживающих в интернате на наличие наиболее часто употребляемых слов в языке народа х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ловарь, перевести слова на русский и англ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42960" y="857160"/>
          <a:ext cx="6977160" cy="5551560"/>
        </p:xfrm>
        <a:graphic>
          <a:graphicData uri="http://schemas.openxmlformats.org/drawingml/2006/table">
            <a:tbl>
              <a:tblPr/>
              <a:tblGrid>
                <a:gridCol w="2325600"/>
                <a:gridCol w="2325600"/>
                <a:gridCol w="23259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ус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гл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к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ынща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ўмә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ый гр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ви гр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sh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ԓө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ух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ў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od gr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ул в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луб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хтәӈвө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ueb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в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э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i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н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эндох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man s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утчан (женская сум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утч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utc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э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714240" y="357120"/>
          <a:ext cx="7286760" cy="65278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ю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да рэ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anb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ная смор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урды рэ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d cur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хс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я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л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a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л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нтә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a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өрә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о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oudb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льч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lit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ж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я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ве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пщ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ху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nets 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ы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nets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өхә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857160" y="214200"/>
          <a:ext cx="7286760" cy="704556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лен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аӈ нэӈху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er-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л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а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in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ку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нсаӈ х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єрн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с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с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п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ctic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хс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aw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м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тә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б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Њаврє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ух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ў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ă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ԓайә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х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o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85880" y="500040"/>
          <a:ext cx="7715160" cy="185436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257184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з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щ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г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gush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г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я 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indeer m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7:08:54Z</dcterms:created>
  <dc:creator>Гаврил2СОШ</dc:creator>
  <dc:description/>
  <dc:language>en-US</dc:language>
  <cp:lastModifiedBy>307</cp:lastModifiedBy>
  <dcterms:modified xsi:type="dcterms:W3CDTF">2018-03-21T06:30:47Z</dcterms:modified>
  <cp:revision>109</cp:revision>
  <dc:subject/>
  <dc:title>Слайд 1</dc:title>
</cp:coreProperties>
</file>