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736-D831-4457-B382-6060A55E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082-AC7D-42EC-BC4A-787A6E1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A29-D2A6-4BF0-A292-CAEE9590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A7F-783D-4F86-8948-108D12ED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BFA7-6E74-42A1-957D-62856993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478A-29EF-4F94-B52D-5741C87B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1344-A715-4AEC-B18F-4E86D4D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0872-B2F6-42ED-8404-C950B1B0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00A-3002-42AA-9F9E-EB0AEA1A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7C2F-4AB2-4E0A-9023-6F99340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10F4-5BFF-4379-89CB-6CE35AC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8FC-6C9D-4006-8324-43FE1E90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2119-3774-427B-A8AB-81F609E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47C7-C6EA-484E-BD18-5289C32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E10B-B526-40A2-8DBC-A4A5F127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6E47-C6D4-4BC6-9045-3A27E870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60B-F457-42F4-94AF-0E726635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7595-520C-4EDA-8CE7-214AEC01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C1A3-72C9-40CC-A454-9AE5667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E105-5A6A-4217-90B2-07AFCE96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3BA9-27DC-42D3-9FBB-D4553463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3D25-44BB-47C1-AFEE-7A42AA51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E2E-B3B6-4720-AF64-50747F4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1F92-3C9B-47F0-A00B-092E8A90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6555-2FDF-47E6-B28C-E418340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7515-4FAE-43FB-9A73-263A558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19BB-5F83-4683-9043-3A9DB3B5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7EB4-065C-478B-BA6E-4D39661C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2AB3-146F-4F2B-9C1D-CA4FC104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61EF-EF27-4DBF-B3DD-654E3C4A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ACDF-C43E-42F6-81EF-5BFA2C12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C9F9-4527-494E-8299-DD56778E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F416-2E37-455B-93AC-2FCD2A4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F77-BB2E-4E5B-B765-FD7CDE2D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977E-AF92-45B9-88B5-10963A9A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12CEC-7CFF-45D8-B70B-306B0E17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0095-412C-4F9A-821B-ADD1B2F2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00C0-A921-43F6-A410-8120B8C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A647-D530-4290-A942-BE70210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BACA-C6AB-4C86-A5A3-6403056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6115-75F4-4BD0-8C72-5EC140A6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8277-D804-4532-A8A9-FD81D820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9F8D-BF1B-46EC-AF4C-B694153D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6B7-5E63-4FBC-9279-D90AC0C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B8F-5BF3-42D2-BAD9-0F2030D4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0AD-4102-45A5-AB47-57D83A7F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6E7-278E-4427-A841-C348FE3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79B-3AAE-47B5-8771-78F86F61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982C-8337-41B1-AF60-1F54FD69F5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7526-DE5A-4BFA-B3F3-A148C8D8247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B39-5FD0-477B-8644-D4B0768C15D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3E92-27AD-42D9-8702-3A7FD0FC5E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000760" y="4357440"/>
            <a:ext cx="3828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Обучающейся 5а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Атаман Наталь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Руководи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Мартынюк Я.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458000" y="164304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9f9fb"/>
                </a:solidFill>
                <a:latin typeface="Times New Roman"/>
                <a:ea typeface="Times New Roman"/>
              </a:rPr>
              <a:t>Русско -хантыйско - английский сло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6b8d"/>
                </a:solidFill>
                <a:latin typeface="Georgia"/>
              </a:rPr>
              <a:t>Актуаль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4280" y="1428480"/>
            <a:ext cx="7498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всем известно, что наш гостеприимный ЯМАЛ очень интересен зарубежным туристам, у нас уже побывали туристы из Голландии, Финляндии, Франции, Словении, Болгарии, Китая, а так же он известен аудитории стран ЕС, Канады и СШ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всего этого, мы задумались, а почему бы не составить свой маленький хантыйско-английский словарик, и включить в него самые часто-употребляемые слова народа ханты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Вертикальный свиток 3"/>
          <p:cNvSpPr/>
          <p:nvPr/>
        </p:nvSpPr>
        <p:spPr>
          <a:xfrm>
            <a:off x="1071720" y="571680"/>
            <a:ext cx="7500960" cy="5572080"/>
          </a:xfrm>
          <a:prstGeom prst="verticalScroll">
            <a:avLst>
              <a:gd name="adj" fmla="val 14208"/>
            </a:avLst>
          </a:prstGeom>
          <a:solidFill>
            <a:srgbClr val="fff6e1"/>
          </a:solidFill>
          <a:ln w="2556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42800" y="357120"/>
            <a:ext cx="5791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b8d"/>
                </a:solidFill>
                <a:latin typeface="Georgia"/>
              </a:rPr>
              <a:t>Цель исследовательской  работы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28520" y="1714320"/>
            <a:ext cx="57862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оставить словарь наиболее часто употребляемых слов народа ханты, для дальнейшего перевода их на английский  язы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8640" y="214200"/>
            <a:ext cx="270828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6b8d"/>
                </a:solidFill>
                <a:latin typeface="Georgia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5400" cy="7873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1357200" y="1643040"/>
            <a:ext cx="67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сти опрос среди обучающихся школы из числа проживающих в интернате на наличие наиболее часто употребляемых слов в языке народа ха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ловарь, перевести слова на русский и англ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42960" y="857160"/>
          <a:ext cx="6977160" cy="5551560"/>
        </p:xfrm>
        <a:graphic>
          <a:graphicData uri="http://schemas.openxmlformats.org/drawingml/2006/table">
            <a:tbl>
              <a:tblPr/>
              <a:tblGrid>
                <a:gridCol w="2325600"/>
                <a:gridCol w="2325600"/>
                <a:gridCol w="23259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ус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нгл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рк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ынща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ўмә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ый гри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ви гри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sh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у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ԓө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ух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ў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od gr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ул в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луб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охтәӈвө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ueb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в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э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i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енская н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эндох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man s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утчан (женская сум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утч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utc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э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714240" y="357120"/>
          <a:ext cx="7286760" cy="652788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ю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да рэ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anbe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сная смор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урды рэ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d cur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хс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я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л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a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ль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нтә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a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өрә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ро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oudb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льч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lit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уж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я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ве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пщ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ху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nets 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ы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nets 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өхә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857160" y="214200"/>
          <a:ext cx="7286760" cy="704556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лене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аӈ нэӈху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er-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л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а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ind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ку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нсаӈ х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Йєрн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с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с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п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ctic f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ла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хс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aw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м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тә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бе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Њаврє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Йух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ў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ă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оп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ԓайә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х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o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785880" y="500040"/>
          <a:ext cx="7715160" cy="185436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257184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з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а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щ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г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gush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г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я 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indeer m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07:08:54Z</dcterms:created>
  <dc:creator>Гаврил2СОШ</dc:creator>
  <dc:description/>
  <dc:language>en-US</dc:language>
  <cp:lastModifiedBy>307</cp:lastModifiedBy>
  <dcterms:modified xsi:type="dcterms:W3CDTF">2018-03-21T06:30:47Z</dcterms:modified>
  <cp:revision>109</cp:revision>
  <dc:subject/>
  <dc:title>Слайд 1</dc:title>
</cp:coreProperties>
</file>