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139-F262-4211-8712-8DC8F4C1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F79-73DA-4FAF-AD38-F6DC77B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E0D-E4CC-4BBE-A764-37F1505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AF4-622C-4F57-A0F1-33DE113A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4BA-080F-49AF-9330-433080F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518-BC81-4137-9CC8-0ADE2BB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478-AB50-42EE-94D6-4DAAE2F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4C8-6FA1-456F-80E1-1B4512D5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24C-4D9F-4177-9E4D-75EA86C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A97-6A0C-4F0E-83DC-DF3658F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E43-9609-4D2F-BACC-B04298D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B17-5EEA-42A3-AC60-4E68AA1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FA11-CB66-4142-8171-66CB769BD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lovonevorobei.ru/aforizm/aforizm_231_1.s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101047102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&amp;Icy;&amp;zcy;&amp;bcy;&amp;icy;&amp;rcy;&amp;acy;&amp;tcy;&amp;iecy;&amp;lcy;&amp;softcy;&amp;ncy;&amp;ocy;&amp;iecy; &amp;pcy;&amp;rcy;&amp;acy;&amp;vcy;&amp;ocy;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ybor"/>
          <p:cNvPicPr/>
          <p:nvPr/>
        </p:nvPicPr>
        <p:blipFill>
          <a:blip r:embed="rId1"/>
          <a:stretch/>
        </p:blipFill>
        <p:spPr>
          <a:xfrm>
            <a:off x="1042920" y="260280"/>
            <a:ext cx="7129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8"/>
          <p:cNvSpPr/>
          <p:nvPr/>
        </p:nvSpPr>
        <p:spPr>
          <a:xfrm>
            <a:off x="228600" y="24624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сле выборов и после женитьбы редко получаешь то, что хотел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илл Роджерс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илом справедливости не может быть большинство голосов. Фридрих Шил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 демократическом обществе безобидный гражданин становится опасным, как только превращается в избирателя или потребителя. Вильгельм Швеб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В результате демократических выборов из большого числа несведущих получается малое число подкупленных. Джордж Бернард Шо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. Томас Джеффер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ы выиграли выборы, а я — подсчет гол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сование не определяет хода событий. Голосование решает, кто будет определять ход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бирательн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"/>
          <p:cNvPicPr/>
          <p:nvPr/>
        </p:nvPicPr>
        <p:blipFill>
          <a:blip r:embed="rId1"/>
          <a:stretch/>
        </p:blipFill>
        <p:spPr>
          <a:xfrm>
            <a:off x="324000" y="907920"/>
            <a:ext cx="8496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g5"/>
          <p:cNvPicPr/>
          <p:nvPr/>
        </p:nvPicPr>
        <p:blipFill>
          <a:blip r:embed="rId1"/>
          <a:stretch/>
        </p:blipFill>
        <p:spPr>
          <a:xfrm>
            <a:off x="-252360" y="-674640"/>
            <a:ext cx="964872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014-014-Vybory-v-Rossii-eto-dejstvija-grazhdan-izbiratelnykh-obedineni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mage62292734"/>
          <p:cNvPicPr/>
          <p:nvPr/>
        </p:nvPicPr>
        <p:blipFill>
          <a:blip r:embed="rId1"/>
          <a:stretch/>
        </p:blipFill>
        <p:spPr>
          <a:xfrm>
            <a:off x="2411280" y="549360"/>
            <a:ext cx="4257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22-022-Vop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&amp;Icy;&amp;zcy;&amp;bcy;&amp;icy;&amp;rcy;&amp;acy;&amp;tcy;&amp;iecy;&amp;lcy;&amp;softcy;&amp;ncy;&amp;ycy;&amp;iecy; &amp;scy;&amp;icy;&amp;scy;&amp;tcy;&amp;iecy;&amp;mcy;&amp;ycy; &amp;Pcy;&amp;rcy;&amp;ocy;&amp;pcy;&amp;ocy;&amp;rcy;&amp;tscy;&amp;icy;&amp;ocy;&amp;ncy;&amp;acy;&amp;lcy;&amp;softcy;&amp;ncy;&amp;acy;&amp;yacy; &amp;Gcy;&amp;ocy;&amp;lcy;&amp;ocy;&amp;scy;&amp;ocy;&amp;vcy;&amp;acy;&amp;ncy;&amp;icy;&amp;iecy; &amp;pcy;&amp;rcy;&amp;ocy;&amp;vcy;&amp;ocy;&amp;dcy;&amp;icy;&amp;tcy;&amp;scy;&amp;yacy; &amp;pcy;&amp;ocy; &amp;pcy;&amp;acy;&amp;rcy;&amp;tcy;&amp;icy;&amp;jcy;&amp;ncy;&amp;ycy;&amp;mcy; &amp;scy;..."/>
          <p:cNvPicPr/>
          <p:nvPr/>
        </p:nvPicPr>
        <p:blipFill>
          <a:blip r:embed="rId1"/>
          <a:stretch/>
        </p:blipFill>
        <p:spPr>
          <a:xfrm>
            <a:off x="755640" y="40464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8:33:08Z</dcterms:created>
  <dc:creator>Ира</dc:creator>
  <dc:description/>
  <dc:language>en-US</dc:language>
  <cp:lastModifiedBy>Ира</cp:lastModifiedBy>
  <dcterms:modified xsi:type="dcterms:W3CDTF">2019-01-10T08:19:38Z</dcterms:modified>
  <cp:revision>7</cp:revision>
  <dc:subject/>
  <dc:title>Слайд 1</dc:title>
</cp:coreProperties>
</file>