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6FA9-5D15-4758-B6ED-5FA1E8801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C6EC-918A-4019-9B11-7826A82C8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0C5B-7755-4932-8330-A962924D8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B772-C60D-4204-A53C-D297C594B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8B0A-B748-4749-ABE9-1DC7F1983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BE79-1431-42C6-90DD-4D14E9E74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3E3B-A575-4A3D-B246-E2A5B9E7F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891A-9106-4D7B-B402-1BD5C179D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F548-CA97-473A-883A-5EAD2B781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BDD1-5D7D-40E2-9B57-471E7006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F205-4FBE-4F6C-B4E1-660DDA30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347E-03B3-4B7D-A12D-8BA7EABB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C7667-1ECE-4D87-AD8D-9D73F5708D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slovonevorobei.ru/aforizm/aforizm_231_1.shtml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image101047102"/>
          <p:cNvPicPr/>
          <p:nvPr/>
        </p:nvPicPr>
        <p:blipFill>
          <a:blip r:embed="rId1"/>
          <a:stretch/>
        </p:blipFill>
        <p:spPr>
          <a:xfrm>
            <a:off x="1692360" y="0"/>
            <a:ext cx="5715000" cy="70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&amp;Icy;&amp;zcy;&amp;bcy;&amp;icy;&amp;rcy;&amp;acy;&amp;tcy;&amp;iecy;&amp;lcy;&amp;softcy;&amp;ncy;&amp;ocy;&amp;iecy; &amp;pcy;&amp;rcy;&amp;acy;&amp;vcy;&amp;ocy;"/>
          <p:cNvPicPr/>
          <p:nvPr/>
        </p:nvPicPr>
        <p:blipFill>
          <a:blip r:embed="rId1"/>
          <a:stretch/>
        </p:blipFill>
        <p:spPr>
          <a:xfrm>
            <a:off x="468360" y="404640"/>
            <a:ext cx="828036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vybor"/>
          <p:cNvPicPr/>
          <p:nvPr/>
        </p:nvPicPr>
        <p:blipFill>
          <a:blip r:embed="rId1"/>
          <a:stretch/>
        </p:blipFill>
        <p:spPr>
          <a:xfrm>
            <a:off x="1042920" y="260280"/>
            <a:ext cx="712944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img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8"/>
          <p:cNvSpPr/>
          <p:nvPr/>
        </p:nvSpPr>
        <p:spPr>
          <a:xfrm>
            <a:off x="228600" y="246240"/>
            <a:ext cx="8915400" cy="64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После выборов и после женитьбы редко получаешь то, что хотел.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Уилл Роджерс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рилом справедливости не может быть большинство голосов. Фридрих Шилле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В демократическом обществе безобидный гражданин становится опасным, как только превращается в избирателя или потребителя. Вильгельм Швебе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cc"/>
                </a:solidFill>
                <a:latin typeface="Arial"/>
              </a:rPr>
              <a:t>В результате демократических выборов из большого числа несведущих получается малое число подкупленных. Джордж Бернард Шо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Выбирать себе правительство вправе лишь тот народ, который постоянно находится в курсе происходящего. Томас Джефферсо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ы выиграли выборы, а я — подсчет голо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лосование не определяет хода событий. Голосование решает, кто будет определять ход событ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збирательное пра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1"/>
          <p:cNvPicPr/>
          <p:nvPr/>
        </p:nvPicPr>
        <p:blipFill>
          <a:blip r:embed="rId1"/>
          <a:stretch/>
        </p:blipFill>
        <p:spPr>
          <a:xfrm>
            <a:off x="324000" y="907920"/>
            <a:ext cx="8496000" cy="56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img5"/>
          <p:cNvPicPr/>
          <p:nvPr/>
        </p:nvPicPr>
        <p:blipFill>
          <a:blip r:embed="rId1"/>
          <a:stretch/>
        </p:blipFill>
        <p:spPr>
          <a:xfrm>
            <a:off x="-252360" y="-674640"/>
            <a:ext cx="9648720" cy="79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0014-014-Vybory-v-Rossii-eto-dejstvija-grazhdan-izbiratelnykh-obedinenij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image62292734"/>
          <p:cNvPicPr/>
          <p:nvPr/>
        </p:nvPicPr>
        <p:blipFill>
          <a:blip r:embed="rId1"/>
          <a:stretch/>
        </p:blipFill>
        <p:spPr>
          <a:xfrm>
            <a:off x="2411280" y="549360"/>
            <a:ext cx="425772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0022-022-Vopro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img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img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&amp;Icy;&amp;zcy;&amp;bcy;&amp;icy;&amp;rcy;&amp;acy;&amp;tcy;&amp;iecy;&amp;lcy;&amp;softcy;&amp;ncy;&amp;ycy;&amp;iecy; &amp;scy;&amp;icy;&amp;scy;&amp;tcy;&amp;iecy;&amp;mcy;&amp;ycy; &amp;Pcy;&amp;rcy;&amp;ocy;&amp;pcy;&amp;ocy;&amp;rcy;&amp;tscy;&amp;icy;&amp;ocy;&amp;ncy;&amp;acy;&amp;lcy;&amp;softcy;&amp;ncy;&amp;acy;&amp;yacy; &amp;Gcy;&amp;ocy;&amp;lcy;&amp;ocy;&amp;scy;&amp;ocy;&amp;vcy;&amp;acy;&amp;ncy;&amp;icy;&amp;iecy; &amp;pcy;&amp;rcy;&amp;ocy;&amp;vcy;&amp;ocy;&amp;dcy;&amp;icy;&amp;tcy;&amp;scy;&amp;yacy; &amp;pcy;&amp;ocy; &amp;pcy;&amp;acy;&amp;rcy;&amp;tcy;&amp;icy;&amp;jcy;&amp;ncy;&amp;ycy;&amp;mcy; &amp;scy;..."/>
          <p:cNvPicPr/>
          <p:nvPr/>
        </p:nvPicPr>
        <p:blipFill>
          <a:blip r:embed="rId1"/>
          <a:stretch/>
        </p:blipFill>
        <p:spPr>
          <a:xfrm>
            <a:off x="755640" y="404640"/>
            <a:ext cx="777708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1T18:33:08Z</dcterms:created>
  <dc:creator>Ира</dc:creator>
  <dc:description/>
  <dc:language>en-US</dc:language>
  <cp:lastModifiedBy>Ира</cp:lastModifiedBy>
  <dcterms:modified xsi:type="dcterms:W3CDTF">2019-01-10T08:19:38Z</dcterms:modified>
  <cp:revision>7</cp:revision>
  <dc:subject/>
  <dc:title>Слайд 1</dc:title>
</cp:coreProperties>
</file>