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50E7-DCDD-400F-95D7-202272FDB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D40A-71EC-41E2-9DF0-21FD28715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6627-6EF7-49B3-A4AF-C09F8C274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C6E4-0C8F-4A9E-B037-408804782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293F-24FA-459F-BB2F-47DBF6CFE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3B88-4704-43E6-B3FC-9206957BE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D523-619B-4953-8C33-820EDC302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180A-3674-4765-90C0-2984CF557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8517-C7C7-4C22-93C1-96CFF99BE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2E0E-8A80-4DD3-A6BB-088449E5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354E-B330-49AA-8181-106871CC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4078-E162-4C9F-9B61-A724A9DB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A19DB-4C21-436D-BA25-D3F61CF5F3C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" name="Прямоугольник 3" descr=""/>
          <p:cNvPicPr/>
          <p:nvPr/>
        </p:nvPicPr>
        <p:blipFill>
          <a:blip r:embed="rId1"/>
          <a:stretch/>
        </p:blipFill>
        <p:spPr>
          <a:xfrm>
            <a:off x="566640" y="-304920"/>
            <a:ext cx="7944120" cy="1719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Confused 1"/>
          <p:cNvPicPr/>
          <p:nvPr/>
        </p:nvPicPr>
        <p:blipFill>
          <a:blip r:embed="rId2"/>
          <a:stretch/>
        </p:blipFill>
        <p:spPr>
          <a:xfrm>
            <a:off x="2639880" y="1420920"/>
            <a:ext cx="3011760" cy="50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4. В автобусе бабушке не хватило места, ты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б) сделаешь вид, что не заметил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в) притворишься, что спишь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Picture 9" descr="C41-33 копия"/>
          <p:cNvPicPr/>
          <p:nvPr/>
        </p:nvPicPr>
        <p:blipFill>
          <a:blip r:embed="rId1"/>
          <a:stretch/>
        </p:blipFill>
        <p:spPr>
          <a:xfrm>
            <a:off x="3429000" y="0"/>
            <a:ext cx="1357200" cy="157176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4"/>
          <p:cNvSpPr/>
          <p:nvPr/>
        </p:nvSpPr>
        <p:spPr>
          <a:xfrm>
            <a:off x="571680" y="2714760"/>
            <a:ext cx="585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а) уступишь бабушке мест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5. Ты поймал “золотую рыбку”, но она выполнит  только одно желание, что ты выберешь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а) купить компьютер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в) чтобы друг научился решать задачи и был отличником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4" name="Picture 9" descr="C41-33 копия"/>
          <p:cNvPicPr/>
          <p:nvPr/>
        </p:nvPicPr>
        <p:blipFill>
          <a:blip r:embed="rId1"/>
          <a:stretch/>
        </p:blipFill>
        <p:spPr>
          <a:xfrm>
            <a:off x="3429000" y="0"/>
            <a:ext cx="1357200" cy="157176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4"/>
          <p:cNvSpPr/>
          <p:nvPr/>
        </p:nvSpPr>
        <p:spPr>
          <a:xfrm>
            <a:off x="872640" y="3786120"/>
            <a:ext cx="503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б) помочь бездомной собак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8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8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8" name="Picture 9" descr="C41-33 копия"/>
          <p:cNvPicPr/>
          <p:nvPr/>
        </p:nvPicPr>
        <p:blipFill>
          <a:blip r:embed="rId2"/>
          <a:stretch/>
        </p:blipFill>
        <p:spPr>
          <a:xfrm>
            <a:off x="3429000" y="0"/>
            <a:ext cx="1357200" cy="157176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4"/>
          <p:cNvSpPr/>
          <p:nvPr/>
        </p:nvSpPr>
        <p:spPr>
          <a:xfrm>
            <a:off x="642960" y="1571760"/>
            <a:ext cx="55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Как вы понимаете слово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“Я”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Прямоугольник 5"/>
          <p:cNvSpPr/>
          <p:nvPr/>
        </p:nvSpPr>
        <p:spPr>
          <a:xfrm>
            <a:off x="500040" y="2143080"/>
            <a:ext cx="8286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человек,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– это мой внутренний мир, мои мысли, мои поступки, то, как я стараюсь жить, общаться с други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6"/>
          <p:cNvSpPr/>
          <p:nvPr/>
        </p:nvSpPr>
        <p:spPr>
          <a:xfrm>
            <a:off x="642960" y="3571920"/>
            <a:ext cx="757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Личность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это индивидуальное лицо челове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7"/>
          <p:cNvSpPr/>
          <p:nvPr/>
        </p:nvSpPr>
        <p:spPr>
          <a:xfrm>
            <a:off x="500040" y="4857840"/>
            <a:ext cx="8286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Личност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– это человек, который работает над собой, воспитывает в себе хорошие черты характера, старается быть полезным обществ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071800" y="2000160"/>
            <a:ext cx="667224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– 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Зачем человеку терпимость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915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Calibri"/>
              </a:rPr>
              <a:t>– </a:t>
            </a:r>
            <a:r>
              <a:rPr b="0" lang="ru-RU" sz="3700" spc="-1" strike="noStrike">
                <a:solidFill>
                  <a:srgbClr val="ffffff"/>
                </a:solidFill>
                <a:latin typeface="Calibri"/>
              </a:rPr>
              <a:t>Только ли лицом отличаются люди?</a:t>
            </a:r>
            <a:endParaRPr b="0" lang="en-US" sz="37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6" name="Picture 9" descr="C41-33 копия"/>
          <p:cNvPicPr/>
          <p:nvPr/>
        </p:nvPicPr>
        <p:blipFill>
          <a:blip r:embed="rId1"/>
          <a:stretch/>
        </p:blipFill>
        <p:spPr>
          <a:xfrm>
            <a:off x="714240" y="285840"/>
            <a:ext cx="1357560" cy="194292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5"/>
          <p:cNvSpPr/>
          <p:nvPr/>
        </p:nvSpPr>
        <p:spPr>
          <a:xfrm>
            <a:off x="3357720" y="0"/>
            <a:ext cx="607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– 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Что означает слово     терпимость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Oval 8"/>
          <p:cNvSpPr/>
          <p:nvPr/>
        </p:nvSpPr>
        <p:spPr>
          <a:xfrm>
            <a:off x="500040" y="2643120"/>
            <a:ext cx="1857240" cy="1357560"/>
          </a:xfrm>
          <a:prstGeom prst="ellipse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8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000080"/>
            <a:ext cx="8015400" cy="32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– 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это постоянные свойства человека, которые проявляются в его отношении к людям, к вещам, к себе. </a:t>
            </a:r>
            <a:br>
              <a:rPr sz="48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Picture 3" descr="C:\Documents and Settings\Кирилл\Рабочий стол\МАМА\анимация\vse_takoe_krugloe3 копия.png"/>
          <p:cNvPicPr/>
          <p:nvPr/>
        </p:nvPicPr>
        <p:blipFill>
          <a:blip r:embed="rId1"/>
          <a:stretch/>
        </p:blipFill>
        <p:spPr>
          <a:xfrm>
            <a:off x="6286680" y="3286080"/>
            <a:ext cx="2428560" cy="380700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5"/>
          <p:cNvSpPr/>
          <p:nvPr/>
        </p:nvSpPr>
        <p:spPr>
          <a:xfrm>
            <a:off x="1011960" y="571680"/>
            <a:ext cx="294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Arial"/>
              </a:rPr>
              <a:t>Характе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57200" y="1600200"/>
          <a:ext cx="8329680" cy="49053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843280"/>
              </a:tblGrid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92d050"/>
                          </a:solidFill>
                          <a:latin typeface="Calibri"/>
                        </a:rPr>
                        <a:t>Положитель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</a:t>
                      </a: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Черты характер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Отрицатель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53" name="Picture 9" descr="C41-33 копия"/>
          <p:cNvPicPr/>
          <p:nvPr/>
        </p:nvPicPr>
        <p:blipFill>
          <a:blip r:embed="rId1"/>
          <a:stretch/>
        </p:blipFill>
        <p:spPr>
          <a:xfrm>
            <a:off x="3714840" y="0"/>
            <a:ext cx="1357200" cy="1571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6064200" y="452880"/>
            <a:ext cx="1343880" cy="8082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993300"/>
            </a:solidFill>
            <a:round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?</a:t>
            </a:r>
            <a:endParaRPr b="0" lang="en-US" sz="8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Прямоугольник 4"/>
          <p:cNvSpPr/>
          <p:nvPr/>
        </p:nvSpPr>
        <p:spPr>
          <a:xfrm>
            <a:off x="4079160" y="2714760"/>
            <a:ext cx="132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рань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6"/>
          <p:cNvSpPr/>
          <p:nvPr/>
        </p:nvSpPr>
        <p:spPr>
          <a:xfrm>
            <a:off x="4290840" y="3357720"/>
            <a:ext cx="11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зл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7"/>
          <p:cNvSpPr/>
          <p:nvPr/>
        </p:nvSpPr>
        <p:spPr>
          <a:xfrm>
            <a:off x="4005360" y="4214880"/>
            <a:ext cx="16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уваж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8"/>
          <p:cNvSpPr/>
          <p:nvPr/>
        </p:nvSpPr>
        <p:spPr>
          <a:xfrm>
            <a:off x="3797280" y="500076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чувство юмо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Прямоугольник 9"/>
          <p:cNvSpPr/>
          <p:nvPr/>
        </p:nvSpPr>
        <p:spPr>
          <a:xfrm>
            <a:off x="3580200" y="6000840"/>
            <a:ext cx="22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ниматель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8.67052E-007 L 0.25 -8.67052E-007 E">
                                      <p:cBhvr>
                                        <p:cTn id="65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9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104 0.00509 L -0.30104 0.00509 E">
                                      <p:cBhvr>
                                        <p:cTn id="73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438 1.50289E-006 L -0.33438 1.50289E-006 E">
                                      <p:cBhvr>
                                        <p:cTn id="77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622 0.00116 L -0.32622 0.00116 E">
                                      <p:cBhvr>
                                        <p:cTn id="81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214200"/>
          <a:ext cx="8229600" cy="64263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92d050"/>
                          </a:solidFill>
                          <a:latin typeface="Calibri"/>
                        </a:rPr>
                        <a:t>Положитель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</a:t>
                      </a: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Черты характер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Отрицатель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8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8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8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8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8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8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8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62" name="Прямоугольник 4"/>
          <p:cNvSpPr/>
          <p:nvPr/>
        </p:nvSpPr>
        <p:spPr>
          <a:xfrm>
            <a:off x="3443400" y="1143000"/>
            <a:ext cx="224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опрят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Прямоугольник 5"/>
          <p:cNvSpPr/>
          <p:nvPr/>
        </p:nvSpPr>
        <p:spPr>
          <a:xfrm>
            <a:off x="3513240" y="2071800"/>
            <a:ext cx="216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аккурат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Прямоугольник 6"/>
          <p:cNvSpPr/>
          <p:nvPr/>
        </p:nvSpPr>
        <p:spPr>
          <a:xfrm>
            <a:off x="3367080" y="2857680"/>
            <a:ext cx="250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общитель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Прямоугольник 7"/>
          <p:cNvSpPr/>
          <p:nvPr/>
        </p:nvSpPr>
        <p:spPr>
          <a:xfrm>
            <a:off x="4006080" y="3714840"/>
            <a:ext cx="143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обр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Прямоугольник 8"/>
          <p:cNvSpPr/>
          <p:nvPr/>
        </p:nvSpPr>
        <p:spPr>
          <a:xfrm>
            <a:off x="4079880" y="442908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груб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Прямоугольник 9"/>
          <p:cNvSpPr/>
          <p:nvPr/>
        </p:nvSpPr>
        <p:spPr>
          <a:xfrm>
            <a:off x="4074480" y="5214960"/>
            <a:ext cx="101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лас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Прямоугольник 10"/>
          <p:cNvSpPr/>
          <p:nvPr/>
        </p:nvSpPr>
        <p:spPr>
          <a:xfrm>
            <a:off x="3509280" y="6072120"/>
            <a:ext cx="22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ысокомер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229 0.00116 L 0.28229 0.00116 E">
                                      <p:cBhvr>
                                        <p:cTn id="87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031 0.00232 L -0.27031 0.00232 E">
                                      <p:cBhvr>
                                        <p:cTn id="91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107 -0.0074 L -0.28107 -0.0074 E">
                                      <p:cBhvr>
                                        <p:cTn id="95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657 0.00416 L -0.27657 0.00416 E">
                                      <p:cBhvr>
                                        <p:cTn id="99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03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07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264 -0.0037 L 0.28264 -0.0037 E">
                                      <p:cBhvr>
                                        <p:cTn id="111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  </a:t>
            </a: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Почему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0" name="Picture 9" descr="C41-33 копия"/>
          <p:cNvPicPr/>
          <p:nvPr/>
        </p:nvPicPr>
        <p:blipFill>
          <a:blip r:embed="rId2"/>
          <a:stretch/>
        </p:blipFill>
        <p:spPr>
          <a:xfrm>
            <a:off x="2143080" y="0"/>
            <a:ext cx="1357200" cy="15717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6942600" y="441720"/>
            <a:ext cx="1444680" cy="8082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993300"/>
            </a:solidFill>
            <a:round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?</a:t>
            </a:r>
            <a:endParaRPr b="0" lang="en-US" sz="8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Прямоугольник 5"/>
          <p:cNvSpPr/>
          <p:nvPr/>
        </p:nvSpPr>
        <p:spPr>
          <a:xfrm>
            <a:off x="666000" y="2000160"/>
            <a:ext cx="68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– </a:t>
            </a: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Внешний вид человека – 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это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Прямоугольник 6"/>
          <p:cNvSpPr/>
          <p:nvPr/>
        </p:nvSpPr>
        <p:spPr>
          <a:xfrm>
            <a:off x="669600" y="2500200"/>
            <a:ext cx="78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– </a:t>
            </a: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Внутренний  мир человека 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– это …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Прямоугольник 7"/>
          <p:cNvSpPr/>
          <p:nvPr/>
        </p:nvSpPr>
        <p:spPr>
          <a:xfrm>
            <a:off x="714240" y="3000240"/>
            <a:ext cx="7500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А как вы считаете, что важнее внешний или  внутренний мир человек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Прямоугольник 8"/>
          <p:cNvSpPr/>
          <p:nvPr/>
        </p:nvSpPr>
        <p:spPr>
          <a:xfrm>
            <a:off x="714240" y="5214960"/>
            <a:ext cx="814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“</a:t>
            </a: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Встречают по одежке, а провожают по уму”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560" y="213840"/>
            <a:ext cx="633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cc"/>
                </a:solidFill>
                <a:latin typeface="Calibri"/>
              </a:rPr>
              <a:t>Игра “Как поступлю”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1. Ты играешь во дворе с ребятами, но мама зовет тебя домой. Как ты поступишь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а) пойдешь домой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б) сделаешь вид, что не услышал маму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в) начнешь просить маму погулять еще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8" name="Picture 9" descr="C41-33 копия"/>
          <p:cNvPicPr/>
          <p:nvPr/>
        </p:nvPicPr>
        <p:blipFill>
          <a:blip r:embed="rId1"/>
          <a:stretch/>
        </p:blipFill>
        <p:spPr>
          <a:xfrm>
            <a:off x="6715080" y="214200"/>
            <a:ext cx="1357200" cy="157176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4"/>
          <p:cNvSpPr/>
          <p:nvPr/>
        </p:nvSpPr>
        <p:spPr>
          <a:xfrm>
            <a:off x="642960" y="4643280"/>
            <a:ext cx="750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г) договоришься с друзьями встретиться завт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2. Твоего друга вызвали к доске решать задачу, а у него не получается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а) ты будешь ему подсказывать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в) будешь смеяться и подшучивать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г) ничего не предпримешь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2" name="Picture 9" descr="C41-33 копия"/>
          <p:cNvPicPr/>
          <p:nvPr/>
        </p:nvPicPr>
        <p:blipFill>
          <a:blip r:embed="rId1"/>
          <a:stretch/>
        </p:blipFill>
        <p:spPr>
          <a:xfrm>
            <a:off x="3429000" y="0"/>
            <a:ext cx="1357200" cy="157176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4"/>
          <p:cNvSpPr/>
          <p:nvPr/>
        </p:nvSpPr>
        <p:spPr>
          <a:xfrm>
            <a:off x="885240" y="2786040"/>
            <a:ext cx="69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б) поможешь разобраться после уро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5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5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3. Ты нашел бездомного щенка, но у тебя уже есть собака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а) ты начнешь с ним играть, а потом бросишь его и побежишь домой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в) пройдешь мимо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6" name="Picture 9" descr="C41-33 копия"/>
          <p:cNvPicPr/>
          <p:nvPr/>
        </p:nvPicPr>
        <p:blipFill>
          <a:blip r:embed="rId1"/>
          <a:stretch/>
        </p:blipFill>
        <p:spPr>
          <a:xfrm>
            <a:off x="3429000" y="0"/>
            <a:ext cx="1357200" cy="157176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4"/>
          <p:cNvSpPr/>
          <p:nvPr/>
        </p:nvSpPr>
        <p:spPr>
          <a:xfrm>
            <a:off x="880920" y="3857760"/>
            <a:ext cx="550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б) постараешься найти хозяина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" dur="250" autoRev="1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67" dur="250" autoRev="1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8" dur="250" autoRev="1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1T01:58:27Z</dcterms:created>
  <dc:creator>Наташа</dc:creator>
  <dc:description/>
  <dc:language>en-US</dc:language>
  <cp:lastModifiedBy>Наташа</cp:lastModifiedBy>
  <dcterms:modified xsi:type="dcterms:W3CDTF">2001-01-01T00:43:49Z</dcterms:modified>
  <cp:revision>40</cp:revision>
  <dc:subject/>
  <dc:title>  – Зачем человеку терпимость?</dc:title>
</cp:coreProperties>
</file>