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266-52CB-4B88-A46B-0A85B19E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A32-C8ED-4565-9D01-861FEF1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E40-C11A-41C4-A1BF-519D45E2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3A5-B61E-4380-815E-9232BC4B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AA4-245F-45F9-BEC7-5869EB8D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40E-EE93-4C68-957B-C6B92A6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E23-E622-4B9B-A754-E189F114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F2B-6D47-495D-A010-D4252DD7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B71-37F2-4039-9CEE-DED189C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422-574F-4730-B604-9128E3F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D3D-D705-4A11-A32F-AA8A9754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685-032E-44B5-8594-CA3A1A4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7EB4-CA1F-4C4E-83C2-C7FAAEE65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ЛФК для детей"/>
          <p:cNvPicPr/>
          <p:nvPr/>
        </p:nvPicPr>
        <p:blipFill>
          <a:blip r:embed="rId1"/>
          <a:stretch/>
        </p:blipFill>
        <p:spPr>
          <a:xfrm>
            <a:off x="312840" y="1857240"/>
            <a:ext cx="847404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2600" y="28548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ЛФК при нарушениях осанки   детей младшего 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кольного возрас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643120" y="635796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ковой Иван , Ф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редства ЛФК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средствами ЛФК для коррекции осанк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кинезо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омплекс упражнений при нарушении осанки и сколиозе у детей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1 Построение, ходьба с движениями рук, ходьба на нос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2 И. п. — основное положение. Поднимание прямых рук вверх — вдох, опускание — выдох (3–4 раза). Темп медл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3 И. п. — основная стойка, руки на поясе. Сгибание колена к животу и возвращение в и. п. (3–4 раза каждой ног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4. И. п. — основная стойка, гимнастическая палка в опущенных руках. Поднимание палки вверх — вдох, опускание — выдох (4–5 ра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5 И. п. — основная стойка, палка на лопатках. Наклон корпуса вперед с прямой спиной и возвращение в и. п. (4–5 раз). При наклоне корпуса — выдох, при выпрямлении — вд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6. И. п.- основная стойка, палка в опущенных руках. Приседание с вытягиванием рук вперед и возвращение в и. п. Спина прямая (4–5 ра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№ 7. И. п. — основная стойка, руки перед грудью. Разведение рук в стороны ладонями вверх — вдох, возвращение в и. п. — выдох (3–4 ра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Картинка 17 из 80"/>
          <p:cNvPicPr/>
          <p:nvPr/>
        </p:nvPicPr>
        <p:blipFill>
          <a:blip r:embed="rId1"/>
          <a:stretch/>
        </p:blipFill>
        <p:spPr>
          <a:xfrm>
            <a:off x="539640" y="4762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612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Гимнастика, физические упражнения, ходьба должны прочно войти</a:t>
            </a:r>
            <a:br>
              <a:rPr sz="1800"/>
            </a:b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в повседневный быт каждого, кто хочет сохранить работоспособность, здоровье, полноценную и</a:t>
            </a:r>
            <a:br>
              <a:rPr sz="1800"/>
            </a:b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адостную жизнь.(Гиппократ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7 из 151525"/>
          <p:cNvPicPr/>
          <p:nvPr/>
        </p:nvPicPr>
        <p:blipFill>
          <a:blip r:embed="rId1"/>
          <a:stretch/>
        </p:blipFill>
        <p:spPr>
          <a:xfrm>
            <a:off x="826920" y="177336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3714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  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санка — это привычное положение тела непринужденно стоящего человека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 Осанка зависит от степени развития мышечной системы, угла наклона таза, положения и формы позвоночника (физиологические изгибы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Картинка 59 из 13631"/>
          <p:cNvPicPr/>
          <p:nvPr/>
        </p:nvPicPr>
        <p:blipFill>
          <a:blip r:embed="rId1"/>
          <a:stretch/>
        </p:blipFill>
        <p:spPr>
          <a:xfrm>
            <a:off x="3924360" y="765000"/>
            <a:ext cx="4968720" cy="532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35701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Различают четыре физиологических изгиба позвоночника в сагиттальной плоскости: два обращены выпуклостью кпереди — это шейный и поясничный лордозы; два обращены выпуклостью кзади — это грудной и крестцово-копчиковый кифоз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Картинка 127 из 128"/>
          <p:cNvPicPr/>
          <p:nvPr/>
        </p:nvPicPr>
        <p:blipFill>
          <a:blip r:embed="rId1"/>
          <a:stretch/>
        </p:blipFill>
        <p:spPr>
          <a:xfrm>
            <a:off x="4356000" y="54936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3787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чины развития нарушений ос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 естественного мышечного корсета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мебели весоростовым показателям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льные положения тела, которые ребенок принимает в течение дня, — при выполнении различных видов деятельности и во время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Картинка 293 из 2341"/>
          <p:cNvPicPr/>
          <p:nvPr/>
        </p:nvPicPr>
        <p:blipFill>
          <a:blip r:embed="rId1"/>
          <a:stretch/>
        </p:blipFill>
        <p:spPr>
          <a:xfrm>
            <a:off x="3924360" y="620640"/>
            <a:ext cx="4895640" cy="46087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3714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три степени   нарушения оса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 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небольшими изменениями осанки которые устраняются путем целенаправленной концентрации внимания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I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увеличением количества симпто- мов нарушения осанки, которые устраняются при разгрузочном положении позвоночника в горизонтальном положении или при подвешивании (за подмышечные впадины).                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III степ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характеризуется серьезными нарушениями осанки, которые не устраняются при разгрузочном положении позвоно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Картинка 48 из 858"/>
          <p:cNvPicPr/>
          <p:nvPr/>
        </p:nvPicPr>
        <p:blipFill>
          <a:blip r:embed="rId1"/>
          <a:stretch/>
        </p:blipFill>
        <p:spPr>
          <a:xfrm>
            <a:off x="4284720" y="692280"/>
            <a:ext cx="4680000" cy="4465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osanka_clip_image002"/>
          <p:cNvPicPr/>
          <p:nvPr/>
        </p:nvPicPr>
        <p:blipFill>
          <a:blip r:embed="rId1"/>
          <a:stretch/>
        </p:blipFill>
        <p:spPr>
          <a:xfrm>
            <a:off x="395280" y="90792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38592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и ЛФК при нарушениях ос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выку правильной осанки и систематическое закрепление этого нав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ение мышц туловища и конечностей (выравнивание мышечного тонуса передней и задней поверхности туловища, нижних конечностей, укрепление мышц брюшного пресс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зация трофических процессов в мышцах туловищ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целенаправленной коррекции имеющегося нарушения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Картинка 19 из 1803"/>
          <p:cNvPicPr/>
          <p:nvPr/>
        </p:nvPicPr>
        <p:blipFill>
          <a:blip r:embed="rId1"/>
          <a:stretch/>
        </p:blipFill>
        <p:spPr>
          <a:xfrm>
            <a:off x="3995640" y="692280"/>
            <a:ext cx="4969080" cy="4897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71280" y="620280"/>
            <a:ext cx="7257960" cy="5505480"/>
          </a:xfrm>
          <a:prstGeom prst="rect">
            <a:avLst/>
          </a:prstGeom>
          <a:solidFill>
            <a:srgbClr val="e9efa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Показания и противопоказания к назначению ЛФ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лечебной гимнастикой показаны всем детям с нарушениями осанки, поскольку это единственный метод, позволяющий эффективно укреплять и тренировать мышечный корсет, выравнивать мышечный тонус передней и задней поверхности туловища, беде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на занятиях ЛФК временно не следует использовать: бег, прыжки, подскоки на жесткой поверхности; выполнение упражнений в исходном положении сидя; выполнение упражнений с большой амплитудой движения туловищем. Чистые висы не рекомендуется использовать в младшем школьном возрасте, поскольку кратковременное вытяжение позвоночника (на фоне общей слабости и диспропорции тонуса передней и задней поверхности мышц туловища) влечет за собой еще более сильное сокращение мышц, приносящее больше вреда, чем поль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рганизационно методические требования к проведению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нятий ЛГ при нарушениях осан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8592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гладкой стены (без плинтуса), желательно на противоположной от зеркала стороне. Это позволяет ребенку, встав к стене, принять правильную осанку, имея 5 точек соприкосновения: затылок, лопатки, ягодицы, икроножные мышцы, пятки; ощутить правильное положение собственного тела в пространстве, вырабатывая проприоцептивное мышечное чувство, которое при постоянном повторении передается и закрепляется в ЦНС — за счет импульсов, поступающих с рецепторов мышц. Впоследствии навык правильной осанки закрепляется не только в статическом (исходном) положении, но и при ходьбе, при выполнении упражнений. Упражнения для формирования и закрепления навыка правильной ос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ле для занятий должны быть большие зеркала,чтобы ребенок мог видеть себя в полный рост, формируя и закрепляя зрительный образ правильной осанки. Дети подготовительных групп и младшего школьного возраста дают описание правильной осанки на основе образов героев сказок, животных, постепенно переходя; к описанию собственной осанки, осанки друз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Картинка 11 из 87772"/>
          <p:cNvPicPr/>
          <p:nvPr/>
        </p:nvPicPr>
        <p:blipFill>
          <a:blip r:embed="rId1"/>
          <a:stretch/>
        </p:blipFill>
        <p:spPr>
          <a:xfrm>
            <a:off x="4140360" y="1557360"/>
            <a:ext cx="4824360" cy="4248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14:56Z</dcterms:created>
  <dc:creator>FuckYouBill</dc:creator>
  <dc:description/>
  <dc:language>en-US</dc:language>
  <cp:lastModifiedBy>IVAN</cp:lastModifiedBy>
  <dcterms:modified xsi:type="dcterms:W3CDTF">2019-01-10T03:21:21Z</dcterms:modified>
  <cp:revision>7</cp:revision>
  <dc:subject/>
  <dc:title>ЛФК при нарушениях осанки  для детей младшего  школьного возраста</dc:title>
</cp:coreProperties>
</file>