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3C4CD-831D-46DA-AFA0-D8F0C6A66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63BBC-BBF8-48B2-A134-BFCC47ADF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470EE-BBE5-4CC7-BB0E-EE42221C5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2897A-A995-4566-BA5A-02CFF9139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010A8-42A9-4D6F-85EE-E8310A0E9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B67CC-E7B0-496D-BEED-05392AFD4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1D265-44F5-4F91-B977-DDA9DF4DE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504BE-229A-40E9-A850-975262C63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3A3EA-D28F-4367-A62F-DD81AD7BD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7DCF7-2CA2-42E5-B61E-B3120DCAF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A4492-1557-43CB-82AC-13BAE191A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ACBFB-BD5F-49FD-9F48-37B0D2E91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B9919-41B6-4471-8E9B-7E5A87B3642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7" descr="ЛФК для детей"/>
          <p:cNvPicPr/>
          <p:nvPr/>
        </p:nvPicPr>
        <p:blipFill>
          <a:blip r:embed="rId1"/>
          <a:stretch/>
        </p:blipFill>
        <p:spPr>
          <a:xfrm>
            <a:off x="312840" y="1857240"/>
            <a:ext cx="8474040" cy="46674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2"/>
          <p:cNvSpPr>
            <a:spLocks noGrp="1"/>
          </p:cNvSpPr>
          <p:nvPr>
            <p:ph type="title"/>
          </p:nvPr>
        </p:nvSpPr>
        <p:spPr>
          <a:xfrm>
            <a:off x="642600" y="285480"/>
            <a:ext cx="755820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9999"/>
                </a:solidFill>
                <a:latin typeface="Arial"/>
              </a:rPr>
              <a:t>ЛФК при нарушениях осанки   детей младшего </a:t>
            </a:r>
            <a:br>
              <a:rPr sz="4000"/>
            </a:br>
            <a:r>
              <a:rPr b="0" lang="ru-RU" sz="4000" spc="-1" strike="noStrike">
                <a:solidFill>
                  <a:srgbClr val="009999"/>
                </a:solidFill>
                <a:latin typeface="Arial"/>
              </a:rPr>
              <a:t>школьного возраста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7"/>
          <p:cNvSpPr/>
          <p:nvPr/>
        </p:nvSpPr>
        <p:spPr>
          <a:xfrm>
            <a:off x="2643120" y="6357960"/>
            <a:ext cx="585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сковой Иван , Ф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000">
    <p:comb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Arial"/>
              </a:rPr>
              <a:t>Средства ЛФК.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26560" y="1600200"/>
            <a:ext cx="7402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   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сновными средствами ЛФК для коррекции осанки являются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изические упражн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асса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идрокинезотерап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000">
    <p:comb dir="horz"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ff"/>
                </a:solidFill>
                <a:latin typeface="Arial"/>
              </a:rPr>
              <a:t>Комплекс упражнений при нарушении осанки и сколиозе у детей 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пражнение № 1 Построение, ходьба с движениями рук, ходьба на носк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пражнение № 2 И. п. — основное положение. Поднимание прямых рук вверх — вдох, опускание — выдох (3–4 раза). Темп медленны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пражнение № 3 И. п. — основная стойка, руки на поясе. Сгибание колена к животу и возвращение в и. п. (3–4 раза каждой ногой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пражнение № 4. И. п. — основная стойка, гимнастическая палка в опущенных руках. Поднимание палки вверх — вдох, опускание — выдох (4–5 раз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пражнение № 5 И. п. — основная стойка, палка на лопатках. Наклон корпуса вперед с прямой спиной и возвращение в и. п. (4–5 раз). При наклоне корпуса — выдох, при выпрямлении — вдо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пражнение № 6. И. п.- основная стойка, палка в опущенных руках. Приседание с вытягиванием рук вперед и возвращение в и. п. Спина прямая (4–5 раз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пражнение № 7. И. п. — основная стойка, руки перед грудью. Разведение рук в стороны ладонями вверх — вдох, возвращение в и. п. — выдох (3–4 раза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000">
    <p:comb dir="horz"/>
  </p:transition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5" descr="Картинка 17 из 80"/>
          <p:cNvPicPr/>
          <p:nvPr/>
        </p:nvPicPr>
        <p:blipFill>
          <a:blip r:embed="rId1"/>
          <a:stretch/>
        </p:blipFill>
        <p:spPr>
          <a:xfrm>
            <a:off x="539640" y="476280"/>
            <a:ext cx="8353440" cy="5473800"/>
          </a:xfrm>
          <a:prstGeom prst="rect">
            <a:avLst/>
          </a:prstGeom>
          <a:ln w="0">
            <a:noFill/>
          </a:ln>
        </p:spPr>
      </p:pic>
    </p:spTree>
  </p:cSld>
  <p:transition advTm="3000">
    <p:comb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000" y="404280"/>
            <a:ext cx="776124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9999"/>
                </a:solidFill>
                <a:latin typeface="Arial"/>
              </a:rPr>
              <a:t>Гимнастика, физические упражнения, ходьба должны прочно войти</a:t>
            </a:r>
            <a:br>
              <a:rPr sz="1800"/>
            </a:br>
            <a:r>
              <a:rPr b="0" i="1" lang="ru-RU" sz="1800" spc="-1" strike="noStrike">
                <a:solidFill>
                  <a:srgbClr val="009999"/>
                </a:solidFill>
                <a:latin typeface="Arial"/>
              </a:rPr>
              <a:t>в повседневный быт каждого, кто хочет сохранить работоспособность, здоровье, полноценную и</a:t>
            </a:r>
            <a:br>
              <a:rPr sz="1800"/>
            </a:br>
            <a:r>
              <a:rPr b="0" i="1" lang="ru-RU" sz="1800" spc="-1" strike="noStrike">
                <a:solidFill>
                  <a:srgbClr val="009999"/>
                </a:solidFill>
                <a:latin typeface="Arial"/>
              </a:rPr>
              <a:t>радостную жизнь.(Гиппократ)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Картинка 7 из 151525"/>
          <p:cNvPicPr/>
          <p:nvPr/>
        </p:nvPicPr>
        <p:blipFill>
          <a:blip r:embed="rId1"/>
          <a:stretch/>
        </p:blipFill>
        <p:spPr>
          <a:xfrm>
            <a:off x="826920" y="1773360"/>
            <a:ext cx="7620120" cy="4572000"/>
          </a:xfrm>
          <a:prstGeom prst="rect">
            <a:avLst/>
          </a:prstGeom>
          <a:ln w="0">
            <a:noFill/>
          </a:ln>
        </p:spPr>
      </p:pic>
    </p:spTree>
  </p:cSld>
  <p:transition advTm="3000">
    <p:comb dir="horz"/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8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8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8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8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324000" y="620280"/>
            <a:ext cx="371448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Arial"/>
              </a:rPr>
              <a:t>    </a:t>
            </a:r>
            <a:r>
              <a:rPr b="1" i="1" lang="ru-RU" sz="2400" spc="-1" strike="noStrike">
                <a:solidFill>
                  <a:srgbClr val="333399"/>
                </a:solidFill>
                <a:latin typeface="Arial"/>
              </a:rPr>
              <a:t>Осанка — это привычное положение тела непринужденно стоящего человека.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 Осанка зависит от степени развития мышечной системы, угла наклона таза, положения и формы позвоночника (физиологические изгибы)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14" descr="Картинка 59 из 13631"/>
          <p:cNvPicPr/>
          <p:nvPr/>
        </p:nvPicPr>
        <p:blipFill>
          <a:blip r:embed="rId1"/>
          <a:stretch/>
        </p:blipFill>
        <p:spPr>
          <a:xfrm>
            <a:off x="3924360" y="765000"/>
            <a:ext cx="4968720" cy="5328000"/>
          </a:xfrm>
          <a:prstGeom prst="rect">
            <a:avLst/>
          </a:prstGeom>
          <a:ln w="0">
            <a:noFill/>
          </a:ln>
        </p:spPr>
      </p:pic>
    </p:spTree>
  </p:cSld>
  <p:transition advTm="3000"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68000" y="333000"/>
            <a:ext cx="357012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 </a:t>
            </a:r>
            <a:r>
              <a:rPr b="0" lang="ru-RU" sz="2400" spc="-1" strike="noStrike">
                <a:solidFill>
                  <a:srgbClr val="009999"/>
                </a:solidFill>
                <a:latin typeface="Arial"/>
              </a:rPr>
              <a:t>Различают четыре физиологических изгиба позвоночника в сагиттальной плоскости: два обращены выпуклостью кпереди — это шейный и поясничный лордозы; два обращены выпуклостью кзади — это грудной и крестцово-копчиковый кифозы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3" descr="Картинка 127 из 128"/>
          <p:cNvPicPr/>
          <p:nvPr/>
        </p:nvPicPr>
        <p:blipFill>
          <a:blip r:embed="rId1"/>
          <a:stretch/>
        </p:blipFill>
        <p:spPr>
          <a:xfrm>
            <a:off x="4356000" y="549360"/>
            <a:ext cx="4103640" cy="5040360"/>
          </a:xfrm>
          <a:prstGeom prst="rect">
            <a:avLst/>
          </a:prstGeom>
          <a:ln w="0">
            <a:noFill/>
          </a:ln>
        </p:spPr>
      </p:pic>
    </p:spTree>
  </p:cSld>
  <p:transition advTm="3000">
    <p:comb dir="horz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250560" y="476280"/>
            <a:ext cx="378756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ричины развития нарушений осанк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лабость естественного мышечного корсета ребенк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соответствие мебели весоростовым показателям ребенк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правильные положения тела, которые ребенок принимает в течение дня, — при выполнении различных видов деятельности и во время с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8" descr="Картинка 293 из 2341"/>
          <p:cNvPicPr/>
          <p:nvPr/>
        </p:nvPicPr>
        <p:blipFill>
          <a:blip r:embed="rId1"/>
          <a:stretch/>
        </p:blipFill>
        <p:spPr>
          <a:xfrm>
            <a:off x="3924360" y="620640"/>
            <a:ext cx="4895640" cy="4608720"/>
          </a:xfrm>
          <a:prstGeom prst="rect">
            <a:avLst/>
          </a:prstGeom>
          <a:ln w="0">
            <a:noFill/>
          </a:ln>
        </p:spPr>
      </p:pic>
    </p:spTree>
  </p:cSld>
  <p:transition advTm="3000">
    <p:comb dir="horz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324000" y="476280"/>
            <a:ext cx="371448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       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зличают три степени   нарушения осанк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I степень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— характеризуется небольшими изменениями осанки которые устраняются путем целенаправленной концентрации внимания ребенк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IIстепень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— характеризуется увеличением количества симпто- мов нарушения осанки, которые устраняются при разгрузочном положении позвоночника в горизонтальном положении или при подвешивании (за подмышечные впадины).                                      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III степень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— характеризуется серьезными нарушениями осанки, которые не устраняются при разгрузочном положении позвоночник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8" descr="Картинка 48 из 858"/>
          <p:cNvPicPr/>
          <p:nvPr/>
        </p:nvPicPr>
        <p:blipFill>
          <a:blip r:embed="rId1"/>
          <a:stretch/>
        </p:blipFill>
        <p:spPr>
          <a:xfrm>
            <a:off x="4284720" y="692280"/>
            <a:ext cx="4680000" cy="4465440"/>
          </a:xfrm>
          <a:prstGeom prst="rect">
            <a:avLst/>
          </a:prstGeom>
          <a:ln w="0">
            <a:noFill/>
          </a:ln>
        </p:spPr>
      </p:pic>
    </p:spTree>
  </p:cSld>
  <p:transition advTm="3000">
    <p:comb dir="horz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5" descr="osanka_clip_image002"/>
          <p:cNvPicPr/>
          <p:nvPr/>
        </p:nvPicPr>
        <p:blipFill>
          <a:blip r:embed="rId1"/>
          <a:stretch/>
        </p:blipFill>
        <p:spPr>
          <a:xfrm>
            <a:off x="395280" y="907920"/>
            <a:ext cx="7632720" cy="5256360"/>
          </a:xfrm>
          <a:prstGeom prst="rect">
            <a:avLst/>
          </a:prstGeom>
          <a:ln w="0">
            <a:noFill/>
          </a:ln>
        </p:spPr>
      </p:pic>
    </p:spTree>
  </p:cSld>
  <p:transition advTm="3000">
    <p:comb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179280" y="620280"/>
            <a:ext cx="38592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Задачи ЛФК при нарушениях осанк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учение навыку правильной осанки и систематическое закрепление этого навык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крепление мышц туловища и конечностей (выравнивание мышечного тонуса передней и задней поверхности туловища, нижних конечностей, укрепление мышц брюшного пресса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ормализация трофических процессов в мышцах туловищ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уществление целенаправленной коррекции имеющегося нарушения осан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2" descr="Картинка 19 из 1803"/>
          <p:cNvPicPr/>
          <p:nvPr/>
        </p:nvPicPr>
        <p:blipFill>
          <a:blip r:embed="rId1"/>
          <a:stretch/>
        </p:blipFill>
        <p:spPr>
          <a:xfrm>
            <a:off x="3995640" y="692280"/>
            <a:ext cx="4969080" cy="4897440"/>
          </a:xfrm>
          <a:prstGeom prst="rect">
            <a:avLst/>
          </a:prstGeom>
          <a:ln w="0">
            <a:noFill/>
          </a:ln>
        </p:spPr>
      </p:pic>
    </p:spTree>
  </p:cSld>
  <p:transition advTm="3000">
    <p:comb dir="horz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971280" y="620280"/>
            <a:ext cx="7257960" cy="5505480"/>
          </a:xfrm>
          <a:prstGeom prst="rect">
            <a:avLst/>
          </a:prstGeom>
          <a:solidFill>
            <a:srgbClr val="e9efa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i="1" lang="ru-RU" sz="2000" spc="-1" strike="noStrike">
                <a:solidFill>
                  <a:srgbClr val="009900"/>
                </a:solidFill>
                <a:latin typeface="Arial"/>
              </a:rPr>
              <a:t>Показания и противопоказания к назначению ЛФ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       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нятия лечебной гимнастикой показаны всем детям с нарушениями осанки, поскольку это единственный метод, позволяющий эффективно укреплять и тренировать мышечный корсет, выравнивать мышечный тонус передней и задней поверхности туловища, бедер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начале на занятиях ЛФК временно не следует использовать: бег, прыжки, подскоки на жесткой поверхности; выполнение упражнений в исходном положении сидя; выполнение упражнений с большой амплитудой движения туловищем. Чистые висы не рекомендуется использовать в младшем школьном возрасте, поскольку кратковременное вытяжение позвоночника (на фоне общей слабости и диспропорции тонуса передней и задней поверхности мышц туловища) влечет за собой еще более сильное сокращение мышц, приносящее больше вреда, чем польз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000">
    <p:comb dir="horz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Организационно методические требования к проведению</a:t>
            </a:r>
            <a:br>
              <a:rPr sz="2000"/>
            </a:b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занятий ЛГ при нарушениях осанки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38592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личие гладкой стены (без плинтуса), желательно на противоположной от зеркала стороне. Это позволяет ребенку, встав к стене, принять правильную осанку, имея 5 точек соприкосновения: затылок, лопатки, ягодицы, икроножные мышцы, пятки; ощутить правильное положение собственного тела в пространстве, вырабатывая проприоцептивное мышечное чувство, которое при постоянном повторении передается и закрепляется в ЦНС — за счет импульсов, поступающих с рецепторов мышц. Впоследствии навык правильной осанки закрепляется не только в статическом (исходном) положении, но и при ходьбе, при выполнении упражнений. Упражнения для формирования и закрепления навыка правильной осан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зале для занятий должны быть большие зеркала,чтобы ребенок мог видеть себя в полный рост, формируя и закрепляя зрительный образ правильной осанки. Дети подготовительных групп и младшего школьного возраста дают описание правильной осанки на основе образов героев сказок, животных, постепенно переходя; к описанию собственной осанки, осанки друз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8" descr="Картинка 11 из 87772"/>
          <p:cNvPicPr/>
          <p:nvPr/>
        </p:nvPicPr>
        <p:blipFill>
          <a:blip r:embed="rId1"/>
          <a:stretch/>
        </p:blipFill>
        <p:spPr>
          <a:xfrm>
            <a:off x="4140360" y="1557360"/>
            <a:ext cx="4824360" cy="4248000"/>
          </a:xfrm>
          <a:prstGeom prst="rect">
            <a:avLst/>
          </a:prstGeom>
          <a:ln w="0">
            <a:noFill/>
          </a:ln>
        </p:spPr>
      </p:pic>
    </p:spTree>
  </p:cSld>
  <p:transition advTm="3000">
    <p:comb dir="horz"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26T13:14:56Z</dcterms:created>
  <dc:creator>FuckYouBill</dc:creator>
  <dc:description/>
  <dc:language>en-US</dc:language>
  <cp:lastModifiedBy>IVAN</cp:lastModifiedBy>
  <dcterms:modified xsi:type="dcterms:W3CDTF">2019-01-10T03:21:21Z</dcterms:modified>
  <cp:revision>7</cp:revision>
  <dc:subject/>
  <dc:title>ЛФК при нарушениях осанки  для детей младшего  школьного возраста</dc:title>
</cp:coreProperties>
</file>