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2EA-0617-4120-8442-BDF04A9B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11C-C25E-454E-9382-BACFDE75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0D8-DE8A-415A-BF04-3F5CC010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304-0387-4B21-87F2-EA6D65F5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C9DD-522B-4005-83B9-ACE10EE6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A9B4-964F-403C-84DA-F337E671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A070-0A72-4FB5-B120-082BD54D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3025-EF78-49F0-A540-EA2506EE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CC4A-6525-464F-9B71-5E75A278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3361-BF16-44AA-99C3-C87E741B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F604-9DB8-4454-8958-319F3D6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8E4-81BC-4208-A772-DCE8952D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E93C-A62C-4783-B34E-A5090468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32CF-E736-4A17-BC3D-32A40185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39F1-4898-4B71-B226-0FA9B0A6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B81B-1B19-4701-9B5D-447A8548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1C5D-5D1E-43F2-B750-E3CF3881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713-2F4B-4A01-8018-605B464C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E97-8D0E-4303-A6FD-216820A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7D4-66A7-47D1-8A62-F1E8ADF0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9E3-F12F-44A2-ABE1-29391E5B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89B-06EC-42ED-B6F1-A820187C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4D6-EE94-4D19-A8C8-3CF311F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ABB-5F38-43B0-83F4-4F299021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FAA1-E9DC-4E3C-8396-D7D68D85C6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3720-AED1-4C61-BB32-A942BF1F10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1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Monotype Corsiva"/>
              </a:rPr>
              <a:t>«Лицея день заветный...»</a:t>
            </a:r>
            <a:endParaRPr b="1" lang="en-US" sz="7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Monotype Corsiva"/>
              </a:rPr>
              <a:t>Царскосельского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Monotype Corsiva"/>
              </a:rPr>
              <a:t>Лице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71640" y="2421000"/>
            <a:ext cx="734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e430e"/>
                </a:solidFill>
                <a:latin typeface="Monotype Corsiva"/>
              </a:rPr>
              <a:t>Музыкально-литературная композиция, посвящен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Monotype Corsiva"/>
              </a:rPr>
              <a:t>Дн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59954136_1275811056_image_1_carskoe_selo"/>
          <p:cNvPicPr/>
          <p:nvPr/>
        </p:nvPicPr>
        <p:blipFill>
          <a:blip r:embed="rId1"/>
          <a:stretch/>
        </p:blipFill>
        <p:spPr>
          <a:xfrm>
            <a:off x="-36360" y="-96840"/>
            <a:ext cx="9432720" cy="70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Царскосельский Лицей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7" name="Picture 4" descr="licey1"/>
          <p:cNvPicPr/>
          <p:nvPr/>
        </p:nvPicPr>
        <p:blipFill>
          <a:blip r:embed="rId1"/>
          <a:stretch/>
        </p:blipFill>
        <p:spPr>
          <a:xfrm>
            <a:off x="1403280" y="1360440"/>
            <a:ext cx="64054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Царскосельский Лицей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9" name="Picture 5" descr="licey4"/>
          <p:cNvPicPr/>
          <p:nvPr/>
        </p:nvPicPr>
        <p:blipFill>
          <a:blip r:embed="rId1"/>
          <a:stretch/>
        </p:blipFill>
        <p:spPr>
          <a:xfrm>
            <a:off x="1403280" y="1413000"/>
            <a:ext cx="633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Царскосельский Лицей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1" name="Picture 5" descr="licey3"/>
          <p:cNvPicPr/>
          <p:nvPr/>
        </p:nvPicPr>
        <p:blipFill>
          <a:blip r:embed="rId1"/>
          <a:stretch/>
        </p:blipFill>
        <p:spPr>
          <a:xfrm>
            <a:off x="1332000" y="1414440"/>
            <a:ext cx="6334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773520" cy="453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77756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Александр Сергеевич Пушки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0_23da1_e9fade3a_XL"/>
          <p:cNvPicPr/>
          <p:nvPr/>
        </p:nvPicPr>
        <p:blipFill>
          <a:blip r:embed="rId1"/>
          <a:stretch/>
        </p:blipFill>
        <p:spPr>
          <a:xfrm>
            <a:off x="0" y="-8892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Лицейские друзья Пушкина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35280" y="5560560"/>
            <a:ext cx="273528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Александр Василье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Горча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-144360" y="3860640"/>
            <a:ext cx="2484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Иван Иванови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Пущ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211640" y="3860640"/>
            <a:ext cx="2808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Вильгельм Карлович Кюхельбек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264360" y="5487840"/>
            <a:ext cx="2879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Антон Антонови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Дельви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0" descr="delvig"/>
          <p:cNvPicPr/>
          <p:nvPr/>
        </p:nvPicPr>
        <p:blipFill>
          <a:blip r:embed="rId1"/>
          <a:stretch/>
        </p:blipFill>
        <p:spPr>
          <a:xfrm>
            <a:off x="7020000" y="3111480"/>
            <a:ext cx="155088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gorchakov"/>
          <p:cNvPicPr/>
          <p:nvPr/>
        </p:nvPicPr>
        <p:blipFill>
          <a:blip r:embed="rId2"/>
          <a:stretch/>
        </p:blipFill>
        <p:spPr>
          <a:xfrm>
            <a:off x="2484360" y="3184560"/>
            <a:ext cx="1551240" cy="218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kuchel"/>
          <p:cNvPicPr/>
          <p:nvPr/>
        </p:nvPicPr>
        <p:blipFill>
          <a:blip r:embed="rId3"/>
          <a:stretch/>
        </p:blipFill>
        <p:spPr>
          <a:xfrm>
            <a:off x="4716360" y="1628640"/>
            <a:ext cx="1530360" cy="216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puchin"/>
          <p:cNvPicPr/>
          <p:nvPr/>
        </p:nvPicPr>
        <p:blipFill>
          <a:blip r:embed="rId4"/>
          <a:stretch/>
        </p:blipFill>
        <p:spPr>
          <a:xfrm>
            <a:off x="324000" y="1628640"/>
            <a:ext cx="15303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Девизом Лицея были слова: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Каждый воспитанни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должен жить и трудитьс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для воплощения в жизнь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идей добра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жить для общей пользы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800000"/>
                </a:solidFill>
                <a:latin typeface="Monotype Corsiva"/>
              </a:rPr>
              <a:t>Василий Федорович Малиновский</a:t>
            </a:r>
            <a:endParaRPr b="1" lang="en-US" sz="52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8" name="Picture 1024" descr="Malinovsky_big"/>
          <p:cNvPicPr/>
          <p:nvPr/>
        </p:nvPicPr>
        <p:blipFill>
          <a:blip r:embed="rId1"/>
          <a:stretch/>
        </p:blipFill>
        <p:spPr>
          <a:xfrm>
            <a:off x="2747880" y="1778040"/>
            <a:ext cx="3646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Распорядок дня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1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6.00 – подъем, моли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7.00-9.00 – учебные занят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9.00 – чай с белой булк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до 10.00 – первая прогул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0.00-12.00 - учебные занят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2.00-13.00 – вторая прогул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3.00 – обе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4.00-15.00 – чистопис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или рисов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5.00-17.00 – учебные занят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17.00 – чай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до 18.00 – третья прогулка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18.00-20.00 – повторение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уроков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20.30 – ужин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до 22.00 – отдых, развлечения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22.00 – вечерняя молитва, сон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Пушкин на экзамене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Идите вперед, друзья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на новом вашем поприще!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Храните</a:t>
            </a: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 правду, жертвуйте всем за нее; не смерть страшна, а страшно бесчестие; не богатство, не чины, не ленты честят человека, а доброе имя, храните его, храните чистую совесть, вот честь ваша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Идите, друзья, поминайте нас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8:52:05Z</dcterms:created>
  <dc:creator>дядя Вова</dc:creator>
  <dc:description/>
  <dc:language>en-US</dc:language>
  <cp:lastModifiedBy>Админ</cp:lastModifiedBy>
  <dcterms:modified xsi:type="dcterms:W3CDTF">2014-05-02T20:28:22Z</dcterms:modified>
  <cp:revision>35</cp:revision>
  <dc:subject/>
  <dc:title>Лицея день заветный</dc:title>
</cp:coreProperties>
</file>