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966-93C7-40FC-9733-98FAE61F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2EB4-9DDC-4193-B03D-603E68BF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E93-B586-4B0F-8023-E4684421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874-20E4-4A94-B373-213D4401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5199-5F18-4FF3-9A2F-507D92C9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A8F2-F5C9-4B2F-B3F9-75B5DCF0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6189-531D-4865-B5D9-C267117A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170C-D2DA-4DC2-AC30-9028EB33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90CE-04B5-48BD-9202-ABEBC128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3B99-1197-46FA-8104-CAE70D81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C8E6-849B-4B98-A551-3EAF8F3B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1C3-37FE-4884-93E6-B65C3E98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8F1F-FD65-4324-8807-EC03C628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7EEC-9A3D-495B-97F3-7632117E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A8D3-2A85-43E1-B5BA-F8C95408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7BD3-9F46-4F2D-BDDB-C1E02961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DD10-611A-464C-B759-1E8F57E5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10AC-7353-44B9-8B7C-F878BBE7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1A1C-E325-46C4-878A-D1C153DB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194D-3D6D-4D7E-A45B-8A919ACB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3B4-EEA9-4D19-90A5-91F17725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E05-4797-4C9F-8231-8C683986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442-EEE7-4362-B028-ECE8A08B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F84-3A48-40EC-9CFA-3B682596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3C0C-7647-47EF-945B-082FE9EC96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925A-D96D-4FFD-B696-CF1A9E28A5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c1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Monotype Corsiva"/>
              </a:rPr>
              <a:t>«Лицея день заветный...»</a:t>
            </a:r>
            <a:endParaRPr b="1" lang="en-US" sz="72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16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00"/>
                </a:solidFill>
                <a:latin typeface="Monotype Corsiva"/>
              </a:rPr>
              <a:t>Царскосельского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00"/>
                </a:solidFill>
                <a:latin typeface="Monotype Corsiva"/>
              </a:rPr>
              <a:t>Лицея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71640" y="2421000"/>
            <a:ext cx="7343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e430e"/>
                </a:solidFill>
                <a:latin typeface="Monotype Corsiva"/>
              </a:rPr>
              <a:t>Музыкально-литературная композиция, посвященна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Monotype Corsiva"/>
              </a:rPr>
              <a:t>Дню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59954136_1275811056_image_1_carskoe_selo"/>
          <p:cNvPicPr/>
          <p:nvPr/>
        </p:nvPicPr>
        <p:blipFill>
          <a:blip r:embed="rId1"/>
          <a:stretch/>
        </p:blipFill>
        <p:spPr>
          <a:xfrm>
            <a:off x="-36360" y="-96840"/>
            <a:ext cx="9432720" cy="70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Царскосельский Лицей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7" name="Picture 4" descr="licey1"/>
          <p:cNvPicPr/>
          <p:nvPr/>
        </p:nvPicPr>
        <p:blipFill>
          <a:blip r:embed="rId1"/>
          <a:stretch/>
        </p:blipFill>
        <p:spPr>
          <a:xfrm>
            <a:off x="1403280" y="1360440"/>
            <a:ext cx="640548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Царскосельский Лицей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9" name="Picture 5" descr="licey4"/>
          <p:cNvPicPr/>
          <p:nvPr/>
        </p:nvPicPr>
        <p:blipFill>
          <a:blip r:embed="rId1"/>
          <a:stretch/>
        </p:blipFill>
        <p:spPr>
          <a:xfrm>
            <a:off x="1403280" y="1413000"/>
            <a:ext cx="6337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Царскосельский Лицей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1" name="Picture 5" descr="licey3"/>
          <p:cNvPicPr/>
          <p:nvPr/>
        </p:nvPicPr>
        <p:blipFill>
          <a:blip r:embed="rId1"/>
          <a:stretch/>
        </p:blipFill>
        <p:spPr>
          <a:xfrm>
            <a:off x="1332000" y="1414440"/>
            <a:ext cx="63342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3773520" cy="453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99640" y="475920"/>
            <a:ext cx="77756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Александр Сергеевич Пушкин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0_23da1_e9fade3a_XL"/>
          <p:cNvPicPr/>
          <p:nvPr/>
        </p:nvPicPr>
        <p:blipFill>
          <a:blip r:embed="rId1"/>
          <a:stretch/>
        </p:blipFill>
        <p:spPr>
          <a:xfrm>
            <a:off x="0" y="-8892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Лицейские друзья Пушкина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35280" y="5560560"/>
            <a:ext cx="2735280" cy="8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Александр Васильеви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Горча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-144360" y="3860640"/>
            <a:ext cx="24843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Иван Иванович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Пущ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4211640" y="3860640"/>
            <a:ext cx="28083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Вильгельм Карлович Кюхельбек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264360" y="5487840"/>
            <a:ext cx="2879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Антон Антонович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Дельви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20" descr="delvig"/>
          <p:cNvPicPr/>
          <p:nvPr/>
        </p:nvPicPr>
        <p:blipFill>
          <a:blip r:embed="rId1"/>
          <a:stretch/>
        </p:blipFill>
        <p:spPr>
          <a:xfrm>
            <a:off x="7020000" y="3111480"/>
            <a:ext cx="155088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1" descr="gorchakov"/>
          <p:cNvPicPr/>
          <p:nvPr/>
        </p:nvPicPr>
        <p:blipFill>
          <a:blip r:embed="rId2"/>
          <a:stretch/>
        </p:blipFill>
        <p:spPr>
          <a:xfrm>
            <a:off x="2484360" y="3184560"/>
            <a:ext cx="1551240" cy="218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2" descr="kuchel"/>
          <p:cNvPicPr/>
          <p:nvPr/>
        </p:nvPicPr>
        <p:blipFill>
          <a:blip r:embed="rId3"/>
          <a:stretch/>
        </p:blipFill>
        <p:spPr>
          <a:xfrm>
            <a:off x="4716360" y="1628640"/>
            <a:ext cx="1530360" cy="216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3" descr="puchin"/>
          <p:cNvPicPr/>
          <p:nvPr/>
        </p:nvPicPr>
        <p:blipFill>
          <a:blip r:embed="rId4"/>
          <a:stretch/>
        </p:blipFill>
        <p:spPr>
          <a:xfrm>
            <a:off x="324000" y="1628640"/>
            <a:ext cx="15303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Девизом Лицея были слова: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Monotype Corsiva"/>
              </a:rPr>
              <a:t>Каждый воспитанник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Monotype Corsiva"/>
              </a:rPr>
              <a:t>должен жить и трудиться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Monotype Corsiva"/>
              </a:rPr>
              <a:t>для воплощения в жизнь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Monotype Corsiva"/>
              </a:rPr>
              <a:t>идей добра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Monotype Corsiva"/>
              </a:rPr>
              <a:t>жить для общей пользы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800000"/>
                </a:solidFill>
                <a:latin typeface="Monotype Corsiva"/>
              </a:rPr>
              <a:t>Василий Федорович Малиновский</a:t>
            </a:r>
            <a:endParaRPr b="1" lang="en-US" sz="52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38" name="Picture 1024" descr="Malinovsky_big"/>
          <p:cNvPicPr/>
          <p:nvPr/>
        </p:nvPicPr>
        <p:blipFill>
          <a:blip r:embed="rId1"/>
          <a:stretch/>
        </p:blipFill>
        <p:spPr>
          <a:xfrm>
            <a:off x="2747880" y="1778040"/>
            <a:ext cx="3646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Распорядок дня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1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6.00 – подъем, моли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7.00-9.00 – учебные занят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9.00 – чай с белой булко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до 10.00 – первая прогул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10.00-12.00 - учебные занят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12.00-13.00 – вторая прогул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13.00 – обед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14.00-15.00 – чистописа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или рисова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15.00-17.00 – учебные занят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42728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17.00 – чай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до 18.00 – третья прогулка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18.00-20.00 – повторение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уроков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20.30 – ужин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до 22.00 – отдых, развлечения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22.00 – вечерняя молитва, сон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Monotype Corsiva"/>
              </a:rPr>
              <a:t>Пушкин на экзамене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Monotype Corsiva"/>
              </a:rPr>
              <a:t>Идите вперед, друзья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Monotype Corsiva"/>
              </a:rPr>
              <a:t>на новом вашем поприще!.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Храните</a:t>
            </a:r>
            <a:r>
              <a:rPr b="1" i="1" lang="ru-RU" sz="4000" spc="-1" strike="noStrike">
                <a:solidFill>
                  <a:srgbClr val="800000"/>
                </a:solidFill>
                <a:latin typeface="Monotype Corsiva"/>
              </a:rPr>
              <a:t> правду, жертвуйте всем за нее; не смерть страшна, а страшно бесчестие; не богатство, не чины, не ленты честят человека, а доброе имя, храните его, храните чистую совесть, вот честь ваша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Monotype Corsiva"/>
              </a:rPr>
              <a:t>Идите, друзья, поминайте нас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8:52:05Z</dcterms:created>
  <dc:creator>дядя Вова</dc:creator>
  <dc:description/>
  <dc:language>en-US</dc:language>
  <cp:lastModifiedBy>Админ</cp:lastModifiedBy>
  <dcterms:modified xsi:type="dcterms:W3CDTF">2014-05-02T20:28:22Z</dcterms:modified>
  <cp:revision>35</cp:revision>
  <dc:subject/>
  <dc:title>Лицея день заветный</dc:title>
</cp:coreProperties>
</file>