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www.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C17-793A-49DD-ACDB-99F214878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www.o-detstve.ru Портал "О детстве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F08-3BD4-4BD4-B537-9BCDA7FB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D66-8ADE-47F7-BE99-E202EE1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8FC-FD4A-41FE-BB35-204B8C14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7FE-52E8-4A3E-8DA1-CA7564CB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5CB-BE44-4EC0-8C6C-43A2D1A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AA6-2BDB-4FC5-A9D2-8538294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DD5-1EF9-468D-B023-23C6E937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35A-04F6-44B0-BE1C-278640E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3D8-F20C-4FA4-9E04-BACACE3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693-8C1A-4FAB-A1A0-CD1BC06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C90-1CFD-486D-94F1-E2B0EB2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CC2-74EA-44CA-BC64-105842A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I Всероссийский дистанционный конкурс "Мастер мультимедийных технологий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2D73-3290-4FD1-835B-A5466421A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yvillagebandboosters.org/Resources/Pictures/Conductor%2015.jpg" TargetMode="External"/><Relationship Id="rId2" Type="http://schemas.openxmlformats.org/officeDocument/2006/relationships/hyperlink" Target="http://www.mr7.ru/netcat_files/757/562/penie_b.jpg" TargetMode="External"/><Relationship Id="rId3" Type="http://schemas.openxmlformats.org/officeDocument/2006/relationships/hyperlink" Target="http://pianolog.ru/res/image/original/36.jpg" TargetMode="External"/><Relationship Id="rId4" Type="http://schemas.openxmlformats.org/officeDocument/2006/relationships/hyperlink" Target="http://news.samaratoday.ru/edit/uploaded1/171430_8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АКТИВН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050920" y="5084640"/>
            <a:ext cx="547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ова О.Н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10 «Образовательный центр ЛИ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 Отрадный Самарская область СП детский сад № 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5" descr=""/>
          <p:cNvPicPr/>
          <p:nvPr/>
        </p:nvPicPr>
        <p:blipFill>
          <a:blip r:embed="rId1"/>
          <a:stretch/>
        </p:blipFill>
        <p:spPr>
          <a:xfrm>
            <a:off x="-628560" y="2060640"/>
            <a:ext cx="9424800" cy="266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Лишь музыка начнёт зв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е могу я усто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На щеках моих румя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Когда  я исполняю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1619280" y="189000"/>
            <a:ext cx="5688000" cy="1944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2340000" y="227664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rep16_1.jpg"/>
          <p:cNvPicPr/>
          <p:nvPr/>
        </p:nvPicPr>
        <p:blipFill>
          <a:blip r:embed="rId3"/>
          <a:stretch/>
        </p:blipFill>
        <p:spPr>
          <a:xfrm>
            <a:off x="2000160" y="3357720"/>
            <a:ext cx="47624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Веселятся музыкан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Улыбнулся дириж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Лад в котором мы игр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Назыв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619280" y="189000"/>
            <a:ext cx="6192720" cy="216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2411280" y="249228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Ж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Изображение 4"/>
          <p:cNvPicPr/>
          <p:nvPr/>
        </p:nvPicPr>
        <p:blipFill>
          <a:blip r:embed="rId3"/>
          <a:stretch/>
        </p:blipFill>
        <p:spPr>
          <a:xfrm>
            <a:off x="3000240" y="3429000"/>
            <a:ext cx="3262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пектакль этот необы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десь все поют всегда отлич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116000" y="115920"/>
            <a:ext cx="7201080" cy="1584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2214720" y="178596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x_7a7c0f0f.jpg"/>
          <p:cNvPicPr/>
          <p:nvPr/>
        </p:nvPicPr>
        <p:blipFill>
          <a:blip r:embed="rId3"/>
          <a:stretch/>
        </p:blipFill>
        <p:spPr>
          <a:xfrm>
            <a:off x="1500120" y="2786040"/>
            <a:ext cx="56437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верху петля, снизу крюч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ю вначале нотный  ст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твечайте-ка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огадались кто же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547640" y="189000"/>
            <a:ext cx="6336000" cy="2735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2340000" y="357336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рипичный клю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958559"/>
          <p:cNvPicPr/>
          <p:nvPr/>
        </p:nvPicPr>
        <p:blipFill>
          <a:blip r:embed="rId3"/>
          <a:stretch/>
        </p:blipFill>
        <p:spPr>
          <a:xfrm>
            <a:off x="179280" y="2997360"/>
            <a:ext cx="1368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568ce96465d7"/>
          <p:cNvPicPr/>
          <p:nvPr/>
        </p:nvPicPr>
        <p:blipFill>
          <a:blip r:embed="rId1"/>
          <a:stretch/>
        </p:blipFill>
        <p:spPr>
          <a:xfrm>
            <a:off x="1619280" y="260280"/>
            <a:ext cx="5599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И К ПРЕЗЕНТАЦ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УЗЫКАЛЬНЫЕ ЗАГАДК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ИНТЕРНЕТ- РЕС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ayvillagebandboosters.org/Resources/Pictures/Conductor%201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r7.ru/netcat_files/757/562/penie_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ianolog.ru/res/image/original/3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samaratoday.ru/edit/uploaded1/171430_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us-dance.ru/Images/rep/11/rep16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miles.files.wordpress.com/2010/02/orchestr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llfreed.ru/uploads/posts/1111/59211227100684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-2007-11.photosight.ru/11/240504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cs9697.vkontakte.ru/u1551118/106687166/x_7a7c0f0f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nachalka.ucoz.com/kartinki/choi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н оркестром управ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Радость людям д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Только палочкой взмахн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узыка играть нач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н не врач, и не шоф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Кто 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2700360" y="414972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РИ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763640" y="260280"/>
            <a:ext cx="6120000" cy="360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E03122"/>
          <p:cNvPicPr/>
          <p:nvPr/>
        </p:nvPicPr>
        <p:blipFill>
          <a:blip r:embed="rId3"/>
          <a:stretch/>
        </p:blipFill>
        <p:spPr>
          <a:xfrm>
            <a:off x="0" y="3500280"/>
            <a:ext cx="1770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ёрные крюч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линейках с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линейках сид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есни петь нам вел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093000"/>
            <a:ext cx="601560" cy="601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908000" y="404640"/>
            <a:ext cx="5328000" cy="266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428920" y="328608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003-903-Notnyj-stan"/>
          <p:cNvPicPr/>
          <p:nvPr/>
        </p:nvPicPr>
        <p:blipFill>
          <a:blip r:embed="rId3"/>
          <a:stretch/>
        </p:blipFill>
        <p:spPr>
          <a:xfrm>
            <a:off x="971640" y="4429080"/>
            <a:ext cx="707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н и отдых позаб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узыку сочиняет …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2373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619280" y="333360"/>
            <a:ext cx="6337440" cy="2016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357280" y="250020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36.jpg"/>
          <p:cNvPicPr/>
          <p:nvPr/>
        </p:nvPicPr>
        <p:blipFill>
          <a:blip r:embed="rId3"/>
          <a:stretch/>
        </p:blipFill>
        <p:spPr>
          <a:xfrm>
            <a:off x="2357280" y="3500280"/>
            <a:ext cx="4238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ихи и музыка сольются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называется всё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1042920" y="404640"/>
            <a:ext cx="7201080" cy="1729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2411280" y="234936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choir.jpg"/>
          <p:cNvPicPr/>
          <p:nvPr/>
        </p:nvPicPr>
        <p:blipFill>
          <a:blip r:embed="rId3"/>
          <a:stretch/>
        </p:blipFill>
        <p:spPr>
          <a:xfrm>
            <a:off x="3286080" y="3286080"/>
            <a:ext cx="25002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Инструменты в руки взя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Дружно вместе заигр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Нам играть не надое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Что создали 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403280" y="115920"/>
            <a:ext cx="6193080" cy="2305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2411280" y="2637000"/>
            <a:ext cx="424836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orchestra"/>
          <p:cNvPicPr/>
          <p:nvPr/>
        </p:nvPicPr>
        <p:blipFill>
          <a:blip r:embed="rId3"/>
          <a:stretch/>
        </p:blipFill>
        <p:spPr>
          <a:xfrm>
            <a:off x="1763640" y="3639960"/>
            <a:ext cx="5761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н красив и голос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ра наше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258920" y="260280"/>
            <a:ext cx="6408720" cy="1773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2340000" y="2143080"/>
            <a:ext cx="4248000" cy="9288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or282"/>
          <p:cNvPicPr/>
          <p:nvPr/>
        </p:nvPicPr>
        <p:blipFill>
          <a:blip r:embed="rId3"/>
          <a:stretch/>
        </p:blipFill>
        <p:spPr>
          <a:xfrm>
            <a:off x="1928880" y="3143160"/>
            <a:ext cx="5040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здно- поздно до тем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асково звучит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сенка постель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ш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403280" y="115920"/>
            <a:ext cx="6337440" cy="2449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68360" y="2714760"/>
            <a:ext cx="4248360" cy="7855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ЫБ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2405040.jpg"/>
          <p:cNvPicPr/>
          <p:nvPr/>
        </p:nvPicPr>
        <p:blipFill>
          <a:blip r:embed="rId3"/>
          <a:stretch/>
        </p:blipFill>
        <p:spPr>
          <a:xfrm>
            <a:off x="2428920" y="3571920"/>
            <a:ext cx="3881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узыка эта зовёт на па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Люди шагают за рядом ря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Трубы гудят, барабаны бь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узыку эту  как назов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692360" y="189000"/>
            <a:ext cx="5832360" cy="23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428920" y="2571840"/>
            <a:ext cx="4248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Р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171430_8"/>
          <p:cNvPicPr/>
          <p:nvPr/>
        </p:nvPicPr>
        <p:blipFill>
          <a:blip r:embed="rId3"/>
          <a:stretch/>
        </p:blipFill>
        <p:spPr>
          <a:xfrm>
            <a:off x="2268360" y="3689280"/>
            <a:ext cx="475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1:47:30Z</dcterms:created>
  <dc:creator>markwald</dc:creator>
  <dc:description/>
  <dc:language>en-US</dc:language>
  <cp:lastModifiedBy>Елена</cp:lastModifiedBy>
  <dcterms:modified xsi:type="dcterms:W3CDTF">2019-01-01T16:18:35Z</dcterms:modified>
  <cp:revision>36</cp:revision>
  <dc:subject>музыкальные загадки</dc:subject>
  <dc:title>Слайд 1</dc:title>
</cp:coreProperties>
</file>