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9.jpeg" ContentType="image/jpeg"/>
  <Override PartName="/ppt/media/image7.gif" ContentType="image/gif"/>
  <Override PartName="/ppt/media/image25.gif" ContentType="image/gif"/>
  <Override PartName="/ppt/media/image24.gif" ContentType="image/gif"/>
  <Override PartName="/ppt/media/image20.wmf" ContentType="image/x-wmf"/>
  <Override PartName="/ppt/media/image23.gif" ContentType="image/gif"/>
  <Override PartName="/ppt/media/image8.gif" ContentType="image/gif"/>
  <Override PartName="/ppt/media/image36.png" ContentType="image/png"/>
  <Override PartName="/ppt/media/image13.gif" ContentType="image/gif"/>
  <Override PartName="/ppt/media/image10.gif" ContentType="image/gif"/>
  <Override PartName="/ppt/media/image12.jpeg" ContentType="image/jpeg"/>
  <Override PartName="/ppt/media/image6.gif" ContentType="image/gif"/>
  <Override PartName="/ppt/media/image30.gif" ContentType="image/gif"/>
  <Override PartName="/ppt/media/image33.png" ContentType="image/png"/>
  <Override PartName="/ppt/media/image35.gif" ContentType="image/gif"/>
  <Override PartName="/ppt/media/image31.gif" ContentType="image/gif"/>
  <Override PartName="/ppt/media/image11.jpeg" ContentType="image/jpeg"/>
  <Override PartName="/ppt/media/image9.jpeg" ContentType="image/jpeg"/>
  <Override PartName="/ppt/media/image32.gif" ContentType="image/gif"/>
  <Override PartName="/ppt/media/image37.png" ContentType="image/png"/>
  <Override PartName="/ppt/media/image34.gif" ContentType="image/gif"/>
  <Override PartName="/ppt/media/image4.gif" ContentType="image/gif"/>
  <Override PartName="/ppt/media/image3.gif" ContentType="image/gif"/>
  <Override PartName="/ppt/media/image26.gif" ContentType="image/gif"/>
  <Override PartName="/ppt/media/image2.png" ContentType="image/png"/>
  <Override PartName="/ppt/media/image18.jpeg" ContentType="image/jpeg"/>
  <Override PartName="/ppt/media/image22.gif" ContentType="image/gif"/>
  <Override PartName="/ppt/media/image1.png" ContentType="image/png"/>
  <Override PartName="/ppt/media/image21.gif" ContentType="image/gif"/>
  <Override PartName="/ppt/media/image14.jpeg" ContentType="image/jpeg"/>
  <Override PartName="/ppt/media/image19.gif" ContentType="image/gif"/>
  <Override PartName="/ppt/media/image5.jpeg" ContentType="image/jpeg"/>
  <Override PartName="/ppt/media/image15.gif" ContentType="image/gif"/>
  <Override PartName="/ppt/media/image28.jpeg" ContentType="image/jpeg"/>
  <Override PartName="/ppt/media/image16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1B14-81FB-48FF-81D2-5DC7E64575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CE80-D8E1-4FDB-81EF-F1727165E1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FF1-9F76-4301-B721-51A4A91E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757F-27BA-44C2-8B9E-16034622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D21B-9C3F-4111-94B7-39556611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507-9072-4D56-8C23-B5CB4312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906-99EA-4060-A3A6-677D6575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D15-733C-4066-8B5C-BD20AB8C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1BD-CFE2-4955-93C8-79CD3943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66F8-3D88-40DA-943C-190CCBF9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A96E-F083-4D7C-AEC5-F80521C4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5142-78A9-4E44-B5EC-557A76C3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5B68-B1E1-4D38-A3E4-A030BE59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432-7138-443D-AFAC-9B0D6B97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8FD3-0324-4795-B5F8-F5BECD0E18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ходит старый год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Шуршит его последняя страница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усть лучшее, что было не уйдёт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 худшее не сможет повторитьс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1547640" y="625320"/>
            <a:ext cx="6299280" cy="4159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треча Нового года в России приходилась на 1 сентября. И только в 1700 году по указу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тра Велико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овый год стали отмечать 1 января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петр"/>
          <p:cNvPicPr/>
          <p:nvPr/>
        </p:nvPicPr>
        <p:blipFill>
          <a:blip r:embed="rId1"/>
          <a:stretch/>
        </p:blipFill>
        <p:spPr>
          <a:xfrm>
            <a:off x="4859280" y="1773360"/>
            <a:ext cx="2739960" cy="3047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оссия. 1700 го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560" y="198108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зднование Нового года в 1700 году началось парадом на Красной площади, а вечером небо озарилось яркими огнями праздничного фейервер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j0227558"/>
          <p:cNvPicPr/>
          <p:nvPr/>
        </p:nvPicPr>
        <p:blipFill>
          <a:blip r:embed="rId1"/>
          <a:stretch/>
        </p:blipFill>
        <p:spPr>
          <a:xfrm>
            <a:off x="5180040" y="2033640"/>
            <a:ext cx="2975040" cy="3657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овогодняя ёл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ычай украшать Новогоднюю ёлку пришёл от наших далёких предков, которые относились к деревьям , как к живым существ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9" descr="AG00390_"/>
          <p:cNvPicPr/>
          <p:nvPr/>
        </p:nvPicPr>
        <p:blipFill>
          <a:blip r:embed="rId1"/>
          <a:stretch/>
        </p:blipFill>
        <p:spPr>
          <a:xfrm>
            <a:off x="4572000" y="1523880"/>
            <a:ext cx="3740040" cy="4648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 как в наши дни встречают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овый год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j0216154"/>
          <p:cNvPicPr/>
          <p:nvPr/>
        </p:nvPicPr>
        <p:blipFill>
          <a:blip r:embed="rId1"/>
          <a:stretch/>
        </p:blipFill>
        <p:spPr>
          <a:xfrm>
            <a:off x="3987720" y="3886200"/>
            <a:ext cx="116856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j0283731"/>
          <p:cNvPicPr/>
          <p:nvPr/>
        </p:nvPicPr>
        <p:blipFill>
          <a:blip r:embed="rId2"/>
          <a:stretch/>
        </p:blipFill>
        <p:spPr>
          <a:xfrm>
            <a:off x="1262160" y="3860640"/>
            <a:ext cx="1724040" cy="1752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BD13663_"/>
          <p:cNvPicPr/>
          <p:nvPr/>
        </p:nvPicPr>
        <p:blipFill>
          <a:blip r:embed="rId3"/>
          <a:stretch/>
        </p:blipFill>
        <p:spPr>
          <a:xfrm>
            <a:off x="6516720" y="3573360"/>
            <a:ext cx="129528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ерм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Германи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ждество Христов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читается главным и любимым праздником. Именно Германии мир обязан традицией украшать ёлки. Рождественский стол в Германии обязательно застилают снежно-белой скатертью, украшают еловыми ветками, свечами и всевозможными милыми сувенирчик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j0283730"/>
          <p:cNvPicPr/>
          <p:nvPr/>
        </p:nvPicPr>
        <p:blipFill>
          <a:blip r:embed="rId1"/>
          <a:stretch/>
        </p:blipFill>
        <p:spPr>
          <a:xfrm>
            <a:off x="4716360" y="4789440"/>
            <a:ext cx="1219320" cy="1168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вст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Австрии в Новогоднюю ночь принято гадать. Все покупают оловянные фигурки, которые расплавляют на свече и выливают в специальную посуду. По тому, что вылилось, определяют какая судьба ждёт в наступающем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j0216128"/>
          <p:cNvPicPr/>
          <p:nvPr/>
        </p:nvPicPr>
        <p:blipFill>
          <a:blip r:embed="rId1"/>
          <a:stretch/>
        </p:blipFill>
        <p:spPr>
          <a:xfrm>
            <a:off x="3995640" y="407664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ех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хии одинаково активно отмечают и Рождество и Новый год. Своеобразен чешский новогодний стол. Мясо – символ благополучия и богатства. В качестве горячего подают запеченного в сметане карпа. А на десерт шоколадный торт с шампанским.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олгар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ело встречают Новый год в Болгарии. Когда все собираются за праздничным столом, во всех домах н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мину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гасят свет. Эт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нуты новогодних поцелуе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айну, которых хранит темно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олланд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вным блюдом рождественского стола в Голландии является индейка, запечённая с яблоками. Также голландцы  не представляют себе рождественский ужин без сладкого печенья, марципанов и знаменитого голландского хлебца (кекса с орехами и изюм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вый год в Голландии принято встречать пончиками. Встречая Новый год жители этой страны пьют шампанско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j0223778"/>
          <p:cNvPicPr/>
          <p:nvPr/>
        </p:nvPicPr>
        <p:blipFill>
          <a:blip r:embed="rId1"/>
          <a:stretch/>
        </p:blipFill>
        <p:spPr>
          <a:xfrm>
            <a:off x="6156360" y="5021280"/>
            <a:ext cx="2743200" cy="183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глия и С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ычай подавать к столу рождественскую индейку пришёл именно из Англии. Здесь её подают с рисовым пудингом и овощами. В США индейку подают с картофелем-ф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Англии и США любимым семейным праздником является Рождество, а вот Новый год они отмечают по-разн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овый год и Рождество в разных странах ми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0" descr="BD20663_"/>
          <p:cNvPicPr/>
          <p:nvPr/>
        </p:nvPicPr>
        <p:blipFill>
          <a:blip r:embed="rId1"/>
          <a:stretch/>
        </p:blipFill>
        <p:spPr>
          <a:xfrm>
            <a:off x="2195640" y="2708280"/>
            <a:ext cx="3962160" cy="3292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РЛАНД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рландии вечером накануне Нового года все открывают двери своих домов. Каждый кто пожелает, может войти и будет желанным гостем. Его угостят и преподнесут стакан вина со словами: «За мир в этом доме и во всём мире!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инная ирландская традиция – дарить на счастье кусочек уг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7709040" y="4221000"/>
          <a:ext cx="1371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9040" y="4221000"/>
                    <a:ext cx="1371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8" descr="AG00319_"/>
          <p:cNvPicPr/>
          <p:nvPr/>
        </p:nvPicPr>
        <p:blipFill>
          <a:blip r:embed="rId3"/>
          <a:stretch/>
        </p:blipFill>
        <p:spPr>
          <a:xfrm>
            <a:off x="7162920" y="609480"/>
            <a:ext cx="1981080" cy="1433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тал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нун Нового года в Италии из окон летят старые ненужные вещи, и чем больше старья выброшено, тем лучше. Итальянцы встречают новогодний праздник в обновленном интерьере и новой одеж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1" descr="j0336779"/>
          <p:cNvPicPr/>
          <p:nvPr/>
        </p:nvPicPr>
        <p:blipFill>
          <a:blip r:embed="rId1"/>
          <a:stretch/>
        </p:blipFill>
        <p:spPr>
          <a:xfrm>
            <a:off x="7729560" y="476280"/>
            <a:ext cx="1414440" cy="1981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j0283558"/>
          <p:cNvPicPr/>
          <p:nvPr/>
        </p:nvPicPr>
        <p:blipFill>
          <a:blip r:embed="rId2"/>
          <a:stretch/>
        </p:blipFill>
        <p:spPr>
          <a:xfrm>
            <a:off x="3203640" y="3870360"/>
            <a:ext cx="2684520" cy="297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спа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Испании основным праздником является Рождество. Вся семья встречает его за богато накрытым столом. На праздничном столе торты, рулеты, кексы и пирожные. 31 декабря – День Святого Николая – праздник, который испанцы отмечают в кругу друзей и близких, веселясь от души. Подарки вывешиваются в чулочки для даров и получают их только дети. Дарят им подарки 6 январ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j0288932"/>
          <p:cNvPicPr/>
          <p:nvPr/>
        </p:nvPicPr>
        <p:blipFill>
          <a:blip r:embed="rId1"/>
          <a:stretch/>
        </p:blipFill>
        <p:spPr>
          <a:xfrm>
            <a:off x="7462800" y="4305240"/>
            <a:ext cx="168120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j0223734"/>
          <p:cNvPicPr/>
          <p:nvPr/>
        </p:nvPicPr>
        <p:blipFill>
          <a:blip r:embed="rId2"/>
          <a:stretch/>
        </p:blipFill>
        <p:spPr>
          <a:xfrm>
            <a:off x="3419640" y="4597560"/>
            <a:ext cx="3047760" cy="1828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223772"/>
          <p:cNvPicPr/>
          <p:nvPr/>
        </p:nvPicPr>
        <p:blipFill>
          <a:blip r:embed="rId3"/>
          <a:stretch/>
        </p:blipFill>
        <p:spPr>
          <a:xfrm>
            <a:off x="900000" y="4832280"/>
            <a:ext cx="2286000" cy="1612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встрал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Австралии Новый год наступае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 январ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В это время здесь стоит такая жара, что Деду Морозу и Снегурочке  приходится разносить подарки в купальных костюмах. Правда, сохраняется обязательный атрибут Деда Мороза – красная шапочка с помпоном и белая борода. Новогодний вечер жители Австралии проводят в компании друзей, гуляя по нарядному городу под открытым небом, озарённым огнями салю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донез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ндонезию Новый год приходит 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тябре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ядно одетые индонезийцы просят прощения за те неприятности, которые они доставили друг другу в минувшем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j0178864"/>
          <p:cNvPicPr/>
          <p:nvPr/>
        </p:nvPicPr>
        <p:blipFill>
          <a:blip r:embed="rId1"/>
          <a:stretch/>
        </p:blipFill>
        <p:spPr>
          <a:xfrm>
            <a:off x="5715000" y="1905120"/>
            <a:ext cx="2811600" cy="4238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440" y="167616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яды встречи Нового года в Индии очень красивы. Индусы украшают себя розовыми, белыми и красными цветами. Существуют и особые ритуалы подношения подарков. Например, подарки детям кладут на специальный поднос, а утром дети с завязанными глазами выбирают себе подар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j0182485"/>
          <p:cNvPicPr/>
          <p:nvPr/>
        </p:nvPicPr>
        <p:blipFill>
          <a:blip r:embed="rId1"/>
          <a:stretch/>
        </p:blipFill>
        <p:spPr>
          <a:xfrm>
            <a:off x="5445000" y="2033640"/>
            <a:ext cx="2444760" cy="3657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Бирм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440" y="1752120"/>
            <a:ext cx="4876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год в Бирме наступае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апрел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Именно в это время здесь стоит знойная жара. Целую неделю люди с удовольствием поливают друг друга водой, идет новогодний праздник воды «тинджан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010280" y="1981080"/>
            <a:ext cx="1447920" cy="4114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j0202015"/>
          <p:cNvPicPr/>
          <p:nvPr/>
        </p:nvPicPr>
        <p:blipFill>
          <a:blip r:embed="rId2"/>
          <a:stretch/>
        </p:blipFill>
        <p:spPr>
          <a:xfrm>
            <a:off x="5715000" y="1676520"/>
            <a:ext cx="3284640" cy="4952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ьетна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Вьетнаме Новый год – это праздник дружбы. Встречают его вьетнамцы ночью, а с наступлением сумерек они разводят костры в парках, садах и на улице. В Новогоднюю ночь прощают все обиды и забывают все ссо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7" descr="j0283989"/>
          <p:cNvPicPr/>
          <p:nvPr/>
        </p:nvPicPr>
        <p:blipFill>
          <a:blip r:embed="rId1"/>
          <a:stretch/>
        </p:blipFill>
        <p:spPr>
          <a:xfrm>
            <a:off x="6516720" y="4495680"/>
            <a:ext cx="1204920" cy="1981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чень красиво в Новогоднюю ночь в Китае. Кажется, что вся страна похожа на огромный светящийся шар, потому что во время новогодней процессии китайцы зажигают множество фонарей, чтобы осветить себе путь в новый год. Они считают, что новый год окружен злыми духами  и нечистой силой и отпугивают их с помощью хлопушек и фейервер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тро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феврал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се жители городов и сёл выходят на улицу встречать восход солнца. С первыми лучами восходящего солнца они поздравляют друг друга с Новым годом и обмениваются подар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японцев есть замечательный обычай 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меять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момент наступления Нового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емного истории…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j0283728"/>
          <p:cNvPicPr/>
          <p:nvPr/>
        </p:nvPicPr>
        <p:blipFill>
          <a:blip r:embed="rId1"/>
          <a:stretch/>
        </p:blipFill>
        <p:spPr>
          <a:xfrm>
            <a:off x="6781680" y="457200"/>
            <a:ext cx="1905120" cy="1658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6f8b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j0336789"/>
          <p:cNvPicPr/>
          <p:nvPr/>
        </p:nvPicPr>
        <p:blipFill>
          <a:blip r:embed="rId1"/>
          <a:stretch/>
        </p:blipFill>
        <p:spPr>
          <a:xfrm>
            <a:off x="4305240" y="441360"/>
            <a:ext cx="533520" cy="809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685800" y="19810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есно встречают Новый год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скимос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у которых нет точной даты этого праздника. Выпал первый снег, значит и Новый год наступил – встречайте его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j0288939"/>
          <p:cNvPicPr/>
          <p:nvPr/>
        </p:nvPicPr>
        <p:blipFill>
          <a:blip r:embed="rId2"/>
          <a:stretch/>
        </p:blipFill>
        <p:spPr>
          <a:xfrm>
            <a:off x="5943600" y="3281400"/>
            <a:ext cx="1447920" cy="11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j0336789"/>
          <p:cNvPicPr/>
          <p:nvPr/>
        </p:nvPicPr>
        <p:blipFill>
          <a:blip r:embed="rId3"/>
          <a:stretch/>
        </p:blipFill>
        <p:spPr>
          <a:xfrm>
            <a:off x="1447920" y="228600"/>
            <a:ext cx="2205000" cy="182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j0336789"/>
          <p:cNvPicPr/>
          <p:nvPr/>
        </p:nvPicPr>
        <p:blipFill>
          <a:blip r:embed="rId4"/>
          <a:stretch/>
        </p:blipFill>
        <p:spPr>
          <a:xfrm>
            <a:off x="6172200" y="304920"/>
            <a:ext cx="220500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2019 год – год Желтой      Земляной свинь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1463760" y="1844640"/>
            <a:ext cx="6191280" cy="4676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овый год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со счастьем новым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 сказку сна к вам в дом войдё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 вместе с запахом еловым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пех и радость принесёт 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11" descr="дв метеорит"/>
          <p:cNvPicPr/>
          <p:nvPr/>
        </p:nvPicPr>
        <p:blipFill>
          <a:blip r:embed="rId1"/>
          <a:stretch/>
        </p:blipFill>
        <p:spPr>
          <a:xfrm>
            <a:off x="4572000" y="2971800"/>
            <a:ext cx="302436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дв метеорит"/>
          <p:cNvPicPr/>
          <p:nvPr/>
        </p:nvPicPr>
        <p:blipFill>
          <a:blip r:embed="rId2"/>
          <a:stretch/>
        </p:blipFill>
        <p:spPr>
          <a:xfrm>
            <a:off x="1447920" y="2971800"/>
            <a:ext cx="3200400" cy="3886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AG00392_"/>
          <p:cNvPicPr/>
          <p:nvPr/>
        </p:nvPicPr>
        <p:blipFill>
          <a:blip r:embed="rId3"/>
          <a:stretch/>
        </p:blipFill>
        <p:spPr>
          <a:xfrm>
            <a:off x="1447920" y="3048120"/>
            <a:ext cx="7315200" cy="360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619440" y="255276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762120" y="885960"/>
            <a:ext cx="7619760" cy="5086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Древний Егип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ый год встречали в начале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е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во время разлива Нил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9" descr="j0216135"/>
          <p:cNvPicPr/>
          <p:nvPr/>
        </p:nvPicPr>
        <p:blipFill>
          <a:blip r:embed="rId1"/>
          <a:stretch/>
        </p:blipFill>
        <p:spPr>
          <a:xfrm>
            <a:off x="7199280" y="3213000"/>
            <a:ext cx="1944720" cy="291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ревняя Грец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6765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зднование Нового года приходилось на самый длинный день в году 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2 июн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Летоисчисление древние греки вели от первых Олимпийских игр, которые устраивались в честь легендарного Геракл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j0283030"/>
          <p:cNvPicPr/>
          <p:nvPr/>
        </p:nvPicPr>
        <p:blipFill>
          <a:blip r:embed="rId1"/>
          <a:stretch/>
        </p:blipFill>
        <p:spPr>
          <a:xfrm>
            <a:off x="5257800" y="25146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ревний Ри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ычай делать подарки пришёл из Древнего Рима, где первыми подарками были ветви лавра, которые символизировали счастье и удачу в наступающем год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AG00391_"/>
          <p:cNvPicPr/>
          <p:nvPr/>
        </p:nvPicPr>
        <p:blipFill>
          <a:blip r:embed="rId1"/>
          <a:stretch/>
        </p:blipFill>
        <p:spPr>
          <a:xfrm>
            <a:off x="4648320" y="3213000"/>
            <a:ext cx="3047760" cy="284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им. Юлий Цезар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лендарь, в котором Новый год начинался с 1 января, ввёл римский император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Юлий Цезар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В историю он вошёл как знаменитый «юлианский календарь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j0283729"/>
          <p:cNvPicPr/>
          <p:nvPr/>
        </p:nvPicPr>
        <p:blipFill>
          <a:blip r:embed="rId1"/>
          <a:stretch/>
        </p:blipFill>
        <p:spPr>
          <a:xfrm>
            <a:off x="5148360" y="4653000"/>
            <a:ext cx="1377720" cy="1447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Франц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ена Великой Французской революции Новый год во Франции отмечали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2 сентябр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в день образования Республ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8" descr="j0181636"/>
          <p:cNvPicPr/>
          <p:nvPr/>
        </p:nvPicPr>
        <p:blipFill>
          <a:blip r:embed="rId1"/>
          <a:stretch/>
        </p:blipFill>
        <p:spPr>
          <a:xfrm>
            <a:off x="4500720" y="1916280"/>
            <a:ext cx="3657600" cy="2401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нгл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Англии в средние века Новый год встречали весной 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мар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ычай обмениваться поздравительными открытками с пожеланием счастья и удачи пришёл из Англ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j0336493"/>
          <p:cNvPicPr/>
          <p:nvPr/>
        </p:nvPicPr>
        <p:blipFill>
          <a:blip r:embed="rId1"/>
          <a:stretch/>
        </p:blipFill>
        <p:spPr>
          <a:xfrm>
            <a:off x="1476360" y="4581360"/>
            <a:ext cx="171468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07:16Z</dcterms:created>
  <dc:creator>Владелец</dc:creator>
  <dc:description/>
  <dc:language>en-US</dc:language>
  <cp:lastModifiedBy>Jussi_Lenovo</cp:lastModifiedBy>
  <dcterms:modified xsi:type="dcterms:W3CDTF">2018-12-09T16:47:56Z</dcterms:modified>
  <cp:revision>47</cp:revision>
  <dc:subject/>
  <dc:title>Новый год и Рождество в разных странах мира</dc:title>
</cp:coreProperties>
</file>