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9.jpeg" ContentType="image/jpeg"/>
  <Override PartName="/ppt/media/image7.gif" ContentType="image/gif"/>
  <Override PartName="/ppt/media/image25.gif" ContentType="image/gif"/>
  <Override PartName="/ppt/media/image24.gif" ContentType="image/gif"/>
  <Override PartName="/ppt/media/image20.wmf" ContentType="image/x-wmf"/>
  <Override PartName="/ppt/media/image23.gif" ContentType="image/gif"/>
  <Override PartName="/ppt/media/image8.gif" ContentType="image/gif"/>
  <Override PartName="/ppt/media/image36.png" ContentType="image/png"/>
  <Override PartName="/ppt/media/image13.gif" ContentType="image/gif"/>
  <Override PartName="/ppt/media/image10.gif" ContentType="image/gif"/>
  <Override PartName="/ppt/media/image12.jpeg" ContentType="image/jpeg"/>
  <Override PartName="/ppt/media/image6.gif" ContentType="image/gif"/>
  <Override PartName="/ppt/media/image30.gif" ContentType="image/gif"/>
  <Override PartName="/ppt/media/image33.png" ContentType="image/png"/>
  <Override PartName="/ppt/media/image35.gif" ContentType="image/gif"/>
  <Override PartName="/ppt/media/image31.gif" ContentType="image/gif"/>
  <Override PartName="/ppt/media/image11.jpeg" ContentType="image/jpeg"/>
  <Override PartName="/ppt/media/image9.jpeg" ContentType="image/jpeg"/>
  <Override PartName="/ppt/media/image32.gif" ContentType="image/gif"/>
  <Override PartName="/ppt/media/image37.png" ContentType="image/png"/>
  <Override PartName="/ppt/media/image34.gif" ContentType="image/gif"/>
  <Override PartName="/ppt/media/image4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18.jpeg" ContentType="image/jpeg"/>
  <Override PartName="/ppt/media/image22.gif" ContentType="image/gif"/>
  <Override PartName="/ppt/media/image1.png" ContentType="image/png"/>
  <Override PartName="/ppt/media/image21.gif" ContentType="image/gif"/>
  <Override PartName="/ppt/media/image14.jpeg" ContentType="image/jpeg"/>
  <Override PartName="/ppt/media/image19.gif" ContentType="image/gif"/>
  <Override PartName="/ppt/media/image5.jpeg" ContentType="image/jpeg"/>
  <Override PartName="/ppt/media/image15.gif" ContentType="image/gif"/>
  <Override PartName="/ppt/media/image28.jpeg" ContentType="image/jpeg"/>
  <Override PartName="/ppt/media/image1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432-8CAF-415C-A9F8-335073BAB7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A877-302C-4F68-9C2F-F150D2C7CC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65A-5687-4CD0-ADCA-CA2F901A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C03-6E49-4A00-9078-370FC9E5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29C-E4E6-40F2-A852-C64AC791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187-231B-485C-9EDE-9CE4DB41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EE3-5727-4DA6-8A59-760A5A0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C07-B29B-44DC-B7CB-5F94F537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F7C-52F7-4E6E-BAE5-4544628F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768-6FBE-4486-AF7C-C483C24D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E1E-4EEF-48BD-B85E-8BF9E73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B5D-774B-4A5B-97F3-D5892B35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EBA-3D9D-4067-990D-EF654568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AE2-6C4F-4757-B44C-EE2E3F8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0C1D-72EA-4421-8A64-B49E18F450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ходит старый год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Шуршит его последняя страница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усть лучшее, что было не уйдёт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 худшее не сможет повторитьс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1547640" y="625320"/>
            <a:ext cx="6299280" cy="415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реча Нового года в России приходилась на 1 сентября. И только в 1700 году по указ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а Велик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овый год стали отмечать 1 январ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петр"/>
          <p:cNvPicPr/>
          <p:nvPr/>
        </p:nvPicPr>
        <p:blipFill>
          <a:blip r:embed="rId1"/>
          <a:stretch/>
        </p:blipFill>
        <p:spPr>
          <a:xfrm>
            <a:off x="4859280" y="1773360"/>
            <a:ext cx="2739960" cy="3047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оссия. 1700 г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98108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ование Нового года в 1700 году началось парадом на Красной площади, а вечером небо озарилось яркими огнями праздничного фейервер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j0227558"/>
          <p:cNvPicPr/>
          <p:nvPr/>
        </p:nvPicPr>
        <p:blipFill>
          <a:blip r:embed="rId1"/>
          <a:stretch/>
        </p:blipFill>
        <p:spPr>
          <a:xfrm>
            <a:off x="5180040" y="2033640"/>
            <a:ext cx="297504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овогодняя ёл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ай украшать Новогоднюю ёлку пришёл от наших далёких предков, которые относились к деревьям , как к живым сущест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9" descr="AG00390_"/>
          <p:cNvPicPr/>
          <p:nvPr/>
        </p:nvPicPr>
        <p:blipFill>
          <a:blip r:embed="rId1"/>
          <a:stretch/>
        </p:blipFill>
        <p:spPr>
          <a:xfrm>
            <a:off x="4572000" y="1523880"/>
            <a:ext cx="374004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 как в наши дни встречают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овый год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j0216154"/>
          <p:cNvPicPr/>
          <p:nvPr/>
        </p:nvPicPr>
        <p:blipFill>
          <a:blip r:embed="rId1"/>
          <a:stretch/>
        </p:blipFill>
        <p:spPr>
          <a:xfrm>
            <a:off x="3987720" y="3886200"/>
            <a:ext cx="11685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j0283731"/>
          <p:cNvPicPr/>
          <p:nvPr/>
        </p:nvPicPr>
        <p:blipFill>
          <a:blip r:embed="rId2"/>
          <a:stretch/>
        </p:blipFill>
        <p:spPr>
          <a:xfrm>
            <a:off x="1262160" y="3860640"/>
            <a:ext cx="1724040" cy="175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BD13663_"/>
          <p:cNvPicPr/>
          <p:nvPr/>
        </p:nvPicPr>
        <p:blipFill>
          <a:blip r:embed="rId3"/>
          <a:stretch/>
        </p:blipFill>
        <p:spPr>
          <a:xfrm>
            <a:off x="6516720" y="357336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Германи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ждество Христо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читается главным и любимым праздником. Именно Германии мир обязан традицией украшать ёлки. Рождественский стол в Германии обязательно застилают снежно-белой скатертью, украшают еловыми ветками, свечами и всевозможными милыми сувенирчи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j0283730"/>
          <p:cNvPicPr/>
          <p:nvPr/>
        </p:nvPicPr>
        <p:blipFill>
          <a:blip r:embed="rId1"/>
          <a:stretch/>
        </p:blipFill>
        <p:spPr>
          <a:xfrm>
            <a:off x="4716360" y="4789440"/>
            <a:ext cx="1219320" cy="116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ст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встрии в Новогоднюю ночь принято гадать. Все покупают оловянные фигурки, которые расплавляют на свече и выливают в специальную посуду. По тому, что вылилось, определяют какая судьба ждёт в наступающем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j0216128"/>
          <p:cNvPicPr/>
          <p:nvPr/>
        </p:nvPicPr>
        <p:blipFill>
          <a:blip r:embed="rId1"/>
          <a:stretch/>
        </p:blipFill>
        <p:spPr>
          <a:xfrm>
            <a:off x="3995640" y="407664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ех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хии одинаково активно отмечают и Рождество и Новый год. Своеобразен чешский новогодний стол. Мясо – символ благополучия и богатства. В качестве горячего подают запеченного в сметане карпа. А на десерт шоколадный торт с шампанским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гар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ело встречают Новый год в Болгарии. Когда все собираются за праздничным столом, во всех домах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мину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асят свет. Эт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нуты новогодних поцелуе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айну, которых хранит темно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оллан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ым блюдом рождественского стола в Голландии является индейка, запечённая с яблоками. Также голландцы  не представляют себе рождественский ужин без сладкого печенья, марципанов и знаменитого голландского хлебца (кекса с орехами и изюм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вый год в Голландии принято встречать пончиками. Встречая Новый год жители этой страны пьют шампанско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j0223778"/>
          <p:cNvPicPr/>
          <p:nvPr/>
        </p:nvPicPr>
        <p:blipFill>
          <a:blip r:embed="rId1"/>
          <a:stretch/>
        </p:blipFill>
        <p:spPr>
          <a:xfrm>
            <a:off x="6156360" y="5021280"/>
            <a:ext cx="2743200" cy="183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глия и С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ай подавать к столу рождественскую индейку пришёл именно из Англии. Здесь её подают с рисовым пудингом и овощами. В США индейку подают с картофелем-ф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нглии и США любимым семейным праздником является Рождество, а вот Новый год они отмечают по-разн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овый год и Рождество в разных странах ми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0" descr="BD20663_"/>
          <p:cNvPicPr/>
          <p:nvPr/>
        </p:nvPicPr>
        <p:blipFill>
          <a:blip r:embed="rId1"/>
          <a:stretch/>
        </p:blipFill>
        <p:spPr>
          <a:xfrm>
            <a:off x="2195640" y="2708280"/>
            <a:ext cx="3962160" cy="3292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РЛАНД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рландии вечером накануне Нового года все открывают двери своих домов. Каждый кто пожелает, может войти и будет желанным гостем. Его угостят и преподнесут стакан вина со словами: «За мир в этом доме и во всём мире!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инная ирландская традиция – дарить на счастье кусочек уг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7709040" y="4221000"/>
          <a:ext cx="1371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9040" y="4221000"/>
                    <a:ext cx="1371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8" descr="AG00319_"/>
          <p:cNvPicPr/>
          <p:nvPr/>
        </p:nvPicPr>
        <p:blipFill>
          <a:blip r:embed="rId3"/>
          <a:stretch/>
        </p:blipFill>
        <p:spPr>
          <a:xfrm>
            <a:off x="7162920" y="60948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тал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нун Нового года в Италии из окон летят старые ненужные вещи, и чем больше старья выброшено, тем лучше. Итальянцы встречают новогодний праздник в обновленном интерьере и новой одеж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1" descr="j0336779"/>
          <p:cNvPicPr/>
          <p:nvPr/>
        </p:nvPicPr>
        <p:blipFill>
          <a:blip r:embed="rId1"/>
          <a:stretch/>
        </p:blipFill>
        <p:spPr>
          <a:xfrm>
            <a:off x="7729560" y="476280"/>
            <a:ext cx="1414440" cy="198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j0283558"/>
          <p:cNvPicPr/>
          <p:nvPr/>
        </p:nvPicPr>
        <p:blipFill>
          <a:blip r:embed="rId2"/>
          <a:stretch/>
        </p:blipFill>
        <p:spPr>
          <a:xfrm>
            <a:off x="3203640" y="3870360"/>
            <a:ext cx="2684520" cy="29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сп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Испании основным праздником является Рождество. Вся семья встречает его за богато накрытым столом. На праздничном столе торты, рулеты, кексы и пирожные. 31 декабря – День Святого Николая – праздник, который испанцы отмечают в кругу друзей и близких, веселясь от души. Подарки вывешиваются в чулочки для даров и получают их только дети. Дарят им подарки 6 январ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j0288932"/>
          <p:cNvPicPr/>
          <p:nvPr/>
        </p:nvPicPr>
        <p:blipFill>
          <a:blip r:embed="rId1"/>
          <a:stretch/>
        </p:blipFill>
        <p:spPr>
          <a:xfrm>
            <a:off x="7462800" y="4305240"/>
            <a:ext cx="168120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j0223734"/>
          <p:cNvPicPr/>
          <p:nvPr/>
        </p:nvPicPr>
        <p:blipFill>
          <a:blip r:embed="rId2"/>
          <a:stretch/>
        </p:blipFill>
        <p:spPr>
          <a:xfrm>
            <a:off x="3419640" y="459756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223772"/>
          <p:cNvPicPr/>
          <p:nvPr/>
        </p:nvPicPr>
        <p:blipFill>
          <a:blip r:embed="rId3"/>
          <a:stretch/>
        </p:blipFill>
        <p:spPr>
          <a:xfrm>
            <a:off x="900000" y="4832280"/>
            <a:ext cx="2286000" cy="161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встрал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встралии Новый год наступа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январ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 это время здесь стоит такая жара, что Деду Морозу и Снегурочке  приходится разносить подарки в купальных костюмах. Правда, сохраняется обязательный атрибут Деда Мороза – красная шапочка с помпоном и белая борода. Новогодний вечер жители Австралии проводят в компании друзей, гуляя по нарядному городу под открытым небом, озарённым огнями салю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доне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ндонезию Новый год приходит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тябр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ядно одетые индонезийцы просят прощения за те неприятности, которые они доставили друг другу в минувшем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j0178864"/>
          <p:cNvPicPr/>
          <p:nvPr/>
        </p:nvPicPr>
        <p:blipFill>
          <a:blip r:embed="rId1"/>
          <a:stretch/>
        </p:blipFill>
        <p:spPr>
          <a:xfrm>
            <a:off x="5715000" y="1905120"/>
            <a:ext cx="2811600" cy="423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яды встречи Нового года в Индии очень красивы. Индусы украшают себя розовыми, белыми и красными цветами. Существуют и особые ритуалы подношения подарков. Например, подарки детям кладут на специальный поднос, а утром дети с завязанными глазами выбирают себе пода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j0182485"/>
          <p:cNvPicPr/>
          <p:nvPr/>
        </p:nvPicPr>
        <p:blipFill>
          <a:blip r:embed="rId1"/>
          <a:stretch/>
        </p:blipFill>
        <p:spPr>
          <a:xfrm>
            <a:off x="5445000" y="203364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Бирм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440" y="175212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 в Бирме наступа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апрел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Именно в это время здесь стоит знойная жара. Целую неделю люди с удовольствием поливают друг друга водой, идет новогодний праздник воды «тинджан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10280" y="1981080"/>
            <a:ext cx="144792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202015"/>
          <p:cNvPicPr/>
          <p:nvPr/>
        </p:nvPicPr>
        <p:blipFill>
          <a:blip r:embed="rId2"/>
          <a:stretch/>
        </p:blipFill>
        <p:spPr>
          <a:xfrm>
            <a:off x="5715000" y="1676520"/>
            <a:ext cx="3284640" cy="49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ьетна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ьетнаме Новый год – это праздник дружбы. Встречают его вьетнамцы ночью, а с наступлением сумерек они разводят костры в парках, садах и на улице. В Новогоднюю ночь прощают все обиды и забывают все сс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j0283989"/>
          <p:cNvPicPr/>
          <p:nvPr/>
        </p:nvPicPr>
        <p:blipFill>
          <a:blip r:embed="rId1"/>
          <a:stretch/>
        </p:blipFill>
        <p:spPr>
          <a:xfrm>
            <a:off x="6516720" y="4495680"/>
            <a:ext cx="1204920" cy="198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красиво в Новогоднюю ночь в Китае. Кажется, что вся страна похожа на огромный светящийся шар, потому что во время новогодней процессии китайцы зажигают множество фонарей, чтобы осветить себе путь в новый год. Они считают, что новый год окружен злыми духами  и нечистой силой и отпугивают их с помощью хлопушек и фейервер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р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феврал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се жители городов и сёл выходят на улицу встречать восход солнца. С первыми лучами восходящего солнца они поздравляют друг друга с Новым годом и обмениваются подар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японцев есть замечательный обычай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меять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момент наступления Нового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много истории…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j0283728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65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f8b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j0336789"/>
          <p:cNvPicPr/>
          <p:nvPr/>
        </p:nvPicPr>
        <p:blipFill>
          <a:blip r:embed="rId1"/>
          <a:stretch/>
        </p:blipFill>
        <p:spPr>
          <a:xfrm>
            <a:off x="4305240" y="441360"/>
            <a:ext cx="533520" cy="80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68580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но встречают Новый год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скимо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у которых нет точной даты этого праздника. Выпал первый снег, значит и Новый год наступил – встречайте его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j0288939"/>
          <p:cNvPicPr/>
          <p:nvPr/>
        </p:nvPicPr>
        <p:blipFill>
          <a:blip r:embed="rId2"/>
          <a:stretch/>
        </p:blipFill>
        <p:spPr>
          <a:xfrm>
            <a:off x="5943600" y="3281400"/>
            <a:ext cx="1447920" cy="11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336789"/>
          <p:cNvPicPr/>
          <p:nvPr/>
        </p:nvPicPr>
        <p:blipFill>
          <a:blip r:embed="rId3"/>
          <a:stretch/>
        </p:blipFill>
        <p:spPr>
          <a:xfrm>
            <a:off x="1447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j0336789"/>
          <p:cNvPicPr/>
          <p:nvPr/>
        </p:nvPicPr>
        <p:blipFill>
          <a:blip r:embed="rId4"/>
          <a:stretch/>
        </p:blipFill>
        <p:spPr>
          <a:xfrm>
            <a:off x="6172200" y="304920"/>
            <a:ext cx="22050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2019 год – год Желтой      Земляной свинь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463760" y="1844640"/>
            <a:ext cx="6191280" cy="4676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со счастьем новы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 сказку сна к вам в дом войдё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вместе с запахом еловы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пех и радость принесёт 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1" descr="дв метеорит"/>
          <p:cNvPicPr/>
          <p:nvPr/>
        </p:nvPicPr>
        <p:blipFill>
          <a:blip r:embed="rId1"/>
          <a:stretch/>
        </p:blipFill>
        <p:spPr>
          <a:xfrm>
            <a:off x="4572000" y="2971800"/>
            <a:ext cx="302436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дв метеорит"/>
          <p:cNvPicPr/>
          <p:nvPr/>
        </p:nvPicPr>
        <p:blipFill>
          <a:blip r:embed="rId2"/>
          <a:stretch/>
        </p:blipFill>
        <p:spPr>
          <a:xfrm>
            <a:off x="1447920" y="297180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AG00392_"/>
          <p:cNvPicPr/>
          <p:nvPr/>
        </p:nvPicPr>
        <p:blipFill>
          <a:blip r:embed="rId3"/>
          <a:stretch/>
        </p:blipFill>
        <p:spPr>
          <a:xfrm>
            <a:off x="1447920" y="3048120"/>
            <a:ext cx="7315200" cy="360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619440" y="255276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ревний Егип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ый год встречали в начал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во время разлива Ни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j0216135"/>
          <p:cNvPicPr/>
          <p:nvPr/>
        </p:nvPicPr>
        <p:blipFill>
          <a:blip r:embed="rId1"/>
          <a:stretch/>
        </p:blipFill>
        <p:spPr>
          <a:xfrm>
            <a:off x="7199280" y="3213000"/>
            <a:ext cx="1944720" cy="29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ревняя Грец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6765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зднование Нового года приходилось на самый длинный день в году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2 ию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Летоисчисление древние греки вели от первых Олимпийских игр, которые устраивались в честь легендарного Герак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j0283030"/>
          <p:cNvPicPr/>
          <p:nvPr/>
        </p:nvPicPr>
        <p:blipFill>
          <a:blip r:embed="rId1"/>
          <a:stretch/>
        </p:blipFill>
        <p:spPr>
          <a:xfrm>
            <a:off x="5257800" y="25146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ревний Ри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ай делать подарки пришёл из Древнего Рима, где первыми подарками были ветви лавра, которые символизировали счастье и удачу в наступающем го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AG00391_"/>
          <p:cNvPicPr/>
          <p:nvPr/>
        </p:nvPicPr>
        <p:blipFill>
          <a:blip r:embed="rId1"/>
          <a:stretch/>
        </p:blipFill>
        <p:spPr>
          <a:xfrm>
            <a:off x="4648320" y="3213000"/>
            <a:ext cx="3047760" cy="28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им. Юлий Цезар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лендарь, в котором Новый год начинался с 1 января, ввёл римский император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Юлий Цезар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В историю он вошёл как знаменитый «юлианский календарь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j0283729"/>
          <p:cNvPicPr/>
          <p:nvPr/>
        </p:nvPicPr>
        <p:blipFill>
          <a:blip r:embed="rId1"/>
          <a:stretch/>
        </p:blipFill>
        <p:spPr>
          <a:xfrm>
            <a:off x="5148360" y="4653000"/>
            <a:ext cx="137772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Франц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ена Великой Французской революции Новый год во Франции отмечали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2 сентябр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в день образования Республ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8" descr="j0181636"/>
          <p:cNvPicPr/>
          <p:nvPr/>
        </p:nvPicPr>
        <p:blipFill>
          <a:blip r:embed="rId1"/>
          <a:stretch/>
        </p:blipFill>
        <p:spPr>
          <a:xfrm>
            <a:off x="4500720" y="1916280"/>
            <a:ext cx="3657600" cy="2401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гл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Англии в средние века Новый год встречали весной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мар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ай обмениваться поздравительными открытками с пожеланием счастья и удачи пришёл из Англ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0336493"/>
          <p:cNvPicPr/>
          <p:nvPr/>
        </p:nvPicPr>
        <p:blipFill>
          <a:blip r:embed="rId1"/>
          <a:stretch/>
        </p:blipFill>
        <p:spPr>
          <a:xfrm>
            <a:off x="1476360" y="458136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07:16Z</dcterms:created>
  <dc:creator>Владелец</dc:creator>
  <dc:description/>
  <dc:language>en-US</dc:language>
  <cp:lastModifiedBy>Jussi_Lenovo</cp:lastModifiedBy>
  <dcterms:modified xsi:type="dcterms:W3CDTF">2018-12-09T16:47:56Z</dcterms:modified>
  <cp:revision>47</cp:revision>
  <dc:subject/>
  <dc:title>Новый год и Рождество в разных странах мира</dc:title>
</cp:coreProperties>
</file>