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0AD-DC91-4CF9-B60A-C5DCA288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F53-C344-4CF2-8F48-37C5D751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1D2-185F-4B9B-889E-53D26683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98A-909C-4F1F-91CD-AD79BBC6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324-8C57-494B-A0B5-A9718ACA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F79-FE98-423D-B2CC-92FDA530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EEA-D422-441F-BF3D-370F557E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042-41DC-4EE0-A577-65163E43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7DE-CC86-4886-9B2A-4B348C2D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B54-C91C-4D73-AAA8-43AC49CE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7D7-A037-4D45-A688-5AF77C61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D7D-D6E8-4397-B44B-0A08B08A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19FE-3C49-447B-BB44-3EF7CBF3E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6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>
            <a:hlinkClick r:id="rId2" action="ppaction://hlinksldjump"/>
          </p:cNvPr>
          <p:cNvSpPr/>
          <p:nvPr/>
        </p:nvSpPr>
        <p:spPr>
          <a:xfrm>
            <a:off x="457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3">
            <a:hlinkClick r:id="rId3" action="ppaction://hlinksldjump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1">
            <a:hlinkClick r:id="rId4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2209680" y="3505320"/>
            <a:ext cx="6096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Меня угостили молоком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5">
            <a:hlinkClick r:id="rId5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6">
            <a:hlinkClick r:id="rId6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7">
            <a:hlinkClick r:id="rId7" action="ppaction://hlinksldjump"/>
          </p:cNvPr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rId2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2209680" y="350532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Я погасил </a:t>
            </a:r>
            <a:r>
              <a:rPr b="1" lang="ru-RU" sz="5400" spc="-1" strike="noStrike">
                <a:solidFill>
                  <a:srgbClr val="0066ff"/>
                </a:solidFill>
                <a:latin typeface="Times New Roman"/>
              </a:rPr>
              <a:t>све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>
            <a:hlinkClick r:id="rId4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>
            <a:hlinkClick r:id="rId5" action="ppaction://hlinksldjump"/>
          </p:cNvPr>
          <p:cNvSpPr/>
          <p:nvPr/>
        </p:nvSpPr>
        <p:spPr>
          <a:xfrm>
            <a:off x="4572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>
            <a:hlinkClick r:id="rId6" action="ppaction://hlinksldjump"/>
          </p:cNvPr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rId2" action="ppaction://hlinksldjump"/>
          </p:cNvPr>
          <p:cNvSpPr/>
          <p:nvPr/>
        </p:nvSpPr>
        <p:spPr>
          <a:xfrm>
            <a:off x="457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209680" y="350532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Я жил за реко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>
            <a:hlinkClick r:id="rId4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>
            <a:hlinkClick r:id="rId5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>
            <a:hlinkClick r:id="rId6" action="ppaction://hlinksldjump"/>
          </p:cNvPr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>
            <a:hlinkClick r:id="rId2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209680" y="3505320"/>
            <a:ext cx="6096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Мальчик поставил кружку </a:t>
            </a:r>
            <a:r>
              <a:rPr b="1" lang="ru-RU" sz="5400" spc="-1" strike="noStrike">
                <a:solidFill>
                  <a:srgbClr val="0066ff"/>
                </a:solidFill>
                <a:latin typeface="Times New Roman"/>
              </a:rPr>
              <a:t>на сто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4572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457200" y="5715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209680" y="3505320"/>
            <a:ext cx="60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Я мечтаю о поход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"/>
          <p:cNvSpPr/>
          <p:nvPr/>
        </p:nvSpPr>
        <p:spPr>
          <a:xfrm>
            <a:off x="457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1219320" y="236232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00"/>
                </a:solidFill>
                <a:latin typeface="Times New Roman"/>
              </a:rPr>
              <a:t>Ты сегодня 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7848720" y="541008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3837"/>
                </a:moveTo>
                <a:lnTo>
                  <a:pt x="14273" y="6448"/>
                </a:ln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lnTo>
                  <a:pt x="18660" y="10800"/>
                </a:lnTo>
                <a:lnTo>
                  <a:pt x="17006" y="10800"/>
                </a:lnTo>
                <a:lnTo>
                  <a:pt x="17006" y="17989"/>
                </a:lnTo>
                <a:lnTo>
                  <a:pt x="6388" y="17989"/>
                </a:lnTo>
                <a:lnTo>
                  <a:pt x="6388" y="10800"/>
                </a:lnTo>
                <a:lnTo>
                  <a:pt x="4734" y="10800"/>
                </a:lnTo>
                <a:close/>
              </a:path>
              <a:path fill="darkenLess" w="23394" h="21600">
                <a:moveTo>
                  <a:pt x="14273" y="6448"/>
                </a:move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close/>
              </a:path>
              <a:path fill="darkenLess" w="23394" h="21600">
                <a:moveTo>
                  <a:pt x="10774" y="14299"/>
                </a:moveTo>
                <a:lnTo>
                  <a:pt x="12619" y="14299"/>
                </a:lnTo>
                <a:lnTo>
                  <a:pt x="12619" y="17989"/>
                </a:lnTo>
                <a:lnTo>
                  <a:pt x="17006" y="17989"/>
                </a:lnTo>
                <a:lnTo>
                  <a:pt x="17006" y="10800"/>
                </a:lnTo>
                <a:lnTo>
                  <a:pt x="6388" y="10800"/>
                </a:lnTo>
                <a:lnTo>
                  <a:pt x="6388" y="17989"/>
                </a:lnTo>
                <a:lnTo>
                  <a:pt x="10774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37r3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705720" y="380880"/>
            <a:ext cx="2057400" cy="1954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апап"/>
          <p:cNvPicPr/>
          <p:nvPr/>
        </p:nvPicPr>
        <p:blipFill>
          <a:blip r:embed="rId2"/>
          <a:stretch/>
        </p:blipFill>
        <p:spPr>
          <a:xfrm>
            <a:off x="457200" y="457200"/>
            <a:ext cx="15368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80880" y="5334120"/>
            <a:ext cx="72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Times New Roman"/>
              </a:rPr>
              <a:t>Вернись назад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>
            <a:hlinkClick r:id="" action="ppaction://hlinkshowjump?jump=previousslide"/>
          </p:cNvPr>
          <p:cNvSpPr/>
          <p:nvPr/>
        </p:nvSpPr>
        <p:spPr>
          <a:xfrm rot="10800000">
            <a:off x="7619760" y="556236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2819520" y="685800"/>
            <a:ext cx="335268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шибка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Picture 16" descr="рпр"/>
          <p:cNvPicPr/>
          <p:nvPr/>
        </p:nvPicPr>
        <p:blipFill>
          <a:blip r:embed="rId1"/>
          <a:stretch/>
        </p:blipFill>
        <p:spPr>
          <a:xfrm>
            <a:off x="3657600" y="2438280"/>
            <a:ext cx="194472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>
            <a:hlinkClick r:id="rId1" action="ppaction://hlinksldjump"/>
          </p:cNvPr>
          <p:cNvSpPr/>
          <p:nvPr/>
        </p:nvSpPr>
        <p:spPr>
          <a:xfrm>
            <a:off x="457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>
            <a:hlinkClick r:id="rId2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2362320" y="320040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У нас нет такой крас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>
            <a:hlinkClick r:id="rId4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>
            <a:hlinkClick r:id="rId5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>
            <a:hlinkClick r:id="rId6" action="ppaction://hlinksldjump"/>
          </p:cNvPr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>
            <a:hlinkClick r:id="rId2" action="ppaction://hlinksldjump"/>
          </p:cNvPr>
          <p:cNvSpPr/>
          <p:nvPr/>
        </p:nvSpPr>
        <p:spPr>
          <a:xfrm>
            <a:off x="457200" y="57913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209680" y="3505320"/>
            <a:ext cx="6096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Оно растёт на дерев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>
            <a:hlinkClick r:id="rId4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>
            <a:hlinkClick r:id="rId5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>
            <a:hlinkClick r:id="rId6" action="ppaction://hlinksldjump"/>
          </p:cNvPr>
          <p:cNvSpPr/>
          <p:nvPr/>
        </p:nvSpPr>
        <p:spPr>
          <a:xfrm>
            <a:off x="457200" y="50292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>
            <a:hlinkClick r:id="rId2" action="ppaction://hlinksldjump"/>
          </p:cNvPr>
          <p:cNvSpPr/>
          <p:nvPr/>
        </p:nvSpPr>
        <p:spPr>
          <a:xfrm>
            <a:off x="457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209680" y="3505320"/>
            <a:ext cx="609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Дети сидят за </a:t>
            </a:r>
            <a:r>
              <a:rPr b="1" lang="ru-RU" sz="6000" spc="-1" strike="noStrike">
                <a:solidFill>
                  <a:srgbClr val="0066ff"/>
                </a:solidFill>
                <a:latin typeface="Times New Roman"/>
              </a:rPr>
              <a:t>парто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>
            <a:hlinkClick r:id="rId4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>
            <a:hlinkClick r:id="rId5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>
            <a:hlinkClick r:id="rId6" action="ppaction://hlinksldjump"/>
          </p:cNvPr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>
            <a:hlinkClick r:id="rId2" action="ppaction://hlinksldjump"/>
          </p:cNvPr>
          <p:cNvSpPr/>
          <p:nvPr/>
        </p:nvSpPr>
        <p:spPr>
          <a:xfrm>
            <a:off x="457200" y="18288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>
            <a:hlinkClick r:id="rId3" action="ppaction://hlinksldjump"/>
          </p:cNvPr>
          <p:cNvSpPr/>
          <p:nvPr/>
        </p:nvSpPr>
        <p:spPr>
          <a:xfrm>
            <a:off x="457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209680" y="3505320"/>
            <a:ext cx="60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Times New Roman"/>
              </a:rPr>
              <a:t>Самолёт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поднялся в возду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>
            <a:hlinkClick r:id="rId4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>
            <a:hlinkClick r:id="rId5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>
            <a:hlinkClick r:id="rId6" action="ppaction://hlinksldjump"/>
          </p:cNvPr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rId2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209680" y="3505320"/>
            <a:ext cx="609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Зашёл к другу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>
            <a:hlinkClick r:id="rId4" action="ppaction://hlinksldjump"/>
          </p:cNvPr>
          <p:cNvSpPr/>
          <p:nvPr/>
        </p:nvSpPr>
        <p:spPr>
          <a:xfrm>
            <a:off x="457200" y="4876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>
            <a:hlinkClick r:id="rId5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>
            <a:hlinkClick r:id="rId6" action="ppaction://hlinksldjump"/>
          </p:cNvPr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2" action="ppaction://hlinksldjump"/>
          </p:cNvPr>
          <p:cNvSpPr/>
          <p:nvPr/>
        </p:nvSpPr>
        <p:spPr>
          <a:xfrm>
            <a:off x="457200" y="5715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209680" y="3429000"/>
            <a:ext cx="6096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рочитал </a:t>
            </a:r>
            <a:r>
              <a:rPr b="1" lang="ru-RU" sz="4800" spc="-1" strike="noStrike">
                <a:solidFill>
                  <a:srgbClr val="0066ff"/>
                </a:solidFill>
                <a:latin typeface="Times New Roman"/>
              </a:rPr>
              <a:t>в книге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интересную истори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>
            <a:hlinkClick r:id="rId4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>
            <a:hlinkClick r:id="rId5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>
            <a:hlinkClick r:id="rId6" action="ppaction://hlinksldjump"/>
          </p:cNvPr>
          <p:cNvSpPr/>
          <p:nvPr/>
        </p:nvSpPr>
        <p:spPr>
          <a:xfrm>
            <a:off x="457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Определи падеж имени существи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>
            <a:hlinkClick r:id="rId1" action="ppaction://hlinksldjump"/>
          </p:cNvPr>
          <p:cNvSpPr/>
          <p:nvPr/>
        </p:nvSpPr>
        <p:spPr>
          <a:xfrm>
            <a:off x="457200" y="2666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rId2" action="ppaction://hlinksldjump"/>
          </p:cNvPr>
          <p:cNvSpPr/>
          <p:nvPr/>
        </p:nvSpPr>
        <p:spPr>
          <a:xfrm>
            <a:off x="45720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495680" y="1981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>
            <a:hlinkClick r:id="" action="ppaction://hlinkshowjump?jump=nextslide"/>
          </p:cNvPr>
          <p:cNvSpPr/>
          <p:nvPr/>
        </p:nvSpPr>
        <p:spPr>
          <a:xfrm rot="10800000">
            <a:off x="8076960" y="594324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>
            <a:hlinkClick r:id="rId3" action="ppaction://hlinksldjump"/>
          </p:cNvPr>
          <p:cNvSpPr/>
          <p:nvPr/>
        </p:nvSpPr>
        <p:spPr>
          <a:xfrm>
            <a:off x="457200" y="1905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2209680" y="3505320"/>
            <a:ext cx="609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Любуюсь красивой картин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>
            <a:hlinkClick r:id="rId4" action="ppaction://hlinksldjump"/>
          </p:cNvPr>
          <p:cNvSpPr/>
          <p:nvPr/>
        </p:nvSpPr>
        <p:spPr>
          <a:xfrm>
            <a:off x="45720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>
            <a:hlinkClick r:id="rId5" action="ppaction://hlinksldjump"/>
          </p:cNvPr>
          <p:cNvSpPr/>
          <p:nvPr/>
        </p:nvSpPr>
        <p:spPr>
          <a:xfrm>
            <a:off x="45720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>
            <a:hlinkClick r:id="rId6" action="ppaction://hlinksldjump"/>
          </p:cNvPr>
          <p:cNvSpPr/>
          <p:nvPr/>
        </p:nvSpPr>
        <p:spPr>
          <a:xfrm>
            <a:off x="457200" y="56386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.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9-01-10T08:37:5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