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5AB-59C5-4930-9FD3-ED6F452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F90-8942-4961-8B62-AEAEAB7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732-423E-4BE1-BEB1-7F922B6E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99A-31B8-486D-8894-C07B2ED1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BBF-20AD-4A5D-8A6C-1690C63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A45-4526-4A84-85C3-B057F99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914-EE10-4D27-90C7-A936C3F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27C-40AA-450E-905C-63F5A98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707-832E-4B63-AC4C-47ADCCBF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CE1-21C6-4E62-923C-23C2C51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666-B266-466A-8B5E-12C7349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5BD-87F6-4908-94B8-597FF15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DEAB-27A3-43FF-BE01-8BCAEE664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>
            <a:hlinkClick r:id="rId3" action="ppaction://hlinksldjump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>
            <a:hlinkClick r:id="rId4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2209680" y="35053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Меня угостили молоко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5">
            <a:hlinkClick r:id="rId5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>
            <a:hlinkClick r:id="rId6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">
            <a:hlinkClick r:id="rId7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209680" y="35053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 погасил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св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>
            <a:hlinkClick r:id="rId5" action="ppaction://hlinksldjump"/>
          </p:cNvPr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209680" y="35053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Я жил за рек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2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209680" y="3505320"/>
            <a:ext cx="609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альчик поставил кружку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на сто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7200" y="5715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209680" y="3505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 мечтаю о поход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219320" y="236232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Ты сегодня 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7848720" y="54100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37r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705720" y="380880"/>
            <a:ext cx="2057400" cy="195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апап"/>
          <p:cNvPicPr/>
          <p:nvPr/>
        </p:nvPicPr>
        <p:blipFill>
          <a:blip r:embed="rId2"/>
          <a:stretch/>
        </p:blipFill>
        <p:spPr>
          <a:xfrm>
            <a:off x="457200" y="457200"/>
            <a:ext cx="1536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533412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Вернись назад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>
            <a:hlinkClick r:id="" action="ppaction://hlinkshowjump?jump=previousslide"/>
          </p:cNvPr>
          <p:cNvSpPr/>
          <p:nvPr/>
        </p:nvSpPr>
        <p:spPr>
          <a:xfrm rot="10800000">
            <a:off x="7619760" y="556236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819520" y="685800"/>
            <a:ext cx="33526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шибка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6" descr="рпр"/>
          <p:cNvPicPr/>
          <p:nvPr/>
        </p:nvPicPr>
        <p:blipFill>
          <a:blip r:embed="rId1"/>
          <a:stretch/>
        </p:blipFill>
        <p:spPr>
          <a:xfrm>
            <a:off x="3657600" y="2438280"/>
            <a:ext cx="19447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>
            <a:hlinkClick r:id="rId1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2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362320" y="32004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У нас нет такой крас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rId2" action="ppaction://hlinksldjump"/>
          </p:cNvPr>
          <p:cNvSpPr/>
          <p:nvPr/>
        </p:nvSpPr>
        <p:spPr>
          <a:xfrm>
            <a:off x="45720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209680" y="35053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Оно растёт на дерев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>
            <a:hlinkClick r:id="rId6" action="ppaction://hlinksldjump"/>
          </p:cNvPr>
          <p:cNvSpPr/>
          <p:nvPr/>
        </p:nvSpPr>
        <p:spPr>
          <a:xfrm>
            <a:off x="457200" y="50292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09680" y="350532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ети сидят за </a:t>
            </a: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парт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rId2" action="ppaction://hlinksldjump"/>
          </p:cNvPr>
          <p:cNvSpPr/>
          <p:nvPr/>
        </p:nvSpPr>
        <p:spPr>
          <a:xfrm>
            <a:off x="457200" y="18288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3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209680" y="3505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Самолёт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поднялся в возду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209680" y="350532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шёл к друг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>
            <a:hlinkClick r:id="rId4" action="ppaction://hlinksldjump"/>
          </p:cNvPr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457200" y="5715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209680" y="3429000"/>
            <a:ext cx="609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читал </a:t>
            </a: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в книге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интересную истор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>
            <a:hlinkClick r:id="rId6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209680" y="35053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юбуюсь красивой карти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9-01-10T08:37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