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0A54-2FB7-4031-B079-3F62C4C1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2C75-F3F4-458C-8828-CEAA1E3D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300-1EE9-43B3-8E0F-982D167E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47D-34F5-4994-994A-499F07C8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1CD9-00B3-49F7-9C26-57742681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9B1E-AECB-4D9F-B0ED-A4093D07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9C5-13FA-4A5C-842E-E3A93133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948C-EE7E-489D-96FE-30618D8D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5DEB-D8CD-4F49-A0FA-FE32A23D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C750-4F56-44F4-A713-7A54A9EF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55E-BD58-4522-98EA-A5D9AFDD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E1EE-BC81-469D-BC98-B28CA267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846E3-0DE2-4D97-9AFC-A1F4E7499B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1"/>
          <a:stretch/>
        </p:blipFill>
        <p:spPr>
          <a:xfrm>
            <a:off x="566640" y="701640"/>
            <a:ext cx="844884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extBox 3" descr=""/>
          <p:cNvPicPr/>
          <p:nvPr/>
        </p:nvPicPr>
        <p:blipFill>
          <a:blip r:embed="rId1"/>
          <a:stretch/>
        </p:blipFill>
        <p:spPr>
          <a:xfrm>
            <a:off x="1639800" y="139680"/>
            <a:ext cx="5797800" cy="136044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4" descr=""/>
          <p:cNvPicPr/>
          <p:nvPr/>
        </p:nvPicPr>
        <p:blipFill>
          <a:blip r:embed="rId2"/>
          <a:stretch/>
        </p:blipFill>
        <p:spPr>
          <a:xfrm>
            <a:off x="176040" y="1017720"/>
            <a:ext cx="8474400" cy="200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357120" y="3929040"/>
          <a:ext cx="8429760" cy="2629080"/>
        </p:xfrm>
        <a:graphic>
          <a:graphicData uri="http://schemas.openxmlformats.org/drawingml/2006/table">
            <a:tbl>
              <a:tblPr/>
              <a:tblGrid>
                <a:gridCol w="1397160"/>
                <a:gridCol w="637920"/>
                <a:gridCol w="638280"/>
                <a:gridCol w="639720"/>
                <a:gridCol w="639720"/>
                <a:gridCol w="638280"/>
                <a:gridCol w="639720"/>
                <a:gridCol w="639720"/>
                <a:gridCol w="639720"/>
                <a:gridCol w="638280"/>
                <a:gridCol w="639720"/>
                <a:gridCol w="641520"/>
              </a:tblGrid>
              <a:tr h="438120">
                <a:tc>
                  <a:txBody>
                    <a:bodyPr lIns="34920" rIns="34920" tIns="34920" bIns="34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ук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34920" rIns="34920" tIns="34920" bIns="34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34920" rIns="34920" tIns="34920" bIns="34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ук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34920" rIns="34920" tIns="34920" bIns="34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34920" rIns="34920" tIns="34920" bIns="34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ук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34920" rIns="34920" tIns="34920" bIns="34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2"/>
          <p:cNvSpPr/>
          <p:nvPr/>
        </p:nvSpPr>
        <p:spPr>
          <a:xfrm>
            <a:off x="366840" y="333864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фав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extBox 3" descr=""/>
          <p:cNvPicPr/>
          <p:nvPr/>
        </p:nvPicPr>
        <p:blipFill>
          <a:blip r:embed="rId1"/>
          <a:stretch/>
        </p:blipFill>
        <p:spPr>
          <a:xfrm>
            <a:off x="1639800" y="139680"/>
            <a:ext cx="5797800" cy="13604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5" descr=""/>
          <p:cNvPicPr/>
          <p:nvPr/>
        </p:nvPicPr>
        <p:blipFill>
          <a:blip r:embed="rId2"/>
          <a:stretch/>
        </p:blipFill>
        <p:spPr>
          <a:xfrm>
            <a:off x="390600" y="1017720"/>
            <a:ext cx="8253360" cy="2616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" descr=""/>
          <p:cNvPicPr/>
          <p:nvPr/>
        </p:nvPicPr>
        <p:blipFill>
          <a:blip r:embed="rId3"/>
          <a:srcRect l="48280" t="46487" r="32569" b="23008"/>
          <a:stretch/>
        </p:blipFill>
        <p:spPr>
          <a:xfrm>
            <a:off x="3143160" y="3429000"/>
            <a:ext cx="32720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extBox 5" descr=""/>
          <p:cNvPicPr/>
          <p:nvPr/>
        </p:nvPicPr>
        <p:blipFill>
          <a:blip r:embed="rId1"/>
          <a:stretch/>
        </p:blipFill>
        <p:spPr>
          <a:xfrm>
            <a:off x="176040" y="165240"/>
            <a:ext cx="8686800" cy="199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2000160" y="2500200"/>
          <a:ext cx="5143680" cy="3286080"/>
        </p:xfrm>
        <a:graphic>
          <a:graphicData uri="http://schemas.openxmlformats.org/drawingml/2006/table">
            <a:tbl>
              <a:tblPr/>
              <a:tblGrid>
                <a:gridCol w="857520"/>
                <a:gridCol w="857160"/>
                <a:gridCol w="857160"/>
                <a:gridCol w="857160"/>
                <a:gridCol w="857520"/>
                <a:gridCol w="857160"/>
              </a:tblGrid>
              <a:tr h="657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51" name="Прямая со стрелкой 7"/>
          <p:cNvCxnSpPr/>
          <p:nvPr/>
        </p:nvCxnSpPr>
        <p:spPr>
          <a:xfrm flipV="1">
            <a:off x="4427640" y="3285360"/>
            <a:ext cx="2160" cy="100260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Прямая со стрелкой 9"/>
          <p:cNvCxnSpPr/>
          <p:nvPr/>
        </p:nvCxnSpPr>
        <p:spPr>
          <a:xfrm flipH="1" flipV="1">
            <a:off x="3285360" y="3214080"/>
            <a:ext cx="1143720" cy="108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4:03:16Z</dcterms:created>
  <dc:creator>Admin</dc:creator>
  <dc:description/>
  <dc:language>en-US</dc:language>
  <cp:lastModifiedBy>Grey Wolf</cp:lastModifiedBy>
  <dcterms:modified xsi:type="dcterms:W3CDTF">2016-09-20T06:23:25Z</dcterms:modified>
  <cp:revision>13</cp:revision>
  <dc:subject/>
  <dc:title>Слайд 1</dc:title>
</cp:coreProperties>
</file>