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5AB-942E-400B-A5E7-5E0291EB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20BE-9303-46DD-ADE5-E83FEE38D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A35-84C9-4F2F-9140-4518D597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141-57D6-48AC-8291-4B6EC320A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FCF-73BC-44A1-AAA0-3B906FF0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2183-D984-4FD0-84EA-D8FEC1F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ED8-2607-485B-B58B-336ED36E2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DFD-F5CA-498A-9440-3AD464B6E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FFAD-11B3-49B9-9038-474CC973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DEF1-B628-40D6-8630-C2267B1A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7779-F259-4525-8414-2EEE7653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58E3-AF50-484E-BE32-AFF31B69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036B-B3D4-45A5-82F4-A3C6D7AA56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395280" y="549000"/>
            <a:ext cx="7991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SimSun"/>
              </a:rPr>
              <a:t>Подберите существительные к прилагательном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a003e"/>
                </a:solidFill>
                <a:latin typeface="Arial"/>
                <a:ea typeface="SimSun"/>
              </a:rPr>
              <a:t>золотой</a:t>
            </a:r>
            <a:r>
              <a:rPr b="1" lang="ru-RU" sz="4400" spc="-1" strike="noStrike">
                <a:solidFill>
                  <a:srgbClr val="9a003e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5"/>
          <p:cNvGrpSpPr/>
          <p:nvPr/>
        </p:nvGrpSpPr>
        <p:grpSpPr>
          <a:xfrm>
            <a:off x="538920" y="3141720"/>
            <a:ext cx="3704040" cy="863640"/>
            <a:chOff x="538920" y="3141720"/>
            <a:chExt cx="3704040" cy="863640"/>
          </a:xfrm>
        </p:grpSpPr>
        <p:sp>
          <p:nvSpPr>
            <p:cNvPr id="49" name="AutoShape 22"/>
            <p:cNvSpPr/>
            <p:nvPr/>
          </p:nvSpPr>
          <p:spPr>
            <a:xfrm>
              <a:off x="539640" y="3213000"/>
              <a:ext cx="3672000" cy="792360"/>
            </a:xfrm>
            <a:prstGeom prst="downArrowCallout">
              <a:avLst>
                <a:gd name="adj1" fmla="val 115867"/>
                <a:gd name="adj2" fmla="val 115856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>
              <a:off x="538920" y="3141720"/>
              <a:ext cx="370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c006c"/>
                  </a:solidFill>
                  <a:latin typeface="Arial"/>
                  <a:ea typeface="SimSun"/>
                </a:rPr>
                <a:t>Прямое зна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6"/>
          <p:cNvGrpSpPr/>
          <p:nvPr/>
        </p:nvGrpSpPr>
        <p:grpSpPr>
          <a:xfrm>
            <a:off x="4427640" y="3141720"/>
            <a:ext cx="4581360" cy="863640"/>
            <a:chOff x="4427640" y="3141720"/>
            <a:chExt cx="4581360" cy="863640"/>
          </a:xfrm>
        </p:grpSpPr>
        <p:sp>
          <p:nvSpPr>
            <p:cNvPr id="52" name="AutoShape 24"/>
            <p:cNvSpPr/>
            <p:nvPr/>
          </p:nvSpPr>
          <p:spPr>
            <a:xfrm>
              <a:off x="4427640" y="3213000"/>
              <a:ext cx="4537080" cy="792360"/>
            </a:xfrm>
            <a:prstGeom prst="downArrowCallout">
              <a:avLst>
                <a:gd name="adj1" fmla="val 143164"/>
                <a:gd name="adj2" fmla="val 143151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4427640" y="3141720"/>
              <a:ext cx="458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c006c"/>
                  </a:solidFill>
                  <a:latin typeface="Arial"/>
                  <a:ea typeface="SimSun"/>
                </a:rPr>
                <a:t>Переносное зна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5364000" y="4292640"/>
            <a:ext cx="30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042920" y="4292640"/>
            <a:ext cx="295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ое коль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ая 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серё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"/>
          <p:cNvSpPr/>
          <p:nvPr/>
        </p:nvSpPr>
        <p:spPr>
          <a:xfrm rot="2004000">
            <a:off x="2843280" y="2420640"/>
            <a:ext cx="334800" cy="720720"/>
          </a:xfrm>
          <a:prstGeom prst="downArrow">
            <a:avLst>
              <a:gd name="adj1" fmla="val 50000"/>
              <a:gd name="adj2" fmla="val 538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8"/>
          <p:cNvSpPr/>
          <p:nvPr/>
        </p:nvSpPr>
        <p:spPr>
          <a:xfrm rot="19606800">
            <a:off x="5435640" y="2420640"/>
            <a:ext cx="334800" cy="720720"/>
          </a:xfrm>
          <a:prstGeom prst="downArrow">
            <a:avLst>
              <a:gd name="adj1" fmla="val 50000"/>
              <a:gd name="adj2" fmla="val 538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5725a5714baa"/>
          <p:cNvPicPr/>
          <p:nvPr/>
        </p:nvPicPr>
        <p:blipFill>
          <a:blip r:embed="rId7"/>
          <a:stretch/>
        </p:blipFill>
        <p:spPr>
          <a:xfrm>
            <a:off x="250920" y="3429000"/>
            <a:ext cx="1363680" cy="2870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1547640" y="401040"/>
            <a:ext cx="626436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жды пришли к Соломону две спорящие женщины и 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9" descr="C:\Documents and Settings\Ира\Рабочий стол\Классный час\aafe169d24f7.png"/>
          <p:cNvPicPr/>
          <p:nvPr/>
        </p:nvPicPr>
        <p:blipFill>
          <a:blip r:embed="rId8"/>
          <a:stretch/>
        </p:blipFill>
        <p:spPr>
          <a:xfrm>
            <a:off x="7236000" y="1844640"/>
            <a:ext cx="1663560" cy="33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Ира\Рабочий стол\Классный час\4544b47e2b63.jpg"/>
          <p:cNvPicPr/>
          <p:nvPr/>
        </p:nvPicPr>
        <p:blipFill>
          <a:blip r:embed="rId9"/>
          <a:stretch/>
        </p:blipFill>
        <p:spPr>
          <a:xfrm>
            <a:off x="-181080" y="620640"/>
            <a:ext cx="184644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linie-fan15"/>
          <p:cNvPicPr/>
          <p:nvPr/>
        </p:nvPicPr>
        <p:blipFill>
          <a:blip r:embed="rId2"/>
          <a:stretch/>
        </p:blipFill>
        <p:spPr>
          <a:xfrm>
            <a:off x="1763640" y="26028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linie-fan1"/>
          <p:cNvPicPr/>
          <p:nvPr/>
        </p:nvPicPr>
        <p:blipFill>
          <a:blip r:embed="rId3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linie-fan1"/>
          <p:cNvPicPr/>
          <p:nvPr/>
        </p:nvPicPr>
        <p:blipFill>
          <a:blip r:embed="rId4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linie-fan1"/>
          <p:cNvPicPr/>
          <p:nvPr/>
        </p:nvPicPr>
        <p:blipFill>
          <a:blip r:embed="rId5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linie-fan1"/>
          <p:cNvPicPr/>
          <p:nvPr/>
        </p:nvPicPr>
        <p:blipFill>
          <a:blip r:embed="rId6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800"/>
                </a:solidFill>
                <a:uFillTx/>
                <a:latin typeface="Calibri"/>
                <a:ea typeface="SimSun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SimSun"/>
              </a:rPr>
              <a:t>Попробуй придумать примеры того, как действует это правило в жизни. Подумай, что бы могло тебя обидеть и чего бы ты не хотел получить по отношению 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SimSun"/>
              </a:rPr>
              <a:t>Например, «Я не буду обзываться, так как мне это бы не понравилос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не буду  …., так как ….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WordArt 5"/>
            <p:cNvSpPr txBox="1"/>
            <p:nvPr/>
          </p:nvSpPr>
          <p:spPr>
            <a:xfrm>
              <a:off x="571680" y="1071720"/>
              <a:ext cx="8103960" cy="43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Золотое правило         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              </a:t>
              </a: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нравственности.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1928880" y="1496520"/>
              <a:ext cx="35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a20000"/>
                  </a:solidFill>
                  <a:latin typeface="Arial"/>
                  <a:ea typeface="SimSun"/>
                </a:rPr>
                <a:t>Урок 20.</a:t>
              </a:r>
              <a:r>
                <a:rPr b="1" lang="ru-RU" sz="2800" spc="-1" strike="noStrike">
                  <a:solidFill>
                    <a:srgbClr val="9a003e"/>
                  </a:solidFill>
                  <a:latin typeface="Arial"/>
                  <a:ea typeface="SimSun"/>
                </a:rPr>
                <a:t> </a:t>
              </a:r>
              <a:r>
                <a:rPr b="1" lang="en-US" sz="2800" spc="-1" strike="noStrike">
                  <a:solidFill>
                    <a:srgbClr val="9a003e"/>
                  </a:solidFill>
                  <a:latin typeface="Arial"/>
                  <a:ea typeface="SimSu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3492360" y="4437000"/>
              <a:ext cx="504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WordArt 9"/>
            <p:cNvSpPr txBox="1"/>
            <p:nvPr/>
          </p:nvSpPr>
          <p:spPr>
            <a:xfrm>
              <a:off x="2340000" y="3645000"/>
              <a:ext cx="47624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Основные понят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оциальные н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Мор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Нрав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Добро и з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правед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ов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43280" y="2071800"/>
            <a:ext cx="3929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« На высокой колонне, над городом стояла статуя Счастливого Принца. Он был очень красив, весь покрыт листочками золота, а вместо глаз сияли драгоценные камни. Такой же камень был и на рукоятке шпа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Однажды над городом пролетала Ласточка. Лететь ей нужно было далеко, в теплые края, и она решила переночевать у ног стату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Неожиданно на нее упала капля, потом вторая, третья. Ласточка поняла, что это слезы Прин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Почему ты плачешь? Ведь ты такой красивый! – спросила 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Я жил во дворце, за огромными стенами,  и считал, что кругом только счастье и красота. Придворные величали меня «Счастливый Принц». А после смерти меня поставили здесь, так высоко, что мне стали видны все скорби и нищета моей столицы. И хотя сердце мое теперь оловянное, я не могу сдержать сл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И вдруг попрос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Ласточка, пожалуйста, выклюй драгоценный камень из моей шпаги и отнеси женщине с больным ребен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Мне надо скорее улетать, идет зима, - ответила Ласточ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Останься хоть на одну ночь, помоги мне, - опять попросил Прин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Не смогла отказать ему Ласточка, выклевала драгоценность и отнесла больному ребенку. А когда вернулась, призналась Принцу, что ей совсем не холодно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"/>
              </a:rPr>
              <a:t>Счастливый прин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071800" y="1428840"/>
            <a:ext cx="4714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Беседа по содержанию ска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85560" y="160020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Отчего Ласточке стало тепло, ве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приближалась зи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А почему люди ценят добр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484360" y="3389040"/>
            <a:ext cx="64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910440" y="486792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Arial"/>
                <a:ea typeface="SimSun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Arial"/>
                <a:ea typeface="SimSun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397880" y="5372640"/>
            <a:ext cx="73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826920" y="549360"/>
            <a:ext cx="727416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то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равств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395280" y="3068640"/>
            <a:ext cx="8497800" cy="1441440"/>
            <a:chOff x="395280" y="3068640"/>
            <a:chExt cx="8497800" cy="1441440"/>
          </a:xfrm>
        </p:grpSpPr>
        <p:sp>
          <p:nvSpPr>
            <p:cNvPr id="83" name="AutoShape 10"/>
            <p:cNvSpPr/>
            <p:nvPr/>
          </p:nvSpPr>
          <p:spPr>
            <a:xfrm>
              <a:off x="468360" y="3068640"/>
              <a:ext cx="8424720" cy="1441440"/>
            </a:xfrm>
            <a:custGeom>
              <a:avLst/>
              <a:gdLst>
                <a:gd name="textAreaLeft" fmla="*/ 169560 w 8424720"/>
                <a:gd name="textAreaRight" fmla="*/ 8255160 w 8424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621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22618" y="21600"/>
                  </a:lnTo>
                  <a:arcTo wR="3600" hR="3600" stAng="10800000" swAng="5400000"/>
                  <a:lnTo>
                    <a:pt x="12621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WordArt 5"/>
            <p:cNvSpPr txBox="1"/>
            <p:nvPr/>
          </p:nvSpPr>
          <p:spPr>
            <a:xfrm>
              <a:off x="395280" y="3213360"/>
              <a:ext cx="835344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-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как ты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5" name="Group 13"/>
          <p:cNvGrpSpPr/>
          <p:nvPr/>
        </p:nvGrpSpPr>
        <p:grpSpPr>
          <a:xfrm>
            <a:off x="468360" y="4941720"/>
            <a:ext cx="8281800" cy="1441440"/>
            <a:chOff x="468360" y="4941720"/>
            <a:chExt cx="8281800" cy="1441440"/>
          </a:xfrm>
        </p:grpSpPr>
        <p:sp>
          <p:nvSpPr>
            <p:cNvPr id="86" name="AutoShape 11"/>
            <p:cNvSpPr/>
            <p:nvPr/>
          </p:nvSpPr>
          <p:spPr>
            <a:xfrm>
              <a:off x="541440" y="4941720"/>
              <a:ext cx="8208720" cy="1441440"/>
            </a:xfrm>
            <a:custGeom>
              <a:avLst/>
              <a:gdLst>
                <a:gd name="textAreaLeft" fmla="*/ 169560 w 8208720"/>
                <a:gd name="textAreaRight" fmla="*/ 8039160 w 8208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298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19382" y="21600"/>
                  </a:lnTo>
                  <a:arcTo wR="3600" hR="3600" stAng="10800000" swAng="5400000"/>
                  <a:lnTo>
                    <a:pt x="12298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6"/>
            <p:cNvSpPr txBox="1"/>
            <p:nvPr/>
          </p:nvSpPr>
          <p:spPr>
            <a:xfrm>
              <a:off x="468360" y="5086080"/>
              <a:ext cx="80769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- Не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как ты не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143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000520" cy="207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71388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entury"/>
              </a:rPr>
              <a:t> 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entury"/>
              </a:rPr>
              <a:t>Следуйте  трем основным правила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Первое:</a:t>
            </a:r>
            <a:r>
              <a:rPr b="0" lang="ru-RU" sz="2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делай добрые дел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Второе: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накапливай опыт добрых де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Третье:</a:t>
            </a:r>
            <a:r>
              <a:rPr b="0" lang="ru-RU" sz="2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говори добрые слова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улыбайс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entury"/>
              </a:rPr>
              <a:t>    </a:t>
            </a:r>
            <a:r>
              <a:rPr b="0" lang="ru-RU" sz="2900" spc="-1" strike="noStrike">
                <a:solidFill>
                  <a:srgbClr val="7030a0"/>
                </a:solidFill>
                <a:latin typeface="Century"/>
              </a:rPr>
              <a:t>Закон доброго отношения к людя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Подумай о товарищах, потом о себ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Уважая себя, уважай друг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Будь общителен, активно помога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друг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929280" y="45720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ova, Lyudmila</dc:creator>
  <dc:description/>
  <dc:language>en-US</dc:language>
  <cp:lastModifiedBy>Галина</cp:lastModifiedBy>
  <dcterms:modified xsi:type="dcterms:W3CDTF">2019-01-10T11:25:57Z</dcterms:modified>
  <cp:revision>65</cp:revision>
  <dc:subject/>
  <dc:title>Урок по теме: «Золотое правило нравственности». 5 класс</dc:title>
</cp:coreProperties>
</file>