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895316-4B54-45EF-82A7-0F702E71C25C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7202-7DD4-42C8-86A1-D7095DB8F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FF8A-4D58-48F4-B622-50413433F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D525-2DA4-449E-9472-19908B243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AB04-67CC-4576-9DA4-5C84DFCA29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FAE1-C63F-4044-8BC0-C6E9D57900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A5A0-D0F2-46C4-BDCB-B69DA26C4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2058-324E-42AC-AE3C-579C58D41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D984-05CD-44BA-B703-9FBF9327A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DAC5-256F-47DE-9FC4-BADEB0DB6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3891-37F4-4EDD-BF5F-E4664539D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2E15-0691-432B-8F24-EE4D92656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028A-6556-4EBF-99C5-AE3C8AD69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800520" y="1789200"/>
            <a:ext cx="5366520" cy="5054040"/>
            <a:chOff x="3800520" y="1789200"/>
            <a:chExt cx="5366520" cy="5054040"/>
          </a:xfrm>
        </p:grpSpPr>
        <p:sp>
          <p:nvSpPr>
            <p:cNvPr id="1" name="Rectangle 2"/>
            <p:cNvSpPr/>
            <p:nvPr/>
          </p:nvSpPr>
          <p:spPr>
            <a:xfrm>
              <a:off x="6721920" y="2166480"/>
              <a:ext cx="313560" cy="16164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3"/>
            <p:cNvSpPr/>
            <p:nvPr/>
          </p:nvSpPr>
          <p:spPr>
            <a:xfrm>
              <a:off x="6831360" y="1881000"/>
              <a:ext cx="74880" cy="7416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 rot="1020000">
              <a:off x="8274600" y="2374560"/>
              <a:ext cx="9360" cy="32893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7741800" y="5567400"/>
              <a:ext cx="104760" cy="15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 rot="120000">
              <a:off x="8723880" y="2436120"/>
              <a:ext cx="9360" cy="31705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 rot="20640000">
              <a:off x="8965080" y="2417400"/>
              <a:ext cx="9360" cy="139788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 rot="20460000">
              <a:off x="5467320" y="2881800"/>
              <a:ext cx="9720" cy="322596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 rot="1140000">
              <a:off x="4380480" y="2891520"/>
              <a:ext cx="9720" cy="336240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 rot="240000">
              <a:off x="4821480" y="2967480"/>
              <a:ext cx="9360" cy="30247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366960" y="4794840"/>
              <a:ext cx="991080" cy="24732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7568280" y="5699160"/>
              <a:ext cx="1584720" cy="199800"/>
            </a:xfrm>
            <a:custGeom>
              <a:avLst/>
              <a:gdLst>
                <a:gd name="textAreaLeft" fmla="*/ 0 w 1584720"/>
                <a:gd name="textAreaRight" fmla="*/ 1585080 w 1584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7606440" y="5784840"/>
              <a:ext cx="1546560" cy="388800"/>
            </a:xfrm>
            <a:custGeom>
              <a:avLst/>
              <a:gdLst>
                <a:gd name="textAreaLeft" fmla="*/ 0 w 1546560"/>
                <a:gd name="textAreaRight" fmla="*/ 1546920 w 15465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635240" y="5699160"/>
              <a:ext cx="1517760" cy="142560"/>
            </a:xfrm>
            <a:custGeom>
              <a:avLst/>
              <a:gdLst>
                <a:gd name="textAreaLeft" fmla="*/ 0 w 1517760"/>
                <a:gd name="textAreaRight" fmla="*/ 1518120 w 15177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4858200" y="2445840"/>
              <a:ext cx="162360" cy="2458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4858200" y="2682360"/>
              <a:ext cx="142920" cy="152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4858200" y="2805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8695080" y="1912680"/>
              <a:ext cx="162360" cy="24732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8704800" y="2141280"/>
              <a:ext cx="133200" cy="151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8695080" y="2274480"/>
              <a:ext cx="142920" cy="171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8628120" y="5594400"/>
              <a:ext cx="104760" cy="15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4791600" y="1789200"/>
              <a:ext cx="4142160" cy="704520"/>
            </a:xfrm>
            <a:custGeom>
              <a:avLst/>
              <a:gdLst>
                <a:gd name="textAreaLeft" fmla="*/ 0 w 4142160"/>
                <a:gd name="textAreaRight" fmla="*/ 4142520 w 414216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4659480" y="5987880"/>
              <a:ext cx="133560" cy="150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6004080" y="614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3809880" y="6144840"/>
              <a:ext cx="114480" cy="1425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3879720" y="6091200"/>
              <a:ext cx="2196000" cy="617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3800520" y="6084720"/>
              <a:ext cx="2389680" cy="45684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3875040" y="6126120"/>
              <a:ext cx="2267280" cy="34884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29"/>
            <p:cNvSpPr/>
            <p:nvPr/>
          </p:nvSpPr>
          <p:spPr>
            <a:xfrm>
              <a:off x="5947200" y="6011640"/>
              <a:ext cx="142560" cy="151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0"/>
            <p:cNvSpPr/>
            <p:nvPr/>
          </p:nvSpPr>
          <p:spPr>
            <a:xfrm>
              <a:off x="8618760" y="5718240"/>
              <a:ext cx="114120" cy="171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1"/>
            <p:cNvSpPr/>
            <p:nvPr/>
          </p:nvSpPr>
          <p:spPr>
            <a:xfrm>
              <a:off x="6734520" y="2813760"/>
              <a:ext cx="275040" cy="40294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2"/>
            <p:cNvSpPr/>
            <p:nvPr/>
          </p:nvSpPr>
          <p:spPr>
            <a:xfrm>
              <a:off x="6814080" y="2452320"/>
              <a:ext cx="120600" cy="3805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>
              <a:off x="6705720" y="2766600"/>
              <a:ext cx="326160" cy="8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6842520" y="2426760"/>
              <a:ext cx="401040" cy="250092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2500920"/>
                <a:gd name="textAreaBottom" fmla="*/ 2501280 h 250092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6624720" y="2255400"/>
              <a:ext cx="504360" cy="21888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Text Box 38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Text Box 39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1"/>
          </p:nvPr>
        </p:nvSpPr>
        <p:spPr>
          <a:xfrm>
            <a:off x="6553080" y="627840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52887-A256-4DF5-AE9D-417F45A90142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360360" y="1052640"/>
            <a:ext cx="828036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Парламентский ур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e6e6e6"/>
                </a:solidFill>
                <a:latin typeface="Times New Roman"/>
                <a:ea typeface="Arial"/>
              </a:rPr>
              <a:t>«25 лет Конституции Российской Федерации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771640" y="5805360"/>
            <a:ext cx="345600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018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1"/>
          <p:cNvSpPr txBox="1"/>
          <p:nvPr/>
        </p:nvSpPr>
        <p:spPr>
          <a:xfrm>
            <a:off x="2700360" y="404640"/>
            <a:ext cx="4321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ль Конституции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9" name="WordArt 2" descr=""/>
          <p:cNvPicPr/>
          <p:nvPr/>
        </p:nvPicPr>
        <p:blipFill>
          <a:blip r:embed="rId1"/>
          <a:stretch/>
        </p:blipFill>
        <p:spPr>
          <a:xfrm>
            <a:off x="353880" y="1328760"/>
            <a:ext cx="8375760" cy="560520"/>
          </a:xfrm>
          <a:prstGeom prst="rect">
            <a:avLst/>
          </a:prstGeom>
          <a:ln w="0">
            <a:noFill/>
          </a:ln>
        </p:spPr>
      </p:pic>
      <p:pic>
        <p:nvPicPr>
          <p:cNvPr id="100" name="WordArt 3" descr=""/>
          <p:cNvPicPr/>
          <p:nvPr/>
        </p:nvPicPr>
        <p:blipFill>
          <a:blip r:embed="rId2"/>
          <a:stretch/>
        </p:blipFill>
        <p:spPr>
          <a:xfrm>
            <a:off x="353880" y="2212920"/>
            <a:ext cx="8375760" cy="55404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4" descr=""/>
          <p:cNvPicPr/>
          <p:nvPr/>
        </p:nvPicPr>
        <p:blipFill>
          <a:blip r:embed="rId3"/>
          <a:stretch/>
        </p:blipFill>
        <p:spPr>
          <a:xfrm>
            <a:off x="353880" y="3090960"/>
            <a:ext cx="8375760" cy="11030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"/>
          <p:cNvSpPr txBox="1"/>
          <p:nvPr/>
        </p:nvSpPr>
        <p:spPr>
          <a:xfrm>
            <a:off x="363600" y="4533840"/>
            <a:ext cx="8354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Определяеполитический и правовой т режимы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365040" y="5416560"/>
            <a:ext cx="8353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закрепляет национальное и территориально-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сударственное устройство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263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31400"/>
            <a:ext cx="822636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ое из прав человека нарушено в сказ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Красная шапочка»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Волк и семеро козлят»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Айболит»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Золушка»?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61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200"/>
            </a:b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Ситуация №1</a:t>
            </a:r>
            <a:br>
              <a:rPr sz="4200"/>
            </a:b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16-летний подросток пришел устраиваться на работу. С ним составляют трудовой договор, назначают день выхода на работу.</a:t>
            </a:r>
            <a:br>
              <a:rPr sz="4200"/>
            </a:b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Имеет ли право несовершеннолетний трудоустроиться?</a:t>
            </a:r>
            <a:br>
              <a:rPr sz="4200"/>
            </a:br>
            <a:endParaRPr b="0" lang="en-US" sz="4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31400"/>
            <a:ext cx="8226360" cy="64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итуация №2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 улице 16-летние парни пристают к прохожим, нарушают общественный порядок и спокойствие.</a:t>
            </a:r>
            <a:br>
              <a:rPr sz="4400"/>
            </a:b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Как вы оцениваете данные действия и можно ли этих подростков наказать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63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итуация №3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сколько школьников залезли в гараж, но ничего не взяв и не сделав, ушли. Кто-то их видел и рассказал об этом в полицию.</a:t>
            </a:r>
            <a:br>
              <a:rPr sz="4400"/>
            </a:b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Будут ли ребята наказаны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e6e6e6"/>
                </a:solidFill>
                <a:latin typeface="Tahom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знанных принципов равноправия и самоопределения народов, чтя память предков, передав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и поколениями, сознавая себя частью мирового сообщества, принимаем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6840" y="475920"/>
            <a:ext cx="822636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2fff0"/>
                </a:solidFill>
                <a:latin typeface="Arial"/>
              </a:rPr>
              <a:t>КОНСТИТУЦИЯ</a:t>
            </a:r>
            <a:br>
              <a:rPr sz="4800"/>
            </a:br>
            <a:r>
              <a:rPr b="1" lang="ru-RU" sz="4800" spc="-1" strike="noStrike">
                <a:solidFill>
                  <a:srgbClr val="c2fff0"/>
                </a:solidFill>
                <a:latin typeface="Arial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c2fff0"/>
                </a:solidFill>
                <a:latin typeface="Arial"/>
              </a:rPr>
              <a:t>РОССИЙСКОЙ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c2fff0"/>
                </a:solidFill>
                <a:latin typeface="Arial"/>
              </a:rPr>
              <a:t>ФЕДЕРАЦИИ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Arial"/>
              </a:rPr>
              <a:t>1993-2018г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324000" y="404640"/>
            <a:ext cx="864072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ОНСТИТУЦИЯ   РОССИЙС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ФЕДЕРАЦИИ  –  ОСНОВНОЙ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ЗАКО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580000" y="3141720"/>
            <a:ext cx="1895400" cy="2828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 Конституции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ереводе с латинского языка слово “конституция” обозначает “устройство”, то есть то, как устраивается, строится государство. В нашей стране много законов, но главным законом нашего государства, основные правила по которым мы живем, записаны в Конституции. В знак уважения к основному закону страны слово “Конституция” пишется с заглавной бук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26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КОНСТИТУЦИЯ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ституции России 20 века: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1924г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1936г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1918г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1977г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1993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773520" y="1628640"/>
            <a:ext cx="1596960" cy="250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5370480" y="2565360"/>
            <a:ext cx="1584360" cy="236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732720" y="3068640"/>
            <a:ext cx="169992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177840"/>
            <a:ext cx="8229600" cy="59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Конституция Российской Федераци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принята всенародным голосованием (референдумом) 12 декабря 1993г., состоит из преамбулы, 2 разделов, 9 глав, 137 статей и 9 параграфов переходных и заключительных полож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ОБЕННОСТИ КОНСТИТУЦИИ РФ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Легитимн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еальн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ерховенств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табильн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реемственн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рямое действ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62960" indent="-46296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08:52:19Z</dcterms:created>
  <dc:creator>Школа</dc:creator>
  <dc:description/>
  <dc:language>en-US</dc:language>
  <cp:lastModifiedBy>Pro100</cp:lastModifiedBy>
  <dcterms:modified xsi:type="dcterms:W3CDTF">2018-12-30T06:14:49Z</dcterms:modified>
  <cp:revision>38</cp:revision>
  <dc:subject/>
  <dc:title>КОНСТИТУЦИЯ  РОССИЙСКОЙ ФЕДЕРАЦИИ</dc:title>
</cp:coreProperties>
</file>