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1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0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616-3C3D-46AD-8F59-D8351D1B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AB7-F66E-49F4-B17C-79112CC9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863-5BBF-4866-907D-724C1932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568-EFCA-4135-9457-2F3CB44D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059-9E2F-4B9A-AED5-716604FF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0F6-2902-4952-9AA1-8B859FA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A5D-C4E4-47B9-9805-FC887B2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B11-BC80-4CC7-8EAF-9AEDF6AB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1EF-0875-4A0C-93D1-9581615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0BC-2E59-48A6-A442-1FD3C827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11F-4382-43D1-8916-E6183AF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B08-03F2-4180-9B45-06E0DDA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755-B66A-46F5-99C3-919D57C18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«Ум без догадки гроша не стоит»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1191269251_c4133.jpg"/>
          <p:cNvPicPr/>
          <p:nvPr/>
        </p:nvPicPr>
        <p:blipFill>
          <a:blip r:embed="rId1"/>
          <a:stretch/>
        </p:blipFill>
        <p:spPr>
          <a:xfrm>
            <a:off x="4932360" y="2781360"/>
            <a:ext cx="3870360" cy="3865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C:\Documents and Settings\Администратор\Рабочий стол\images_c.asp.jpg"/>
          <p:cNvPicPr/>
          <p:nvPr/>
        </p:nvPicPr>
        <p:blipFill>
          <a:blip r:embed="rId1"/>
          <a:stretch/>
        </p:blipFill>
        <p:spPr>
          <a:xfrm rot="20946600">
            <a:off x="1604520" y="4133880"/>
            <a:ext cx="211464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79200"/>
            <a:ext cx="9204480" cy="2060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99980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36(а,в),№537(а,в,д),№538(д,е),№539(а,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G:\для аттестации\a54396887b85.jpg"/>
          <p:cNvPicPr/>
          <p:nvPr/>
        </p:nvPicPr>
        <p:blipFill>
          <a:blip r:embed="rId3"/>
          <a:stretch/>
        </p:blipFill>
        <p:spPr>
          <a:xfrm rot="564000">
            <a:off x="5718240" y="5153040"/>
            <a:ext cx="280188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-30240" y="79200"/>
            <a:ext cx="9204480" cy="2060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е время нахождения в пути поездов «Юность» и «Сапсан»  от Москвы до С.- Петербурга          ч.     Время нахождения в пути поезда «Сапсан» составляет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 общего времени «Юности» и «Сапсан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время нахождения каждого поезда в пут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286080" y="3143160"/>
                <a:ext cx="642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7786800" y="3714840"/>
                <a:ext cx="71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9" name="Picture 6" descr="C:\Documents and Settings\Администратор\Рабочий стол\080.jpg"/>
          <p:cNvPicPr/>
          <p:nvPr/>
        </p:nvPicPr>
        <p:blipFill>
          <a:blip r:embed="rId2"/>
          <a:stretch/>
        </p:blipFill>
        <p:spPr>
          <a:xfrm rot="21103800">
            <a:off x="785520" y="1071720"/>
            <a:ext cx="1828800" cy="120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Documents and Settings\Администратор\Рабочий стол\image292s.jpg"/>
          <p:cNvPicPr/>
          <p:nvPr/>
        </p:nvPicPr>
        <p:blipFill>
          <a:blip r:embed="rId3"/>
          <a:stretch/>
        </p:blipFill>
        <p:spPr>
          <a:xfrm rot="670800">
            <a:off x="6609960" y="1017360"/>
            <a:ext cx="1811520" cy="1207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rcRect l="27238" t="0" r="0" b="0"/>
          <a:stretch/>
        </p:blipFill>
        <p:spPr>
          <a:xfrm>
            <a:off x="2500200" y="79200"/>
            <a:ext cx="6680160" cy="15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0001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ыбалки Матвей принёс домой 6,4 кг рыбы. Из   3/8    этой рыбы сварили ух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 % оставшейся – поджарили, а остальную закоптили. Сколько рыбы закоптил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C:\Documents and Settings\Администратор\Рабочий стол\16.jpg"/>
          <p:cNvPicPr/>
          <p:nvPr/>
        </p:nvPicPr>
        <p:blipFill>
          <a:blip r:embed="rId2"/>
          <a:stretch/>
        </p:blipFill>
        <p:spPr>
          <a:xfrm>
            <a:off x="2143080" y="4724280"/>
            <a:ext cx="5286600" cy="1919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0"/>
            <a:ext cx="881352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6" descr="http://festival.1september.ru/articles/527860/img19.gif"/>
          <p:cNvPicPr/>
          <p:nvPr/>
        </p:nvPicPr>
        <p:blipFill>
          <a:blip r:embed="rId2"/>
          <a:stretch/>
        </p:blipFill>
        <p:spPr>
          <a:xfrm>
            <a:off x="357120" y="1357200"/>
            <a:ext cx="3500640" cy="4000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http://festival.1september.ru/articles/527860/img20.gif"/>
          <p:cNvPicPr/>
          <p:nvPr/>
        </p:nvPicPr>
        <p:blipFill>
          <a:blip r:embed="rId3"/>
          <a:stretch/>
        </p:blipFill>
        <p:spPr>
          <a:xfrm>
            <a:off x="5580000" y="1341360"/>
            <a:ext cx="3357720" cy="4000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school supplies.jpg"/>
          <p:cNvPicPr/>
          <p:nvPr/>
        </p:nvPicPr>
        <p:blipFill>
          <a:blip r:embed="rId4"/>
          <a:stretch/>
        </p:blipFill>
        <p:spPr>
          <a:xfrm>
            <a:off x="3143160" y="507204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99760" y="5071680"/>
            <a:ext cx="700092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 15; №567,568(а-г),№56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«Математика 6 класс.» Виленкин Н.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 rot="21115200">
            <a:off x="418680" y="1438200"/>
            <a:ext cx="79614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1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1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7" descr="1244564717_schkoljna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611280" y="620640"/>
            <a:ext cx="853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1989000"/>
            <a:ext cx="84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2133720"/>
            <a:ext cx="84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1403280" y="1700280"/>
            <a:ext cx="676908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ПОЗДРАВЛЯ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763640" y="3860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Ы УСПЕШНО ВЫПОЛНИЛИ ВС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2050920" y="5084640"/>
            <a:ext cx="547236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928800" y="357120"/>
            <a:ext cx="6429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357120" y="1214280"/>
            <a:ext cx="714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4500720" y="1285920"/>
            <a:ext cx="71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500040" y="3643200"/>
            <a:ext cx="64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4572000" y="3500280"/>
            <a:ext cx="71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1214280" cy="1396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2"/>
          <a:stretch/>
        </p:blipFill>
        <p:spPr>
          <a:xfrm>
            <a:off x="5214960" y="3548160"/>
            <a:ext cx="1500120" cy="1252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3"/>
          <a:stretch/>
        </p:blipFill>
        <p:spPr>
          <a:xfrm>
            <a:off x="5214960" y="1214280"/>
            <a:ext cx="1285920" cy="1168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4"/>
          <a:stretch/>
        </p:blipFill>
        <p:spPr>
          <a:xfrm>
            <a:off x="1357200" y="3571920"/>
            <a:ext cx="1285920" cy="13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ниге 120 страниц. Коля прочитал 3/4  этой книги. Сколько страниц прочитал Кол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числ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712960" y="1484280"/>
            <a:ext cx="3475080" cy="96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059280" y="4645080"/>
            <a:ext cx="1858680" cy="143172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6" descr=""/>
          <p:cNvPicPr/>
          <p:nvPr/>
        </p:nvPicPr>
        <p:blipFill>
          <a:blip r:embed="rId3"/>
          <a:stretch/>
        </p:blipFill>
        <p:spPr>
          <a:xfrm>
            <a:off x="2523960" y="3078000"/>
            <a:ext cx="30956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3" descr=""/>
          <p:cNvPicPr/>
          <p:nvPr/>
        </p:nvPicPr>
        <p:blipFill>
          <a:blip r:embed="rId1"/>
          <a:stretch/>
        </p:blipFill>
        <p:spPr>
          <a:xfrm>
            <a:off x="-30240" y="79200"/>
            <a:ext cx="9204480" cy="13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оля.511F83DB6158499\Рабочий стол\Рисунок2.png"/>
          <p:cNvPicPr/>
          <p:nvPr/>
        </p:nvPicPr>
        <p:blipFill>
          <a:blip r:embed="rId2"/>
          <a:stretch/>
        </p:blipFill>
        <p:spPr>
          <a:xfrm>
            <a:off x="5357880" y="4091040"/>
            <a:ext cx="2992320" cy="2766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24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84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0" y="24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185724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17" descr=""/>
          <p:cNvPicPr/>
          <p:nvPr/>
        </p:nvPicPr>
        <p:blipFill>
          <a:blip r:embed="rId4"/>
          <a:stretch/>
        </p:blipFill>
        <p:spPr>
          <a:xfrm>
            <a:off x="665280" y="1719360"/>
            <a:ext cx="3473280" cy="96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Объект 1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9" name="TextBox 42" descr=""/>
          <p:cNvPicPr/>
          <p:nvPr/>
        </p:nvPicPr>
        <p:blipFill>
          <a:blip r:embed="rId5"/>
          <a:stretch/>
        </p:blipFill>
        <p:spPr>
          <a:xfrm>
            <a:off x="476280" y="3200400"/>
            <a:ext cx="30891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050920" y="5516640"/>
            <a:ext cx="6731280" cy="939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 rot="20890200">
            <a:off x="385560" y="860040"/>
            <a:ext cx="8051760" cy="47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"Применение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спределительного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войства умножения.“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07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Администратор\Рабочий стол\1233426759.jpg"/>
          <p:cNvPicPr/>
          <p:nvPr/>
        </p:nvPicPr>
        <p:blipFill>
          <a:blip r:embed="rId2"/>
          <a:stretch/>
        </p:blipFill>
        <p:spPr>
          <a:xfrm rot="20902800">
            <a:off x="865080" y="2131560"/>
            <a:ext cx="2886120" cy="372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Администратор\Рабочий стол\65227.jpg"/>
          <p:cNvPicPr/>
          <p:nvPr/>
        </p:nvPicPr>
        <p:blipFill>
          <a:blip r:embed="rId3"/>
          <a:stretch/>
        </p:blipFill>
        <p:spPr>
          <a:xfrm rot="415200">
            <a:off x="4214880" y="2357280"/>
            <a:ext cx="438156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Т   Е  С  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85920" y="1000080"/>
          <a:ext cx="6500880" cy="366408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7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18920" y="1700280"/>
            <a:ext cx="59770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9:07:10Z</dcterms:created>
  <dc:creator>паша</dc:creator>
  <dc:description/>
  <dc:language>en-US</dc:language>
  <cp:lastModifiedBy>Руслан</cp:lastModifiedBy>
  <dcterms:modified xsi:type="dcterms:W3CDTF">2017-11-21T18:44:58Z</dcterms:modified>
  <cp:revision>66</cp:revision>
  <dc:subject/>
  <dc:title>Слайд 1</dc:title>
</cp:coreProperties>
</file>