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png" ContentType="image/png"/>
  <Override PartName="/ppt/media/image34.gif" ContentType="image/gif"/>
  <Override PartName="/ppt/media/image23.jpeg" ContentType="image/jpeg"/>
  <Override PartName="/ppt/media/image12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9.jpeg" ContentType="image/jpeg"/>
  <Override PartName="/ppt/media/image7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35.jpeg" ContentType="image/jpeg"/>
  <Override PartName="/ppt/media/image10.png" ContentType="image/png"/>
  <Override PartName="/ppt/media/image26.png" ContentType="image/png"/>
  <Override PartName="/ppt/media/image33.gif" ContentType="image/gif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711-50A1-4345-9DA9-9AE9CE46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711-4710-4E51-89F5-FD44B3E2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E73-3769-4D10-B32D-9B318997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CA4-4881-4EDE-BDCF-962CE8EC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BFD2-1735-433C-9121-022758A0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AC77-D285-4B2F-9C48-14DA787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FE4-05DF-4CDA-904F-C20FF447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2837-9639-4E1C-BC1E-954F972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9AB-7452-4150-B582-95C5845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AEC-37B2-4DE9-8A04-AD18F01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15B3-37DB-4E57-B2D0-690F357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BEB-162E-462B-BB35-1D95272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C657-41B0-437B-91BE-5E50E95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309E-8808-44CA-988F-9C48B3D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5C14-420A-46DD-B15E-308D478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F47B-C8F0-4BAC-9F96-D8BA49D0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6FD-B0C1-410D-9436-3F610A5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FA3-8800-495D-AF46-C1CDE948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D0B-DFAA-4400-A564-4B2BA27B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840-2446-4041-AE01-DE7385D2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B7A-658D-44C8-882E-4437A01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964-9D5F-4F69-8EDA-6920DB7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A27-7537-4013-B3BB-6D8607D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93F-088F-4332-87F3-582FC10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145F-0102-4A6B-9A81-677BD3DDCE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0E1D-0EA7-4259-B515-DE029B13F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2"/>
          <a:stretch/>
        </p:blipFill>
        <p:spPr>
          <a:xfrm>
            <a:off x="4627440" y="450720"/>
            <a:ext cx="2766960" cy="49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171960" y="374508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для вас учебный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ько гадости несёт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йте только двой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редко можно - трой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йте окна и витри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ходите в магазин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вайте больше дра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ет, старуха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6640" cy="687240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-23760"/>
            <a:ext cx="1457280" cy="612612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3" descr=""/>
          <p:cNvPicPr/>
          <p:nvPr/>
        </p:nvPicPr>
        <p:blipFill>
          <a:blip r:embed="rId3"/>
          <a:stretch/>
        </p:blipFill>
        <p:spPr>
          <a:xfrm>
            <a:off x="7053120" y="-165240"/>
            <a:ext cx="1700280" cy="694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0" y="14400"/>
            <a:ext cx="9163080" cy="6843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763640" y="4653000"/>
            <a:ext cx="281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уточный экзаме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108000" y="76320"/>
            <a:ext cx="9036000" cy="6786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59364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Сколько этажей в нашей школ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593640" y="1266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2. Сколько ступенек вам надо преодолеть, чтобы попасть в наш клас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93640" y="30211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3. Сколько предметов вы изучали в первом класс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42960" y="4357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4. Услышав звонок, что нужн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8264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7640" y="-4680"/>
            <a:ext cx="9138960" cy="6862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611280" y="6922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Тр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31 ступень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сем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ст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4245120" y="870120"/>
            <a:ext cx="438120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0" y="14400"/>
            <a:ext cx="9163080" cy="684360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2"/>
          <a:stretch/>
        </p:blipFill>
        <p:spPr>
          <a:xfrm>
            <a:off x="23760" y="4316400"/>
            <a:ext cx="721836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250920" y="333360"/>
            <a:ext cx="410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вый дом несу в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вери дома на зам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ут жильцы бумажн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 ужасно важ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5003640" y="211140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сосны и ё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ики- иго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на каких листоч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ут слова и строч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395280" y="414972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Я всё знаю, всех уч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 сама всегда молч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б со мною подружи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до грамоте учи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4572000" y="4398840"/>
            <a:ext cx="2340000" cy="17478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3"/>
          <a:stretch/>
        </p:blipFill>
        <p:spPr>
          <a:xfrm>
            <a:off x="1889280" y="2333520"/>
            <a:ext cx="1819080" cy="14241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4"/>
          <a:stretch/>
        </p:blipFill>
        <p:spPr>
          <a:xfrm>
            <a:off x="6100920" y="333360"/>
            <a:ext cx="16221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395280" y="333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ый кон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лю бега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собой следы оставля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564000" y="171936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т Пахом на коне верх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ги читает, а грамоты не зн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95280" y="26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й Ива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ревянная рубаш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пройдё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64000" y="4581360"/>
            <a:ext cx="51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й, крив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рожденья все нем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анут в ряд- сейчас заговор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2"/>
          <a:stretch/>
        </p:blipFill>
        <p:spPr>
          <a:xfrm>
            <a:off x="5632560" y="453960"/>
            <a:ext cx="119052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"/>
          <p:cNvPicPr/>
          <p:nvPr/>
        </p:nvPicPr>
        <p:blipFill>
          <a:blip r:embed="rId3"/>
          <a:stretch/>
        </p:blipFill>
        <p:spPr>
          <a:xfrm>
            <a:off x="4273560" y="2673360"/>
            <a:ext cx="1235160" cy="18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E:\FILES\PFILES\MSOFFICE\MEDIA\CNTCD1\Animated\j0283455.gif"/>
          <p:cNvPicPr/>
          <p:nvPr/>
        </p:nvPicPr>
        <p:blipFill>
          <a:blip r:embed="rId4"/>
          <a:stretch/>
        </p:blipFill>
        <p:spPr>
          <a:xfrm>
            <a:off x="1571760" y="152568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:\FILES\PFILES\MSOFFICE\MEDIA\CNTCD1\Animated\j0283273.gif"/>
          <p:cNvPicPr/>
          <p:nvPr/>
        </p:nvPicPr>
        <p:blipFill>
          <a:blip r:embed="rId5"/>
          <a:stretch/>
        </p:blipFill>
        <p:spPr>
          <a:xfrm>
            <a:off x="1301760" y="4708440"/>
            <a:ext cx="118260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0" y="-324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"/>
          <p:cNvPicPr/>
          <p:nvPr/>
        </p:nvPicPr>
        <p:blipFill>
          <a:blip r:embed="rId2"/>
          <a:stretch/>
        </p:blipFill>
        <p:spPr>
          <a:xfrm>
            <a:off x="5329080" y="38160"/>
            <a:ext cx="3780000" cy="22017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446040" y="0"/>
            <a:ext cx="48830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 La Russ"/>
              </a:rPr>
              <a:t>    </a:t>
            </a:r>
            <a:r>
              <a:rPr b="0" i="1" lang="ru-RU" sz="5400" spc="-1" strike="noStrike">
                <a:solidFill>
                  <a:srgbClr val="000000"/>
                </a:solidFill>
                <a:latin typeface="A La Russ"/>
              </a:rPr>
              <a:t>Советы парт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ом рано просып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рошенько умыв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в школе не зев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сом парту не кле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356000" y="22399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учай себя к поряд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играй с вещами в прят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ой книжкой дорож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чистоте портфель дер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446040" y="3508200"/>
            <a:ext cx="44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евайся аккура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 смотреть было прия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уроках не хихика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л туда- сюда не двига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1547640" y="5078520"/>
            <a:ext cx="51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дразнись, не зазнавай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школе всем помочь старай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ря не хмурься, будь смеле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айдёшь себе друз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084720" y="380988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т и все мои сове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мудрей и проще нет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ы, дружок, их не забуд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, счастливо, в добрый пу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9320" cy="68626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3517920" y="189000"/>
            <a:ext cx="55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ты с утра проснул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увидел за окн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нарядны и с цвет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еселья полон д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идишь: по дорог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 школьников идет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, наступила осен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ся учебн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 rot="20304600">
            <a:off x="324000" y="475920"/>
            <a:ext cx="3716280" cy="36306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3"/>
          <a:stretch/>
        </p:blipFill>
        <p:spPr>
          <a:xfrm>
            <a:off x="2771640" y="2290680"/>
            <a:ext cx="56167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971640" y="1844640"/>
            <a:ext cx="63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мчались летние деньк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 парты вам пор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ять вы все- ученик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чёба – не игр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2700360" y="234936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желаю от ду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м здоровья, малыш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прививок не боя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дневно закаля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не мучил вас бронх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рый доктор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2340000" y="77760"/>
            <a:ext cx="4464000" cy="67024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5840280" y="3998880"/>
            <a:ext cx="31323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348000" y="400536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желаю вам в подар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огромный тор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околад и печень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мелад и варень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ься толще, выш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ду от вас ответ на кр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" descr=""/>
          <p:cNvPicPr/>
          <p:nvPr/>
        </p:nvPicPr>
        <p:blipFill>
          <a:blip r:embed="rId2"/>
          <a:stretch/>
        </p:blipFill>
        <p:spPr>
          <a:xfrm>
            <a:off x="7821720" y="158760"/>
            <a:ext cx="154152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71280" y="0"/>
            <a:ext cx="92865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979640" y="2060640"/>
            <a:ext cx="56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Я хочу вам пожел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ишь пятёрки получа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нижки добрые люби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 математикой дру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лица Пьеро, Мальв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аш дружищ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1293840" y="0"/>
            <a:ext cx="6556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7736040" y="-165240"/>
            <a:ext cx="1523880" cy="695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2:07:21Z</dcterms:created>
  <dc:creator>Ирина</dc:creator>
  <dc:description/>
  <dc:language>en-US</dc:language>
  <cp:lastModifiedBy>Personals</cp:lastModifiedBy>
  <dcterms:modified xsi:type="dcterms:W3CDTF">2019-01-06T12:14:19Z</dcterms:modified>
  <cp:revision>8</cp:revision>
  <dc:subject/>
  <dc:title>Презентация классного часа 1 сентября для учащихся 2 класса</dc:title>
</cp:coreProperties>
</file>