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png" ContentType="image/png"/>
  <Override PartName="/ppt/media/image34.gif" ContentType="image/gif"/>
  <Override PartName="/ppt/media/image23.jpeg" ContentType="image/jpeg"/>
  <Override PartName="/ppt/media/image12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9.jpeg" ContentType="image/jpeg"/>
  <Override PartName="/ppt/media/image7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35.jpeg" ContentType="image/jpeg"/>
  <Override PartName="/ppt/media/image10.png" ContentType="image/png"/>
  <Override PartName="/ppt/media/image26.png" ContentType="image/png"/>
  <Override PartName="/ppt/media/image33.gif" ContentType="image/gif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E44-91AB-424C-AB7D-265F29A2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F12-737A-487D-8AE2-6359EED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500-7936-4236-8441-49EBDA5F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7DA-6ED7-474D-A325-49D5DE38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CE1C-C45A-43DE-B243-030BDAF7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BE5-2F22-4926-A241-ECC0F921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1FF-3715-4D15-A5CA-CCACBC51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BE98-FBA7-4F14-854D-90902408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D88-3FB0-4D55-8A7C-80EB55F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232-2DE7-4527-B140-81A8006C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1BE3-4A5E-4397-80C9-63A5C95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240-3D91-46A0-A500-528CDC3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E0AC-728A-45E6-B886-DBFA77C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43D-2D25-4279-86A4-CCB9DB1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67EE-4BDB-4482-841D-AE9E28B4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DA7A-732E-4957-B5D3-01C12A3C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E1C-31EE-429D-9AF4-14B01427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37A-CA2D-40B5-8AA2-01789963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E95-1670-4701-BC27-6F936736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FD3-6EB4-4F98-B17A-4E9C55A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03F-9E4C-42E5-AB7D-BDF1E792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F1F-A0B4-42D2-AAF7-4F7BD14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809-BA05-45CF-B8FC-BE4116B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1CC-3CDF-4E3D-9975-5AE3257A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0253-E19F-47A9-AAB1-DE1877F251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C0C-3A96-4B74-868B-08954C9D0D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2"/>
          <a:stretch/>
        </p:blipFill>
        <p:spPr>
          <a:xfrm>
            <a:off x="4627440" y="450720"/>
            <a:ext cx="2766960" cy="49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171960" y="374508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для вас учебный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ько гадости несёт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йте только двой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редко можно - трой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йте окна и витри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ходите в магази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вайте больше дра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ет, старуха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6640" cy="68724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2" descr=""/>
          <p:cNvPicPr/>
          <p:nvPr/>
        </p:nvPicPr>
        <p:blipFill>
          <a:blip r:embed="rId2"/>
          <a:stretch/>
        </p:blipFill>
        <p:spPr>
          <a:xfrm>
            <a:off x="420840" y="-23760"/>
            <a:ext cx="1457280" cy="612612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3" descr=""/>
          <p:cNvPicPr/>
          <p:nvPr/>
        </p:nvPicPr>
        <p:blipFill>
          <a:blip r:embed="rId3"/>
          <a:stretch/>
        </p:blipFill>
        <p:spPr>
          <a:xfrm>
            <a:off x="7053120" y="-165240"/>
            <a:ext cx="1700280" cy="694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0" y="14400"/>
            <a:ext cx="9163080" cy="6843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763640" y="4653000"/>
            <a:ext cx="281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точный экзаме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108000" y="76320"/>
            <a:ext cx="9036000" cy="6786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59364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Сколько этажей в нашей школ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593640" y="1266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2. Сколько ступенек вам надо преодолеть, чтобы попасть в наш клас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93640" y="30211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3. Сколько предметов вы изучали в первом класс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42960" y="4357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4. Услышав звонок, что нужно сдел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8264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7640" y="-4680"/>
            <a:ext cx="9138960" cy="6862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611280" y="692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Тр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31 ступень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сем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ст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2"/>
          <a:stretch/>
        </p:blipFill>
        <p:spPr>
          <a:xfrm>
            <a:off x="4245120" y="870120"/>
            <a:ext cx="438120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0" y="14400"/>
            <a:ext cx="9163080" cy="684360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2"/>
          <a:stretch/>
        </p:blipFill>
        <p:spPr>
          <a:xfrm>
            <a:off x="23760" y="4316400"/>
            <a:ext cx="721836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250920" y="333360"/>
            <a:ext cx="410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вый дом несу в ру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вери дома на зам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ут жильцы бумажн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 ужасно важ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5003640" y="211140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сосны и ё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ики- иго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на каких листоч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ут слова и строч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395280" y="414972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Я всё знаю, всех уч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 сама всегда молч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б со мною подружи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до грамоте учи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4572000" y="4398840"/>
            <a:ext cx="2340000" cy="17478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3"/>
          <a:stretch/>
        </p:blipFill>
        <p:spPr>
          <a:xfrm>
            <a:off x="1889280" y="2333520"/>
            <a:ext cx="1819080" cy="14241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4"/>
          <a:stretch/>
        </p:blipFill>
        <p:spPr>
          <a:xfrm>
            <a:off x="6100920" y="333360"/>
            <a:ext cx="162216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395280" y="33336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ый кон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лю бега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собой следы оставля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564000" y="171936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т Пахом на коне верх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ги читает, а грамоты не зн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95280" y="26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ёрный Ива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ревянная руба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пройдё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564000" y="4581360"/>
            <a:ext cx="51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ёрный, крив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рожденья все нем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анут в ряд- сейчас заговор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2"/>
          <a:stretch/>
        </p:blipFill>
        <p:spPr>
          <a:xfrm>
            <a:off x="5632560" y="453960"/>
            <a:ext cx="119052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"/>
          <p:cNvPicPr/>
          <p:nvPr/>
        </p:nvPicPr>
        <p:blipFill>
          <a:blip r:embed="rId3"/>
          <a:stretch/>
        </p:blipFill>
        <p:spPr>
          <a:xfrm>
            <a:off x="4273560" y="2673360"/>
            <a:ext cx="1235160" cy="181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E:\FILES\PFILES\MSOFFICE\MEDIA\CNTCD1\Animated\j0283455.gif"/>
          <p:cNvPicPr/>
          <p:nvPr/>
        </p:nvPicPr>
        <p:blipFill>
          <a:blip r:embed="rId4"/>
          <a:stretch/>
        </p:blipFill>
        <p:spPr>
          <a:xfrm>
            <a:off x="1571760" y="152568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E:\FILES\PFILES\MSOFFICE\MEDIA\CNTCD1\Animated\j0283273.gif"/>
          <p:cNvPicPr/>
          <p:nvPr/>
        </p:nvPicPr>
        <p:blipFill>
          <a:blip r:embed="rId5"/>
          <a:stretch/>
        </p:blipFill>
        <p:spPr>
          <a:xfrm>
            <a:off x="1301760" y="4708440"/>
            <a:ext cx="118260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0" y="-324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" descr=""/>
          <p:cNvPicPr/>
          <p:nvPr/>
        </p:nvPicPr>
        <p:blipFill>
          <a:blip r:embed="rId2"/>
          <a:stretch/>
        </p:blipFill>
        <p:spPr>
          <a:xfrm>
            <a:off x="5329080" y="38160"/>
            <a:ext cx="3780000" cy="22017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446040" y="0"/>
            <a:ext cx="4883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 La Russ"/>
              </a:rPr>
              <a:t>    </a:t>
            </a:r>
            <a:r>
              <a:rPr b="0" i="1" lang="ru-RU" sz="5400" spc="-1" strike="noStrike">
                <a:solidFill>
                  <a:srgbClr val="000000"/>
                </a:solidFill>
                <a:latin typeface="A La Russ"/>
              </a:rPr>
              <a:t>Советы парт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ром рано просыпай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орошенько умывай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в школе не зев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сом парту не кле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4356000" y="22399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учай себя к порядк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играй с вещами в прят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ой книжкой дорож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чистоте портфель дер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46040" y="3508200"/>
            <a:ext cx="44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евайся аккура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 смотреть было прия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уроках не хихика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л туда- сюда не двига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1547640" y="5078520"/>
            <a:ext cx="51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дразнись, не зазнавай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школе всем помочь старай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ря не хмурься, будь смеле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айдёшь себе друз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084720" y="380988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т и все мои сове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мудрей и проще нет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ы, дружок, их не забуд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, счастливо, в добрый пу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9320" cy="68626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3517920" y="189000"/>
            <a:ext cx="55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ты с утра проснул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увидел за окн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нарядны и с цветам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еселья полон д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идишь: по дорог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 школьников идет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, наступила осен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лся учебн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tretch/>
        </p:blipFill>
        <p:spPr>
          <a:xfrm rot="20304600">
            <a:off x="324000" y="475920"/>
            <a:ext cx="3716280" cy="36306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3"/>
          <a:stretch/>
        </p:blipFill>
        <p:spPr>
          <a:xfrm>
            <a:off x="2771640" y="2290680"/>
            <a:ext cx="56167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-44280" y="0"/>
            <a:ext cx="9232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971640" y="1844640"/>
            <a:ext cx="63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мчались летние деньк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 парты вам пор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ять вы все- ученик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ёба – не игр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2700360" y="2349360"/>
            <a:ext cx="39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желаю от ду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м здоровья, малыш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прививок не боя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дневно закаля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не мучил вас бронх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брый доктор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2340000" y="77760"/>
            <a:ext cx="4464000" cy="67024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5840280" y="3998880"/>
            <a:ext cx="31323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348000" y="400536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желаю вам в пода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огромный тор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околад и печень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мелад и варень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ься толще, выш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ду от вас ответ на кр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" descr=""/>
          <p:cNvPicPr/>
          <p:nvPr/>
        </p:nvPicPr>
        <p:blipFill>
          <a:blip r:embed="rId2"/>
          <a:stretch/>
        </p:blipFill>
        <p:spPr>
          <a:xfrm>
            <a:off x="7821720" y="158760"/>
            <a:ext cx="154152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-71280" y="0"/>
            <a:ext cx="92865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979640" y="2060640"/>
            <a:ext cx="56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Я хочу вам пожел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ишь пятёрки получа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нижки добрые люби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 математикой друж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 лица Пьеро, Мальв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аш дружищ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1293840" y="0"/>
            <a:ext cx="6556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7736040" y="-165240"/>
            <a:ext cx="1523880" cy="695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2:07:21Z</dcterms:created>
  <dc:creator>Ирина</dc:creator>
  <dc:description/>
  <dc:language>en-US</dc:language>
  <cp:lastModifiedBy>Personals</cp:lastModifiedBy>
  <dcterms:modified xsi:type="dcterms:W3CDTF">2019-01-06T12:14:19Z</dcterms:modified>
  <cp:revision>8</cp:revision>
  <dc:subject/>
  <dc:title>Презентация классного часа 1 сентября для учащихся 2 класса</dc:title>
</cp:coreProperties>
</file>