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F8CB-D17D-4F6D-9893-38FDCD04B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8682-628A-4591-90E1-AF3F75C0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B3CB-91CA-4AC6-8369-1CA88BC84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51EB-865D-4730-B734-92AE84DD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8AB3-6212-46D8-AB70-661E31194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CFCE7-CF26-4DCF-9C1B-73CF57D2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74C7-8E5B-4C87-85E6-91FDB012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4006-8988-4E21-8D93-0435C7425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807CD-64A4-4EC7-BAC4-2D40A1B1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8767-9798-4421-89E0-B2FEA854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35972-665F-412B-AABF-0FE07EB0B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DE31-B992-44A9-B9F1-C04245C0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15C1-62EF-4EDB-96D0-A457D0CC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9C59-0D5C-41FC-9E6F-7373723D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DA03-22EB-4C2F-9DAD-D81334C4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8081-28BF-4E66-B06B-ECAD1924A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7FD1-00A3-4F87-8E9E-9F757092E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577B0-5E77-4FCC-B227-61F726D3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6DD9B-14F0-45FE-950B-44DB0197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450CB-9C10-47C9-9D88-3B9D0066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0C78-B3FF-47A4-8F64-6191B028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ACFE2-B1C0-4DDB-B221-A636FEB7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D5D5-8D0C-4632-8E86-7A519B87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9E565-ED33-4A26-A091-48478C57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0347A-6D34-4AE7-B873-74E7E98B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8E4ED-52D8-4C0E-8960-0C4B2B01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3C22E-3E0D-4D36-8534-C5C56A90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B4F67-8538-49AE-9C43-A88D1461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93931-B952-4851-85D2-DD1988806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F521-FFF4-457C-9DC7-DA4D80AB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1B4F-FD94-4857-9751-6F24DC52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4E47-6323-4F52-9F49-A78F415C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F3BE-B998-4237-AF0E-EA1B2BEE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408-C097-45D4-9B40-E118EF03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D10F-1392-49AA-960C-9B8E160D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2DE-2C25-4604-B62D-D4578D0E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51D2F-52B7-4A2C-9EF0-2FD422018A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3F51-FD50-4EA9-A48C-ED810849580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5B44-759D-4207-929A-C0778E09EC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rbel"/>
              </a:rPr>
              <a:t>Практическая работа «Шифрование данных»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Объект 3" descr=""/>
          <p:cNvPicPr/>
          <p:nvPr/>
        </p:nvPicPr>
        <p:blipFill>
          <a:blip r:embed="rId1"/>
          <a:stretch/>
        </p:blipFill>
        <p:spPr>
          <a:xfrm>
            <a:off x="476280" y="0"/>
            <a:ext cx="866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6" name="Объект 3" descr=""/>
          <p:cNvPicPr/>
          <p:nvPr/>
        </p:nvPicPr>
        <p:blipFill>
          <a:blip r:embed="rId1"/>
          <a:stretch/>
        </p:blipFill>
        <p:spPr>
          <a:xfrm>
            <a:off x="204840" y="422280"/>
            <a:ext cx="861516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1" name="Объект 3" descr=""/>
          <p:cNvPicPr/>
          <p:nvPr/>
        </p:nvPicPr>
        <p:blipFill>
          <a:blip r:embed="rId1"/>
          <a:stretch/>
        </p:blipFill>
        <p:spPr>
          <a:xfrm>
            <a:off x="324000" y="27000"/>
            <a:ext cx="797688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Объект 3" descr=""/>
          <p:cNvPicPr/>
          <p:nvPr/>
        </p:nvPicPr>
        <p:blipFill>
          <a:blip r:embed="rId1"/>
          <a:stretch/>
        </p:blipFill>
        <p:spPr>
          <a:xfrm>
            <a:off x="299880" y="476280"/>
            <a:ext cx="8159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4" name="Объект 3" descr=""/>
          <p:cNvPicPr/>
          <p:nvPr/>
        </p:nvPicPr>
        <p:blipFill>
          <a:blip r:embed="rId1"/>
          <a:stretch/>
        </p:blipFill>
        <p:spPr>
          <a:xfrm>
            <a:off x="1249200" y="1189080"/>
            <a:ext cx="6645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6" name="Объект 3" descr=""/>
          <p:cNvPicPr/>
          <p:nvPr/>
        </p:nvPicPr>
        <p:blipFill>
          <a:blip r:embed="rId1"/>
          <a:stretch/>
        </p:blipFill>
        <p:spPr>
          <a:xfrm>
            <a:off x="1249200" y="1189080"/>
            <a:ext cx="6645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1" name="Объект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712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3" name="Объект 3" descr=""/>
          <p:cNvPicPr/>
          <p:nvPr/>
        </p:nvPicPr>
        <p:blipFill>
          <a:blip r:embed="rId1"/>
          <a:stretch/>
        </p:blipFill>
        <p:spPr>
          <a:xfrm>
            <a:off x="14400" y="-25560"/>
            <a:ext cx="9129600" cy="684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Объект 3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9" name="Объект 3" descr=""/>
          <p:cNvPicPr/>
          <p:nvPr/>
        </p:nvPicPr>
        <p:blipFill>
          <a:blip r:embed="rId1"/>
          <a:stretch/>
        </p:blipFill>
        <p:spPr>
          <a:xfrm>
            <a:off x="179280" y="30240"/>
            <a:ext cx="869796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3:24:32Z</dcterms:created>
  <dc:creator>Alena</dc:creator>
  <dc:description/>
  <dc:language>en-US</dc:language>
  <cp:lastModifiedBy>Grey Wolf</cp:lastModifiedBy>
  <dcterms:modified xsi:type="dcterms:W3CDTF">2016-09-21T07:47:02Z</dcterms:modified>
  <cp:revision>43</cp:revision>
  <dc:subject/>
  <dc:title>Слайд 1</dc:title>
</cp:coreProperties>
</file>