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7CF0B-CB90-4F6B-AFBB-A6CCC82019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0A468-93F4-4363-8F10-9AAD8D5A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160436-E56A-4D14-94EC-6E1DCD77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3D7D67-BD3A-4BE3-8909-37713E7D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A22137-723C-4908-B813-B8AF000A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B3E63A-3149-4585-843B-37A0B70A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31C9C0-13E0-4112-90F1-3D8E63DC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FFEE5A-8500-46B9-A18F-2F49DDBF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C3ECBC-182F-48C1-A839-2CE8569D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ECBB97-E8AC-465D-97D0-1E29C3A8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133EEF-8E89-46B2-A8F1-C0D581B3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2F52AF-45D6-441B-B3CC-E44D40AB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980F9-FCF8-4BFF-87AA-57F830F7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36937F-6E24-4255-BF29-179E09EA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93C0F8-31F7-4293-AE33-6A9FE639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FF7E3A-6622-4E99-8ABE-1C093C1A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FC0521-446F-4CDC-A396-402BEBB0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491819-9DC6-4EE5-A3B3-270E7398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17F8B6-3F1C-49FE-BB42-5CF46DCE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5EB538-66FD-4AA1-8D50-7C1C0083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A2B2DA-FE49-4B3B-B3B2-D6122A1C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396392-4B73-4140-ABE7-DFB3B123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A41CFA-7057-4C42-BA5F-D0C4AF68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74F87-0736-425F-B8C6-4BA7411C5F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21D384-A819-4199-8195-9E1C442E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79E7A1-64EA-4B3A-A105-1132937D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3F22E3-8031-4842-83BE-9951F04F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FBDB90-F982-4CE7-81ED-50C38BCE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E811E1-8731-4BEA-B11D-1D869B65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48CC48-1F24-455D-8D37-9BDB5DB1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B6AB77-8523-492C-BCF9-33279609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DB6F9C-AC5D-42A2-8A37-0F723219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0B7DF8-E1C6-42AC-8E58-1834125E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8EE2DC-3BB5-4C6F-9EE8-528603D3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2536D-B622-498E-98F3-265C5C48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46FB3C-F22C-4FA4-903A-5AECAF30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19B80A-DC23-4D97-85EC-20332E1B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A6BB72-FA6A-4B22-BC71-CCD41061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AA5C1D-8C2A-4811-9171-13F4D760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E39D6A-3073-4827-ADF2-D5411881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E6DF45-2C2D-44F3-8C5F-87E505AA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8C9E77-8DB8-4C67-9605-423F75D4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630F87-A573-4956-9F1F-F4134004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54F082-AE75-4BC9-B550-2FC3BA9C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58D4AB-8AA6-4FD1-B551-0CCFAD1F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97AFE-3A07-4AC0-817C-4F45E91A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3D63CF-2AE5-48A1-B6D4-2921F14A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991F07-5C78-4B35-AEF7-5A0D8ED8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E09413-DCDE-40A6-868F-84C7A3DC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E5073E-8D13-455E-8ECF-1CA5FEDD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5B0FAE-8BD6-436C-8A0C-F5BF30C1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85DD49-B099-4A12-A910-0223DAFB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4DD2F3-FB56-44CB-AE04-3499D32A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81EEAB-3116-4E11-AF8B-2BEF7366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5649CB-BEDD-4BBC-B2C1-B0F5D22E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F86E5D-CD4F-41A2-834B-C75641F9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D2F4A-76C5-42E2-A0E4-83D4E538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98DBDC-E153-4AE8-8D05-8468F149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521E20-4019-41DA-B4D3-B1FD2CAC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DB8D32-F48A-4F4D-A682-AD3B2CD6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339600-90AA-4FEB-B51D-D199D259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8B2809-5564-486A-9EF0-83863043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8D3D17-9E29-4F07-B3D9-14AD9E5B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1EEE9C-0A89-42AE-9DAA-3722E15F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28BC87-14ED-400F-8EC5-035DCD86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D25CA1-DB6E-4B5B-8062-62B1B258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FEB82D-C314-4FAC-87FB-D9ACC7F4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008C7-DE03-4E38-A09A-FE192BF0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D024E9-EEAC-4332-9221-E9401A06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A37161-7F6B-44F7-A7EC-3168157C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55D29E-2A49-41C0-A81B-35C276B2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1B7E6D-1420-4AA9-B102-1764A1F3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1117CF-5BE4-4C06-9C16-09A0757A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FAE81C-E94C-402F-B879-E942057E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62C3B7-ECC6-407D-8761-5B2EAD5B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78E38A-8561-4DD8-9C06-44A592FF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6A0A249-0BF0-40C0-AE7A-A5124138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F640741-BE16-40AE-941F-EF937157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CA417-CF50-45A6-A4CE-041C6AFD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30A5F2-BE31-446F-AD2D-F61EE6A5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DB19EA-275F-4663-977D-088A2306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A11804-9EF8-4781-BD65-188C923A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696C5B-65FC-4FE2-A6BE-F739A438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D69E93-F024-478C-897F-364DA38D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DF1BED-71F8-4F5E-83D3-D308E811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1A3A274-E1DA-4A1A-B87F-DFECA9C3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343A42-274E-4B7E-8E4D-019D8A93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3AA315-596C-4461-B665-8CBE54B4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0DF93A1-47F9-4210-9C87-07632668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3AD58-8C03-4E85-B3BB-7C320F7F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E85A1A-9511-4176-AEC6-8503D9CD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549813D-7C5D-4BBD-9EBE-F04790AD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94B1DCF-F779-4D76-9E9F-73C885D3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C736F53-62FF-4FA5-A5DB-507DD065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C85B722-01D7-424C-883A-B9D94A07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C94B66C-F232-4E0E-9193-AFFCE93C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F6412B8-FF30-45F1-BB62-3F797197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A07C5C6-E95D-4A00-BF72-EBB6F8EA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1161B6C-666B-44E5-9051-0DB1C961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C3265F7-96B6-4C3B-A1FD-7224386A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2D185-C79E-46D7-BAEE-32B85194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FD10E65-3FCA-45E7-89F4-33788B2C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A6C06FD-A83D-4003-A807-EB79FFF2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ABFCCC3-EF0A-43B4-9F0A-49038135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2D558D6-18C3-4A28-98BE-293E52EA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9639AE7-D9DB-4BDE-B1EF-286D6609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314BD0B-C34F-4AA0-863C-6241C91A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2EC528-89DF-426A-B675-C27F856C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3258239-9070-49EC-A39C-5449D681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41DFCE-E2AB-4C29-A6E4-DA7BE121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90C7AB8-885E-4149-8C1C-AFD57B11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E788F-FA2D-47EE-8C30-91826E41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D6519-4AE1-47B5-AC28-71BB782E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C5BD2E7-6EEC-4E1B-91D6-F67E00F6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442533B-7439-4991-B1BB-6BB750C8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FC76B5D-0CED-415C-A6DC-070FC92E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5E18981-C2E6-41E2-B39F-8B169FF3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F1E3169-BC74-4F74-A241-32C68B58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E0D35B9-5464-4483-8438-6FF1414A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F03FFB3-F61C-4DC6-A3BA-923C38B4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D1D5111-FEB1-49A7-A39F-94CC80FD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0A24F70-12CD-49B8-926B-7127FE10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CA9ECBE-E372-4FE9-B9DE-9F537511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7D382-14EB-40E5-97EA-7E5AF299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585AF55-6A0D-43A3-99A9-55F94561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9D70A36-4759-4A27-B66C-30C0AD63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5DE026D-5542-48FF-94C8-39A4FEA5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21A678C-BBD9-4BB3-8FFD-71454A27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F333E7D-69DE-4675-A8CD-9725FA0E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BDAFF82-E24D-4296-A43B-281DF2DF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2C0CE9E-8260-4DAF-8951-A8FB65CF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8F98A-ACF4-4FB5-B370-4C1DDC97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1718B-F452-4D54-B59B-26E402F9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BAB88-0AC9-493B-8298-127AA50C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35CA5-0F35-4AE9-99FA-DDD70967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CC1AE-B650-44E2-A23A-FCAFD31A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0A415-6C5A-4F70-928C-28F242F7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65DBE-87BB-41A9-97F4-480E7471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A6F9F1-6537-4B3B-834D-9702E160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5A378-448B-45B9-B11D-B8EF94F5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DC30F-A099-411D-B02E-37BCC5B2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B6172-611B-4C5F-BE13-0A4313A0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43FD3-9114-49DF-8EB4-87863E04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3BA1A-0685-4E65-808F-F200539F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EE54E6-892B-4264-8F27-7E09C6A1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DDB1BA-8A05-4325-8F1F-620DE7DA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840CC-C2DB-4ADB-A27A-C3829E50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AB2B11-601E-4340-B873-AE137A46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CDE30C-B7EB-465D-B2DD-484AC8EE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55D3E0-B880-410C-8C7B-A5742F63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2FE89-31C4-4304-A077-412D7157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9C269B-3450-4E26-AD48-959268EF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855958-5E6C-4B25-B56C-42A317BC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04557B-4775-409C-8A69-AE659CC3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D992C3-8409-4875-BFB7-720F3A29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C49A5A-2DE1-4937-B679-313DC300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62E1FB-A38E-4C76-B181-1697E3FF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9AF7DD-F934-4229-81B2-11E20174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096FF9-7735-40AA-B47E-054214B4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F5ECE9-D0B5-43C7-A22A-FE3A8D58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7E31BA-ED1A-4265-B8D9-85DEF3E1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2C850-6EAE-478C-802A-D5199DA0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74E27E-2319-4EF0-8F4B-BB8EE2BC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6D5DDC-8620-4458-B58D-A88209EB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B8BFD-F305-4460-A23D-55D4ADA6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2E6E41-7EE3-475A-8B01-FEE1869C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ED4393-3550-4C52-AB49-ED541FFF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EBC83F-6DA0-468A-A7E0-914EF12E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51AAF2-CB2A-4F55-BAFE-19320F37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786FF1-AA24-43ED-989C-4B7A838F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7C327-C7A5-4358-90DE-40E1B271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73AF2B-EB6D-40A2-B5D9-764FED91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55FB8-DE4C-4167-8017-F23AAD0D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C0BA6F-5581-461B-B7BC-12EDF6F9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DCEDC-3D84-4307-A21F-DD8CB9AA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38F120-7E75-40D8-AA25-4C1C85ED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9FC594-CBA6-4184-AAEA-367E9AB6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929016-4B1E-4C3C-833B-6BEA5810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A785DB-5B4C-47E8-BB56-5AF903F3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6D76BD-EC57-4C6D-A591-BC5ADFA0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92AD2-5EA9-4E41-822C-27E10604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C7792E-4357-4FDA-97AA-12F0EC55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A9AD9-98A5-4F1D-8BAD-B20DEAEA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F3F47-4907-4935-AECD-1210566D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9AB95-9D59-4BB8-9E6D-C0D3E08B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0D5C8C-A314-4AEB-B436-42155931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26AFDC-5634-4943-9E61-FD7DF6D3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534C65-ABDF-4030-A29E-F26B4199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75517E-64C1-4EF7-B60B-436D671F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1A80A5-FBAC-4BF7-A8B1-AAB08F20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48D77D-E8C8-48F5-8D82-22736E0E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1F79F5-7B9D-41A1-8303-3A0BF824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C8F18F-B510-4EC7-93BB-3EC436E0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036A3F-A177-4825-B1BD-467E82C5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CD276-590E-421C-A28A-75A32666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336162-18E5-4BB6-8E69-6834C85D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5552A4-F236-4F90-97EA-C37F8DE1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E7AAAB-2E1A-4A3B-82C4-2BD6B3F3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99C358-8B28-487E-8521-526CAA1A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685EB7-14BC-40AD-8EFA-E00D7C7D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96166D-D385-4345-A041-1FF31232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141F01-881E-4765-85B9-336B1895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4883C2-5DD6-450C-824D-4FE32395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C8E20F-9D23-445B-A040-B0861E37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24F644-884F-4FD2-88D9-45DF8656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37783-9769-406A-877D-773610C5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934A13-E65A-434A-983F-DCB17F8C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36D2CB-1759-4F23-AD22-8EF098F9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68D12A-71DC-4F77-AF38-699A895F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DAFD3F-AE78-476A-90D1-9620E337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9D4D97-B83E-423A-A543-8123FCAD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F13B2E-0DC4-4F2D-AED3-1E82AC6C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5616E2-26BE-4819-9468-109B41BC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FB4CF5-CCE4-4EB2-8FA1-AB06F477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CF3419-7286-42A9-926E-66CC3E3E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E597B6-27C6-4E84-AD08-B73A1738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4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E781E4-A172-4852-A4F2-094C668F39B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5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80494D-9689-486F-9AC0-A68439E7A73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1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A881B7-7FFF-43C0-918A-A2D5F460BDD8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6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344784-E746-4131-AC1E-E5DEEDFD83F1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1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4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3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3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3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075404-C590-4B31-A111-50ECA37007CC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6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3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4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4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5A1809-D7D0-4760-840D-4B240D291933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2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0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4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4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4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F42C64-E637-4FE2-B7BC-EFCE97B692C2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7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4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4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4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FEEC27-7933-424E-AA79-31119D1E4FF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82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4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4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5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A9E13D-8C37-4A79-A9EF-C8D303A35C4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87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5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5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5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C9E262-05F5-461C-861D-F592B7CB477C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.4.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4587A2-C399-479B-9593-9E547B637F7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F7F067-CE3C-4ECA-93AF-3CE3109C6D31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393460-19CD-4E07-826C-502DEF4C5642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9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A358CF-B461-451F-B6B2-1592A000EC2C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5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EAA4F8-C76D-4487-8F34-C57A20F009B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0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695444-945D-4DF5-A1F0-53832D517A4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5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FD6B77-F965-4B86-806C-CBE64533611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0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B877CD-807F-4939-A66C-66D3936AF42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Picture 9" descr="http://im5-tub-ru.yandex.net/i?id=536438512-52-72&amp;n=21"/>
          <p:cNvPicPr/>
          <p:nvPr/>
        </p:nvPicPr>
        <p:blipFill>
          <a:blip r:embed="rId1"/>
          <a:stretch/>
        </p:blipFill>
        <p:spPr>
          <a:xfrm>
            <a:off x="6875640" y="335772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930" name="Text Box 1"/>
          <p:cNvSpPr/>
          <p:nvPr/>
        </p:nvSpPr>
        <p:spPr>
          <a:xfrm>
            <a:off x="2340000" y="333360"/>
            <a:ext cx="51847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  <a:ea typeface="Arial Unicode MS"/>
              </a:rPr>
              <a:t>Презентация проекта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 Black"/>
                <a:ea typeface="Arial Unicode MS"/>
              </a:rPr>
              <a:t>«Волшебная пуговиц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AutoShape 4"/>
          <p:cNvSpPr/>
          <p:nvPr/>
        </p:nvSpPr>
        <p:spPr>
          <a:xfrm>
            <a:off x="539640" y="1628640"/>
            <a:ext cx="6872400" cy="1800360"/>
          </a:xfrm>
          <a:prstGeom prst="horizontalScroll">
            <a:avLst>
              <a:gd name="adj" fmla="val 12500"/>
            </a:avLst>
          </a:prstGeom>
          <a:solidFill>
            <a:srgbClr val="0099ff"/>
          </a:solidFill>
          <a:ln w="25560">
            <a:solidFill>
              <a:srgbClr val="ada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«Вы можете стать кем угодно, и никто не заметит это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Но если у вас отсутствует пуговиц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каждый обратит на это внимание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Э.М.Рема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2" name="Picture 8" descr="https://cs5.livemaster.ru/storage/67/99/c19714018d3560d5151ae81db04s--materialy-dlya-tvorchestva-pugovitsy-13-mm.jpg"/>
          <p:cNvPicPr/>
          <p:nvPr/>
        </p:nvPicPr>
        <p:blipFill>
          <a:blip r:embed="rId2"/>
          <a:stretch/>
        </p:blipFill>
        <p:spPr>
          <a:xfrm>
            <a:off x="900000" y="3295800"/>
            <a:ext cx="2735280" cy="1728720"/>
          </a:xfrm>
          <a:prstGeom prst="rect">
            <a:avLst/>
          </a:prstGeom>
          <a:ln w="0">
            <a:noFill/>
          </a:ln>
        </p:spPr>
      </p:pic>
      <p:sp>
        <p:nvSpPr>
          <p:cNvPr id="933" name="Прямоугольник 1"/>
          <p:cNvSpPr/>
          <p:nvPr/>
        </p:nvSpPr>
        <p:spPr>
          <a:xfrm>
            <a:off x="3224160" y="5516640"/>
            <a:ext cx="5577120" cy="11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Black"/>
                <a:ea typeface="Arial Unicode MS"/>
              </a:rPr>
              <a:t>Автор-составитель: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 воспитатель МБДО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«Детский сад № 71» Зайцева О.С.   Перегудова В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4" name="neizvesten_-_novogodnie-igrushki" descr=""/>
          <p:cNvPicPr/>
          <p:nvPr/>
        </p:nvPicPr>
        <p:blipFill>
          <a:blip r:embed="rId3"/>
          <a:stretch/>
        </p:blipFill>
        <p:spPr>
          <a:xfrm>
            <a:off x="7632720" y="30240"/>
            <a:ext cx="1468440" cy="1469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Box 1"/>
          <p:cNvSpPr/>
          <p:nvPr/>
        </p:nvSpPr>
        <p:spPr>
          <a:xfrm>
            <a:off x="1547640" y="198900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  <a:ea typeface="MingLiU_HKSCS-ExtB"/>
              </a:rPr>
              <a:t>А сейчас у нас будет киноменутка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Sto.pugovits.1983.XviD.DVDRip" descr=""/>
          <p:cNvPicPr/>
          <p:nvPr/>
        </p:nvPicPr>
        <p:blipFill>
          <a:blip r:embed="rId1"/>
          <a:stretch/>
        </p:blipFill>
        <p:spPr>
          <a:xfrm>
            <a:off x="468360" y="1646280"/>
            <a:ext cx="8351640" cy="4914720"/>
          </a:xfrm>
          <a:prstGeom prst="rect">
            <a:avLst/>
          </a:prstGeom>
          <a:ln w="0">
            <a:noFill/>
          </a:ln>
        </p:spPr>
      </p:pic>
      <p:sp>
        <p:nvSpPr>
          <p:cNvPr id="970" name="TextBox 2"/>
          <p:cNvSpPr/>
          <p:nvPr/>
        </p:nvSpPr>
        <p:spPr>
          <a:xfrm>
            <a:off x="1908000" y="3333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54a021"/>
                </a:solidFill>
                <a:latin typeface="Monotype Corsiva"/>
              </a:rPr>
              <a:t>Киноменут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random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6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6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AutoShape 2"/>
          <p:cNvSpPr/>
          <p:nvPr/>
        </p:nvSpPr>
        <p:spPr>
          <a:xfrm>
            <a:off x="1476360" y="1341360"/>
            <a:ext cx="4896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2" name="Picture 10" descr="https://bestcube.space/wp-content/uploads/img11-768x576.jpg"/>
          <p:cNvPicPr/>
          <p:nvPr/>
        </p:nvPicPr>
        <p:blipFill>
          <a:blip r:embed="rId1"/>
          <a:stretch/>
        </p:blipFill>
        <p:spPr>
          <a:xfrm>
            <a:off x="0" y="-58680"/>
            <a:ext cx="9223200" cy="6916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Text Box 1"/>
          <p:cNvSpPr/>
          <p:nvPr/>
        </p:nvSpPr>
        <p:spPr>
          <a:xfrm>
            <a:off x="457200" y="274680"/>
            <a:ext cx="82296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Calibri"/>
                <a:ea typeface="Arial Unicode MS"/>
              </a:rPr>
              <a:t>Цель проекта: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Arial Unicode MS"/>
              </a:rPr>
              <a:t>развитие познавательного интереса детей подготовительного дошкольного возраста к предметному мир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 Box 2"/>
          <p:cNvSpPr/>
          <p:nvPr/>
        </p:nvSpPr>
        <p:spPr>
          <a:xfrm>
            <a:off x="590400" y="1947960"/>
            <a:ext cx="8409240" cy="4711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Calibri"/>
                <a:ea typeface="Arial Unicode MS"/>
              </a:rPr>
              <a:t>Участники проекта: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 Unicode MS"/>
              </a:rPr>
              <a:t> </a:t>
            </a:r>
            <a:r>
              <a:rPr b="1" i="1" lang="ru-RU" sz="2600" spc="-1" strike="noStrike">
                <a:solidFill>
                  <a:srgbClr val="6b2394"/>
                </a:solidFill>
                <a:latin typeface="Calibri"/>
                <a:ea typeface="Arial Unicode MS"/>
              </a:rPr>
              <a:t>дети подготовительной группы, родители , методисты сада.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  <a:ea typeface="Arial Unicode MS"/>
              </a:rPr>
              <a:t>Образовательная область: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 Unicode MS"/>
              </a:rPr>
              <a:t>   </a:t>
            </a:r>
            <a:r>
              <a:rPr b="0" lang="ru-RU" sz="2200" spc="-1" strike="noStrike">
                <a:solidFill>
                  <a:srgbClr val="800000"/>
                </a:solidFill>
                <a:latin typeface="Arial Black"/>
                <a:ea typeface="Arial Unicode MS"/>
              </a:rPr>
              <a:t>«Познание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Calibri"/>
                <a:ea typeface="Arial Unicode MS"/>
              </a:rPr>
              <a:t>Итоговые мероприятия: </a:t>
            </a:r>
            <a:r>
              <a:rPr b="0" i="1" lang="ru-RU" sz="2000" spc="-1" strike="noStrike">
                <a:solidFill>
                  <a:srgbClr val="5e11a6"/>
                </a:solidFill>
                <a:latin typeface="Arial Black"/>
                <a:ea typeface="Arial Unicode MS"/>
              </a:rPr>
              <a:t>выставка-презентация детско-родительского творчества «Пуговичные шедевр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Text Box 1"/>
          <p:cNvSpPr/>
          <p:nvPr/>
        </p:nvSpPr>
        <p:spPr>
          <a:xfrm>
            <a:off x="411120" y="179280"/>
            <a:ext cx="82296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  <a:ea typeface="Arial Unicode MS"/>
              </a:rPr>
              <a:t>Задачи  проект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Text Box 2"/>
          <p:cNvSpPr/>
          <p:nvPr/>
        </p:nvSpPr>
        <p:spPr>
          <a:xfrm>
            <a:off x="457200" y="720720"/>
            <a:ext cx="8542440" cy="5938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9840" indent="-339840" algn="just">
              <a:lnSpc>
                <a:spcPct val="100000"/>
              </a:lnSpc>
              <a:spcBef>
                <a:spcPts val="638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Demi"/>
                <a:ea typeface="Arial Unicode MS"/>
              </a:rPr>
              <a:t>Обогатить представления детей о роли пуговиц в жизни человека, о многообразии пуговиц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638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Demi"/>
                <a:ea typeface="Arial Unicode MS"/>
              </a:rPr>
              <a:t>Развивать умение сочинять творческие рассказы, придумывать загадки о пуговиц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638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Franklin Gothic Demi"/>
                <a:ea typeface="Arial Unicode MS"/>
              </a:rPr>
              <a:t>Знакомство с различными способами пришивания пуговиц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638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Demi"/>
                <a:ea typeface="Arial Unicode MS"/>
              </a:rPr>
              <a:t>Развивать практические умения в продуктивной деятельности (рисование, лепка, аппликац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Text Box 1"/>
          <p:cNvSpPr/>
          <p:nvPr/>
        </p:nvSpPr>
        <p:spPr>
          <a:xfrm>
            <a:off x="468360" y="18576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 Unicode MS"/>
              </a:rPr>
              <a:t>1 этап — подготовитель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 Unicode MS"/>
              </a:rPr>
              <a:t>Мотивационный.  Введение детей в пробле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2"/>
          <p:cNvSpPr/>
          <p:nvPr/>
        </p:nvSpPr>
        <p:spPr>
          <a:xfrm>
            <a:off x="395280" y="981000"/>
            <a:ext cx="8542440" cy="568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80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 Unicode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1.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 Unicode MS"/>
              </a:rPr>
              <a:t>Постановка проблемы через образовательную ситуацию в режиме дня (вечер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6b2394"/>
                </a:solidFill>
                <a:latin typeface="Franklin Gothic Medium"/>
                <a:ea typeface="Arial Unicode MS"/>
              </a:rPr>
              <a:t>Чтение сказки о пугов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  <a:ea typeface="Arial Unicode MS"/>
              </a:rPr>
              <a:t>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 Unicode MS"/>
              </a:rPr>
              <a:t>2. Обращение к опыту детей.</a:t>
            </a: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  <a:ea typeface="Arial Unicode MS"/>
              </a:rPr>
              <a:t>Постановка детской цели: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Franklin Gothic Medium"/>
                <a:ea typeface="Arial Unicode MS"/>
              </a:rPr>
              <a:t>Поможем пуговке  собрать друз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 Unicode MS"/>
              </a:rPr>
              <a:t>3. Беседа с детьми «Что мы знаем о пуговице»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 Unicode MS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выявить представления детей о пуговицах через модель  3-х вопросов и разработать план проекта (маршру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  <a:ea typeface="Arial Unicode MS"/>
              </a:rPr>
              <a:t>Что мы знаем? Что мы хотим узнать? Что будем дела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Calibri"/>
                <a:ea typeface="Arial Unicode MS"/>
              </a:rPr>
              <a:t>Основные направления поиска: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«Что означает слово пуговица?», «Чем люди пользовались до изобретения пуговиц», «Какими были первые пуговицы?», «Каких видов бывают пуговицы?», «Из каких материалов делают пуговицы?» «Как их можно использовать?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Line 3"/>
          <p:cNvSpPr/>
          <p:nvPr/>
        </p:nvSpPr>
        <p:spPr>
          <a:xfrm flipH="1">
            <a:off x="2195640" y="4076640"/>
            <a:ext cx="542880" cy="360360"/>
          </a:xfrm>
          <a:prstGeom prst="line">
            <a:avLst/>
          </a:prstGeom>
          <a:ln w="720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Line 4"/>
          <p:cNvSpPr/>
          <p:nvPr/>
        </p:nvSpPr>
        <p:spPr>
          <a:xfrm>
            <a:off x="4643280" y="4076640"/>
            <a:ext cx="1800" cy="360360"/>
          </a:xfrm>
          <a:prstGeom prst="line">
            <a:avLst/>
          </a:prstGeom>
          <a:ln w="7200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Line 5"/>
          <p:cNvSpPr/>
          <p:nvPr/>
        </p:nvSpPr>
        <p:spPr>
          <a:xfrm>
            <a:off x="6372360" y="4076640"/>
            <a:ext cx="539640" cy="360360"/>
          </a:xfrm>
          <a:prstGeom prst="line">
            <a:avLst/>
          </a:prstGeom>
          <a:ln w="72000">
            <a:solidFill>
              <a:srgbClr val="6b479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Прямоугольник 2"/>
          <p:cNvSpPr/>
          <p:nvPr/>
        </p:nvSpPr>
        <p:spPr>
          <a:xfrm>
            <a:off x="250920" y="476280"/>
            <a:ext cx="574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Arial Unicode MS"/>
              </a:rPr>
              <a:t>Давным – давно в стране ниток, иголок и булавок, которая называлась Ниткоиголия, жила- была дужная и очень счастливая семья пуговиц. Мама, папа и дочка Пуговка. Уж до того смышленая и ловкая помощница была Пуговка. Родители не могли нарадоваться на н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Arial Unicode MS"/>
              </a:rPr>
              <a:t>Однажды пуговка пошла в лес за шелковыми ягодами и угодила в капкан, который поставил волшебник Грун. Он этими капканами ловил нитки, которыми зашивал свои сапоги - скорох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Arial Unicode MS"/>
              </a:rPr>
              <a:t>Когда волшебник пришел за добычей, то увидел пуговку, обрадовался и забрал ее к себе. Пуговка была красива собой. Волшебник относился к ней бережно и хранил в красивой шкатулке. Там Пуговка была совсем одна. У нее не было друзей. Пуговке хотелось, чтобы у нее были подруж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5" name="Picture 6" descr="hello_html_5bc40a7a.jpg"/>
          <p:cNvPicPr/>
          <p:nvPr/>
        </p:nvPicPr>
        <p:blipFill>
          <a:blip r:embed="rId1"/>
          <a:stretch/>
        </p:blipFill>
        <p:spPr>
          <a:xfrm>
            <a:off x="5961240" y="1268280"/>
            <a:ext cx="3149280" cy="3168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 Box 1"/>
          <p:cNvSpPr/>
          <p:nvPr/>
        </p:nvSpPr>
        <p:spPr>
          <a:xfrm>
            <a:off x="395280" y="115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 Black"/>
                <a:ea typeface="Arial Unicode MS"/>
              </a:rPr>
              <a:t>2 этап- основ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2"/>
          <p:cNvSpPr/>
          <p:nvPr/>
        </p:nvSpPr>
        <p:spPr>
          <a:xfrm>
            <a:off x="468360" y="981000"/>
            <a:ext cx="8408880" cy="540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984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 Unicode MS"/>
              </a:rPr>
              <a:t>Познавательно-исследовательская деятельнос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-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 Unicode MS"/>
              </a:rPr>
              <a:t>рассматривание и обследование пугов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 Unicode MS"/>
              </a:rPr>
              <a:t>игры и задания по сенсорике: «Составь картинк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 Unicode MS"/>
              </a:rPr>
              <a:t>дидактические игры: «На что похоже», «Найди пар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 Unicode MS"/>
              </a:rPr>
              <a:t>музыкально-дидактические игры: «Пуговичные песенк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 Unicode MS"/>
              </a:rPr>
              <a:t>сюжетно-ролевые игры «Семья», «Атель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 Unicode MS"/>
              </a:rPr>
              <a:t>Коллекционирова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1" lang="ru-RU" sz="2400" spc="-1" strike="noStrike">
                <a:solidFill>
                  <a:srgbClr val="280099"/>
                </a:solidFill>
                <a:latin typeface="Calibri"/>
                <a:ea typeface="Arial Unicode MS"/>
              </a:rPr>
              <a:t>«Детские пуговицы», «Пуговицы-крошки», «Перламутровые пуговиц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8" name="Picture 6" descr="http://im0-tub-ru.yandex.net/i?id=281977397-47-72&amp;n=21"/>
          <p:cNvPicPr/>
          <p:nvPr/>
        </p:nvPicPr>
        <p:blipFill>
          <a:blip r:embed="rId1"/>
          <a:stretch/>
        </p:blipFill>
        <p:spPr>
          <a:xfrm rot="20982000">
            <a:off x="1298160" y="49590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8" descr="http://im8-tub-ru.yandex.net/i?id=112014036-27-72&amp;n=21"/>
          <p:cNvPicPr/>
          <p:nvPr/>
        </p:nvPicPr>
        <p:blipFill>
          <a:blip r:embed="rId2"/>
          <a:stretch/>
        </p:blipFill>
        <p:spPr>
          <a:xfrm rot="1298400">
            <a:off x="5940360" y="5013360"/>
            <a:ext cx="196236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 Box 1"/>
          <p:cNvSpPr/>
          <p:nvPr/>
        </p:nvSpPr>
        <p:spPr>
          <a:xfrm>
            <a:off x="539640" y="274680"/>
            <a:ext cx="814716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 Unicode MS"/>
              </a:rPr>
              <a:t>Интегрированные формы образовательной деятельности с детьм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1" name="Рисунок 1" descr=""/>
          <p:cNvPicPr/>
          <p:nvPr/>
        </p:nvPicPr>
        <p:blipFill>
          <a:blip r:embed="rId1"/>
          <a:stretch/>
        </p:blipFill>
        <p:spPr>
          <a:xfrm>
            <a:off x="512640" y="1685880"/>
            <a:ext cx="1571760" cy="2097000"/>
          </a:xfrm>
          <a:prstGeom prst="rect">
            <a:avLst/>
          </a:prstGeom>
          <a:ln w="0">
            <a:noFill/>
          </a:ln>
        </p:spPr>
      </p:pic>
      <p:pic>
        <p:nvPicPr>
          <p:cNvPr id="952" name="Рисунок 2" descr=""/>
          <p:cNvPicPr/>
          <p:nvPr/>
        </p:nvPicPr>
        <p:blipFill>
          <a:blip r:embed="rId2"/>
          <a:stretch/>
        </p:blipFill>
        <p:spPr>
          <a:xfrm rot="3940800">
            <a:off x="5707800" y="1253160"/>
            <a:ext cx="1774800" cy="1332000"/>
          </a:xfrm>
          <a:prstGeom prst="rect">
            <a:avLst/>
          </a:prstGeom>
          <a:ln w="0">
            <a:noFill/>
          </a:ln>
        </p:spPr>
      </p:pic>
      <p:pic>
        <p:nvPicPr>
          <p:cNvPr id="953" name="Рисунок 3" descr=""/>
          <p:cNvPicPr/>
          <p:nvPr/>
        </p:nvPicPr>
        <p:blipFill>
          <a:blip r:embed="rId3"/>
          <a:stretch/>
        </p:blipFill>
        <p:spPr>
          <a:xfrm rot="5805600">
            <a:off x="2315520" y="1227240"/>
            <a:ext cx="1662120" cy="1608120"/>
          </a:xfrm>
          <a:prstGeom prst="rect">
            <a:avLst/>
          </a:prstGeom>
          <a:ln w="0">
            <a:noFill/>
          </a:ln>
        </p:spPr>
      </p:pic>
      <p:pic>
        <p:nvPicPr>
          <p:cNvPr id="954" name="Рисунок 4" descr=""/>
          <p:cNvPicPr/>
          <p:nvPr/>
        </p:nvPicPr>
        <p:blipFill>
          <a:blip r:embed="rId4"/>
          <a:stretch/>
        </p:blipFill>
        <p:spPr>
          <a:xfrm rot="6013800">
            <a:off x="7030800" y="2320560"/>
            <a:ext cx="2187360" cy="1641600"/>
          </a:xfrm>
          <a:prstGeom prst="rect">
            <a:avLst/>
          </a:prstGeom>
          <a:ln w="0">
            <a:noFill/>
          </a:ln>
        </p:spPr>
      </p:pic>
      <p:pic>
        <p:nvPicPr>
          <p:cNvPr id="955" name="Рисунок 5" descr=""/>
          <p:cNvPicPr/>
          <p:nvPr/>
        </p:nvPicPr>
        <p:blipFill>
          <a:blip r:embed="rId5"/>
          <a:stretch/>
        </p:blipFill>
        <p:spPr>
          <a:xfrm>
            <a:off x="539640" y="4221000"/>
            <a:ext cx="1548000" cy="2062440"/>
          </a:xfrm>
          <a:prstGeom prst="rect">
            <a:avLst/>
          </a:prstGeom>
          <a:ln w="0">
            <a:noFill/>
          </a:ln>
        </p:spPr>
      </p:pic>
      <p:pic>
        <p:nvPicPr>
          <p:cNvPr id="956" name="Рисунок 6" descr=""/>
          <p:cNvPicPr/>
          <p:nvPr/>
        </p:nvPicPr>
        <p:blipFill>
          <a:blip r:embed="rId6"/>
          <a:stretch/>
        </p:blipFill>
        <p:spPr>
          <a:xfrm>
            <a:off x="4287960" y="1217520"/>
            <a:ext cx="1304640" cy="1627200"/>
          </a:xfrm>
          <a:prstGeom prst="rect">
            <a:avLst/>
          </a:prstGeom>
          <a:ln w="0">
            <a:noFill/>
          </a:ln>
        </p:spPr>
      </p:pic>
      <p:pic>
        <p:nvPicPr>
          <p:cNvPr id="957" name="Рисунок 7" descr=""/>
          <p:cNvPicPr/>
          <p:nvPr/>
        </p:nvPicPr>
        <p:blipFill>
          <a:blip r:embed="rId7"/>
          <a:stretch/>
        </p:blipFill>
        <p:spPr>
          <a:xfrm rot="5118600">
            <a:off x="7188480" y="4872960"/>
            <a:ext cx="1967040" cy="1476360"/>
          </a:xfrm>
          <a:prstGeom prst="rect">
            <a:avLst/>
          </a:prstGeom>
          <a:ln w="0">
            <a:noFill/>
          </a:ln>
        </p:spPr>
      </p:pic>
      <p:pic>
        <p:nvPicPr>
          <p:cNvPr id="958" name="Рисунок 8" descr=""/>
          <p:cNvPicPr/>
          <p:nvPr/>
        </p:nvPicPr>
        <p:blipFill>
          <a:blip r:embed="rId8"/>
          <a:stretch/>
        </p:blipFill>
        <p:spPr>
          <a:xfrm rot="4915800">
            <a:off x="3854160" y="532728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959" name="Рисунок 9" descr=""/>
          <p:cNvPicPr/>
          <p:nvPr/>
        </p:nvPicPr>
        <p:blipFill>
          <a:blip r:embed="rId9"/>
          <a:stretch/>
        </p:blipFill>
        <p:spPr>
          <a:xfrm>
            <a:off x="2843280" y="2951280"/>
            <a:ext cx="3889440" cy="2273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Рисунок 1" descr=""/>
          <p:cNvPicPr/>
          <p:nvPr/>
        </p:nvPicPr>
        <p:blipFill>
          <a:blip r:embed="rId1"/>
          <a:stretch/>
        </p:blipFill>
        <p:spPr>
          <a:xfrm rot="4876800">
            <a:off x="-64800" y="1604880"/>
            <a:ext cx="3127320" cy="1977840"/>
          </a:xfrm>
          <a:prstGeom prst="rect">
            <a:avLst/>
          </a:prstGeom>
          <a:ln w="0">
            <a:noFill/>
          </a:ln>
        </p:spPr>
      </p:pic>
      <p:sp>
        <p:nvSpPr>
          <p:cNvPr id="961" name="TextBox 3"/>
          <p:cNvSpPr/>
          <p:nvPr/>
        </p:nvSpPr>
        <p:spPr>
          <a:xfrm>
            <a:off x="2538360" y="0"/>
            <a:ext cx="422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Волшебные родители…</a:t>
            </a:r>
            <a:r>
              <a:rPr b="0" lang="ru-RU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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2" name="Рисунок 4" descr=""/>
          <p:cNvPicPr/>
          <p:nvPr/>
        </p:nvPicPr>
        <p:blipFill>
          <a:blip r:embed="rId2"/>
          <a:stretch/>
        </p:blipFill>
        <p:spPr>
          <a:xfrm rot="5790000">
            <a:off x="6156360" y="1376640"/>
            <a:ext cx="3419640" cy="2179800"/>
          </a:xfrm>
          <a:prstGeom prst="rect">
            <a:avLst/>
          </a:prstGeom>
          <a:ln w="0">
            <a:noFill/>
          </a:ln>
        </p:spPr>
      </p:pic>
      <p:pic>
        <p:nvPicPr>
          <p:cNvPr id="963" name="Рисунок 5" descr=""/>
          <p:cNvPicPr/>
          <p:nvPr/>
        </p:nvPicPr>
        <p:blipFill>
          <a:blip r:embed="rId3"/>
          <a:stretch/>
        </p:blipFill>
        <p:spPr>
          <a:xfrm>
            <a:off x="3203640" y="4508640"/>
            <a:ext cx="2663640" cy="2124000"/>
          </a:xfrm>
          <a:prstGeom prst="rect">
            <a:avLst/>
          </a:prstGeom>
          <a:ln w="0">
            <a:noFill/>
          </a:ln>
        </p:spPr>
      </p:pic>
      <p:pic>
        <p:nvPicPr>
          <p:cNvPr id="964" name="Рисунок 6" descr=""/>
          <p:cNvPicPr/>
          <p:nvPr/>
        </p:nvPicPr>
        <p:blipFill>
          <a:blip r:embed="rId4"/>
          <a:stretch/>
        </p:blipFill>
        <p:spPr>
          <a:xfrm>
            <a:off x="2982960" y="1192320"/>
            <a:ext cx="3016080" cy="28922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Text Box 1"/>
          <p:cNvSpPr/>
          <p:nvPr/>
        </p:nvSpPr>
        <p:spPr>
          <a:xfrm>
            <a:off x="539640" y="297000"/>
            <a:ext cx="8229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  <a:ea typeface="Arial Unicode MS"/>
              </a:rPr>
              <a:t>Формы работы на словотворчеств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2"/>
          <p:cNvSpPr/>
          <p:nvPr/>
        </p:nvSpPr>
        <p:spPr>
          <a:xfrm>
            <a:off x="411120" y="1517760"/>
            <a:ext cx="8408880" cy="5141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984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 Unicode MS"/>
              </a:rPr>
              <a:t>Составление загадо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  <a:ea typeface="Arial Unicode MS"/>
              </a:rPr>
              <a:t>«Круглое, но не колесо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  <a:ea typeface="Arial Unicode MS"/>
              </a:rPr>
              <a:t>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Comic Sans MS"/>
                <a:ea typeface="Arial Unicode MS"/>
              </a:rPr>
              <a:t>«Катится, но не круг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omic Sans MS"/>
                <a:ea typeface="Arial Unicode MS"/>
              </a:rPr>
              <a:t>«Круглая с дырочками, можно пришит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 Unicode MS"/>
              </a:rPr>
              <a:t>Использование пословиц в режиме дн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«Прост, как пуговиц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«На чужой рот пуговицы не нашит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«Пуговички золоченые, а три дня не евш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«Умная умница- что светлая пуговиц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Picture 3" descr=""/>
          <p:cNvPicPr/>
          <p:nvPr/>
        </p:nvPicPr>
        <p:blipFill>
          <a:blip r:embed="rId1"/>
          <a:stretch/>
        </p:blipFill>
        <p:spPr>
          <a:xfrm rot="900600">
            <a:off x="7020000" y="1260360"/>
            <a:ext cx="1800000" cy="2160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 зайцев</cp:lastModifiedBy>
  <dcterms:modified xsi:type="dcterms:W3CDTF">2018-12-14T19:36:25Z</dcterms:modified>
  <cp:revision>40</cp:revision>
  <dc:subject/>
  <dc:title>Презентация проекта «Волшебная пуговица»</dc:title>
</cp:coreProperties>
</file>