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B8A3-52A3-4341-875F-D3FBD1221E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D605-A3D2-4631-8053-B54F45E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F3181-D0D7-4722-8AE1-1EF5ECB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9DB6C-CDA0-4751-A73E-6FD9F0B9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BBECC-6BCD-40BB-969E-7026D19D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8F34B-81D4-4BAF-9C1D-6DA6789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E8FF6-1061-4AF3-B80F-0B4B091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696BC-8BA3-4890-9E08-75C1429B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48F374-CF21-4E2B-A06D-4F4513E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0253E-8C0A-4B57-BC6E-D8C0645A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E7F84-9D72-4AFB-A190-6B971599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9430B2-2620-40DA-9749-7B4EA194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6002-E400-43C7-8664-78C64DD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3CDA8A-2839-4D66-83F4-331BAE80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B8FA3-F9DE-489D-86F5-56C14BE7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6533F-41F1-4066-A9F0-5516D6F4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11160-FA00-437D-9C9C-2DC3F24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84151-5EC7-46C6-9587-52EC408D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D5A8A-6F48-4BB2-8E89-2EFCC40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D13834-3FC4-4E77-B4FE-9CF51BF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627D09-05BE-4422-A5BF-6B365F5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32C739-1CC9-4021-9515-BF19ED7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7266A4-9696-43FC-A507-F5053D86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506A-1911-41DE-A189-0138BB10B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6BD50-BDDC-4FC3-B4CB-C30B75AB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096EF-4568-4473-AC6F-947341B7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CF64D-E919-4E88-91F3-27A1EE0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42DA24-08FE-4838-AA0D-863CDC2F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C1BD4C-8820-493C-90AB-AB165C0A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E364B4-2EA8-45C8-A691-EB1F67A8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80BE6C-1D5D-4BC4-97D0-FDFA596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50E374-26F0-402E-AD0C-722FCDDE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31BF60-FD7F-4BF1-A084-443E807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DD6FE9-4B12-42A2-97F0-06762F1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EBE78-4540-4781-9307-4DC7931C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CC754D-D32B-4E8B-9361-29B1CE8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F757AF-D050-440F-88CB-90F03973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F93F66-B6FA-463A-B24F-130ECF45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DC4E17-1053-49D7-A887-4A6C809F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BA24BC-9295-45E9-AF81-667F52F3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28BFA1-9D0A-41B1-9D90-63A2E733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918F4B-2907-4499-A7F8-485F9E64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D9CFC3-D828-4D1D-ADBD-56A04F4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17429-230D-4CC1-A54D-561C9A4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9C6239-46D2-4578-BBE8-BB9E53C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8E227-344F-4AA7-97D1-19C2C02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B8148C-8E20-4E66-ABEB-2949AC5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19BB90-E282-4B1D-B0A1-A854ED2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AAB547-F039-4BB3-9DC3-5C6445D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9F16EC-24D4-4E7A-B671-AD943AF9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BE342B-5D8A-469F-9E0B-6F9935F8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0721BC-D5D3-4913-A195-43457167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046AC6-B819-4169-9A60-AFFACE4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D0A3B7-04E7-409C-9AF5-14E40402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DD1A1A-69D8-4118-A5A2-13AD186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74DD59-2252-4D65-9433-841BEA9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6EB3-171E-4143-883F-3A2313B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F2F8D1-3A59-45DB-AF0C-A748512B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F178F5-8719-4018-9C77-634E818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EAA4B4-C649-40BE-A00C-B579CE0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A3E654-2C61-47A4-94C8-6C78E19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64862F-ABB2-4A4A-87D6-1A13FE4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985AF-6C68-4A6E-B29E-0D351519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52ABE0-77EA-439C-BE11-682AD18B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9DE023-89A3-4498-B7A4-24563A0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3C7C37-8131-42A7-8DF8-86DF349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E720F4-4E6E-436B-A100-C485409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779E-BE43-4517-830E-FF8E0ABC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655BBC-0970-4DC2-B07C-A32F8F6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AE3223-B0A1-46BD-81E8-08DA05F9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223394-C339-414E-88BD-98DAC57B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A9A9CE-FB72-425C-ABB2-04BF1DE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0F0D17-68ED-4460-8F66-DF48A78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634A85-0163-4641-8E3F-772627E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9157C4-953B-4164-B1D0-632ED913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AF2653-0133-41BF-8415-02CFD13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84E685-ABAC-4ABF-B08C-8676CD4C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986CDC-B7BA-4025-8E84-79BDF40F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1CA3A-9144-4D9D-8A65-847247F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5294BE-2F68-4581-B0F0-0ED02964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502805-8FF2-4A3D-8C04-0114197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4C7638-E521-4CED-A776-B5F2BDF0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84C579-1CCB-4615-9D86-2C97633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AB4F6E-FCD0-4BA1-B074-17535E8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82B4BD-0A5D-43ED-BBBD-5C430DB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CA5E79-82BE-4C79-AB48-D649000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525638-2A4E-49CC-BE6A-070CC0B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2C70CC-58BC-4C7C-B5D8-FE51E572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3EEB54-82AF-4700-912D-CFA00DF4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6077-4F87-42CA-B98F-17D1996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58BC5B-3731-4A9F-AC18-E974E757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FA87BE-E8BA-4042-BDB6-4C0ABD82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089613-1D33-4C57-9F2A-590EDA9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FA382F-2A6E-48FF-B248-E615BBAF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3AABC2-61E3-48AC-8C74-8B00F82F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A9C8D4-8B57-4017-BA31-CB57392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16FC0B-104F-4792-8F3D-84EFADF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986CED-CCF9-45D5-9349-8E5AF08A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D9B4DC-E058-4D09-AACD-7C0FC7E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8ED94E-B111-4888-9890-5C6A9EA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4CF48-A490-41BD-9A36-F4D0909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DBEE6D-A7E6-41EB-BFAC-8B5D9EA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D2409C-EE92-448E-8CD5-4250E891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9085AD-5F7D-4846-AF4F-BF87756F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A41E4B-621C-4814-B0DC-9B6FDB77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76C0C4-D620-4011-8156-A48D4BF7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A3F45B-22EA-4964-BCA0-EF66F58A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C3741C-E3A2-4874-B66E-1F40403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104469-8D3B-4727-BF49-79396B2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5D1C16-AC25-4E9F-9042-706AF841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6EECE4-03B4-470F-8772-602001F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EC88-0173-4F0E-A0CA-096BE04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38B8-019C-4E29-8D7F-E4707A3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8B04F8-7E3E-4D30-84BF-D8EF3E8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24948B-8666-4FE4-B20F-C1FDAB1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2DE110-6605-4ED0-ABBE-B1195B77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3BE1B6-91F9-41C6-A07D-C8BFA986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522CE6-30CF-4ADB-B24B-2217144A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4E7B76-9DF6-4A9B-B0E1-061B324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9D6050-2E0F-40F7-A47D-2F00BF6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0FE93C-1D01-4EF2-B62F-C586B98E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199DFD-27E3-460C-9597-DC906E2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338979-1D3B-4BE9-888B-3A285295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BE7F-16D0-4653-B9F6-D9753D1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E3787C-B293-42FC-8F19-89C0017E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0F60EC-8518-4CB8-92C8-632033D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42B3F1-9848-42A0-B2B3-B5F875D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23548C-5FCA-41E4-BAA5-D76D63E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18B6FF-F5F7-4760-A75C-BA72C77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212FCA-8E9B-4BB1-98DF-545794AD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90EC6A-B7B3-4B4B-8CFD-EDBEF91A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E0A91-E6EB-4305-AEF6-A144BBCD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86C2-7941-4931-8DE1-A4B87B9E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FFED0-658E-42A0-A603-924022F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E8F44-3680-4E7C-AF66-7F4D312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BF260-2EAF-4C1D-AA6E-6B83ECC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45EEB-EC0A-4650-8DA8-8140227C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5D0FC-2835-45D0-866B-EBF57B0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E6109-4143-4028-ADFC-A0075B70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1EF0-9D2D-4CA7-875F-20510D5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467DB-7435-4466-B982-DBC345A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90F3A-7D6B-4C7A-AE4A-6C10B87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86AB5-427C-4299-9BE2-56A1B3C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B145D-8CB3-40CA-95EC-9CBDD62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7BC5D-E297-46C8-9C91-B107B193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F5F07-CBAF-4213-A1C1-979079F9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C39AA-A9AB-4A8C-B287-D9FE1A3D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845A0-2189-4D7C-82A3-BF73481F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9E69F-F8AE-4EE6-B99F-1C6AFF19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C1E58-91F9-4EEB-83BA-5A0F9E23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0BAE-594D-4907-8FE8-EEFCFE60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0BF79-DBA5-4636-9CB1-A068313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FB863-09C3-4C73-9636-C81FE1F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E30AA-036A-4C20-8BE6-2D79802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15111-F282-480E-B78C-54CD5DD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BCA37-E2DA-43C9-B2BD-F54102C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3F536-41F3-407B-8270-99BC26B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43E3B-FC3B-4491-BC48-08F394F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F082B-F47A-46DC-A567-4CF935D0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EE072-E6F5-47B9-B18D-FE78796D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8C969-6845-4145-88BA-5A62AB9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FE7A-3E9B-46C9-8B7F-A434447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A06FB-9316-4DA8-99EA-0F7C4CF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CB0B9-08B8-4774-9A5E-C1A13866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73674-F313-4D8E-A9A1-29A2E22B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B039F-3D08-4354-916E-623B4FEC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C3600-C917-45C9-BFDC-03C9D285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CECB6-04CA-4EC9-B3CE-22C317F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A9DF0-CAD0-4E65-81C6-0497C63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5EFC6-ECF2-41CE-B30C-F530F0C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EC02F-498C-4052-B5D8-D678418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F4A33-4315-45B8-8828-64276558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4E28-B263-40B8-A987-065C2EFA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4CF7F-DE8B-433A-80BE-75D8279C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52B09-2B14-492A-AD89-F3720A70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DEF59-E05D-4665-A02C-44B4BCE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CA8DA-522B-4D04-9697-F0C7A2C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96311-B22E-4A51-A817-A99A405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9785C-9262-43E9-9E5F-680D170C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449A2-1A08-4EAB-AF98-1894BEB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CBD2E-C02A-46AF-8685-530C89A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9AA77-4861-41FB-A8B4-F8BB3E4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982DB-5AFB-4A41-9391-C056B9B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B1B1-5958-4570-8464-D29660F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DE008-7D4D-48D1-9730-19C793D9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CED45-2AA1-4172-AD99-3351E41C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504E8-E01A-4B72-B61C-00A85922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79B59-197F-47C2-8962-8387F5BB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5C6FC-747D-498A-8E11-C501253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7718C-5B54-4BD9-8389-B104432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C40A8-E97E-436F-A8B4-BB863DB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A371D-0AE0-4AC9-9EEB-3353719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AD8A7-C26B-4198-BAB7-EB97F2E4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48601-4EEB-4A1F-9C55-B04C8BD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D00E-2EF5-4F65-AB70-2AE5F3F0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52FD0-068E-4396-8589-D1FBA15D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8850A-EDBC-4122-9A5E-6C84227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2F1D3-F1DA-46DD-AD46-E5112B0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70AE6-BA2B-4164-BBF8-829E6F89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1BF42-F165-4F3B-AD01-27C0798F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FDF13-A8B4-45E2-9201-67007A52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13D85-290E-47E1-BA41-2561865C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77700-F85D-425A-9E05-D5ABFF8F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127AFB-F297-48AA-917A-D2FD7C1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5C683-A896-418F-B327-EFC450F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7B34-1CD6-4A04-8EF0-C35E191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86B18-E8B3-49D8-8530-43384CC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22E05-651B-4DB5-AE78-EE6B6B4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9EEA9-BC01-4479-9CA0-0DFACB9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0F69B-6C52-4B2C-ADC3-CB5A726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F158C-5709-4DD8-A080-6C435A4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C6851-DCB4-4563-AD63-80818C9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D4A64-2F01-4D1E-AC5D-8588F8E7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B95B4-8E20-4A1B-BB11-CB745014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8B67BB-8C47-4C93-A5A6-3B4DB6B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D5D21-1167-4F97-8C71-D07F166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4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DD1536-0E0E-4EF9-967B-A236BAE7F4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5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468E28-6559-4386-968F-6CB03E98A12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1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F91A52-520A-48CC-8C03-244BA24A47C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2F42C7-22BE-43EA-9E07-68663CDC2FD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626829-34D7-47A6-AFA3-CD08D2791B9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574304-D179-4B3C-97FF-14F5E4913B0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D22D25-EDCA-45AB-95FF-E57EF289737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B3A55-A1FE-4B48-9974-CA34617A74B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2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7100E7-9CF9-415B-848E-B9AF342A5A3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7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08665-3640-4B52-A74E-535D84059A6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.4.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E5554-B667-4D54-B0B2-55A2F3DCBF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2567A9-A335-4956-A79C-9B39B107E14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927BC6-39F5-4324-9C62-EAEEC568249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2E51FA-0D0E-4917-8DE2-7BDFFC972A6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76353F-8C7A-4358-BC0F-56DE79CD7B8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2894EE-E817-4C31-B23D-0FB8842E007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5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0A3932-D7B5-4473-AC09-9D2F193DEA5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31987-3FB9-4618-802C-F18CAC78E27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9" descr="http://im5-tub-ru.yandex.net/i?id=536438512-52-72&amp;n=21"/>
          <p:cNvPicPr/>
          <p:nvPr/>
        </p:nvPicPr>
        <p:blipFill>
          <a:blip r:embed="rId1"/>
          <a:stretch/>
        </p:blipFill>
        <p:spPr>
          <a:xfrm>
            <a:off x="6875640" y="3357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30" name="Text Box 1"/>
          <p:cNvSpPr/>
          <p:nvPr/>
        </p:nvSpPr>
        <p:spPr>
          <a:xfrm>
            <a:off x="2340000" y="333360"/>
            <a:ext cx="5184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Презентация проект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«Волшебная пугов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4"/>
          <p:cNvSpPr/>
          <p:nvPr/>
        </p:nvSpPr>
        <p:spPr>
          <a:xfrm>
            <a:off x="539640" y="1628640"/>
            <a:ext cx="6872400" cy="1800360"/>
          </a:xfrm>
          <a:prstGeom prst="horizontalScroll">
            <a:avLst>
              <a:gd name="adj" fmla="val 12500"/>
            </a:avLst>
          </a:prstGeom>
          <a:solidFill>
            <a:srgbClr val="0099ff"/>
          </a:solidFill>
          <a:ln w="2556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Вы можете стать кем угодно, и никто не заметит эт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Но если у вас отсутствует пуговиц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аждый обратит на это внимани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Э.М.Рема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8" descr="https://cs5.livemaster.ru/storage/67/99/c19714018d3560d5151ae81db04s--materialy-dlya-tvorchestva-pugovitsy-13-mm.jpg"/>
          <p:cNvPicPr/>
          <p:nvPr/>
        </p:nvPicPr>
        <p:blipFill>
          <a:blip r:embed="rId2"/>
          <a:stretch/>
        </p:blipFill>
        <p:spPr>
          <a:xfrm>
            <a:off x="900000" y="3295800"/>
            <a:ext cx="2735280" cy="1728720"/>
          </a:xfrm>
          <a:prstGeom prst="rect">
            <a:avLst/>
          </a:prstGeom>
          <a:ln w="0">
            <a:noFill/>
          </a:ln>
        </p:spPr>
      </p:pic>
      <p:sp>
        <p:nvSpPr>
          <p:cNvPr id="933" name="Прямоугольник 1"/>
          <p:cNvSpPr/>
          <p:nvPr/>
        </p:nvSpPr>
        <p:spPr>
          <a:xfrm>
            <a:off x="3224160" y="5516640"/>
            <a:ext cx="55771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Автор-составитель: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 воспитатель МБДО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«Детский сад № 71» Зайцева О.С.   Перегудо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neizvesten_-_novogodnie-igrushki" descr=""/>
          <p:cNvPicPr/>
          <p:nvPr/>
        </p:nvPicPr>
        <p:blipFill>
          <a:blip r:embed="rId3"/>
          <a:stretch/>
        </p:blipFill>
        <p:spPr>
          <a:xfrm>
            <a:off x="7632720" y="30240"/>
            <a:ext cx="1468440" cy="146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547640" y="198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  <a:ea typeface="MingLiU_HKSCS-ExtB"/>
              </a:rPr>
              <a:t>А сейчас у нас будет киноменутка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Sto.pugovits.1983.XviD.DVDRip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8351640" cy="4914720"/>
          </a:xfrm>
          <a:prstGeom prst="rect">
            <a:avLst/>
          </a:prstGeom>
          <a:ln w="0">
            <a:noFill/>
          </a:ln>
        </p:spPr>
      </p:pic>
      <p:sp>
        <p:nvSpPr>
          <p:cNvPr id="970" name="TextBox 2"/>
          <p:cNvSpPr/>
          <p:nvPr/>
        </p:nvSpPr>
        <p:spPr>
          <a:xfrm>
            <a:off x="1908000" y="3333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54a021"/>
                </a:solidFill>
                <a:latin typeface="Monotype Corsiva"/>
              </a:rPr>
              <a:t>Киноме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AutoShape 2"/>
          <p:cNvSpPr/>
          <p:nvPr/>
        </p:nvSpPr>
        <p:spPr>
          <a:xfrm>
            <a:off x="1476360" y="1341360"/>
            <a:ext cx="48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10" descr="https://bestcube.space/wp-content/uploads/img11-768x576.jpg"/>
          <p:cNvPicPr/>
          <p:nvPr/>
        </p:nvPicPr>
        <p:blipFill>
          <a:blip r:embed="rId1"/>
          <a:stretch/>
        </p:blipFill>
        <p:spPr>
          <a:xfrm>
            <a:off x="0" y="-58680"/>
            <a:ext cx="9223200" cy="6916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1"/>
          <p:cNvSpPr/>
          <p:nvPr/>
        </p:nvSpPr>
        <p:spPr>
          <a:xfrm>
            <a:off x="457200" y="274680"/>
            <a:ext cx="82296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Цель проекта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развитие познавательного интереса детей подготовительного дошкольного возраста к предметно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2"/>
          <p:cNvSpPr/>
          <p:nvPr/>
        </p:nvSpPr>
        <p:spPr>
          <a:xfrm>
            <a:off x="590400" y="1947960"/>
            <a:ext cx="8409240" cy="4711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Участники проекта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i="1" lang="ru-RU" sz="2600" spc="-1" strike="noStrike">
                <a:solidFill>
                  <a:srgbClr val="6b2394"/>
                </a:solidFill>
                <a:latin typeface="Calibri"/>
                <a:ea typeface="Arial Unicode MS"/>
              </a:rPr>
              <a:t>дети подготовительной группы, родители , методисты сада.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Образовательная область: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   </a:t>
            </a:r>
            <a:r>
              <a:rPr b="0" lang="ru-RU" sz="2200" spc="-1" strike="noStrike">
                <a:solidFill>
                  <a:srgbClr val="800000"/>
                </a:solidFill>
                <a:latin typeface="Arial Black"/>
                <a:ea typeface="Arial Unicode MS"/>
              </a:rPr>
              <a:t>«Познани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Calibri"/>
                <a:ea typeface="Arial Unicode MS"/>
              </a:rPr>
              <a:t>Итоговые мероприятия: </a:t>
            </a:r>
            <a:r>
              <a:rPr b="0" i="1" lang="ru-RU" sz="2000" spc="-1" strike="noStrike">
                <a:solidFill>
                  <a:srgbClr val="5e11a6"/>
                </a:solidFill>
                <a:latin typeface="Arial Black"/>
                <a:ea typeface="Arial Unicode MS"/>
              </a:rPr>
              <a:t>выставка-презентация детско-родительского творчества «Пуговичные шедевр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1"/>
          <p:cNvSpPr/>
          <p:nvPr/>
        </p:nvSpPr>
        <p:spPr>
          <a:xfrm>
            <a:off x="411120" y="179280"/>
            <a:ext cx="8229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Задачи 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2"/>
          <p:cNvSpPr/>
          <p:nvPr/>
        </p:nvSpPr>
        <p:spPr>
          <a:xfrm>
            <a:off x="457200" y="720720"/>
            <a:ext cx="8542440" cy="593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Обогатить представления детей о роли пуговиц в жизни человека, о многообразии пугов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Развивать умение сочинять творческие рассказы, придумывать загадки о пуговиц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Franklin Gothic Demi"/>
                <a:ea typeface="Arial Unicode MS"/>
              </a:rPr>
              <a:t>Знакомство с различными способами пришивания пугов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638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Demi"/>
                <a:ea typeface="Arial Unicode MS"/>
              </a:rPr>
              <a:t>Развивать практические умения в продуктивной деятельности (рисование, лепка, апплик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468360" y="1857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1 этап — подготовите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Мотивационный.  Введение детей в пробл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395280" y="981000"/>
            <a:ext cx="8542440" cy="568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1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Постановка проблемы через образовательную ситуацию в режиме дня (вечер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6b2394"/>
                </a:solidFill>
                <a:latin typeface="Franklin Gothic Medium"/>
                <a:ea typeface="Arial Unicode MS"/>
              </a:rPr>
              <a:t>Чтение сказки о пуго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2. Обращение к опыту детей.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  <a:ea typeface="Arial Unicode MS"/>
              </a:rPr>
              <a:t>Постановка детской цели: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Franklin Gothic Medium"/>
                <a:ea typeface="Arial Unicode MS"/>
              </a:rPr>
              <a:t>Поможем пуговке  собрать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3. Беседа с детьми «Что мы знаем о пуговице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 Unicode MS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выявить представления детей о пуговицах через модель  3-х вопросов и разработать план проекта (маршру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 Unicode MS"/>
              </a:rPr>
              <a:t>Что мы знаем? Что мы хотим узнать? Что будем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Calibri"/>
                <a:ea typeface="Arial Unicode MS"/>
              </a:rPr>
              <a:t>Основные направления поиска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«Что означает слово пуговица?», «Чем люди пользовались до изобретения пуговиц», «Какими были первые пуговицы?», «Каких видов бывают пуговицы?», «Из каких материалов делают пуговицы?» «Как их можно использовать?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3"/>
          <p:cNvSpPr/>
          <p:nvPr/>
        </p:nvSpPr>
        <p:spPr>
          <a:xfrm flipH="1">
            <a:off x="2195640" y="4076640"/>
            <a:ext cx="542880" cy="360360"/>
          </a:xfrm>
          <a:prstGeom prst="line">
            <a:avLst/>
          </a:prstGeom>
          <a:ln w="72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4"/>
          <p:cNvSpPr/>
          <p:nvPr/>
        </p:nvSpPr>
        <p:spPr>
          <a:xfrm>
            <a:off x="4643280" y="4076640"/>
            <a:ext cx="1800" cy="360360"/>
          </a:xfrm>
          <a:prstGeom prst="line">
            <a:avLst/>
          </a:prstGeom>
          <a:ln w="72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6372360" y="4076640"/>
            <a:ext cx="539640" cy="360360"/>
          </a:xfrm>
          <a:prstGeom prst="line">
            <a:avLst/>
          </a:prstGeom>
          <a:ln w="72000">
            <a:solidFill>
              <a:srgbClr val="6b47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Прямоугольник 2"/>
          <p:cNvSpPr/>
          <p:nvPr/>
        </p:nvSpPr>
        <p:spPr>
          <a:xfrm>
            <a:off x="250920" y="476280"/>
            <a:ext cx="574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Давным – давно в стране ниток, иголок и булавок, которая называлась Ниткоиголия, жила- была дужная и очень счастливая семья пуговиц. Мама, папа и дочка Пуговка. Уж до того смышленая и ловкая помощница была Пуговка. Родители не могли нарадоваться на 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Однажды пуговка пошла в лес за шелковыми ягодами и угодила в капкан, который поставил волшебник Грун. Он этими капканами ловил нитки, которыми зашивал свои сапоги - скоро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  <a:ea typeface="Arial Unicode MS"/>
              </a:rPr>
              <a:t>Когда волшебник пришел за добычей, то увидел пуговку, обрадовался и забрал ее к себе. Пуговка была красива собой. Волшебник относился к ней бережно и хранил в красивой шкатулке. Там Пуговка была совсем одна. У нее не было друзей. Пуговке хотелось, чтобы у нее были подруж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6" descr="hello_html_5bc40a7a.jpg"/>
          <p:cNvPicPr/>
          <p:nvPr/>
        </p:nvPicPr>
        <p:blipFill>
          <a:blip r:embed="rId1"/>
          <a:stretch/>
        </p:blipFill>
        <p:spPr>
          <a:xfrm>
            <a:off x="5961240" y="1268280"/>
            <a:ext cx="314928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1"/>
          <p:cNvSpPr/>
          <p:nvPr/>
        </p:nvSpPr>
        <p:spPr>
          <a:xfrm>
            <a:off x="39528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 Black"/>
                <a:ea typeface="Arial Unicode MS"/>
              </a:rPr>
              <a:t>2 этап- осн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"/>
          <p:cNvSpPr/>
          <p:nvPr/>
        </p:nvSpPr>
        <p:spPr>
          <a:xfrm>
            <a:off x="468360" y="981000"/>
            <a:ext cx="8408880" cy="540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Познавательно-исследовательская деяте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-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рассматривание и обследование пугов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игры и задания по сенсорике: «Составь картинк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дидактические игры: «На что похоже», «Найди пар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музыкально-дидактические игры: «Пуговичные песен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 Unicode MS"/>
              </a:rPr>
              <a:t>сюжетно-ролевые игры «Семья», «Ател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Коллекциониро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1" lang="ru-RU" sz="2400" spc="-1" strike="noStrike">
                <a:solidFill>
                  <a:srgbClr val="280099"/>
                </a:solidFill>
                <a:latin typeface="Calibri"/>
                <a:ea typeface="Arial Unicode MS"/>
              </a:rPr>
              <a:t>«Детские пуговицы», «Пуговицы-крошки», «Перламутровые пуговиц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6" descr="http://im0-tub-ru.yandex.net/i?id=281977397-47-72&amp;n=21"/>
          <p:cNvPicPr/>
          <p:nvPr/>
        </p:nvPicPr>
        <p:blipFill>
          <a:blip r:embed="rId1"/>
          <a:stretch/>
        </p:blipFill>
        <p:spPr>
          <a:xfrm rot="20982000">
            <a:off x="1298160" y="495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8" descr="http://im8-tub-ru.yandex.net/i?id=112014036-27-72&amp;n=21"/>
          <p:cNvPicPr/>
          <p:nvPr/>
        </p:nvPicPr>
        <p:blipFill>
          <a:blip r:embed="rId2"/>
          <a:stretch/>
        </p:blipFill>
        <p:spPr>
          <a:xfrm rot="1298400">
            <a:off x="5940360" y="5013360"/>
            <a:ext cx="196236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539640" y="274680"/>
            <a:ext cx="81471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 Unicode MS"/>
              </a:rPr>
              <a:t>Интегрированные формы образовательной деятельности с детьм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Рисунок 1" descr=""/>
          <p:cNvPicPr/>
          <p:nvPr/>
        </p:nvPicPr>
        <p:blipFill>
          <a:blip r:embed="rId1"/>
          <a:stretch/>
        </p:blipFill>
        <p:spPr>
          <a:xfrm>
            <a:off x="512640" y="1685880"/>
            <a:ext cx="1571760" cy="209700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2" descr=""/>
          <p:cNvPicPr/>
          <p:nvPr/>
        </p:nvPicPr>
        <p:blipFill>
          <a:blip r:embed="rId2"/>
          <a:stretch/>
        </p:blipFill>
        <p:spPr>
          <a:xfrm rot="3940800">
            <a:off x="5707800" y="1253160"/>
            <a:ext cx="1774800" cy="133200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3" descr=""/>
          <p:cNvPicPr/>
          <p:nvPr/>
        </p:nvPicPr>
        <p:blipFill>
          <a:blip r:embed="rId3"/>
          <a:stretch/>
        </p:blipFill>
        <p:spPr>
          <a:xfrm rot="5805600">
            <a:off x="2315520" y="1227240"/>
            <a:ext cx="1662120" cy="1608120"/>
          </a:xfrm>
          <a:prstGeom prst="rect">
            <a:avLst/>
          </a:prstGeom>
          <a:ln w="0">
            <a:noFill/>
          </a:ln>
        </p:spPr>
      </p:pic>
      <p:pic>
        <p:nvPicPr>
          <p:cNvPr id="954" name="Рисунок 4" descr=""/>
          <p:cNvPicPr/>
          <p:nvPr/>
        </p:nvPicPr>
        <p:blipFill>
          <a:blip r:embed="rId4"/>
          <a:stretch/>
        </p:blipFill>
        <p:spPr>
          <a:xfrm rot="6013800">
            <a:off x="7030800" y="2320560"/>
            <a:ext cx="2187360" cy="164160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5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1548000" cy="2062440"/>
          </a:xfrm>
          <a:prstGeom prst="rect">
            <a:avLst/>
          </a:prstGeom>
          <a:ln w="0">
            <a:noFill/>
          </a:ln>
        </p:spPr>
      </p:pic>
      <p:pic>
        <p:nvPicPr>
          <p:cNvPr id="956" name="Рисунок 6" descr=""/>
          <p:cNvPicPr/>
          <p:nvPr/>
        </p:nvPicPr>
        <p:blipFill>
          <a:blip r:embed="rId6"/>
          <a:stretch/>
        </p:blipFill>
        <p:spPr>
          <a:xfrm>
            <a:off x="4287960" y="1217520"/>
            <a:ext cx="1304640" cy="1627200"/>
          </a:xfrm>
          <a:prstGeom prst="rect">
            <a:avLst/>
          </a:prstGeom>
          <a:ln w="0">
            <a:noFill/>
          </a:ln>
        </p:spPr>
      </p:pic>
      <p:pic>
        <p:nvPicPr>
          <p:cNvPr id="957" name="Рисунок 7" descr=""/>
          <p:cNvPicPr/>
          <p:nvPr/>
        </p:nvPicPr>
        <p:blipFill>
          <a:blip r:embed="rId7"/>
          <a:stretch/>
        </p:blipFill>
        <p:spPr>
          <a:xfrm rot="5118600">
            <a:off x="7188480" y="4872960"/>
            <a:ext cx="1967040" cy="147636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8" descr=""/>
          <p:cNvPicPr/>
          <p:nvPr/>
        </p:nvPicPr>
        <p:blipFill>
          <a:blip r:embed="rId8"/>
          <a:stretch/>
        </p:blipFill>
        <p:spPr>
          <a:xfrm rot="4915800">
            <a:off x="3854160" y="53272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9" descr=""/>
          <p:cNvPicPr/>
          <p:nvPr/>
        </p:nvPicPr>
        <p:blipFill>
          <a:blip r:embed="rId9"/>
          <a:stretch/>
        </p:blipFill>
        <p:spPr>
          <a:xfrm>
            <a:off x="2843280" y="2951280"/>
            <a:ext cx="3889440" cy="227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Рисунок 1" descr=""/>
          <p:cNvPicPr/>
          <p:nvPr/>
        </p:nvPicPr>
        <p:blipFill>
          <a:blip r:embed="rId1"/>
          <a:stretch/>
        </p:blipFill>
        <p:spPr>
          <a:xfrm rot="4876800">
            <a:off x="-64800" y="1604880"/>
            <a:ext cx="3127320" cy="1977840"/>
          </a:xfrm>
          <a:prstGeom prst="rect">
            <a:avLst/>
          </a:prstGeom>
          <a:ln w="0">
            <a:noFill/>
          </a:ln>
        </p:spPr>
      </p:pic>
      <p:sp>
        <p:nvSpPr>
          <p:cNvPr id="961" name="TextBox 3"/>
          <p:cNvSpPr/>
          <p:nvPr/>
        </p:nvSpPr>
        <p:spPr>
          <a:xfrm>
            <a:off x="2538360" y="0"/>
            <a:ext cx="422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Волшебные родители…</a:t>
            </a:r>
            <a:r>
              <a:rPr b="0" lang="ru-RU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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Рисунок 4" descr=""/>
          <p:cNvPicPr/>
          <p:nvPr/>
        </p:nvPicPr>
        <p:blipFill>
          <a:blip r:embed="rId2"/>
          <a:stretch/>
        </p:blipFill>
        <p:spPr>
          <a:xfrm rot="5790000">
            <a:off x="6156360" y="1376640"/>
            <a:ext cx="3419640" cy="217980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5" descr=""/>
          <p:cNvPicPr/>
          <p:nvPr/>
        </p:nvPicPr>
        <p:blipFill>
          <a:blip r:embed="rId3"/>
          <a:stretch/>
        </p:blipFill>
        <p:spPr>
          <a:xfrm>
            <a:off x="3203640" y="4508640"/>
            <a:ext cx="2663640" cy="212400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6" descr=""/>
          <p:cNvPicPr/>
          <p:nvPr/>
        </p:nvPicPr>
        <p:blipFill>
          <a:blip r:embed="rId4"/>
          <a:stretch/>
        </p:blipFill>
        <p:spPr>
          <a:xfrm>
            <a:off x="2982960" y="1192320"/>
            <a:ext cx="3016080" cy="2892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539640" y="297000"/>
            <a:ext cx="8229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Формы работы на словотворче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411120" y="1517760"/>
            <a:ext cx="8408880" cy="514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Составление загад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  <a:ea typeface="Arial Unicode MS"/>
              </a:rPr>
              <a:t>«Круглое, но не колес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omic Sans MS"/>
                <a:ea typeface="Arial Unicode MS"/>
              </a:rPr>
              <a:t>«Катится, но не кру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  <a:ea typeface="Arial Unicode MS"/>
              </a:rPr>
              <a:t>«Круглая с дырочками, можно приш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Использование пословиц в режиме дн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Прост, как пуговиц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На чужой рот пуговицы не наш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Пуговички золоченые, а три дня не евш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«Умная умница- что светлая пугов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3" descr=""/>
          <p:cNvPicPr/>
          <p:nvPr/>
        </p:nvPicPr>
        <p:blipFill>
          <a:blip r:embed="rId1"/>
          <a:stretch/>
        </p:blipFill>
        <p:spPr>
          <a:xfrm rot="900600">
            <a:off x="7020000" y="126036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зайцев</cp:lastModifiedBy>
  <dcterms:modified xsi:type="dcterms:W3CDTF">2018-12-14T19:36:25Z</dcterms:modified>
  <cp:revision>40</cp:revision>
  <dc:subject/>
  <dc:title>Презентация проекта «Волшебная пуговица»</dc:title>
</cp:coreProperties>
</file>