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E078-97B7-4DC8-BD36-E026A234F1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E778-0B7F-46A8-94D8-3224458145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ECFA-8AEB-423F-85AF-B2594BCE97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684-4ED0-4178-9106-A4C69DEE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B7B-CB3B-4D10-8D6F-574C794D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F82-17DF-4D1B-8757-323FC5F8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326-4173-47A2-924D-9AFCCB2A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0B004-BE10-48C0-94C0-5EF77CBB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EF830-94B2-467C-B195-D4AB952B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A1416-1534-4BF0-91AF-A8D84A6A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66FCB-F3FE-414C-82BB-B20BB094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79590-0E05-41B8-AE64-200DEC4C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F0CB1-34D9-4012-89AB-9B626EAF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02AF5-580F-4E7B-897B-C4839854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84A-FA64-4267-9FCB-2A3F2645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0D17D-EEFE-4126-99A8-20EA3940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040EF-EEDE-4A71-82CB-561DDDFD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55993-F4D0-4F6D-A6E0-C5839A1F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01A22-BADB-4E5D-846F-550FCD43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BC3B4-1CDE-40BE-8FB4-12ACDD48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1DBC-802F-4417-B28D-BBC5E64E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BDF9-F19B-4FC4-BCF7-8A83452B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E87A2-AF19-4D53-9199-D3C31C13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AA47-E244-4EC6-9834-EF4D6648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BDD5F-4E0C-4E78-959F-BD5B2124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248-9F28-430B-9E96-02DA0B67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86D68-7507-4FE3-8A4A-9CB54D81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DFC7B-32AC-42D2-9618-219A9B7D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515BA-E3C7-4BE3-8E22-66158E29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36834-45A3-4AE1-85EB-A2F58A2E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83729-C4DC-49BD-8A70-C0B19A47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750AC-9ED3-4569-82B9-3BA63E9E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D1436-2186-454F-93EC-28CEF6C6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D5DB93-AF1E-4E8E-B2D4-A096E8D7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1E3E2F-69FF-459F-8966-39B912E1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9A9CB5-FCD4-4680-81F6-F974D195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3B0-D82C-429D-BFF9-2DF2F431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B946F4-2471-4DF2-AA34-F1492934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45276-A187-40C1-83B7-2F0387DB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08303-465D-4AC9-B808-7824BD51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C3A42-9AFD-477D-8C79-30C1C7A2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C9EA3C-7B3A-4330-9525-ECF9B90A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3004EA-8454-4697-8C6F-B2E85451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5031D8-464A-4F0B-A3B2-E77643D9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C7935-B642-404C-BA48-665C9382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700C99-5F3A-413A-9615-2C16A7D7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ACB-C1E3-4FC9-8038-EC5CB5D7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284-46ED-4621-B4F7-1FC3C098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FC3-C53F-43DC-8E0B-3764E6CA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39D-4F8A-4562-BEA4-4D288628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6AC-2A13-4463-84EA-84059F91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BAA7-950F-4E0C-AB86-4C9419722BE8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B230-E0C4-4891-8F8D-2A46DAE00CE3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286A-9925-4B11-B4FC-64C479271238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CAA8-BAC9-462E-A602-2D475A47BB28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4"/>
          <p:cNvSpPr/>
          <p:nvPr/>
        </p:nvSpPr>
        <p:spPr>
          <a:xfrm>
            <a:off x="250920" y="333360"/>
            <a:ext cx="727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c000"/>
                </a:solidFill>
                <a:latin typeface="Constantia"/>
              </a:rPr>
              <a:t>Притча о мам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1332000" y="602136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ritcha_o_Mame_-_Razgovor_rebenka_s_Bogom_(iPleer.fm)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Картинка 16 из 30870"/>
          <p:cNvPicPr/>
          <p:nvPr/>
        </p:nvPicPr>
        <p:blipFill>
          <a:blip r:embed="rId1"/>
          <a:stretch/>
        </p:blipFill>
        <p:spPr>
          <a:xfrm>
            <a:off x="2411280" y="2492280"/>
            <a:ext cx="4032360" cy="3313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://images.hotprofileplus.com/myspacegraphics/images/banners/prod_552_14075.gif"/>
          <p:cNvPicPr/>
          <p:nvPr/>
        </p:nvPicPr>
        <p:blipFill>
          <a:blip r:embed="rId2"/>
          <a:stretch/>
        </p:blipFill>
        <p:spPr>
          <a:xfrm rot="2689200">
            <a:off x="4274640" y="1703160"/>
            <a:ext cx="5604120" cy="1876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://images.hotprofileplus.com/myspacegraphics/images/banners/prod_552_14075.gif"/>
          <p:cNvPicPr/>
          <p:nvPr/>
        </p:nvPicPr>
        <p:blipFill>
          <a:blip r:embed="rId3"/>
          <a:stretch/>
        </p:blipFill>
        <p:spPr>
          <a:xfrm rot="19035600">
            <a:off x="-583920" y="1671480"/>
            <a:ext cx="5662800" cy="1876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http://img-fotki.yandex.ru/get/4104/sunny-fanny.46/0_2f28b_9f0aa285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Картинка 362 из 334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TextBox 5" descr=""/>
          <p:cNvPicPr/>
          <p:nvPr/>
        </p:nvPicPr>
        <p:blipFill>
          <a:blip r:embed="rId2"/>
          <a:stretch/>
        </p:blipFill>
        <p:spPr>
          <a:xfrm>
            <a:off x="4780080" y="281160"/>
            <a:ext cx="4125960" cy="12985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G:\img11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657720" y="1071720"/>
            <a:ext cx="35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лнышке теп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4071960" y="107316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матери доб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3"/>
          <p:cNvSpPr/>
          <p:nvPr/>
        </p:nvSpPr>
        <p:spPr>
          <a:xfrm>
            <a:off x="371880" y="178596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нука дедушка – ум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4643280" y="1787400"/>
            <a:ext cx="32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бушка – ду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5"/>
          <p:cNvSpPr/>
          <p:nvPr/>
        </p:nvSpPr>
        <p:spPr>
          <a:xfrm>
            <a:off x="585360" y="250020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лучшего дружка, ч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500720" y="2502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ная мат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7"/>
          <p:cNvSpPr/>
          <p:nvPr/>
        </p:nvSpPr>
        <p:spPr>
          <a:xfrm>
            <a:off x="515160" y="307188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тца полсироты,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929040" y="307332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 матери и вся сир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Картинка 16 из 4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0" y="5661000"/>
            <a:ext cx="87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За день до своего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ребенок спросил у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://www.animashka.info/_ph/16/2/9985663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http://www.animashka.info/_ph/16/2/69315286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2627280" y="638172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Как  я  там  буду ж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ttp://www.animashka.info/_ph/16/2/670604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79280" y="26028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Ведь я так мал и беззащите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3669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3"/>
          <p:cNvSpPr/>
          <p:nvPr/>
        </p:nvSpPr>
        <p:spPr>
          <a:xfrm>
            <a:off x="131040" y="614376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Я подарю те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4859280" y="3284640"/>
            <a:ext cx="4284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1" i="1" lang="ru-RU" sz="8800" spc="-1" strike="noStrike">
                <a:solidFill>
                  <a:srgbClr val="ff0000"/>
                </a:solidFill>
                <a:latin typeface="Constantia"/>
              </a:rPr>
              <a:t>н</a:t>
            </a:r>
            <a:r>
              <a:rPr b="1" i="1" lang="ru-RU" sz="8000" spc="-1" strike="noStrike">
                <a:solidFill>
                  <a:srgbClr val="ff0000"/>
                </a:solidFill>
                <a:latin typeface="Constantia"/>
              </a:rPr>
              <a:t>г</a:t>
            </a:r>
            <a:r>
              <a:rPr b="1" i="1" lang="ru-RU" sz="72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i="1" lang="ru-RU" sz="6600" spc="-1" strike="noStrike">
                <a:solidFill>
                  <a:srgbClr val="ff0000"/>
                </a:solidFill>
                <a:latin typeface="Constantia"/>
              </a:rPr>
              <a:t>л</a:t>
            </a:r>
            <a:r>
              <a:rPr b="1" i="1" lang="ru-RU" sz="5400" spc="-1" strike="noStrike">
                <a:solidFill>
                  <a:srgbClr val="ff0000"/>
                </a:solidFill>
                <a:latin typeface="Constantia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Картинка 3 из 33403"/>
          <p:cNvPicPr/>
          <p:nvPr/>
        </p:nvPicPr>
        <p:blipFill>
          <a:blip r:embed="rId1"/>
          <a:stretch/>
        </p:blipFill>
        <p:spPr>
          <a:xfrm>
            <a:off x="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http://rpod.ru/personal/pictures/00/00/02/55/47/00000000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G:\preview.jpg"/>
          <p:cNvPicPr/>
          <p:nvPr/>
        </p:nvPicPr>
        <p:blipFill>
          <a:blip r:embed="rId1"/>
          <a:stretch/>
        </p:blipFill>
        <p:spPr>
          <a:xfrm>
            <a:off x="2786040" y="500040"/>
            <a:ext cx="4044960" cy="5951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5:33:53Z</dcterms:created>
  <dc:creator>ВИТЯ</dc:creator>
  <dc:description/>
  <dc:language>en-US</dc:language>
  <cp:lastModifiedBy>Компьютер</cp:lastModifiedBy>
  <dcterms:modified xsi:type="dcterms:W3CDTF">2019-01-10T16:42:25Z</dcterms:modified>
  <cp:revision>98</cp:revision>
  <dc:subject/>
  <dc:title>ПРИТЧА О МАМЕ</dc:title>
</cp:coreProperties>
</file>