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6BBD-D7E9-4E7F-BF65-08B9BC1A47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1A58-B06D-4A5D-A71C-761410ABF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41B2-5C5C-40F3-B44A-2DC4A1FBC6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195-17F0-4234-A6D3-1FB26FD9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56D-1366-4C65-A13E-67EE5471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D63-9521-4C9E-9ABA-2472BDFC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9C7-F500-4B19-9FF1-ACD13EB1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052E9-CC38-457B-B2B2-63EA5378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C4348-099E-4A17-AAE4-CCB8824A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C034B-0937-4A03-A1E0-68697686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3F702-2A7A-466E-BCB2-88538AC6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BD159-762A-469D-9DCC-6D36AFA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3A8E2-EDCE-4C8F-87C5-D1344F3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9F958-EBD2-4719-909B-7B76C2D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64A-9194-4AA0-BD93-C017D136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D43C9-D3C5-4846-BA4B-A1D3C556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E1043-7434-4524-BCC8-4E7C3E46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C0EF0-5B81-4DE6-9453-CD8F7619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2E5A-59F0-4587-AF67-7764256C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5B39-8687-46C2-AF3C-9BEC0115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80DE-8905-4190-BF55-69FB8785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486F-71BC-4B40-9D88-2F5B05E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4F0D-D441-416B-953B-77DAAADA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3C53-7BCC-43E2-B3B3-3479F7F5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5EF7-8AFB-4AA1-A100-7CCDCD35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E51-951E-4128-93C1-9488EC80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832A-1C69-4398-9C25-E9880EA3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88AE2-A628-4EF7-B484-42161DB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7975-469E-4576-80F1-C49400E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22E4-3187-4DE5-8F02-98A23B0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52AD-EA0D-45D5-85AB-888D7D9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5B2D-611D-49A4-A65D-938A57A2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2927-F3AE-4CFB-AFD3-B1FC3E8D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BBF7B-94C7-461A-8C99-EFE7B1BF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22CB9-64D9-4F33-8D31-D474279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1CF42-7006-4CF1-A29B-B9338240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8BB-2C12-4473-A05F-8A5DF5D1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FCA25-5C8D-4A0F-B6B3-877B0762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11381-D229-47A5-A5B6-730A25C7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024D6-6E14-42BF-A246-BCDBEC4A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3E627-BA1A-465D-8040-3AE33D4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E66C0-F502-4242-B795-FFABA779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F121A-63BF-45A5-A1D7-35DB9B4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61813-9A19-4609-993B-6C7B4F0B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B93EA-E78D-44D9-B982-62016809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3D29A-7F4D-4D44-BE75-DC2C0D19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9A2-384F-4E66-A5AE-080A1EEF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97A-7D70-406D-AAE2-E89B12C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7B1-66F8-4E62-AE4B-F1B5FA6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205-25BB-4884-A134-53AC425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8B6-02E9-4AEB-B121-9068DC8D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31BA-D3CB-4330-B07B-9CE53AE75251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BB0C-C5E4-443A-8760-74EFC559597C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053A-508A-4B6B-B741-2FD67F2899D5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35E8-B671-45C0-A869-5467E23A0FAA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4"/>
          <p:cNvSpPr/>
          <p:nvPr/>
        </p:nvSpPr>
        <p:spPr>
          <a:xfrm>
            <a:off x="250920" y="333360"/>
            <a:ext cx="72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000"/>
                </a:solidFill>
                <a:latin typeface="Constantia"/>
              </a:rPr>
              <a:t>Притча о ма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332000" y="6021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itcha_o_Mame_-_Razgovor_rebenka_s_Bogom_(iPleer.fm)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Картинка 16 из 30870"/>
          <p:cNvPicPr/>
          <p:nvPr/>
        </p:nvPicPr>
        <p:blipFill>
          <a:blip r:embed="rId1"/>
          <a:stretch/>
        </p:blipFill>
        <p:spPr>
          <a:xfrm>
            <a:off x="2411280" y="2492280"/>
            <a:ext cx="4032360" cy="3313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mages.hotprofileplus.com/myspacegraphics/images/banners/prod_552_14075.gif"/>
          <p:cNvPicPr/>
          <p:nvPr/>
        </p:nvPicPr>
        <p:blipFill>
          <a:blip r:embed="rId2"/>
          <a:stretch/>
        </p:blipFill>
        <p:spPr>
          <a:xfrm rot="2689200">
            <a:off x="4274640" y="1703160"/>
            <a:ext cx="5604120" cy="1876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://images.hotprofileplus.com/myspacegraphics/images/banners/prod_552_14075.gif"/>
          <p:cNvPicPr/>
          <p:nvPr/>
        </p:nvPicPr>
        <p:blipFill>
          <a:blip r:embed="rId3"/>
          <a:stretch/>
        </p:blipFill>
        <p:spPr>
          <a:xfrm rot="19035600">
            <a:off x="-583920" y="1671480"/>
            <a:ext cx="5662800" cy="1876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img-fotki.yandex.ru/get/4104/sunny-fanny.46/0_2f28b_9f0aa285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Картинка 362 из 334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 5" descr=""/>
          <p:cNvPicPr/>
          <p:nvPr/>
        </p:nvPicPr>
        <p:blipFill>
          <a:blip r:embed="rId2"/>
          <a:stretch/>
        </p:blipFill>
        <p:spPr>
          <a:xfrm>
            <a:off x="4780080" y="281160"/>
            <a:ext cx="4125960" cy="1298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:\img11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657720" y="107172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лнышке теп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071960" y="10731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матери доб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371880" y="178596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нука дедушка – у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4643280" y="1787400"/>
            <a:ext cx="32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бушка – д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585360" y="250020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лучшего дружка, 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00720" y="2502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ная мат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515160" y="30718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тца полсироты,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929040" y="30733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матери и вся си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16 из 4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0" y="566100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За день до своего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ребенок спросил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animashka.info/_ph/16/2/9985663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http://www.animashka.info/_ph/16/2/69315286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2627280" y="638172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Как  я  там  буду 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ww.animashka.info/_ph/16/2/670604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79280" y="260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Ведь я так мал и беззащите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3669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131040" y="61437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Я подарю т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4859280" y="3284640"/>
            <a:ext cx="428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i="1" lang="ru-RU" sz="8800" spc="-1" strike="noStrike">
                <a:solidFill>
                  <a:srgbClr val="ff0000"/>
                </a:solidFill>
                <a:latin typeface="Constantia"/>
              </a:rPr>
              <a:t>н</a:t>
            </a:r>
            <a:r>
              <a:rPr b="1" i="1" lang="ru-RU" sz="8000" spc="-1" strike="noStrike">
                <a:solidFill>
                  <a:srgbClr val="ff0000"/>
                </a:solidFill>
                <a:latin typeface="Constantia"/>
              </a:rPr>
              <a:t>г</a:t>
            </a:r>
            <a:r>
              <a:rPr b="1" i="1" lang="ru-RU" sz="7200" spc="-1" strike="noStrike">
                <a:solidFill>
                  <a:srgbClr val="ff0000"/>
                </a:solidFill>
                <a:latin typeface="Constantia"/>
              </a:rPr>
              <a:t>е</a:t>
            </a:r>
            <a:r>
              <a:rPr b="1" i="1" lang="ru-RU" sz="6600" spc="-1" strike="noStrike">
                <a:solidFill>
                  <a:srgbClr val="ff0000"/>
                </a:solidFill>
                <a:latin typeface="Constantia"/>
              </a:rPr>
              <a:t>л</a:t>
            </a:r>
            <a:r>
              <a:rPr b="1" i="1" lang="ru-RU" sz="5400" spc="-1" strike="noStrike">
                <a:solidFill>
                  <a:srgbClr val="ff0000"/>
                </a:solidFill>
                <a:latin typeface="Constantia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Картинка 3 из 33403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http://rpod.ru/personal/pictures/00/00/02/55/47/00000000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G:\preview.jpg"/>
          <p:cNvPicPr/>
          <p:nvPr/>
        </p:nvPicPr>
        <p:blipFill>
          <a:blip r:embed="rId1"/>
          <a:stretch/>
        </p:blipFill>
        <p:spPr>
          <a:xfrm>
            <a:off x="2786040" y="500040"/>
            <a:ext cx="4044960" cy="5951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5:33:53Z</dcterms:created>
  <dc:creator>ВИТЯ</dc:creator>
  <dc:description/>
  <dc:language>en-US</dc:language>
  <cp:lastModifiedBy>Компьютер</cp:lastModifiedBy>
  <dcterms:modified xsi:type="dcterms:W3CDTF">2019-01-10T16:42:25Z</dcterms:modified>
  <cp:revision>98</cp:revision>
  <dc:subject/>
  <dc:title>ПРИТЧА О МАМЕ</dc:title>
</cp:coreProperties>
</file>