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C801-CA57-449E-853D-F1D7F8F7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652A-31C6-4743-9FD1-CAF9DDB4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F2F6-69B6-4228-84CA-73FF191B1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1F61-9034-4F3D-9DB1-CF19DC164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CA3D-C2F3-4F28-9BC6-17EC47F6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7D31-6C2E-4434-B5BD-AC3DD61C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8DC9-F1EC-4A94-B2F0-56F66CB0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B1C5-386D-4972-B1D0-8DCD54AC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B7CF-6E17-47CA-828B-691B6A22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929B-2F71-4624-AD05-F24C5598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D852-07C3-434E-976C-BDBBAE87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2B6B-FE0F-4F75-B91D-71EB5240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D13F-33E5-4BC3-8CA6-C59AE23654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57200" y="1600200"/>
            <a:ext cx="5791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Проек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по окружающему ми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«Профессии моих родител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3048120" y="4952880"/>
            <a:ext cx="3429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Выполнила: ученица 2 «Б» класса   Семернина Ал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Проверила: Демченко И.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1"/>
          <p:cNvSpPr/>
          <p:nvPr/>
        </p:nvSpPr>
        <p:spPr>
          <a:xfrm>
            <a:off x="2514600" y="8229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685800" y="9144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Цель проекта: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знакомиться с профессиями своих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2"/>
          <p:cNvSpPr/>
          <p:nvPr/>
        </p:nvSpPr>
        <p:spPr>
          <a:xfrm>
            <a:off x="685800" y="190512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дачи проект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знать у родителей об их професс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Segoe Script"/>
              </a:rPr>
              <a:t>ЧТО ТАКОЕ ПРОФЕССИЯ 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Профессия-это основное занятие человека, его трудовая деятельность.» Толковый слова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icon_partners"/>
          <p:cNvPicPr/>
          <p:nvPr/>
        </p:nvPicPr>
        <p:blipFill>
          <a:blip r:embed="rId1"/>
          <a:stretch/>
        </p:blipFill>
        <p:spPr>
          <a:xfrm>
            <a:off x="762120" y="4952880"/>
            <a:ext cx="54100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617220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Segoe Script"/>
              </a:rPr>
              <a:t>Профессия моей мамы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Моя мама-учитель начальных классов. В 2011 году она пришла работать в нашу школу. С начала она работала старшей вожатой. А сейчас она учит ребятишек правильно писать и читать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амина профессия одна из самых уважаемых, почетных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 ответственных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офесс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C:\Users\dns\Desktop\фото мои\IMG_20170901_105938_1CS.jpg"/>
          <p:cNvPicPr/>
          <p:nvPr/>
        </p:nvPicPr>
        <p:blipFill>
          <a:blip r:embed="rId1"/>
          <a:stretch/>
        </p:blipFill>
        <p:spPr>
          <a:xfrm>
            <a:off x="4267080" y="4572000"/>
            <a:ext cx="2519640" cy="4479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2"/>
          <a:stretch/>
        </p:blipFill>
        <p:spPr>
          <a:xfrm>
            <a:off x="152280" y="5791320"/>
            <a:ext cx="355284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Segoe Script"/>
              </a:rPr>
              <a:t>Профессия моего папы.</a:t>
            </a:r>
            <a:br>
              <a:rPr sz="4000"/>
            </a:br>
            <a:br>
              <a:rPr sz="4000"/>
            </a:br>
            <a:r>
              <a:rPr b="1" lang="ru-RU" sz="2400" spc="-1" strike="noStrike">
                <a:solidFill>
                  <a:srgbClr val="000000"/>
                </a:solidFill>
                <a:latin typeface="Segoe Script"/>
              </a:rPr>
              <a:t>МЕНЕДЖЕР ПО ПРОДАЖАМ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Segoe Script"/>
              </a:rPr>
              <a:t>Он работает в торговой компании Шоколайфф. В обязанности папы входит консультация клиентов о качестве, ассортименте кондитерских издел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C:\Users\dns\Desktop\фото мои\IMG_20170526_122157.jpg"/>
          <p:cNvPicPr/>
          <p:nvPr/>
        </p:nvPicPr>
        <p:blipFill>
          <a:blip r:embed="rId1"/>
          <a:stretch/>
        </p:blipFill>
        <p:spPr>
          <a:xfrm>
            <a:off x="2362320" y="5181480"/>
            <a:ext cx="213336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609480" y="943560"/>
            <a:ext cx="5715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Print"/>
              </a:rPr>
              <a:t>Сейчас я не знаю, кем стану, когда вырасту, но я твердо уверена, что буду выбирать такую профессию, чтобы ходить на работу с удовольствием, как моя мама и папа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C:\Users\dns\Desktop\фото мои\IMG_20170526_121824.jpg"/>
          <p:cNvPicPr/>
          <p:nvPr/>
        </p:nvPicPr>
        <p:blipFill>
          <a:blip r:embed="rId1"/>
          <a:stretch/>
        </p:blipFill>
        <p:spPr>
          <a:xfrm>
            <a:off x="2133720" y="4024440"/>
            <a:ext cx="2590560" cy="46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5"/>
          <p:cNvSpPr/>
          <p:nvPr/>
        </p:nvSpPr>
        <p:spPr>
          <a:xfrm>
            <a:off x="380880" y="762120"/>
            <a:ext cx="617220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ывод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знавая профессии своих родителей, мы получаем первое впечатление о мире профессий и начинаем ориентироваться в данном социальном вопрос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ажно знать профессии своих родителей, так как видя их отношение к работе, мы также будем относиться к своей будущей раб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066680" y="5656320"/>
            <a:ext cx="431820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мые новые и редкие професс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42720" y="2133360"/>
            <a:ext cx="61722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ургероло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специалист, знающий правила приготовления бургеров и придумывающий их новые рецеп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ояр ядовитых змей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т человек занимается извлечением яда из змей для медицинских це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нфликтоло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человек, который профессионально умеет спрогнозировать, предупредить и урегулировать конфли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итест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так называют профессионального дегустатора ч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рубочис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таринная профессия, которая существует и в наше время, но для ее освоения надо стажироваться два года, причем, только за границ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3"/>
          <p:cNvSpPr/>
          <p:nvPr/>
        </p:nvSpPr>
        <p:spPr>
          <a:xfrm>
            <a:off x="457200" y="878040"/>
            <a:ext cx="579132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се профе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нужны, в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рофессии важн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рофессий много на земл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И каждая – важ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Решай, мой друг, кем быть теб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едь жизнь у нас од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рекрасных професс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на свете не счес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Каждой профе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лава и чест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 Семернина</cp:lastModifiedBy>
  <dcterms:modified xsi:type="dcterms:W3CDTF">2019-01-10T09:46:12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