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6060-AC96-4E66-89A3-467756644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B31B-2CE9-42A8-9F87-0BABAC00F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77CF-7822-44E0-8B46-08A3D925C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8E05-19AB-4F74-9F54-8CD6575C2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4059-1B0B-4248-99D3-EE372A6A8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FD8D-F190-4354-8DDE-1AE6FD163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74F5-2621-4197-9E3D-A18B71024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4773-9937-4E29-9F5B-1DFDA237E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0728-5879-4F56-85C9-6C98F53CD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AF09-9F15-4A2B-83D2-4B157209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9002-C535-4FD0-BFE4-EF807DA8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283A-C69B-45C6-A266-71EF77010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02DFC-339F-4C72-8AA4-ED369EFE4E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57200" y="1600200"/>
            <a:ext cx="5791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Проек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по окружающему мир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«Профессии моих родителе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0"/>
          <p:cNvSpPr/>
          <p:nvPr/>
        </p:nvSpPr>
        <p:spPr>
          <a:xfrm>
            <a:off x="3048120" y="4952880"/>
            <a:ext cx="3429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Arial"/>
              </a:rPr>
              <a:t>Выполнила: ученица 2 «Б» класса   Семернина Али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0033"/>
                </a:solidFill>
                <a:latin typeface="Arial"/>
              </a:rPr>
              <a:t>Проверила: Демченко И.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1"/>
          <p:cNvSpPr/>
          <p:nvPr/>
        </p:nvSpPr>
        <p:spPr>
          <a:xfrm>
            <a:off x="2514600" y="8229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685800" y="91440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Цель проекта: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знакомиться с профессиями своих род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2"/>
          <p:cNvSpPr/>
          <p:nvPr/>
        </p:nvSpPr>
        <p:spPr>
          <a:xfrm>
            <a:off x="685800" y="1905120"/>
            <a:ext cx="541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адачи проект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знать у родителей об их професси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762120" y="3429000"/>
            <a:ext cx="568944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Segoe Script"/>
              </a:rPr>
              <a:t>ЧТО ТАКОЕ ПРОФЕССИЯ ?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«Профессия-это основное занятие человека, его трудовая деятельность.» Толковый словар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icon_partners"/>
          <p:cNvPicPr/>
          <p:nvPr/>
        </p:nvPicPr>
        <p:blipFill>
          <a:blip r:embed="rId1"/>
          <a:stretch/>
        </p:blipFill>
        <p:spPr>
          <a:xfrm>
            <a:off x="762120" y="4952880"/>
            <a:ext cx="541008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6172200" cy="6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Segoe Script"/>
              </a:rPr>
              <a:t>Профессия моей мамы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omic Sans MS"/>
              </a:rPr>
              <a:t>Моя мама-учитель начальных классов. В 2011 году она пришла работать в нашу школу. С начала она работала старшей вожатой. А сейчас она учит ребятишек правильно писать и читать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Мамина профессия одна из самых уважаемых, почетных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и ответственных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офесс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" descr="C:\Users\dns\Desktop\фото мои\IMG_20170901_105938_1CS.jpg"/>
          <p:cNvPicPr/>
          <p:nvPr/>
        </p:nvPicPr>
        <p:blipFill>
          <a:blip r:embed="rId1"/>
          <a:stretch/>
        </p:blipFill>
        <p:spPr>
          <a:xfrm>
            <a:off x="4267080" y="4572000"/>
            <a:ext cx="2519640" cy="4479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"/>
          <p:cNvPicPr/>
          <p:nvPr/>
        </p:nvPicPr>
        <p:blipFill>
          <a:blip r:embed="rId2"/>
          <a:stretch/>
        </p:blipFill>
        <p:spPr>
          <a:xfrm>
            <a:off x="152280" y="5791320"/>
            <a:ext cx="3552840" cy="29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Segoe Script"/>
              </a:rPr>
              <a:t>Профессия моего папы.</a:t>
            </a:r>
            <a:br>
              <a:rPr sz="4000"/>
            </a:br>
            <a:br>
              <a:rPr sz="4000"/>
            </a:br>
            <a:r>
              <a:rPr b="1" lang="ru-RU" sz="2400" spc="-1" strike="noStrike">
                <a:solidFill>
                  <a:srgbClr val="000000"/>
                </a:solidFill>
                <a:latin typeface="Segoe Script"/>
              </a:rPr>
              <a:t>МЕНЕДЖЕР ПО ПРОДАЖАМ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Segoe Script"/>
              </a:rPr>
              <a:t>Он работает в торговой компании Шоколайфф. В обязанности папы входит консультация клиентов о качестве, ассортименте кондитерских издел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1" descr="C:\Users\dns\Desktop\фото мои\IMG_20170526_122157.jpg"/>
          <p:cNvPicPr/>
          <p:nvPr/>
        </p:nvPicPr>
        <p:blipFill>
          <a:blip r:embed="rId1"/>
          <a:stretch/>
        </p:blipFill>
        <p:spPr>
          <a:xfrm>
            <a:off x="2362320" y="5181480"/>
            <a:ext cx="2133360" cy="37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5"/>
          <p:cNvSpPr/>
          <p:nvPr/>
        </p:nvSpPr>
        <p:spPr>
          <a:xfrm>
            <a:off x="609480" y="943560"/>
            <a:ext cx="5715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Segoe Print"/>
              </a:rPr>
              <a:t>Сейчас я не знаю, кем стану, когда вырасту, но я твердо уверена, что буду выбирать такую профессию, чтобы ходить на работу с удовольствием, как моя мама и папа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9" descr="C:\Users\dns\Desktop\фото мои\IMG_20170526_121824.jpg"/>
          <p:cNvPicPr/>
          <p:nvPr/>
        </p:nvPicPr>
        <p:blipFill>
          <a:blip r:embed="rId1"/>
          <a:stretch/>
        </p:blipFill>
        <p:spPr>
          <a:xfrm>
            <a:off x="2133720" y="4024440"/>
            <a:ext cx="2590560" cy="46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5"/>
          <p:cNvSpPr/>
          <p:nvPr/>
        </p:nvSpPr>
        <p:spPr>
          <a:xfrm>
            <a:off x="380880" y="762120"/>
            <a:ext cx="617220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ыводы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Узнавая профессии своих родителей, мы получаем первое впечатление о мире профессий и начинаем ориентироваться в данном социальном вопросе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ажно знать профессии своих родителей, так как видя их отношение к работе, мы также будем относиться к своей будущей рабо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1066680" y="5656320"/>
            <a:ext cx="4318200" cy="33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амые новые и редкие професси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42720" y="2133360"/>
            <a:ext cx="61722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Бургероло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специалист, знающий правила приготовления бургеров и придумывающий их новые рецеп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Дояр ядовитых змей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т человек занимается извлечением яда из змей для медицинских цел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Конфликтоло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человек, который профессионально умеет спрогнозировать, предупредить и урегулировать конфлик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Титесте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так называют профессионального дегустатора ч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Трубочис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старинная профессия, которая существует и в наше время, но для ее освоения надо стажироваться два года, причем, только за границ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3"/>
          <p:cNvSpPr/>
          <p:nvPr/>
        </p:nvSpPr>
        <p:spPr>
          <a:xfrm>
            <a:off x="457200" y="878040"/>
            <a:ext cx="579132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Все професс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нужны, вс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профессии важны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Профессий много на земле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И каждая – важ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Решай, мой друг, кем быть теб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Ведь жизнь у нас од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Прекрасных професс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на свете не счест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Каждой професс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слава и честь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лья Семернина</cp:lastModifiedBy>
  <dcterms:modified xsi:type="dcterms:W3CDTF">2019-01-10T09:46:12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